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whoosh.wav" ContentType="audio/x-wav"/>
  <Override PartName="/ppt/media/image2.gif" ContentType="image/gif"/>
  <Override PartName="/ppt/media/image3.jpeg" ContentType="image/jpeg"/>
  <Override PartName="/ppt/media/untie.wav" ContentType="audio/x-wav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technique used to separate and identify the components of a mix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 by allowing the molecules present in the mixture to distribute themselves between a stationary and  a mobile med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that spend most of their time in the mobile phase are carried along  fa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 = distance moved by sub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moved by solvent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ubstances that are very  soluble in the liquid Rf will be close to  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ubstances that are rather  insoluble in the liquid Rf will be close to  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Liquid 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mobile phase is an unreactive gas ( eg Nitrogen) flowing through a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tationary phase is an involatile liquid held on particles of a solid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nimation below the red molecules are more soluble in the liquid (or less volatile) than are the green molec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actice the Column is contained in a thermostatic oven.  (Why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1μL of liquid is  injected into one end of the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each component reaches the other end it is detected and registered on a chart rec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ention Time is characteristic of a particular substance. (for the same column, temperature, gas flow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under each peak indicates the relative quant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of pe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 identities of some of the unlabelled  pea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mobile phase is a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ing past a thin layer of powder on a solid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that are less attracted to the solid or are more soluble in the liquid move fa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move further up the plate by the time that the process has been stopped by taking the plate out of the liqiud.  - larger 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untie.wav"/><Relationship Id="rId2" Type="http://schemas.openxmlformats.org/officeDocument/2006/relationships/audio" Target="../media/untie.wav"/><Relationship Id="rId3" Type="http://schemas.openxmlformats.org/officeDocument/2006/relationships/audio" Target="../media/untie.wav"/><Relationship Id="rId4" Type="http://schemas.openxmlformats.org/officeDocument/2006/relationships/audio" Target="../media/unti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untie.wav"/><Relationship Id="rId2" Type="http://schemas.openxmlformats.org/officeDocument/2006/relationships/audio" Target="../media/untie.wav"/><Relationship Id="rId3" Type="http://schemas.openxmlformats.org/officeDocument/2006/relationships/audio" Target="../media/unti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rom</a:t>
            </a:r>
            <a:r>
              <a:rPr b="0" lang="en-GB" sz="4400" spc="-1" strike="noStrike">
                <a:solidFill>
                  <a:srgbClr val="00ff00"/>
                </a:solidFill>
                <a:latin typeface="Times New Roman"/>
              </a:rPr>
              <a:t>ato</a:t>
            </a: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gra</a:t>
            </a:r>
            <a:r>
              <a:rPr b="0" lang="en-GB" sz="4400" spc="-1" strike="noStrike">
                <a:solidFill>
                  <a:srgbClr val="ff00ff"/>
                </a:solidFill>
                <a:latin typeface="Times New Roman"/>
              </a:rPr>
              <a:t>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500120" y="2309760"/>
            <a:ext cx="6477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a technique used to separate and identify the components of a mix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643040" y="3429000"/>
            <a:ext cx="67150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 by allowing the molecules present in the mixture to distribute themselves between a stationary and  a mobile medi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714680" y="4976640"/>
            <a:ext cx="7215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lecules that spend most of their time in the mobile phase are carried along 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785880" y="1452600"/>
            <a:ext cx="816768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cc99"/>
                </a:solidFill>
                <a:latin typeface="Times New Roman"/>
              </a:rPr>
              <a:t>R</a:t>
            </a:r>
            <a:r>
              <a:rPr b="0" lang="en-GB" sz="4000" spc="-1" strike="noStrike" baseline="-25000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GB" sz="4000" spc="-1" strike="noStrike">
                <a:solidFill>
                  <a:srgbClr val="00cc99"/>
                </a:solidFill>
                <a:latin typeface="Times New Roman"/>
              </a:rPr>
              <a:t> = </a:t>
            </a:r>
            <a:r>
              <a:rPr b="0" lang="en-GB" sz="4000" spc="-1" strike="noStrike" u="sng">
                <a:solidFill>
                  <a:srgbClr val="00cc99"/>
                </a:solidFill>
                <a:uFillTx/>
                <a:latin typeface="Times New Roman"/>
              </a:rPr>
              <a:t>distance moved by subst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cc99"/>
                </a:solidFill>
                <a:latin typeface="Times New Roman"/>
              </a:rPr>
              <a:t>       </a:t>
            </a:r>
            <a:r>
              <a:rPr b="0" lang="en-GB" sz="4000" spc="-1" strike="noStrike">
                <a:solidFill>
                  <a:srgbClr val="00cc99"/>
                </a:solidFill>
                <a:latin typeface="Times New Roman"/>
              </a:rPr>
              <a:t>distance moved by solvent fr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1500120" y="3286080"/>
            <a:ext cx="678672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substances that are very  soluble in the liquid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be close to 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547640" y="4905360"/>
            <a:ext cx="712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substances that are rather  insoluble in the liquid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be close to 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809960" y="3809880"/>
            <a:ext cx="1857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191200" y="5548320"/>
            <a:ext cx="9763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unti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unti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nti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nti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Gas Liquid Chromat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714680" y="2381400"/>
            <a:ext cx="6881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 the mobile phase is an unreactive </a:t>
            </a:r>
            <a:r>
              <a:rPr b="1" lang="en-GB" sz="2400" spc="-1" strike="noStrike">
                <a:solidFill>
                  <a:srgbClr val="00cc99"/>
                </a:solidFill>
                <a:latin typeface="Arial"/>
              </a:rPr>
              <a:t>ga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 eg Nitrogen) flowing through a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38440" y="3548160"/>
            <a:ext cx="66434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e stationary phase is an involatile </a:t>
            </a:r>
            <a:r>
              <a:rPr b="1" lang="en-GB" sz="2400" spc="-1" strike="noStrike">
                <a:solidFill>
                  <a:srgbClr val="00cc99"/>
                </a:solidFill>
                <a:latin typeface="Arial"/>
              </a:rPr>
              <a:t>liqui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d on particles of a solid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666800" y="2647800"/>
            <a:ext cx="6881760" cy="3448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1428840" y="1523880"/>
            <a:ext cx="73818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animation below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lecules are more soluble in the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liqu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or less volatile) than are the </a:t>
            </a: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gre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lecu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1143000" y="1371600"/>
            <a:ext cx="8153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ractice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lum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ontained in a thermostatic oven.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219320" y="2571840"/>
            <a:ext cx="8076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ut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 of liquid is  injected into one end of the colum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43000" y="3429000"/>
            <a:ext cx="79246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each component reaches the other end it is detected and registered on a chart rec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066680" y="4857840"/>
            <a:ext cx="83822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tention 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characteristic of a particular substance. (for the same column, temperature, gas flow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295280" y="6172200"/>
            <a:ext cx="8001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rea under each peak indicates the relative qua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>
            <a:off x="3381480" y="1714680"/>
            <a:ext cx="3214440" cy="4929120"/>
          </a:xfrm>
          <a:custGeom>
            <a:avLst/>
            <a:gdLst>
              <a:gd name="textAreaLeft" fmla="*/ 360 w 3214440"/>
              <a:gd name="textAreaRight" fmla="*/ 3214080 w 3214440"/>
              <a:gd name="textAreaTop" fmla="*/ 360 h 4929120"/>
              <a:gd name="textAreaBottom" fmla="*/ 4928760 h 4929120"/>
            </a:gdLst>
            <a:ahLst/>
            <a:rect l="textAreaLeft" t="textAreaTop" r="textAreaRight" b="textAreaBottom"/>
            <a:pathLst>
              <a:path w="21600" h="33121">
                <a:moveTo>
                  <a:pt x="10" y="0"/>
                </a:moveTo>
                <a:arcTo wR="10" hR="10" stAng="16200000" swAng="-5400000"/>
                <a:lnTo>
                  <a:pt x="0" y="33111"/>
                </a:lnTo>
                <a:arcTo wR="10" hR="10" stAng="10800000" swAng="-5400000"/>
                <a:lnTo>
                  <a:pt x="21590" y="33121"/>
                </a:lnTo>
                <a:arcTo wR="10" hR="10" stAng="5400000" swAng="-5400000"/>
                <a:lnTo>
                  <a:pt x="21600" y="10"/>
                </a:lnTo>
                <a:arcTo wR="10" hR="10" stAng="0" swAng="-5400000"/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2"/>
          <p:cNvSpPr/>
          <p:nvPr/>
        </p:nvSpPr>
        <p:spPr>
          <a:xfrm>
            <a:off x="2881440" y="2409840"/>
            <a:ext cx="3857400" cy="3894120"/>
          </a:xfrm>
          <a:custGeom>
            <a:avLst/>
            <a:gdLst/>
            <a:ahLst/>
            <a:rect l="l" t="t" r="r" b="b"/>
            <a:pathLst>
              <a:path w="10716" h="10817">
                <a:moveTo>
                  <a:pt x="0" y="447"/>
                </a:moveTo>
                <a:cubicBezTo>
                  <a:pt x="5423" y="447"/>
                  <a:pt x="2050" y="7458"/>
                  <a:pt x="3770" y="9046"/>
                </a:cubicBezTo>
                <a:cubicBezTo>
                  <a:pt x="3770" y="9046"/>
                  <a:pt x="6327" y="10816"/>
                  <a:pt x="7408" y="8385"/>
                </a:cubicBezTo>
                <a:cubicBezTo>
                  <a:pt x="8731" y="5409"/>
                  <a:pt x="6878" y="3160"/>
                  <a:pt x="8532" y="1374"/>
                </a:cubicBezTo>
                <a:cubicBezTo>
                  <a:pt x="9804" y="0"/>
                  <a:pt x="10715" y="447"/>
                  <a:pt x="10715" y="447"/>
                </a:cubicBezTo>
              </a:path>
            </a:pathLst>
          </a:custGeom>
          <a:noFill/>
          <a:ln w="14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2881440" y="2411280"/>
            <a:ext cx="3857400" cy="3894120"/>
          </a:xfrm>
          <a:custGeom>
            <a:avLst/>
            <a:gdLst/>
            <a:ahLst/>
            <a:rect l="l" t="t" r="r" b="b"/>
            <a:pathLst>
              <a:path w="10716" h="10817">
                <a:moveTo>
                  <a:pt x="0" y="447"/>
                </a:moveTo>
                <a:cubicBezTo>
                  <a:pt x="5423" y="447"/>
                  <a:pt x="2050" y="7458"/>
                  <a:pt x="3770" y="9046"/>
                </a:cubicBezTo>
                <a:cubicBezTo>
                  <a:pt x="3770" y="9046"/>
                  <a:pt x="6327" y="10816"/>
                  <a:pt x="7408" y="8385"/>
                </a:cubicBezTo>
                <a:cubicBezTo>
                  <a:pt x="8731" y="5409"/>
                  <a:pt x="6878" y="3160"/>
                  <a:pt x="8532" y="1374"/>
                </a:cubicBezTo>
                <a:cubicBezTo>
                  <a:pt x="9804" y="0"/>
                  <a:pt x="10715" y="447"/>
                  <a:pt x="10715" y="447"/>
                </a:cubicBezTo>
              </a:path>
            </a:pathLst>
          </a:custGeom>
          <a:noFill/>
          <a:ln w="360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2571840" y="2333520"/>
            <a:ext cx="500040" cy="547920"/>
          </a:xfrm>
          <a:custGeom>
            <a:avLst/>
            <a:gdLst>
              <a:gd name="textAreaLeft" fmla="*/ 360 w 500040"/>
              <a:gd name="textAreaRight" fmla="*/ 499680 w 500040"/>
              <a:gd name="textAreaTop" fmla="*/ 360 h 547920"/>
              <a:gd name="textAreaBottom" fmla="*/ 547560 h 547920"/>
            </a:gdLst>
            <a:ahLst/>
            <a:rect l="textAreaLeft" t="textAreaTop" r="textAreaRight" b="textAreaBottom"/>
            <a:pathLst>
              <a:path w="21600" h="23667">
                <a:moveTo>
                  <a:pt x="68" y="0"/>
                </a:moveTo>
                <a:arcTo wR="68" hR="68" stAng="16200000" swAng="-5400000"/>
                <a:lnTo>
                  <a:pt x="0" y="23599"/>
                </a:lnTo>
                <a:arcTo wR="68" hR="68" stAng="10800000" swAng="-5400000"/>
                <a:lnTo>
                  <a:pt x="21532" y="23667"/>
                </a:lnTo>
                <a:arcTo wR="68" hR="68" stAng="5400000" swAng="-5400000"/>
                <a:lnTo>
                  <a:pt x="21600" y="68"/>
                </a:lnTo>
                <a:arcTo wR="68" hR="68" stAng="0" swAng="-5400000"/>
                <a:close/>
              </a:path>
            </a:pathLst>
          </a:cu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6715080" y="2214720"/>
            <a:ext cx="571680" cy="642960"/>
          </a:xfrm>
          <a:custGeom>
            <a:avLst/>
            <a:gdLst>
              <a:gd name="textAreaLeft" fmla="*/ 360 w 571680"/>
              <a:gd name="textAreaRight" fmla="*/ 571320 w 571680"/>
              <a:gd name="textAreaTop" fmla="*/ 360 h 642960"/>
              <a:gd name="textAreaBottom" fmla="*/ 642600 h 642960"/>
            </a:gdLst>
            <a:ahLst/>
            <a:rect l="textAreaLeft" t="textAreaTop" r="textAreaRight" b="textAreaBottom"/>
            <a:pathLst>
              <a:path w="21600" h="24292">
                <a:moveTo>
                  <a:pt x="60" y="0"/>
                </a:moveTo>
                <a:arcTo wR="60" hR="60" stAng="16200000" swAng="-5400000"/>
                <a:lnTo>
                  <a:pt x="0" y="24232"/>
                </a:lnTo>
                <a:arcTo wR="60" hR="60" stAng="10800000" swAng="-5400000"/>
                <a:lnTo>
                  <a:pt x="21540" y="24292"/>
                </a:lnTo>
                <a:arcTo wR="60" hR="60" stAng="5400000" swAng="-5400000"/>
                <a:lnTo>
                  <a:pt x="21600" y="60"/>
                </a:lnTo>
                <a:arcTo wR="60" hR="60" stAng="0" swAng="-5400000"/>
                <a:close/>
              </a:path>
            </a:pathLst>
          </a:cu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952560" y="2976480"/>
            <a:ext cx="690480" cy="2143080"/>
          </a:xfrm>
          <a:custGeom>
            <a:avLst/>
            <a:gdLst>
              <a:gd name="textAreaLeft" fmla="*/ 360 w 690480"/>
              <a:gd name="textAreaRight" fmla="*/ 690120 w 690480"/>
              <a:gd name="textAreaTop" fmla="*/ 360 h 2143080"/>
              <a:gd name="textAreaBottom" fmla="*/ 2142720 h 2143080"/>
            </a:gdLst>
            <a:ahLst/>
            <a:rect l="textAreaLeft" t="textAreaTop" r="textAreaRight" b="textAreaBottom"/>
            <a:pathLst>
              <a:path w="21600" h="67017">
                <a:moveTo>
                  <a:pt x="49" y="0"/>
                </a:moveTo>
                <a:arcTo wR="49" hR="49" stAng="16200000" swAng="-5400000"/>
                <a:lnTo>
                  <a:pt x="0" y="66968"/>
                </a:lnTo>
                <a:arcTo wR="49" hR="49" stAng="10800000" swAng="-5400000"/>
                <a:lnTo>
                  <a:pt x="21551" y="67017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solidFill>
            <a:srgbClr val="b3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7"/>
          <p:cNvSpPr/>
          <p:nvPr/>
        </p:nvSpPr>
        <p:spPr>
          <a:xfrm>
            <a:off x="1214280" y="2138400"/>
            <a:ext cx="1357560" cy="838080"/>
          </a:xfrm>
          <a:custGeom>
            <a:avLst/>
            <a:gdLst/>
            <a:ahLst/>
            <a:rect l="l" t="t" r="r" b="b"/>
            <a:pathLst>
              <a:path w="3772" h="2330">
                <a:moveTo>
                  <a:pt x="0" y="2329"/>
                </a:moveTo>
                <a:cubicBezTo>
                  <a:pt x="116" y="1574"/>
                  <a:pt x="775" y="0"/>
                  <a:pt x="1494" y="701"/>
                </a:cubicBezTo>
                <a:cubicBezTo>
                  <a:pt x="2226" y="1415"/>
                  <a:pt x="2887" y="1496"/>
                  <a:pt x="3628" y="1400"/>
                </a:cubicBezTo>
                <a:lnTo>
                  <a:pt x="3771" y="14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857760" y="1928880"/>
            <a:ext cx="2286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953400" y="3095640"/>
            <a:ext cx="1833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762200" y="905040"/>
            <a:ext cx="1833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j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714240" y="5310360"/>
            <a:ext cx="1833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itro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4119480" y="4548240"/>
            <a:ext cx="15955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7238880" y="1219320"/>
            <a:ext cx="15242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17"/>
          <p:cNvSpPr/>
          <p:nvPr/>
        </p:nvSpPr>
        <p:spPr>
          <a:xfrm>
            <a:off x="6515280" y="1333440"/>
            <a:ext cx="723600" cy="876240"/>
          </a:xfrm>
          <a:custGeom>
            <a:avLst/>
            <a:gdLst/>
            <a:ahLst/>
            <a:rect l="l" t="t" r="r" b="b"/>
            <a:pathLst>
              <a:path w="456" h="552">
                <a:moveTo>
                  <a:pt x="312" y="552"/>
                </a:moveTo>
                <a:cubicBezTo>
                  <a:pt x="156" y="348"/>
                  <a:pt x="0" y="144"/>
                  <a:pt x="24" y="72"/>
                </a:cubicBezTo>
                <a:cubicBezTo>
                  <a:pt x="48" y="0"/>
                  <a:pt x="252" y="60"/>
                  <a:pt x="456" y="1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73152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9"/>
          <p:cNvSpPr/>
          <p:nvPr/>
        </p:nvSpPr>
        <p:spPr>
          <a:xfrm>
            <a:off x="73152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976400" y="1547640"/>
            <a:ext cx="6429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romatogram of pe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glcpetrol"/>
          <p:cNvPicPr/>
          <p:nvPr/>
        </p:nvPicPr>
        <p:blipFill>
          <a:blip r:embed="rId1"/>
          <a:srcRect l="-806" t="4777" r="0" b="4777"/>
          <a:stretch/>
        </p:blipFill>
        <p:spPr>
          <a:xfrm>
            <a:off x="228600" y="1981080"/>
            <a:ext cx="9470880" cy="2895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668600" y="5715000"/>
            <a:ext cx="65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gest identities of some of the unlabelled  pea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hin</a:t>
            </a: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 L</a:t>
            </a: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ayer </a:t>
            </a: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hromat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76360" y="2119320"/>
            <a:ext cx="7381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 the mobile phase is a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95520" y="3000240"/>
            <a:ext cx="6929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owing past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in lay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owder on a solid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47640" y="3976560"/>
            <a:ext cx="70725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stances that are less attracted to the solid or are more soluble in the liquid move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619280" y="5024520"/>
            <a:ext cx="697716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so move further up the plate by the time that the process has been stopped by taking the plate out of the liqiud.  - larger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unti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unti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nti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833640" y="1309680"/>
            <a:ext cx="3238560" cy="466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Chromatography gas liquid chromatography</cp:keywords>
  <dc:language>en-US</dc:language>
  <cp:lastModifiedBy>RomaK</cp:lastModifiedBy>
  <dcterms:modified xsi:type="dcterms:W3CDTF">2015-09-02T06:04:27Z</dcterms:modified>
  <cp:revision>11</cp:revision>
  <dc:subject>Chromatography gas liquid chromatography</dc:subject>
  <dc:title>Chromatography gas liquid chromatography</dc:title>
</cp:coreProperties>
</file>