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9.wmf" ContentType="image/x-wmf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0921-61D9-4CF3-A22D-3D909AD4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8A2-236E-4295-A3AD-61BA36C96D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7C2-0289-40CA-A071-043FBE044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C28F-E142-4EF2-AB93-A3C4770FD7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6911-2DD6-43A1-8F35-8FA5D908DD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D4C9-E99C-4BC4-AE4C-5CBB54041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5845-C2AA-4479-801E-092A627697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4CEE-19B9-4C04-A106-6E5986C3EA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18BC-3454-4DB0-838A-537244DD56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2FB-C2D1-484E-96BA-9E21AA2C16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9AA-ADB9-468C-81A7-5D19D269DA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FF9D-3930-4778-97CF-A468A2451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6B4E-0510-4F6E-A67A-AE0668654A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D7E6-A6B3-4331-8EE6-2D732D3A4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743E-4203-4E3C-A7E9-B8E8516731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7F7A-5B60-409D-BA03-CFBD635FB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2DF1-D43A-4676-9682-4C3B300981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E3CB-4ECC-4287-8C82-BDBB734642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3B9C-2675-4D46-9E57-F85271F1C9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80B0-D390-4CBA-9560-C13E6338D5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9C2F-8EFC-4C2A-B2DE-FDE529577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AE2-8376-45BC-AEF8-E350B8BB34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BF2E-A5B3-400C-A388-B6C33FCA3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9270-95F6-402F-B452-20CAD49CB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504F-9A0D-41C8-9C12-8F5951E0FD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29EE-0498-4613-92ED-C27E269F6B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708F-EC53-4806-92E0-93966A8079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 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3571-8E37-45B8-B495-030877FC9A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51A-1F6F-47F1-A118-A1BB73BF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668-E69C-481E-B32C-C6DDE964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00B-18E8-48D5-BF90-6C54F84B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0E8-D533-43F0-9CC8-FC0958B3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7907-1348-4CF9-A99B-8A3A17F1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D38C-D62E-4DB7-971E-52086304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79E5-D312-4957-889A-2CA20D64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1E3B-FB71-428A-A115-66477EA6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7B0D-E9AE-4C9A-A70E-57E74EAA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01DF-E5A5-4268-BDE4-53CF634D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5E7E-ACD7-4AF3-9BD3-86C8B3B9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374-407E-4F91-8224-D8055405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C7D7-CE6F-4F39-88C8-57CDFD3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669-ED97-43E7-8408-E749BF06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26DB-6E2E-4423-B5CC-09F0D892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55CD-F4DB-4398-9F81-CDB31557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B066-A5EC-4B65-84B9-B5C25950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DE1-5FEA-4814-87E7-11615615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AD8-D5AB-4955-A0FF-96789FF3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2DF-0CD9-43A3-B959-03403135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EAB-9D56-4AE8-B67E-6A94330F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A92-A6A8-4D1B-B47F-4576A077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17B-9172-48E4-8DFD-39BE3C5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230-A26E-4666-A9B6-562BFEBF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FD5C-3DA3-422A-ABED-226B4C074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313-A6A1-487F-87A5-9CF625BDB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85840" y="1219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j0304267"/>
          <p:cNvPicPr/>
          <p:nvPr/>
        </p:nvPicPr>
        <p:blipFill>
          <a:blip r:embed="rId1"/>
          <a:stretch/>
        </p:blipFill>
        <p:spPr>
          <a:xfrm>
            <a:off x="685800" y="1981080"/>
            <a:ext cx="1847880" cy="177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083185"/>
          <p:cNvPicPr/>
          <p:nvPr/>
        </p:nvPicPr>
        <p:blipFill>
          <a:blip r:embed="rId2"/>
          <a:stretch/>
        </p:blipFill>
        <p:spPr>
          <a:xfrm>
            <a:off x="6248520" y="3581280"/>
            <a:ext cx="18190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RomaK</cp:lastModifiedBy>
  <dcterms:modified xsi:type="dcterms:W3CDTF">2015-07-31T22:56:47Z</dcterms:modified>
  <cp:revision>8</cp:revision>
  <dc:subject>Our Solar System</dc:subject>
  <dc:title>Our Solar System</dc:title>
</cp:coreProperties>
</file>