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9DC6-6E08-4C1E-8EDF-F90E5DDEC7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main types of roc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  - formed when molten rock c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– formed by the “cementing together” of small grains of sed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– rocks changed by the effect of heat and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82B-2010-4BF1-992E-8155A6C3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3E1-E0B6-4FB8-85D4-379B586A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C72-6787-474C-9C26-CE2F2C1A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B03-ABBE-4B23-8DFD-385C02B4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0F3-0BFC-441E-85C2-25F176FF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85A-54AE-4176-B862-68DA8FF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171-91FA-4990-834D-7044B313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006-013D-47DE-A2DE-D96B591C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91E-176F-4A6D-9FA4-E89943F5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387D-2025-49C1-B3D7-34F4C363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657-5585-45C2-94D5-E461762F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3FF-6BFC-4CB6-B384-1AB30D1B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128D-B9D5-4ADC-B943-D766AA3B5A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4464360" cy="76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Types of Rock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re are three main types of r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Igneous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  - formed when molten rock cools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Sedimentary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– formed by the “cementing together” of small grains of sed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762120">
              <a:lnSpc>
                <a:spcPct val="90000"/>
              </a:lnSpc>
              <a:buClr>
                <a:srgbClr val="cc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Metamorphic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– rocks changed by the effect of heat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rocks formed by the cooling of molten rock (magm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2133720"/>
            <a:ext cx="6659280" cy="4987080"/>
            <a:chOff x="0" y="2133720"/>
            <a:chExt cx="6659280" cy="4987080"/>
          </a:xfrm>
        </p:grpSpPr>
        <p:sp>
          <p:nvSpPr>
            <p:cNvPr id="53" name="Rectangle 5"/>
            <p:cNvSpPr/>
            <p:nvPr/>
          </p:nvSpPr>
          <p:spPr>
            <a:xfrm>
              <a:off x="0" y="2133720"/>
              <a:ext cx="6659280" cy="4800960"/>
            </a:xfrm>
            <a:prstGeom prst="rect">
              <a:avLst/>
            </a:prstGeom>
            <a:solidFill>
              <a:srgbClr val="66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56880" y="3286800"/>
              <a:ext cx="6602040" cy="658440"/>
            </a:xfrm>
            <a:custGeom>
              <a:avLst/>
              <a:gdLst/>
              <a:ahLst/>
              <a:rect l="l" t="t" r="r" b="b"/>
              <a:pathLst>
                <a:path w="3118" h="348">
                  <a:moveTo>
                    <a:pt x="18" y="0"/>
                  </a:moveTo>
                  <a:cubicBezTo>
                    <a:pt x="268" y="24"/>
                    <a:pt x="515" y="60"/>
                    <a:pt x="764" y="91"/>
                  </a:cubicBezTo>
                  <a:cubicBezTo>
                    <a:pt x="1419" y="85"/>
                    <a:pt x="2113" y="263"/>
                    <a:pt x="2727" y="36"/>
                  </a:cubicBezTo>
                  <a:cubicBezTo>
                    <a:pt x="2736" y="27"/>
                    <a:pt x="2741" y="10"/>
                    <a:pt x="2754" y="9"/>
                  </a:cubicBezTo>
                  <a:cubicBezTo>
                    <a:pt x="2795" y="6"/>
                    <a:pt x="2874" y="36"/>
                    <a:pt x="2918" y="46"/>
                  </a:cubicBezTo>
                  <a:cubicBezTo>
                    <a:pt x="3106" y="36"/>
                    <a:pt x="3039" y="36"/>
                    <a:pt x="3118" y="36"/>
                  </a:cubicBezTo>
                  <a:lnTo>
                    <a:pt x="3118" y="227"/>
                  </a:lnTo>
                  <a:lnTo>
                    <a:pt x="2254" y="327"/>
                  </a:lnTo>
                  <a:cubicBezTo>
                    <a:pt x="2027" y="333"/>
                    <a:pt x="1800" y="344"/>
                    <a:pt x="1573" y="346"/>
                  </a:cubicBezTo>
                  <a:cubicBezTo>
                    <a:pt x="1387" y="348"/>
                    <a:pt x="1203" y="295"/>
                    <a:pt x="1018" y="282"/>
                  </a:cubicBezTo>
                  <a:cubicBezTo>
                    <a:pt x="892" y="273"/>
                    <a:pt x="771" y="261"/>
                    <a:pt x="645" y="246"/>
                  </a:cubicBezTo>
                  <a:cubicBezTo>
                    <a:pt x="536" y="233"/>
                    <a:pt x="425" y="235"/>
                    <a:pt x="318" y="209"/>
                  </a:cubicBezTo>
                  <a:cubicBezTo>
                    <a:pt x="30" y="218"/>
                    <a:pt x="136" y="218"/>
                    <a:pt x="0" y="218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7800" y="3544200"/>
              <a:ext cx="6602760" cy="986040"/>
            </a:xfrm>
            <a:custGeom>
              <a:avLst/>
              <a:gdLst/>
              <a:ahLst/>
              <a:rect l="l" t="t" r="r" b="b"/>
              <a:pathLst>
                <a:path w="3118" h="521">
                  <a:moveTo>
                    <a:pt x="9" y="0"/>
                  </a:moveTo>
                  <a:lnTo>
                    <a:pt x="1872" y="128"/>
                  </a:lnTo>
                  <a:lnTo>
                    <a:pt x="3118" y="10"/>
                  </a:lnTo>
                  <a:lnTo>
                    <a:pt x="3118" y="455"/>
                  </a:lnTo>
                  <a:cubicBezTo>
                    <a:pt x="2842" y="461"/>
                    <a:pt x="2592" y="483"/>
                    <a:pt x="2318" y="491"/>
                  </a:cubicBezTo>
                  <a:cubicBezTo>
                    <a:pt x="1952" y="521"/>
                    <a:pt x="1584" y="485"/>
                    <a:pt x="1218" y="473"/>
                  </a:cubicBezTo>
                  <a:cubicBezTo>
                    <a:pt x="1127" y="465"/>
                    <a:pt x="1043" y="445"/>
                    <a:pt x="954" y="428"/>
                  </a:cubicBezTo>
                  <a:cubicBezTo>
                    <a:pt x="796" y="434"/>
                    <a:pt x="647" y="445"/>
                    <a:pt x="491" y="455"/>
                  </a:cubicBezTo>
                  <a:cubicBezTo>
                    <a:pt x="324" y="447"/>
                    <a:pt x="167" y="446"/>
                    <a:pt x="0" y="446"/>
                  </a:cubicBezTo>
                  <a:lnTo>
                    <a:pt x="0" y="91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18720" y="4147920"/>
              <a:ext cx="6621840" cy="929520"/>
            </a:xfrm>
            <a:custGeom>
              <a:avLst/>
              <a:gdLst/>
              <a:ahLst/>
              <a:rect l="l" t="t" r="r" b="b"/>
              <a:pathLst>
                <a:path w="3127" h="491">
                  <a:moveTo>
                    <a:pt x="0" y="36"/>
                  </a:moveTo>
                  <a:cubicBezTo>
                    <a:pt x="424" y="28"/>
                    <a:pt x="847" y="9"/>
                    <a:pt x="1272" y="0"/>
                  </a:cubicBezTo>
                  <a:cubicBezTo>
                    <a:pt x="2127" y="31"/>
                    <a:pt x="1775" y="19"/>
                    <a:pt x="2327" y="36"/>
                  </a:cubicBezTo>
                  <a:cubicBezTo>
                    <a:pt x="2434" y="45"/>
                    <a:pt x="2538" y="63"/>
                    <a:pt x="2645" y="72"/>
                  </a:cubicBezTo>
                  <a:cubicBezTo>
                    <a:pt x="2969" y="60"/>
                    <a:pt x="2808" y="63"/>
                    <a:pt x="3127" y="63"/>
                  </a:cubicBezTo>
                  <a:lnTo>
                    <a:pt x="3127" y="463"/>
                  </a:lnTo>
                  <a:cubicBezTo>
                    <a:pt x="3008" y="440"/>
                    <a:pt x="2895" y="433"/>
                    <a:pt x="2772" y="427"/>
                  </a:cubicBezTo>
                  <a:cubicBezTo>
                    <a:pt x="2404" y="439"/>
                    <a:pt x="2037" y="434"/>
                    <a:pt x="1672" y="491"/>
                  </a:cubicBezTo>
                  <a:cubicBezTo>
                    <a:pt x="1602" y="488"/>
                    <a:pt x="1533" y="486"/>
                    <a:pt x="1463" y="481"/>
                  </a:cubicBezTo>
                  <a:cubicBezTo>
                    <a:pt x="1392" y="476"/>
                    <a:pt x="1324" y="446"/>
                    <a:pt x="1254" y="436"/>
                  </a:cubicBezTo>
                  <a:cubicBezTo>
                    <a:pt x="1110" y="416"/>
                    <a:pt x="963" y="407"/>
                    <a:pt x="818" y="400"/>
                  </a:cubicBezTo>
                  <a:cubicBezTo>
                    <a:pt x="607" y="406"/>
                    <a:pt x="390" y="427"/>
                    <a:pt x="182" y="381"/>
                  </a:cubicBezTo>
                  <a:cubicBezTo>
                    <a:pt x="146" y="384"/>
                    <a:pt x="109" y="387"/>
                    <a:pt x="73" y="391"/>
                  </a:cubicBezTo>
                  <a:cubicBezTo>
                    <a:pt x="52" y="393"/>
                    <a:pt x="9" y="400"/>
                    <a:pt x="9" y="400"/>
                  </a:cubicBezTo>
                  <a:lnTo>
                    <a:pt x="0" y="109"/>
                  </a:ln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0" y="2150640"/>
              <a:ext cx="6640560" cy="177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 rot="21452400">
              <a:off x="897120" y="6147000"/>
              <a:ext cx="4447080" cy="878400"/>
            </a:xfrm>
            <a:custGeom>
              <a:avLst/>
              <a:gdLst/>
              <a:ahLst/>
              <a:rect l="l" t="t" r="r" b="b"/>
              <a:pathLst>
                <a:path w="2100" h="337">
                  <a:moveTo>
                    <a:pt x="0" y="264"/>
                  </a:moveTo>
                  <a:lnTo>
                    <a:pt x="154" y="182"/>
                  </a:lnTo>
                  <a:lnTo>
                    <a:pt x="291" y="128"/>
                  </a:lnTo>
                  <a:lnTo>
                    <a:pt x="454" y="64"/>
                  </a:lnTo>
                  <a:lnTo>
                    <a:pt x="663" y="28"/>
                  </a:lnTo>
                  <a:lnTo>
                    <a:pt x="800" y="9"/>
                  </a:lnTo>
                  <a:lnTo>
                    <a:pt x="936" y="9"/>
                  </a:lnTo>
                  <a:lnTo>
                    <a:pt x="1063" y="0"/>
                  </a:lnTo>
                  <a:lnTo>
                    <a:pt x="1272" y="18"/>
                  </a:lnTo>
                  <a:lnTo>
                    <a:pt x="1363" y="28"/>
                  </a:lnTo>
                  <a:lnTo>
                    <a:pt x="1454" y="46"/>
                  </a:lnTo>
                  <a:lnTo>
                    <a:pt x="1572" y="64"/>
                  </a:lnTo>
                  <a:lnTo>
                    <a:pt x="1636" y="82"/>
                  </a:lnTo>
                  <a:lnTo>
                    <a:pt x="1754" y="118"/>
                  </a:lnTo>
                  <a:lnTo>
                    <a:pt x="1863" y="164"/>
                  </a:lnTo>
                  <a:lnTo>
                    <a:pt x="2000" y="218"/>
                  </a:lnTo>
                  <a:lnTo>
                    <a:pt x="2045" y="255"/>
                  </a:lnTo>
                  <a:lnTo>
                    <a:pt x="2100" y="337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2419560" y="633852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2"/>
            <p:cNvSpPr/>
            <p:nvPr/>
          </p:nvSpPr>
          <p:spPr>
            <a:xfrm>
              <a:off x="993960" y="272268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volc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1763640" y="2826360"/>
              <a:ext cx="3044880" cy="10940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7320" y="3046320"/>
              <a:ext cx="2448000" cy="87444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2356560" y="3315240"/>
              <a:ext cx="1892880" cy="60948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66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2534400" y="3481560"/>
              <a:ext cx="1515960" cy="44280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234"/>
                  </a:moveTo>
                  <a:cubicBezTo>
                    <a:pt x="44" y="219"/>
                    <a:pt x="92" y="183"/>
                    <a:pt x="136" y="172"/>
                  </a:cubicBezTo>
                  <a:cubicBezTo>
                    <a:pt x="156" y="159"/>
                    <a:pt x="176" y="152"/>
                    <a:pt x="194" y="136"/>
                  </a:cubicBezTo>
                  <a:cubicBezTo>
                    <a:pt x="227" y="107"/>
                    <a:pt x="251" y="69"/>
                    <a:pt x="282" y="38"/>
                  </a:cubicBezTo>
                  <a:cubicBezTo>
                    <a:pt x="286" y="27"/>
                    <a:pt x="296" y="8"/>
                    <a:pt x="304" y="0"/>
                  </a:cubicBezTo>
                  <a:lnTo>
                    <a:pt x="376" y="0"/>
                  </a:lnTo>
                  <a:cubicBezTo>
                    <a:pt x="382" y="1"/>
                    <a:pt x="388" y="1"/>
                    <a:pt x="394" y="2"/>
                  </a:cubicBezTo>
                  <a:cubicBezTo>
                    <a:pt x="402" y="4"/>
                    <a:pt x="399" y="7"/>
                    <a:pt x="404" y="12"/>
                  </a:cubicBezTo>
                  <a:cubicBezTo>
                    <a:pt x="423" y="28"/>
                    <a:pt x="444" y="41"/>
                    <a:pt x="458" y="62"/>
                  </a:cubicBezTo>
                  <a:cubicBezTo>
                    <a:pt x="467" y="76"/>
                    <a:pt x="477" y="75"/>
                    <a:pt x="486" y="86"/>
                  </a:cubicBezTo>
                  <a:cubicBezTo>
                    <a:pt x="495" y="96"/>
                    <a:pt x="500" y="110"/>
                    <a:pt x="508" y="120"/>
                  </a:cubicBezTo>
                  <a:cubicBezTo>
                    <a:pt x="526" y="142"/>
                    <a:pt x="562" y="176"/>
                    <a:pt x="588" y="186"/>
                  </a:cubicBezTo>
                  <a:cubicBezTo>
                    <a:pt x="602" y="191"/>
                    <a:pt x="618" y="192"/>
                    <a:pt x="632" y="196"/>
                  </a:cubicBezTo>
                  <a:cubicBezTo>
                    <a:pt x="649" y="207"/>
                    <a:pt x="669" y="207"/>
                    <a:pt x="686" y="216"/>
                  </a:cubicBezTo>
                  <a:cubicBezTo>
                    <a:pt x="696" y="222"/>
                    <a:pt x="706" y="229"/>
                    <a:pt x="716" y="234"/>
                  </a:cubicBezTo>
                  <a:lnTo>
                    <a:pt x="0" y="2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2197800" y="2823120"/>
              <a:ext cx="1890720" cy="3562920"/>
            </a:xfrm>
            <a:custGeom>
              <a:avLst/>
              <a:gdLst/>
              <a:ahLst/>
              <a:rect l="l" t="t" r="r" b="b"/>
              <a:pathLst>
                <a:path w="893" h="1882">
                  <a:moveTo>
                    <a:pt x="43" y="1882"/>
                  </a:moveTo>
                  <a:cubicBezTo>
                    <a:pt x="0" y="1751"/>
                    <a:pt x="19" y="1615"/>
                    <a:pt x="116" y="1518"/>
                  </a:cubicBezTo>
                  <a:cubicBezTo>
                    <a:pt x="129" y="1478"/>
                    <a:pt x="155" y="1459"/>
                    <a:pt x="189" y="1436"/>
                  </a:cubicBezTo>
                  <a:cubicBezTo>
                    <a:pt x="215" y="1398"/>
                    <a:pt x="231" y="1367"/>
                    <a:pt x="252" y="1327"/>
                  </a:cubicBezTo>
                  <a:cubicBezTo>
                    <a:pt x="261" y="1310"/>
                    <a:pt x="262" y="1289"/>
                    <a:pt x="271" y="1272"/>
                  </a:cubicBezTo>
                  <a:cubicBezTo>
                    <a:pt x="281" y="1253"/>
                    <a:pt x="295" y="1236"/>
                    <a:pt x="307" y="1218"/>
                  </a:cubicBezTo>
                  <a:cubicBezTo>
                    <a:pt x="318" y="1202"/>
                    <a:pt x="319" y="1181"/>
                    <a:pt x="325" y="1163"/>
                  </a:cubicBezTo>
                  <a:cubicBezTo>
                    <a:pt x="342" y="1112"/>
                    <a:pt x="360" y="1062"/>
                    <a:pt x="371" y="1009"/>
                  </a:cubicBezTo>
                  <a:cubicBezTo>
                    <a:pt x="389" y="814"/>
                    <a:pt x="414" y="619"/>
                    <a:pt x="452" y="427"/>
                  </a:cubicBezTo>
                  <a:cubicBezTo>
                    <a:pt x="457" y="285"/>
                    <a:pt x="471" y="142"/>
                    <a:pt x="471" y="0"/>
                  </a:cubicBezTo>
                  <a:lnTo>
                    <a:pt x="543" y="0"/>
                  </a:lnTo>
                  <a:cubicBezTo>
                    <a:pt x="572" y="88"/>
                    <a:pt x="557" y="34"/>
                    <a:pt x="562" y="227"/>
                  </a:cubicBezTo>
                  <a:cubicBezTo>
                    <a:pt x="567" y="412"/>
                    <a:pt x="566" y="596"/>
                    <a:pt x="571" y="781"/>
                  </a:cubicBezTo>
                  <a:cubicBezTo>
                    <a:pt x="573" y="854"/>
                    <a:pt x="589" y="893"/>
                    <a:pt x="616" y="954"/>
                  </a:cubicBezTo>
                  <a:cubicBezTo>
                    <a:pt x="660" y="1055"/>
                    <a:pt x="681" y="1224"/>
                    <a:pt x="762" y="1300"/>
                  </a:cubicBezTo>
                  <a:cubicBezTo>
                    <a:pt x="773" y="1344"/>
                    <a:pt x="798" y="1377"/>
                    <a:pt x="816" y="1418"/>
                  </a:cubicBezTo>
                  <a:cubicBezTo>
                    <a:pt x="819" y="1426"/>
                    <a:pt x="837" y="1483"/>
                    <a:pt x="843" y="1500"/>
                  </a:cubicBezTo>
                  <a:cubicBezTo>
                    <a:pt x="853" y="1531"/>
                    <a:pt x="851" y="1523"/>
                    <a:pt x="862" y="1554"/>
                  </a:cubicBezTo>
                  <a:cubicBezTo>
                    <a:pt x="869" y="1572"/>
                    <a:pt x="880" y="1609"/>
                    <a:pt x="880" y="1609"/>
                  </a:cubicBezTo>
                  <a:cubicBezTo>
                    <a:pt x="875" y="1683"/>
                    <a:pt x="893" y="1741"/>
                    <a:pt x="843" y="1791"/>
                  </a:cubicBezTo>
                  <a:cubicBezTo>
                    <a:pt x="834" y="1819"/>
                    <a:pt x="824" y="1872"/>
                    <a:pt x="789" y="1872"/>
                  </a:cubicBezTo>
                  <a:lnTo>
                    <a:pt x="689" y="1854"/>
                  </a:lnTo>
                  <a:lnTo>
                    <a:pt x="516" y="1845"/>
                  </a:lnTo>
                  <a:lnTo>
                    <a:pt x="371" y="1845"/>
                  </a:lnTo>
                  <a:lnTo>
                    <a:pt x="225" y="1845"/>
                  </a:lnTo>
                  <a:lnTo>
                    <a:pt x="98" y="1854"/>
                  </a:lnTo>
                  <a:lnTo>
                    <a:pt x="43" y="188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8"/>
          <p:cNvSpPr/>
          <p:nvPr/>
        </p:nvSpPr>
        <p:spPr>
          <a:xfrm>
            <a:off x="6781680" y="2425680"/>
            <a:ext cx="177804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ma cools and solidifies forming igneous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504036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62276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dimentary Rocks are rocks formed when particles of sediment build up and are “cemented together” by the effect of pressure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9"/>
          <p:cNvGrpSpPr/>
          <p:nvPr/>
        </p:nvGrpSpPr>
        <p:grpSpPr>
          <a:xfrm>
            <a:off x="0" y="3330720"/>
            <a:ext cx="9142560" cy="3526200"/>
            <a:chOff x="0" y="3330720"/>
            <a:chExt cx="9142560" cy="3526200"/>
          </a:xfrm>
        </p:grpSpPr>
        <p:grpSp>
          <p:nvGrpSpPr>
            <p:cNvPr id="71" name="Group 5"/>
            <p:cNvGrpSpPr/>
            <p:nvPr/>
          </p:nvGrpSpPr>
          <p:grpSpPr>
            <a:xfrm>
              <a:off x="0" y="3523320"/>
              <a:ext cx="9142560" cy="3333600"/>
              <a:chOff x="0" y="3523320"/>
              <a:chExt cx="9142560" cy="3333600"/>
            </a:xfrm>
          </p:grpSpPr>
          <p:grpSp>
            <p:nvGrpSpPr>
              <p:cNvPr id="72" name="Group 6"/>
              <p:cNvGrpSpPr/>
              <p:nvPr/>
            </p:nvGrpSpPr>
            <p:grpSpPr>
              <a:xfrm>
                <a:off x="0" y="3523320"/>
                <a:ext cx="9142560" cy="3333600"/>
                <a:chOff x="0" y="3523320"/>
                <a:chExt cx="9142560" cy="3333600"/>
              </a:xfrm>
            </p:grpSpPr>
            <p:sp>
              <p:nvSpPr>
                <p:cNvPr id="73" name="Freeform 7"/>
                <p:cNvSpPr/>
                <p:nvPr/>
              </p:nvSpPr>
              <p:spPr>
                <a:xfrm>
                  <a:off x="5606640" y="5202360"/>
                  <a:ext cx="2389680" cy="898200"/>
                </a:xfrm>
                <a:custGeom>
                  <a:avLst/>
                  <a:gdLst/>
                  <a:ahLst/>
                  <a:rect l="l" t="t" r="r" b="b"/>
                  <a:pathLst>
                    <a:path w="1101" h="429">
                      <a:moveTo>
                        <a:pt x="53" y="0"/>
                      </a:moveTo>
                      <a:lnTo>
                        <a:pt x="1101" y="0"/>
                      </a:lnTo>
                      <a:lnTo>
                        <a:pt x="1101" y="429"/>
                      </a:lnTo>
                      <a:lnTo>
                        <a:pt x="0" y="42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333399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"/>
                <p:cNvSpPr/>
                <p:nvPr/>
              </p:nvSpPr>
              <p:spPr>
                <a:xfrm>
                  <a:off x="0" y="3523320"/>
                  <a:ext cx="5867640" cy="3289320"/>
                </a:xfrm>
                <a:custGeom>
                  <a:avLst/>
                  <a:gdLst/>
                  <a:ahLst/>
                  <a:rect l="l" t="t" r="r" b="b"/>
                  <a:pathLst>
                    <a:path w="2703" h="2027">
                      <a:moveTo>
                        <a:pt x="112" y="1960"/>
                      </a:moveTo>
                      <a:cubicBezTo>
                        <a:pt x="149" y="1953"/>
                        <a:pt x="74" y="1903"/>
                        <a:pt x="104" y="1888"/>
                      </a:cubicBezTo>
                      <a:cubicBezTo>
                        <a:pt x="122" y="1870"/>
                        <a:pt x="85" y="1825"/>
                        <a:pt x="104" y="1808"/>
                      </a:cubicBezTo>
                      <a:cubicBezTo>
                        <a:pt x="114" y="1798"/>
                        <a:pt x="49" y="1612"/>
                        <a:pt x="72" y="1608"/>
                      </a:cubicBezTo>
                      <a:cubicBezTo>
                        <a:pt x="96" y="1604"/>
                        <a:pt x="16" y="1530"/>
                        <a:pt x="40" y="1528"/>
                      </a:cubicBezTo>
                      <a:cubicBezTo>
                        <a:pt x="88" y="1517"/>
                        <a:pt x="0" y="1429"/>
                        <a:pt x="48" y="1440"/>
                      </a:cubicBezTo>
                      <a:cubicBezTo>
                        <a:pt x="69" y="1451"/>
                        <a:pt x="14" y="1346"/>
                        <a:pt x="40" y="1352"/>
                      </a:cubicBezTo>
                      <a:cubicBezTo>
                        <a:pt x="40" y="1352"/>
                        <a:pt x="62" y="1307"/>
                        <a:pt x="72" y="1312"/>
                      </a:cubicBezTo>
                      <a:cubicBezTo>
                        <a:pt x="90" y="1320"/>
                        <a:pt x="42" y="1205"/>
                        <a:pt x="56" y="1216"/>
                      </a:cubicBezTo>
                      <a:cubicBezTo>
                        <a:pt x="82" y="1234"/>
                        <a:pt x="38" y="1146"/>
                        <a:pt x="72" y="1152"/>
                      </a:cubicBezTo>
                      <a:cubicBezTo>
                        <a:pt x="118" y="1174"/>
                        <a:pt x="22" y="1096"/>
                        <a:pt x="56" y="1104"/>
                      </a:cubicBezTo>
                      <a:cubicBezTo>
                        <a:pt x="111" y="1102"/>
                        <a:pt x="20" y="1051"/>
                        <a:pt x="72" y="1040"/>
                      </a:cubicBezTo>
                      <a:cubicBezTo>
                        <a:pt x="87" y="1037"/>
                        <a:pt x="82" y="1028"/>
                        <a:pt x="96" y="1024"/>
                      </a:cubicBezTo>
                      <a:cubicBezTo>
                        <a:pt x="101" y="1019"/>
                        <a:pt x="90" y="974"/>
                        <a:pt x="96" y="968"/>
                      </a:cubicBezTo>
                      <a:cubicBezTo>
                        <a:pt x="109" y="958"/>
                        <a:pt x="94" y="915"/>
                        <a:pt x="104" y="904"/>
                      </a:cubicBezTo>
                      <a:cubicBezTo>
                        <a:pt x="118" y="889"/>
                        <a:pt x="79" y="862"/>
                        <a:pt x="104" y="856"/>
                      </a:cubicBezTo>
                      <a:cubicBezTo>
                        <a:pt x="115" y="848"/>
                        <a:pt x="112" y="768"/>
                        <a:pt x="49" y="706"/>
                      </a:cubicBezTo>
                      <a:cubicBezTo>
                        <a:pt x="112" y="760"/>
                        <a:pt x="51" y="696"/>
                        <a:pt x="56" y="692"/>
                      </a:cubicBezTo>
                      <a:cubicBezTo>
                        <a:pt x="61" y="689"/>
                        <a:pt x="69" y="689"/>
                        <a:pt x="75" y="687"/>
                      </a:cubicBezTo>
                      <a:cubicBezTo>
                        <a:pt x="82" y="685"/>
                        <a:pt x="89" y="681"/>
                        <a:pt x="95" y="678"/>
                      </a:cubicBezTo>
                      <a:cubicBezTo>
                        <a:pt x="131" y="640"/>
                        <a:pt x="16" y="555"/>
                        <a:pt x="72" y="528"/>
                      </a:cubicBezTo>
                      <a:cubicBezTo>
                        <a:pt x="99" y="488"/>
                        <a:pt x="161" y="397"/>
                        <a:pt x="200" y="360"/>
                      </a:cubicBezTo>
                      <a:cubicBezTo>
                        <a:pt x="219" y="342"/>
                        <a:pt x="259" y="209"/>
                        <a:pt x="280" y="192"/>
                      </a:cubicBezTo>
                      <a:cubicBezTo>
                        <a:pt x="331" y="150"/>
                        <a:pt x="396" y="11"/>
                        <a:pt x="472" y="0"/>
                      </a:cubicBezTo>
                      <a:cubicBezTo>
                        <a:pt x="577" y="5"/>
                        <a:pt x="708" y="142"/>
                        <a:pt x="784" y="160"/>
                      </a:cubicBezTo>
                      <a:cubicBezTo>
                        <a:pt x="850" y="208"/>
                        <a:pt x="891" y="371"/>
                        <a:pt x="968" y="408"/>
                      </a:cubicBezTo>
                      <a:cubicBezTo>
                        <a:pt x="1001" y="445"/>
                        <a:pt x="1022" y="458"/>
                        <a:pt x="1064" y="488"/>
                      </a:cubicBezTo>
                      <a:cubicBezTo>
                        <a:pt x="1084" y="502"/>
                        <a:pt x="1079" y="533"/>
                        <a:pt x="1104" y="544"/>
                      </a:cubicBezTo>
                      <a:cubicBezTo>
                        <a:pt x="1150" y="566"/>
                        <a:pt x="1030" y="554"/>
                        <a:pt x="1063" y="570"/>
                      </a:cubicBezTo>
                      <a:cubicBezTo>
                        <a:pt x="1069" y="573"/>
                        <a:pt x="1082" y="579"/>
                        <a:pt x="1082" y="579"/>
                      </a:cubicBezTo>
                      <a:cubicBezTo>
                        <a:pt x="1099" y="598"/>
                        <a:pt x="1127" y="613"/>
                        <a:pt x="1154" y="626"/>
                      </a:cubicBezTo>
                      <a:cubicBezTo>
                        <a:pt x="1188" y="665"/>
                        <a:pt x="1251" y="673"/>
                        <a:pt x="1304" y="692"/>
                      </a:cubicBezTo>
                      <a:cubicBezTo>
                        <a:pt x="1349" y="709"/>
                        <a:pt x="1299" y="696"/>
                        <a:pt x="1344" y="706"/>
                      </a:cubicBezTo>
                      <a:cubicBezTo>
                        <a:pt x="1375" y="721"/>
                        <a:pt x="1355" y="714"/>
                        <a:pt x="1403" y="725"/>
                      </a:cubicBezTo>
                      <a:cubicBezTo>
                        <a:pt x="1409" y="726"/>
                        <a:pt x="1416" y="728"/>
                        <a:pt x="1422" y="730"/>
                      </a:cubicBezTo>
                      <a:cubicBezTo>
                        <a:pt x="1429" y="731"/>
                        <a:pt x="1442" y="734"/>
                        <a:pt x="1442" y="734"/>
                      </a:cubicBezTo>
                      <a:cubicBezTo>
                        <a:pt x="1458" y="747"/>
                        <a:pt x="1475" y="747"/>
                        <a:pt x="1494" y="758"/>
                      </a:cubicBezTo>
                      <a:cubicBezTo>
                        <a:pt x="1552" y="793"/>
                        <a:pt x="1629" y="807"/>
                        <a:pt x="1703" y="814"/>
                      </a:cubicBezTo>
                      <a:cubicBezTo>
                        <a:pt x="1777" y="832"/>
                        <a:pt x="1866" y="825"/>
                        <a:pt x="1932" y="857"/>
                      </a:cubicBezTo>
                      <a:cubicBezTo>
                        <a:pt x="1949" y="875"/>
                        <a:pt x="1972" y="891"/>
                        <a:pt x="1991" y="908"/>
                      </a:cubicBezTo>
                      <a:cubicBezTo>
                        <a:pt x="1996" y="913"/>
                        <a:pt x="1998" y="919"/>
                        <a:pt x="2004" y="922"/>
                      </a:cubicBezTo>
                      <a:cubicBezTo>
                        <a:pt x="2010" y="926"/>
                        <a:pt x="2062" y="943"/>
                        <a:pt x="2069" y="946"/>
                      </a:cubicBezTo>
                      <a:cubicBezTo>
                        <a:pt x="2118" y="983"/>
                        <a:pt x="2285" y="981"/>
                        <a:pt x="2337" y="983"/>
                      </a:cubicBezTo>
                      <a:cubicBezTo>
                        <a:pt x="2420" y="991"/>
                        <a:pt x="2499" y="989"/>
                        <a:pt x="2579" y="1007"/>
                      </a:cubicBezTo>
                      <a:cubicBezTo>
                        <a:pt x="2584" y="1012"/>
                        <a:pt x="2589" y="1016"/>
                        <a:pt x="2592" y="1021"/>
                      </a:cubicBezTo>
                      <a:cubicBezTo>
                        <a:pt x="2598" y="1031"/>
                        <a:pt x="2595" y="1042"/>
                        <a:pt x="2605" y="1050"/>
                      </a:cubicBezTo>
                      <a:cubicBezTo>
                        <a:pt x="2635" y="1071"/>
                        <a:pt x="2654" y="1096"/>
                        <a:pt x="2703" y="1096"/>
                      </a:cubicBezTo>
                      <a:lnTo>
                        <a:pt x="2703" y="2027"/>
                      </a:lnTo>
                      <a:lnTo>
                        <a:pt x="112" y="2008"/>
                      </a:lnTo>
                      <a:lnTo>
                        <a:pt x="112" y="196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9"/>
                <p:cNvSpPr/>
                <p:nvPr/>
              </p:nvSpPr>
              <p:spPr>
                <a:xfrm>
                  <a:off x="5418000" y="5579640"/>
                  <a:ext cx="3724560" cy="1277280"/>
                </a:xfrm>
                <a:custGeom>
                  <a:avLst/>
                  <a:gdLst/>
                  <a:ahLst/>
                  <a:rect l="l" t="t" r="r" b="b"/>
                  <a:pathLst>
                    <a:path w="1716" h="610">
                      <a:moveTo>
                        <a:pt x="216" y="570"/>
                      </a:moveTo>
                      <a:cubicBezTo>
                        <a:pt x="210" y="527"/>
                        <a:pt x="202" y="485"/>
                        <a:pt x="192" y="442"/>
                      </a:cubicBezTo>
                      <a:cubicBezTo>
                        <a:pt x="187" y="421"/>
                        <a:pt x="176" y="378"/>
                        <a:pt x="176" y="378"/>
                      </a:cubicBezTo>
                      <a:cubicBezTo>
                        <a:pt x="205" y="0"/>
                        <a:pt x="513" y="263"/>
                        <a:pt x="1080" y="258"/>
                      </a:cubicBezTo>
                      <a:cubicBezTo>
                        <a:pt x="1163" y="248"/>
                        <a:pt x="1170" y="243"/>
                        <a:pt x="1272" y="258"/>
                      </a:cubicBezTo>
                      <a:cubicBezTo>
                        <a:pt x="1303" y="263"/>
                        <a:pt x="1314" y="288"/>
                        <a:pt x="1336" y="306"/>
                      </a:cubicBezTo>
                      <a:cubicBezTo>
                        <a:pt x="1351" y="318"/>
                        <a:pt x="1384" y="338"/>
                        <a:pt x="1384" y="338"/>
                      </a:cubicBezTo>
                      <a:cubicBezTo>
                        <a:pt x="1413" y="382"/>
                        <a:pt x="1464" y="401"/>
                        <a:pt x="1504" y="434"/>
                      </a:cubicBezTo>
                      <a:cubicBezTo>
                        <a:pt x="1566" y="485"/>
                        <a:pt x="1492" y="434"/>
                        <a:pt x="1552" y="474"/>
                      </a:cubicBezTo>
                      <a:cubicBezTo>
                        <a:pt x="1589" y="530"/>
                        <a:pt x="1568" y="511"/>
                        <a:pt x="1608" y="538"/>
                      </a:cubicBezTo>
                      <a:cubicBezTo>
                        <a:pt x="1630" y="571"/>
                        <a:pt x="1625" y="571"/>
                        <a:pt x="1672" y="594"/>
                      </a:cubicBezTo>
                      <a:cubicBezTo>
                        <a:pt x="1683" y="599"/>
                        <a:pt x="1716" y="610"/>
                        <a:pt x="1704" y="610"/>
                      </a:cubicBezTo>
                      <a:cubicBezTo>
                        <a:pt x="1480" y="610"/>
                        <a:pt x="1256" y="591"/>
                        <a:pt x="1032" y="586"/>
                      </a:cubicBezTo>
                      <a:cubicBezTo>
                        <a:pt x="1008" y="583"/>
                        <a:pt x="984" y="580"/>
                        <a:pt x="960" y="578"/>
                      </a:cubicBezTo>
                      <a:cubicBezTo>
                        <a:pt x="896" y="572"/>
                        <a:pt x="768" y="562"/>
                        <a:pt x="768" y="562"/>
                      </a:cubicBezTo>
                      <a:cubicBezTo>
                        <a:pt x="184" y="570"/>
                        <a:pt x="0" y="570"/>
                        <a:pt x="216" y="570"/>
                      </a:cubicBezTo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10"/>
              <p:cNvSpPr/>
              <p:nvPr/>
            </p:nvSpPr>
            <p:spPr>
              <a:xfrm>
                <a:off x="6842520" y="515448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11"/>
            <p:cNvSpPr/>
            <p:nvPr/>
          </p:nvSpPr>
          <p:spPr>
            <a:xfrm>
              <a:off x="2582640" y="353808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ragments washed to the se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>
              <a:off x="1581840" y="3483360"/>
              <a:ext cx="999360" cy="67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2882520" y="4372200"/>
              <a:ext cx="1142280" cy="27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>
              <a:off x="4432680" y="4748760"/>
              <a:ext cx="1007280" cy="30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5761440" y="5044320"/>
              <a:ext cx="512280" cy="35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6334560" y="5404320"/>
              <a:ext cx="0" cy="672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7"/>
            <p:cNvGrpSpPr/>
            <p:nvPr/>
          </p:nvGrpSpPr>
          <p:grpSpPr>
            <a:xfrm>
              <a:off x="6089400" y="5896440"/>
              <a:ext cx="1792440" cy="495720"/>
              <a:chOff x="6089400" y="5896440"/>
              <a:chExt cx="1792440" cy="495720"/>
            </a:xfrm>
          </p:grpSpPr>
          <p:sp>
            <p:nvSpPr>
              <p:cNvPr id="84" name="Freeform 18"/>
              <p:cNvSpPr/>
              <p:nvPr/>
            </p:nvSpPr>
            <p:spPr>
              <a:xfrm>
                <a:off x="6217200" y="5896440"/>
                <a:ext cx="1664640" cy="420480"/>
              </a:xfrm>
              <a:custGeom>
                <a:avLst/>
                <a:gdLst/>
                <a:ahLst/>
                <a:rect l="l" t="t" r="r" b="b"/>
                <a:pathLst>
                  <a:path w="767" h="201">
                    <a:moveTo>
                      <a:pt x="0" y="2"/>
                    </a:moveTo>
                    <a:cubicBezTo>
                      <a:pt x="9" y="29"/>
                      <a:pt x="20" y="52"/>
                      <a:pt x="33" y="77"/>
                    </a:cubicBezTo>
                    <a:cubicBezTo>
                      <a:pt x="40" y="91"/>
                      <a:pt x="42" y="102"/>
                      <a:pt x="57" y="107"/>
                    </a:cubicBezTo>
                    <a:cubicBezTo>
                      <a:pt x="90" y="140"/>
                      <a:pt x="126" y="144"/>
                      <a:pt x="168" y="158"/>
                    </a:cubicBezTo>
                    <a:cubicBezTo>
                      <a:pt x="225" y="154"/>
                      <a:pt x="230" y="152"/>
                      <a:pt x="300" y="158"/>
                    </a:cubicBezTo>
                    <a:cubicBezTo>
                      <a:pt x="334" y="161"/>
                      <a:pt x="368" y="179"/>
                      <a:pt x="402" y="182"/>
                    </a:cubicBezTo>
                    <a:cubicBezTo>
                      <a:pt x="432" y="185"/>
                      <a:pt x="514" y="187"/>
                      <a:pt x="537" y="188"/>
                    </a:cubicBezTo>
                    <a:cubicBezTo>
                      <a:pt x="576" y="191"/>
                      <a:pt x="615" y="195"/>
                      <a:pt x="654" y="197"/>
                    </a:cubicBezTo>
                    <a:cubicBezTo>
                      <a:pt x="685" y="194"/>
                      <a:pt x="713" y="196"/>
                      <a:pt x="744" y="200"/>
                    </a:cubicBezTo>
                    <a:cubicBezTo>
                      <a:pt x="750" y="199"/>
                      <a:pt x="757" y="201"/>
                      <a:pt x="762" y="197"/>
                    </a:cubicBezTo>
                    <a:cubicBezTo>
                      <a:pt x="767" y="193"/>
                      <a:pt x="756" y="185"/>
                      <a:pt x="753" y="179"/>
                    </a:cubicBezTo>
                    <a:cubicBezTo>
                      <a:pt x="751" y="174"/>
                      <a:pt x="744" y="147"/>
                      <a:pt x="738" y="143"/>
                    </a:cubicBezTo>
                    <a:cubicBezTo>
                      <a:pt x="730" y="138"/>
                      <a:pt x="720" y="139"/>
                      <a:pt x="711" y="137"/>
                    </a:cubicBezTo>
                    <a:cubicBezTo>
                      <a:pt x="648" y="141"/>
                      <a:pt x="584" y="140"/>
                      <a:pt x="522" y="128"/>
                    </a:cubicBezTo>
                    <a:cubicBezTo>
                      <a:pt x="482" y="120"/>
                      <a:pt x="446" y="93"/>
                      <a:pt x="405" y="92"/>
                    </a:cubicBezTo>
                    <a:cubicBezTo>
                      <a:pt x="349" y="90"/>
                      <a:pt x="293" y="90"/>
                      <a:pt x="237" y="89"/>
                    </a:cubicBezTo>
                    <a:cubicBezTo>
                      <a:pt x="200" y="80"/>
                      <a:pt x="115" y="71"/>
                      <a:pt x="84" y="50"/>
                    </a:cubicBezTo>
                    <a:cubicBezTo>
                      <a:pt x="67" y="39"/>
                      <a:pt x="40" y="26"/>
                      <a:pt x="21" y="20"/>
                    </a:cubicBezTo>
                    <a:cubicBezTo>
                      <a:pt x="7" y="0"/>
                      <a:pt x="16" y="2"/>
                      <a:pt x="0" y="2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6089400" y="6069960"/>
                <a:ext cx="1540440" cy="322200"/>
              </a:xfrm>
              <a:custGeom>
                <a:avLst/>
                <a:gdLst/>
                <a:ahLst/>
                <a:rect l="l" t="t" r="r" b="b"/>
                <a:pathLst>
                  <a:path w="710" h="154">
                    <a:moveTo>
                      <a:pt x="12" y="12"/>
                    </a:moveTo>
                    <a:cubicBezTo>
                      <a:pt x="35" y="81"/>
                      <a:pt x="107" y="92"/>
                      <a:pt x="171" y="96"/>
                    </a:cubicBezTo>
                    <a:cubicBezTo>
                      <a:pt x="224" y="107"/>
                      <a:pt x="191" y="102"/>
                      <a:pt x="270" y="105"/>
                    </a:cubicBezTo>
                    <a:cubicBezTo>
                      <a:pt x="338" y="115"/>
                      <a:pt x="364" y="112"/>
                      <a:pt x="456" y="114"/>
                    </a:cubicBezTo>
                    <a:cubicBezTo>
                      <a:pt x="497" y="120"/>
                      <a:pt x="530" y="129"/>
                      <a:pt x="573" y="132"/>
                    </a:cubicBezTo>
                    <a:cubicBezTo>
                      <a:pt x="601" y="146"/>
                      <a:pt x="632" y="145"/>
                      <a:pt x="663" y="147"/>
                    </a:cubicBezTo>
                    <a:cubicBezTo>
                      <a:pt x="674" y="149"/>
                      <a:pt x="695" y="154"/>
                      <a:pt x="705" y="147"/>
                    </a:cubicBezTo>
                    <a:cubicBezTo>
                      <a:pt x="710" y="143"/>
                      <a:pt x="691" y="116"/>
                      <a:pt x="681" y="111"/>
                    </a:cubicBezTo>
                    <a:cubicBezTo>
                      <a:pt x="655" y="100"/>
                      <a:pt x="639" y="101"/>
                      <a:pt x="609" y="99"/>
                    </a:cubicBezTo>
                    <a:cubicBezTo>
                      <a:pt x="543" y="77"/>
                      <a:pt x="483" y="80"/>
                      <a:pt x="411" y="78"/>
                    </a:cubicBezTo>
                    <a:cubicBezTo>
                      <a:pt x="383" y="69"/>
                      <a:pt x="399" y="73"/>
                      <a:pt x="360" y="69"/>
                    </a:cubicBezTo>
                    <a:cubicBezTo>
                      <a:pt x="312" y="57"/>
                      <a:pt x="254" y="62"/>
                      <a:pt x="204" y="57"/>
                    </a:cubicBezTo>
                    <a:cubicBezTo>
                      <a:pt x="146" y="52"/>
                      <a:pt x="95" y="30"/>
                      <a:pt x="36" y="27"/>
                    </a:cubicBezTo>
                    <a:cubicBezTo>
                      <a:pt x="35" y="26"/>
                      <a:pt x="0" y="0"/>
                      <a:pt x="12" y="12"/>
                    </a:cubicBez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0"/>
            <p:cNvGrpSpPr/>
            <p:nvPr/>
          </p:nvGrpSpPr>
          <p:grpSpPr>
            <a:xfrm>
              <a:off x="3694680" y="5808600"/>
              <a:ext cx="2435400" cy="780120"/>
              <a:chOff x="3694680" y="5808600"/>
              <a:chExt cx="2435400" cy="780120"/>
            </a:xfrm>
          </p:grpSpPr>
          <p:sp>
            <p:nvSpPr>
              <p:cNvPr id="87" name="Text Box 21"/>
              <p:cNvSpPr/>
              <p:nvPr/>
            </p:nvSpPr>
            <p:spPr>
              <a:xfrm>
                <a:off x="3694680" y="5808600"/>
                <a:ext cx="2372400" cy="7038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Sedimentary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00"/>
                    </a:solidFill>
                    <a:latin typeface="Arial"/>
                  </a:rPr>
                  <a:t>rock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2"/>
              <p:cNvSpPr/>
              <p:nvPr/>
            </p:nvSpPr>
            <p:spPr>
              <a:xfrm flipV="1">
                <a:off x="5383440" y="6404760"/>
                <a:ext cx="746640" cy="1839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3"/>
            <p:cNvGrpSpPr/>
            <p:nvPr/>
          </p:nvGrpSpPr>
          <p:grpSpPr>
            <a:xfrm>
              <a:off x="469440" y="3330720"/>
              <a:ext cx="2180160" cy="2292480"/>
              <a:chOff x="469440" y="3330720"/>
              <a:chExt cx="2180160" cy="2292480"/>
            </a:xfrm>
          </p:grpSpPr>
          <p:sp>
            <p:nvSpPr>
              <p:cNvPr id="90" name="Text Box 24"/>
              <p:cNvSpPr/>
              <p:nvPr/>
            </p:nvSpPr>
            <p:spPr>
              <a:xfrm>
                <a:off x="469440" y="4614480"/>
                <a:ext cx="21801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Rocks are brok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up by the ac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of weath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1076400" y="3339000"/>
                <a:ext cx="214920" cy="150480"/>
              </a:xfrm>
              <a:custGeom>
                <a:avLst/>
                <a:gdLst/>
                <a:ahLst/>
                <a:rect l="l" t="t" r="r" b="b"/>
                <a:pathLst>
                  <a:path w="99" h="72">
                    <a:moveTo>
                      <a:pt x="0" y="0"/>
                    </a:moveTo>
                    <a:cubicBezTo>
                      <a:pt x="31" y="10"/>
                      <a:pt x="33" y="30"/>
                      <a:pt x="64" y="40"/>
                    </a:cubicBezTo>
                    <a:cubicBezTo>
                      <a:pt x="72" y="48"/>
                      <a:pt x="99" y="60"/>
                      <a:pt x="88" y="64"/>
                    </a:cubicBezTo>
                    <a:cubicBezTo>
                      <a:pt x="68" y="72"/>
                      <a:pt x="42" y="68"/>
                      <a:pt x="24" y="56"/>
                    </a:cubicBezTo>
                    <a:cubicBezTo>
                      <a:pt x="16" y="51"/>
                      <a:pt x="31" y="36"/>
                      <a:pt x="40" y="32"/>
                    </a:cubicBezTo>
                    <a:cubicBezTo>
                      <a:pt x="45" y="30"/>
                      <a:pt x="40" y="43"/>
                      <a:pt x="40" y="48"/>
                    </a:cubicBezTo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1388880" y="3431160"/>
                <a:ext cx="99720" cy="6444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1476000" y="339768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1232640" y="333072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0" y="28"/>
                    </a:moveTo>
                    <a:cubicBezTo>
                      <a:pt x="3" y="20"/>
                      <a:pt x="0" y="7"/>
                      <a:pt x="8" y="4"/>
                    </a:cubicBezTo>
                    <a:cubicBezTo>
                      <a:pt x="18" y="0"/>
                      <a:pt x="37" y="2"/>
                      <a:pt x="40" y="12"/>
                    </a:cubicBezTo>
                    <a:cubicBezTo>
                      <a:pt x="46" y="31"/>
                      <a:pt x="6" y="28"/>
                      <a:pt x="0" y="28"/>
                    </a:cubicBez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Group 30"/>
          <p:cNvGrpSpPr/>
          <p:nvPr/>
        </p:nvGrpSpPr>
        <p:grpSpPr>
          <a:xfrm>
            <a:off x="6156360" y="1125360"/>
            <a:ext cx="2987280" cy="1873080"/>
            <a:chOff x="6156360" y="1125360"/>
            <a:chExt cx="2987280" cy="1873080"/>
          </a:xfrm>
        </p:grpSpPr>
        <p:grpSp>
          <p:nvGrpSpPr>
            <p:cNvPr id="96" name="Group 31"/>
            <p:cNvGrpSpPr/>
            <p:nvPr/>
          </p:nvGrpSpPr>
          <p:grpSpPr>
            <a:xfrm>
              <a:off x="6156360" y="1125360"/>
              <a:ext cx="2987280" cy="1873080"/>
              <a:chOff x="6156360" y="1125360"/>
              <a:chExt cx="2987280" cy="1873080"/>
            </a:xfrm>
          </p:grpSpPr>
          <p:sp>
            <p:nvSpPr>
              <p:cNvPr id="97" name="Freeform 32"/>
              <p:cNvSpPr/>
              <p:nvPr/>
            </p:nvSpPr>
            <p:spPr>
              <a:xfrm>
                <a:off x="6970320" y="1792800"/>
                <a:ext cx="2123280" cy="535320"/>
              </a:xfrm>
              <a:custGeom>
                <a:avLst/>
                <a:gdLst/>
                <a:ahLst/>
                <a:rect l="l" t="t" r="r" b="b"/>
                <a:pathLst>
                  <a:path w="1945" h="473">
                    <a:moveTo>
                      <a:pt x="145" y="0"/>
                    </a:moveTo>
                    <a:cubicBezTo>
                      <a:pt x="265" y="39"/>
                      <a:pt x="136" y="0"/>
                      <a:pt x="454" y="18"/>
                    </a:cubicBezTo>
                    <a:cubicBezTo>
                      <a:pt x="492" y="20"/>
                      <a:pt x="513" y="41"/>
                      <a:pt x="545" y="55"/>
                    </a:cubicBezTo>
                    <a:cubicBezTo>
                      <a:pt x="575" y="68"/>
                      <a:pt x="604" y="84"/>
                      <a:pt x="636" y="91"/>
                    </a:cubicBezTo>
                    <a:cubicBezTo>
                      <a:pt x="678" y="100"/>
                      <a:pt x="763" y="109"/>
                      <a:pt x="763" y="109"/>
                    </a:cubicBezTo>
                    <a:cubicBezTo>
                      <a:pt x="915" y="92"/>
                      <a:pt x="861" y="94"/>
                      <a:pt x="1100" y="109"/>
                    </a:cubicBezTo>
                    <a:cubicBezTo>
                      <a:pt x="1151" y="112"/>
                      <a:pt x="1204" y="136"/>
                      <a:pt x="1254" y="146"/>
                    </a:cubicBezTo>
                    <a:cubicBezTo>
                      <a:pt x="1401" y="139"/>
                      <a:pt x="1545" y="127"/>
                      <a:pt x="1691" y="109"/>
                    </a:cubicBezTo>
                    <a:cubicBezTo>
                      <a:pt x="1784" y="78"/>
                      <a:pt x="1824" y="100"/>
                      <a:pt x="1945" y="100"/>
                    </a:cubicBezTo>
                    <a:lnTo>
                      <a:pt x="1927" y="418"/>
                    </a:lnTo>
                    <a:lnTo>
                      <a:pt x="0" y="473"/>
                    </a:lnTo>
                    <a:lnTo>
                      <a:pt x="145" y="0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33"/>
              <p:cNvSpPr/>
              <p:nvPr/>
            </p:nvSpPr>
            <p:spPr>
              <a:xfrm>
                <a:off x="6911640" y="1609560"/>
                <a:ext cx="2202840" cy="1388880"/>
              </a:xfrm>
              <a:prstGeom prst="rect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4"/>
              <p:cNvSpPr/>
              <p:nvPr/>
            </p:nvSpPr>
            <p:spPr>
              <a:xfrm>
                <a:off x="7108200" y="1892520"/>
                <a:ext cx="2004120" cy="580680"/>
              </a:xfrm>
              <a:custGeom>
                <a:avLst/>
                <a:gdLst/>
                <a:ahLst/>
                <a:rect l="l" t="t" r="r" b="b"/>
                <a:pathLst>
                  <a:path w="1836" h="513">
                    <a:moveTo>
                      <a:pt x="91" y="22"/>
                    </a:moveTo>
                    <a:cubicBezTo>
                      <a:pt x="158" y="0"/>
                      <a:pt x="203" y="43"/>
                      <a:pt x="264" y="58"/>
                    </a:cubicBezTo>
                    <a:cubicBezTo>
                      <a:pt x="293" y="77"/>
                      <a:pt x="321" y="92"/>
                      <a:pt x="354" y="104"/>
                    </a:cubicBezTo>
                    <a:cubicBezTo>
                      <a:pt x="407" y="154"/>
                      <a:pt x="486" y="144"/>
                      <a:pt x="554" y="149"/>
                    </a:cubicBezTo>
                    <a:cubicBezTo>
                      <a:pt x="599" y="145"/>
                      <a:pt x="739" y="130"/>
                      <a:pt x="773" y="131"/>
                    </a:cubicBezTo>
                    <a:cubicBezTo>
                      <a:pt x="801" y="132"/>
                      <a:pt x="908" y="150"/>
                      <a:pt x="954" y="158"/>
                    </a:cubicBezTo>
                    <a:cubicBezTo>
                      <a:pt x="1083" y="137"/>
                      <a:pt x="1209" y="160"/>
                      <a:pt x="1336" y="176"/>
                    </a:cubicBezTo>
                    <a:cubicBezTo>
                      <a:pt x="1472" y="169"/>
                      <a:pt x="1486" y="172"/>
                      <a:pt x="1582" y="149"/>
                    </a:cubicBezTo>
                    <a:cubicBezTo>
                      <a:pt x="1660" y="162"/>
                      <a:pt x="1738" y="149"/>
                      <a:pt x="1818" y="149"/>
                    </a:cubicBezTo>
                    <a:lnTo>
                      <a:pt x="1836" y="513"/>
                    </a:lnTo>
                    <a:lnTo>
                      <a:pt x="0" y="485"/>
                    </a:lnTo>
                    <a:lnTo>
                      <a:pt x="91" y="2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5"/>
              <p:cNvSpPr/>
              <p:nvPr/>
            </p:nvSpPr>
            <p:spPr>
              <a:xfrm>
                <a:off x="7246800" y="2060280"/>
                <a:ext cx="1855800" cy="587520"/>
              </a:xfrm>
              <a:custGeom>
                <a:avLst/>
                <a:gdLst/>
                <a:ahLst/>
                <a:rect l="l" t="t" r="r" b="b"/>
                <a:pathLst>
                  <a:path w="1700" h="519">
                    <a:moveTo>
                      <a:pt x="0" y="0"/>
                    </a:moveTo>
                    <a:cubicBezTo>
                      <a:pt x="32" y="11"/>
                      <a:pt x="59" y="26"/>
                      <a:pt x="91" y="37"/>
                    </a:cubicBezTo>
                    <a:cubicBezTo>
                      <a:pt x="122" y="84"/>
                      <a:pt x="130" y="98"/>
                      <a:pt x="173" y="128"/>
                    </a:cubicBezTo>
                    <a:cubicBezTo>
                      <a:pt x="211" y="184"/>
                      <a:pt x="252" y="183"/>
                      <a:pt x="318" y="191"/>
                    </a:cubicBezTo>
                    <a:cubicBezTo>
                      <a:pt x="398" y="217"/>
                      <a:pt x="479" y="214"/>
                      <a:pt x="564" y="219"/>
                    </a:cubicBezTo>
                    <a:cubicBezTo>
                      <a:pt x="609" y="216"/>
                      <a:pt x="655" y="216"/>
                      <a:pt x="700" y="209"/>
                    </a:cubicBezTo>
                    <a:cubicBezTo>
                      <a:pt x="719" y="206"/>
                      <a:pt x="737" y="197"/>
                      <a:pt x="755" y="191"/>
                    </a:cubicBezTo>
                    <a:cubicBezTo>
                      <a:pt x="764" y="188"/>
                      <a:pt x="782" y="182"/>
                      <a:pt x="782" y="182"/>
                    </a:cubicBezTo>
                    <a:cubicBezTo>
                      <a:pt x="920" y="205"/>
                      <a:pt x="1023" y="196"/>
                      <a:pt x="1173" y="191"/>
                    </a:cubicBezTo>
                    <a:cubicBezTo>
                      <a:pt x="1282" y="197"/>
                      <a:pt x="1378" y="203"/>
                      <a:pt x="1482" y="228"/>
                    </a:cubicBezTo>
                    <a:cubicBezTo>
                      <a:pt x="1638" y="216"/>
                      <a:pt x="1561" y="221"/>
                      <a:pt x="1655" y="191"/>
                    </a:cubicBezTo>
                    <a:cubicBezTo>
                      <a:pt x="1664" y="185"/>
                      <a:pt x="1682" y="173"/>
                      <a:pt x="1682" y="173"/>
                    </a:cubicBezTo>
                    <a:lnTo>
                      <a:pt x="1700" y="509"/>
                    </a:lnTo>
                    <a:lnTo>
                      <a:pt x="0" y="5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6"/>
              <p:cNvSpPr/>
              <p:nvPr/>
            </p:nvSpPr>
            <p:spPr>
              <a:xfrm>
                <a:off x="7377480" y="2444040"/>
                <a:ext cx="1766160" cy="348480"/>
              </a:xfrm>
              <a:custGeom>
                <a:avLst/>
                <a:gdLst/>
                <a:ahLst/>
                <a:rect l="l" t="t" r="r" b="b"/>
                <a:pathLst>
                  <a:path w="1400" h="308">
                    <a:moveTo>
                      <a:pt x="18" y="62"/>
                    </a:moveTo>
                    <a:cubicBezTo>
                      <a:pt x="140" y="75"/>
                      <a:pt x="259" y="82"/>
                      <a:pt x="382" y="71"/>
                    </a:cubicBezTo>
                    <a:cubicBezTo>
                      <a:pt x="594" y="0"/>
                      <a:pt x="754" y="58"/>
                      <a:pt x="1027" y="62"/>
                    </a:cubicBezTo>
                    <a:cubicBezTo>
                      <a:pt x="1149" y="92"/>
                      <a:pt x="1275" y="80"/>
                      <a:pt x="1400" y="80"/>
                    </a:cubicBezTo>
                    <a:lnTo>
                      <a:pt x="1345" y="308"/>
                    </a:lnTo>
                    <a:lnTo>
                      <a:pt x="0" y="289"/>
                    </a:lnTo>
                    <a:lnTo>
                      <a:pt x="18" y="62"/>
                    </a:lnTo>
                    <a:close/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7"/>
              <p:cNvSpPr/>
              <p:nvPr/>
            </p:nvSpPr>
            <p:spPr>
              <a:xfrm>
                <a:off x="7911720" y="2699640"/>
                <a:ext cx="1200600" cy="277200"/>
              </a:xfrm>
              <a:custGeom>
                <a:avLst/>
                <a:gdLst/>
                <a:ahLst/>
                <a:rect l="l" t="t" r="r" b="b"/>
                <a:pathLst>
                  <a:path w="1100" h="245">
                    <a:moveTo>
                      <a:pt x="0" y="27"/>
                    </a:moveTo>
                    <a:cubicBezTo>
                      <a:pt x="85" y="15"/>
                      <a:pt x="170" y="10"/>
                      <a:pt x="255" y="0"/>
                    </a:cubicBezTo>
                    <a:cubicBezTo>
                      <a:pt x="331" y="3"/>
                      <a:pt x="406" y="4"/>
                      <a:pt x="482" y="9"/>
                    </a:cubicBezTo>
                    <a:cubicBezTo>
                      <a:pt x="506" y="10"/>
                      <a:pt x="531" y="14"/>
                      <a:pt x="555" y="18"/>
                    </a:cubicBezTo>
                    <a:cubicBezTo>
                      <a:pt x="586" y="23"/>
                      <a:pt x="646" y="36"/>
                      <a:pt x="646" y="36"/>
                    </a:cubicBezTo>
                    <a:cubicBezTo>
                      <a:pt x="758" y="27"/>
                      <a:pt x="842" y="19"/>
                      <a:pt x="955" y="27"/>
                    </a:cubicBezTo>
                    <a:cubicBezTo>
                      <a:pt x="1003" y="39"/>
                      <a:pt x="1051" y="45"/>
                      <a:pt x="1100" y="45"/>
                    </a:cubicBezTo>
                    <a:lnTo>
                      <a:pt x="1091" y="245"/>
                    </a:lnTo>
                    <a:lnTo>
                      <a:pt x="18" y="2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8"/>
              <p:cNvSpPr/>
              <p:nvPr/>
            </p:nvSpPr>
            <p:spPr>
              <a:xfrm>
                <a:off x="6156360" y="1125360"/>
                <a:ext cx="2970360" cy="1863000"/>
              </a:xfrm>
              <a:custGeom>
                <a:avLst/>
                <a:gdLst/>
                <a:ahLst/>
                <a:rect l="l" t="t" r="r" b="b"/>
                <a:pathLst>
                  <a:path w="2721" h="1646">
                    <a:moveTo>
                      <a:pt x="0" y="27"/>
                    </a:moveTo>
                    <a:cubicBezTo>
                      <a:pt x="111" y="5"/>
                      <a:pt x="147" y="36"/>
                      <a:pt x="218" y="109"/>
                    </a:cubicBezTo>
                    <a:cubicBezTo>
                      <a:pt x="238" y="129"/>
                      <a:pt x="292" y="139"/>
                      <a:pt x="318" y="145"/>
                    </a:cubicBezTo>
                    <a:cubicBezTo>
                      <a:pt x="377" y="158"/>
                      <a:pt x="432" y="178"/>
                      <a:pt x="491" y="190"/>
                    </a:cubicBezTo>
                    <a:cubicBezTo>
                      <a:pt x="572" y="247"/>
                      <a:pt x="676" y="264"/>
                      <a:pt x="764" y="309"/>
                    </a:cubicBezTo>
                    <a:cubicBezTo>
                      <a:pt x="827" y="341"/>
                      <a:pt x="853" y="451"/>
                      <a:pt x="900" y="500"/>
                    </a:cubicBezTo>
                    <a:cubicBezTo>
                      <a:pt x="941" y="623"/>
                      <a:pt x="996" y="724"/>
                      <a:pt x="1018" y="854"/>
                    </a:cubicBezTo>
                    <a:cubicBezTo>
                      <a:pt x="1028" y="972"/>
                      <a:pt x="1048" y="1085"/>
                      <a:pt x="1100" y="1191"/>
                    </a:cubicBezTo>
                    <a:cubicBezTo>
                      <a:pt x="1112" y="1215"/>
                      <a:pt x="1105" y="1226"/>
                      <a:pt x="1127" y="1245"/>
                    </a:cubicBezTo>
                    <a:cubicBezTo>
                      <a:pt x="1244" y="1346"/>
                      <a:pt x="1121" y="1226"/>
                      <a:pt x="1236" y="1300"/>
                    </a:cubicBezTo>
                    <a:cubicBezTo>
                      <a:pt x="1318" y="1353"/>
                      <a:pt x="1413" y="1368"/>
                      <a:pt x="1509" y="1381"/>
                    </a:cubicBezTo>
                    <a:cubicBezTo>
                      <a:pt x="1614" y="1420"/>
                      <a:pt x="1734" y="1447"/>
                      <a:pt x="1845" y="1463"/>
                    </a:cubicBezTo>
                    <a:cubicBezTo>
                      <a:pt x="1958" y="1499"/>
                      <a:pt x="2082" y="1473"/>
                      <a:pt x="2200" y="1491"/>
                    </a:cubicBezTo>
                    <a:cubicBezTo>
                      <a:pt x="2284" y="1519"/>
                      <a:pt x="2357" y="1566"/>
                      <a:pt x="2445" y="1581"/>
                    </a:cubicBezTo>
                    <a:cubicBezTo>
                      <a:pt x="2520" y="1607"/>
                      <a:pt x="2481" y="1597"/>
                      <a:pt x="2564" y="1609"/>
                    </a:cubicBezTo>
                    <a:cubicBezTo>
                      <a:pt x="2639" y="1634"/>
                      <a:pt x="2522" y="1596"/>
                      <a:pt x="2645" y="1627"/>
                    </a:cubicBezTo>
                    <a:cubicBezTo>
                      <a:pt x="2721" y="1646"/>
                      <a:pt x="2678" y="1645"/>
                      <a:pt x="2709" y="1645"/>
                    </a:cubicBezTo>
                    <a:lnTo>
                      <a:pt x="55" y="1645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66ff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6216120" y="1145520"/>
                <a:ext cx="2887200" cy="1841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40"/>
            <p:cNvSpPr/>
            <p:nvPr/>
          </p:nvSpPr>
          <p:spPr>
            <a:xfrm rot="5400000">
              <a:off x="8313120" y="2133720"/>
              <a:ext cx="1014120" cy="593640"/>
            </a:xfrm>
            <a:prstGeom prst="rightArrow">
              <a:avLst>
                <a:gd name="adj1" fmla="val 50000"/>
                <a:gd name="adj2" fmla="val 42708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etting ol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798960" y="1194120"/>
              <a:ext cx="331920" cy="1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7131960" y="1468080"/>
              <a:ext cx="225360" cy="30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52640"/>
            <a:ext cx="9144000" cy="4005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4967640" cy="609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4880" y="812520"/>
            <a:ext cx="852156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amorphic rocks are formed by the effect of heat and pressure on existing r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an greatly affect the hardness, texture or layer patterns of the r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2852640"/>
            <a:ext cx="7921080" cy="4005000"/>
            <a:chOff x="684360" y="2852640"/>
            <a:chExt cx="7921080" cy="4005000"/>
          </a:xfrm>
        </p:grpSpPr>
        <p:sp>
          <p:nvSpPr>
            <p:cNvPr id="112" name="Freeform 4"/>
            <p:cNvSpPr/>
            <p:nvPr/>
          </p:nvSpPr>
          <p:spPr>
            <a:xfrm>
              <a:off x="792360" y="3451680"/>
              <a:ext cx="7769880" cy="2182680"/>
            </a:xfrm>
            <a:custGeom>
              <a:avLst/>
              <a:gdLst/>
              <a:ahLst/>
              <a:rect l="l" t="t" r="r" b="b"/>
              <a:pathLst>
                <a:path w="3091" h="973">
                  <a:moveTo>
                    <a:pt x="3035" y="968"/>
                  </a:moveTo>
                  <a:cubicBezTo>
                    <a:pt x="2901" y="960"/>
                    <a:pt x="2768" y="949"/>
                    <a:pt x="2635" y="936"/>
                  </a:cubicBezTo>
                  <a:cubicBezTo>
                    <a:pt x="2540" y="912"/>
                    <a:pt x="2444" y="866"/>
                    <a:pt x="2347" y="856"/>
                  </a:cubicBezTo>
                  <a:cubicBezTo>
                    <a:pt x="2240" y="845"/>
                    <a:pt x="2138" y="844"/>
                    <a:pt x="2035" y="816"/>
                  </a:cubicBezTo>
                  <a:cubicBezTo>
                    <a:pt x="1988" y="803"/>
                    <a:pt x="1915" y="795"/>
                    <a:pt x="1875" y="768"/>
                  </a:cubicBezTo>
                  <a:cubicBezTo>
                    <a:pt x="1812" y="726"/>
                    <a:pt x="1701" y="691"/>
                    <a:pt x="1627" y="672"/>
                  </a:cubicBezTo>
                  <a:cubicBezTo>
                    <a:pt x="1546" y="618"/>
                    <a:pt x="1391" y="628"/>
                    <a:pt x="1307" y="624"/>
                  </a:cubicBezTo>
                  <a:cubicBezTo>
                    <a:pt x="1233" y="616"/>
                    <a:pt x="1157" y="612"/>
                    <a:pt x="1083" y="600"/>
                  </a:cubicBezTo>
                  <a:cubicBezTo>
                    <a:pt x="1041" y="593"/>
                    <a:pt x="1007" y="582"/>
                    <a:pt x="963" y="576"/>
                  </a:cubicBezTo>
                  <a:cubicBezTo>
                    <a:pt x="908" y="549"/>
                    <a:pt x="865" y="522"/>
                    <a:pt x="803" y="512"/>
                  </a:cubicBezTo>
                  <a:cubicBezTo>
                    <a:pt x="671" y="446"/>
                    <a:pt x="486" y="454"/>
                    <a:pt x="347" y="448"/>
                  </a:cubicBezTo>
                  <a:cubicBezTo>
                    <a:pt x="266" y="428"/>
                    <a:pt x="244" y="417"/>
                    <a:pt x="163" y="376"/>
                  </a:cubicBezTo>
                  <a:cubicBezTo>
                    <a:pt x="137" y="363"/>
                    <a:pt x="124" y="329"/>
                    <a:pt x="99" y="312"/>
                  </a:cubicBezTo>
                  <a:cubicBezTo>
                    <a:pt x="86" y="272"/>
                    <a:pt x="60" y="241"/>
                    <a:pt x="35" y="208"/>
                  </a:cubicBezTo>
                  <a:cubicBezTo>
                    <a:pt x="13" y="143"/>
                    <a:pt x="0" y="112"/>
                    <a:pt x="35" y="16"/>
                  </a:cubicBezTo>
                  <a:cubicBezTo>
                    <a:pt x="41" y="0"/>
                    <a:pt x="67" y="27"/>
                    <a:pt x="83" y="32"/>
                  </a:cubicBezTo>
                  <a:cubicBezTo>
                    <a:pt x="91" y="35"/>
                    <a:pt x="100" y="35"/>
                    <a:pt x="107" y="40"/>
                  </a:cubicBezTo>
                  <a:cubicBezTo>
                    <a:pt x="165" y="79"/>
                    <a:pt x="218" y="118"/>
                    <a:pt x="283" y="144"/>
                  </a:cubicBezTo>
                  <a:cubicBezTo>
                    <a:pt x="400" y="191"/>
                    <a:pt x="528" y="193"/>
                    <a:pt x="651" y="216"/>
                  </a:cubicBezTo>
                  <a:cubicBezTo>
                    <a:pt x="708" y="227"/>
                    <a:pt x="763" y="255"/>
                    <a:pt x="819" y="264"/>
                  </a:cubicBezTo>
                  <a:cubicBezTo>
                    <a:pt x="891" y="276"/>
                    <a:pt x="956" y="308"/>
                    <a:pt x="1027" y="320"/>
                  </a:cubicBezTo>
                  <a:cubicBezTo>
                    <a:pt x="1069" y="327"/>
                    <a:pt x="1155" y="336"/>
                    <a:pt x="1155" y="336"/>
                  </a:cubicBezTo>
                  <a:cubicBezTo>
                    <a:pt x="1271" y="375"/>
                    <a:pt x="1389" y="394"/>
                    <a:pt x="1507" y="424"/>
                  </a:cubicBezTo>
                  <a:cubicBezTo>
                    <a:pt x="1530" y="430"/>
                    <a:pt x="1547" y="455"/>
                    <a:pt x="1571" y="456"/>
                  </a:cubicBezTo>
                  <a:cubicBezTo>
                    <a:pt x="2008" y="466"/>
                    <a:pt x="1795" y="461"/>
                    <a:pt x="2211" y="472"/>
                  </a:cubicBezTo>
                  <a:cubicBezTo>
                    <a:pt x="2291" y="492"/>
                    <a:pt x="2365" y="526"/>
                    <a:pt x="2443" y="552"/>
                  </a:cubicBezTo>
                  <a:cubicBezTo>
                    <a:pt x="2531" y="618"/>
                    <a:pt x="2650" y="653"/>
                    <a:pt x="2755" y="688"/>
                  </a:cubicBezTo>
                  <a:cubicBezTo>
                    <a:pt x="2861" y="723"/>
                    <a:pt x="2979" y="693"/>
                    <a:pt x="3091" y="696"/>
                  </a:cubicBezTo>
                  <a:cubicBezTo>
                    <a:pt x="3081" y="769"/>
                    <a:pt x="3089" y="734"/>
                    <a:pt x="3067" y="800"/>
                  </a:cubicBezTo>
                  <a:cubicBezTo>
                    <a:pt x="3064" y="808"/>
                    <a:pt x="3059" y="824"/>
                    <a:pt x="3059" y="824"/>
                  </a:cubicBezTo>
                  <a:cubicBezTo>
                    <a:pt x="3056" y="859"/>
                    <a:pt x="3060" y="894"/>
                    <a:pt x="3051" y="928"/>
                  </a:cubicBezTo>
                  <a:cubicBezTo>
                    <a:pt x="3045" y="949"/>
                    <a:pt x="3008" y="934"/>
                    <a:pt x="3019" y="968"/>
                  </a:cubicBezTo>
                  <a:cubicBezTo>
                    <a:pt x="3021" y="973"/>
                    <a:pt x="3030" y="968"/>
                    <a:pt x="3035" y="968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cc"/>
                </a:gs>
                <a:gs pos="100000">
                  <a:srgbClr val="cc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719640" y="2852640"/>
              <a:ext cx="7885800" cy="2434320"/>
            </a:xfrm>
            <a:custGeom>
              <a:avLst/>
              <a:gdLst/>
              <a:ahLst/>
              <a:rect l="l" t="t" r="r" b="b"/>
              <a:pathLst>
                <a:path w="3137" h="1085">
                  <a:moveTo>
                    <a:pt x="72" y="291"/>
                  </a:moveTo>
                  <a:cubicBezTo>
                    <a:pt x="123" y="329"/>
                    <a:pt x="171" y="368"/>
                    <a:pt x="224" y="403"/>
                  </a:cubicBezTo>
                  <a:cubicBezTo>
                    <a:pt x="262" y="428"/>
                    <a:pt x="346" y="441"/>
                    <a:pt x="392" y="451"/>
                  </a:cubicBezTo>
                  <a:cubicBezTo>
                    <a:pt x="424" y="458"/>
                    <a:pt x="433" y="470"/>
                    <a:pt x="464" y="491"/>
                  </a:cubicBezTo>
                  <a:cubicBezTo>
                    <a:pt x="485" y="505"/>
                    <a:pt x="563" y="511"/>
                    <a:pt x="584" y="515"/>
                  </a:cubicBezTo>
                  <a:cubicBezTo>
                    <a:pt x="627" y="523"/>
                    <a:pt x="669" y="541"/>
                    <a:pt x="712" y="547"/>
                  </a:cubicBezTo>
                  <a:cubicBezTo>
                    <a:pt x="741" y="551"/>
                    <a:pt x="771" y="552"/>
                    <a:pt x="800" y="555"/>
                  </a:cubicBezTo>
                  <a:cubicBezTo>
                    <a:pt x="819" y="557"/>
                    <a:pt x="837" y="560"/>
                    <a:pt x="856" y="563"/>
                  </a:cubicBezTo>
                  <a:cubicBezTo>
                    <a:pt x="998" y="610"/>
                    <a:pt x="950" y="603"/>
                    <a:pt x="1176" y="611"/>
                  </a:cubicBezTo>
                  <a:cubicBezTo>
                    <a:pt x="1260" y="621"/>
                    <a:pt x="1336" y="648"/>
                    <a:pt x="1416" y="675"/>
                  </a:cubicBezTo>
                  <a:cubicBezTo>
                    <a:pt x="1446" y="685"/>
                    <a:pt x="1481" y="703"/>
                    <a:pt x="1512" y="707"/>
                  </a:cubicBezTo>
                  <a:cubicBezTo>
                    <a:pt x="1589" y="717"/>
                    <a:pt x="1668" y="722"/>
                    <a:pt x="1744" y="739"/>
                  </a:cubicBezTo>
                  <a:cubicBezTo>
                    <a:pt x="1850" y="762"/>
                    <a:pt x="1957" y="799"/>
                    <a:pt x="2064" y="811"/>
                  </a:cubicBezTo>
                  <a:cubicBezTo>
                    <a:pt x="2223" y="829"/>
                    <a:pt x="2387" y="836"/>
                    <a:pt x="2544" y="867"/>
                  </a:cubicBezTo>
                  <a:cubicBezTo>
                    <a:pt x="2555" y="872"/>
                    <a:pt x="2565" y="879"/>
                    <a:pt x="2576" y="883"/>
                  </a:cubicBezTo>
                  <a:cubicBezTo>
                    <a:pt x="2594" y="890"/>
                    <a:pt x="2614" y="891"/>
                    <a:pt x="2632" y="899"/>
                  </a:cubicBezTo>
                  <a:cubicBezTo>
                    <a:pt x="2684" y="922"/>
                    <a:pt x="2725" y="970"/>
                    <a:pt x="2776" y="995"/>
                  </a:cubicBezTo>
                  <a:cubicBezTo>
                    <a:pt x="2848" y="1031"/>
                    <a:pt x="2919" y="1049"/>
                    <a:pt x="3000" y="1059"/>
                  </a:cubicBezTo>
                  <a:cubicBezTo>
                    <a:pt x="3053" y="1074"/>
                    <a:pt x="3068" y="1085"/>
                    <a:pt x="3120" y="1075"/>
                  </a:cubicBezTo>
                  <a:cubicBezTo>
                    <a:pt x="3126" y="1019"/>
                    <a:pt x="3137" y="954"/>
                    <a:pt x="3120" y="899"/>
                  </a:cubicBezTo>
                  <a:cubicBezTo>
                    <a:pt x="3119" y="896"/>
                    <a:pt x="3045" y="869"/>
                    <a:pt x="3040" y="867"/>
                  </a:cubicBezTo>
                  <a:cubicBezTo>
                    <a:pt x="2951" y="834"/>
                    <a:pt x="2871" y="811"/>
                    <a:pt x="2776" y="795"/>
                  </a:cubicBezTo>
                  <a:cubicBezTo>
                    <a:pt x="2741" y="777"/>
                    <a:pt x="2701" y="751"/>
                    <a:pt x="2664" y="739"/>
                  </a:cubicBezTo>
                  <a:cubicBezTo>
                    <a:pt x="2602" y="718"/>
                    <a:pt x="2531" y="721"/>
                    <a:pt x="2472" y="691"/>
                  </a:cubicBezTo>
                  <a:cubicBezTo>
                    <a:pt x="2453" y="681"/>
                    <a:pt x="2437" y="665"/>
                    <a:pt x="2416" y="659"/>
                  </a:cubicBezTo>
                  <a:cubicBezTo>
                    <a:pt x="2374" y="646"/>
                    <a:pt x="2327" y="647"/>
                    <a:pt x="2288" y="627"/>
                  </a:cubicBezTo>
                  <a:cubicBezTo>
                    <a:pt x="2171" y="569"/>
                    <a:pt x="2043" y="531"/>
                    <a:pt x="1912" y="515"/>
                  </a:cubicBezTo>
                  <a:cubicBezTo>
                    <a:pt x="1858" y="497"/>
                    <a:pt x="1809" y="490"/>
                    <a:pt x="1752" y="483"/>
                  </a:cubicBezTo>
                  <a:cubicBezTo>
                    <a:pt x="1689" y="441"/>
                    <a:pt x="1594" y="436"/>
                    <a:pt x="1520" y="427"/>
                  </a:cubicBezTo>
                  <a:cubicBezTo>
                    <a:pt x="1388" y="361"/>
                    <a:pt x="1241" y="334"/>
                    <a:pt x="1096" y="307"/>
                  </a:cubicBezTo>
                  <a:cubicBezTo>
                    <a:pt x="1042" y="297"/>
                    <a:pt x="990" y="274"/>
                    <a:pt x="936" y="267"/>
                  </a:cubicBezTo>
                  <a:cubicBezTo>
                    <a:pt x="795" y="249"/>
                    <a:pt x="653" y="233"/>
                    <a:pt x="512" y="219"/>
                  </a:cubicBezTo>
                  <a:cubicBezTo>
                    <a:pt x="466" y="196"/>
                    <a:pt x="419" y="187"/>
                    <a:pt x="368" y="179"/>
                  </a:cubicBezTo>
                  <a:cubicBezTo>
                    <a:pt x="326" y="151"/>
                    <a:pt x="279" y="132"/>
                    <a:pt x="240" y="99"/>
                  </a:cubicBezTo>
                  <a:cubicBezTo>
                    <a:pt x="215" y="78"/>
                    <a:pt x="175" y="45"/>
                    <a:pt x="144" y="35"/>
                  </a:cubicBezTo>
                  <a:cubicBezTo>
                    <a:pt x="139" y="33"/>
                    <a:pt x="74" y="12"/>
                    <a:pt x="72" y="11"/>
                  </a:cubicBezTo>
                  <a:cubicBezTo>
                    <a:pt x="64" y="8"/>
                    <a:pt x="48" y="3"/>
                    <a:pt x="48" y="3"/>
                  </a:cubicBezTo>
                  <a:cubicBezTo>
                    <a:pt x="35" y="6"/>
                    <a:pt x="16" y="0"/>
                    <a:pt x="8" y="11"/>
                  </a:cubicBezTo>
                  <a:cubicBezTo>
                    <a:pt x="0" y="22"/>
                    <a:pt x="14" y="38"/>
                    <a:pt x="16" y="51"/>
                  </a:cubicBezTo>
                  <a:cubicBezTo>
                    <a:pt x="23" y="91"/>
                    <a:pt x="27" y="125"/>
                    <a:pt x="40" y="163"/>
                  </a:cubicBezTo>
                  <a:cubicBezTo>
                    <a:pt x="43" y="208"/>
                    <a:pt x="39" y="255"/>
                    <a:pt x="48" y="299"/>
                  </a:cubicBezTo>
                  <a:cubicBezTo>
                    <a:pt x="50" y="308"/>
                    <a:pt x="63" y="318"/>
                    <a:pt x="72" y="315"/>
                  </a:cubicBezTo>
                  <a:cubicBezTo>
                    <a:pt x="80" y="312"/>
                    <a:pt x="72" y="299"/>
                    <a:pt x="72" y="291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6"/>
            <p:cNvSpPr/>
            <p:nvPr/>
          </p:nvSpPr>
          <p:spPr>
            <a:xfrm>
              <a:off x="684360" y="4688280"/>
              <a:ext cx="7828200" cy="2169360"/>
            </a:xfrm>
            <a:custGeom>
              <a:avLst/>
              <a:gdLst/>
              <a:ahLst/>
              <a:rect l="l" t="t" r="r" b="b"/>
              <a:pathLst>
                <a:path w="3114" h="967">
                  <a:moveTo>
                    <a:pt x="22" y="17"/>
                  </a:moveTo>
                  <a:cubicBezTo>
                    <a:pt x="83" y="58"/>
                    <a:pt x="0" y="0"/>
                    <a:pt x="78" y="65"/>
                  </a:cubicBezTo>
                  <a:cubicBezTo>
                    <a:pt x="187" y="156"/>
                    <a:pt x="95" y="76"/>
                    <a:pt x="206" y="145"/>
                  </a:cubicBezTo>
                  <a:cubicBezTo>
                    <a:pt x="294" y="200"/>
                    <a:pt x="340" y="247"/>
                    <a:pt x="446" y="265"/>
                  </a:cubicBezTo>
                  <a:cubicBezTo>
                    <a:pt x="505" y="287"/>
                    <a:pt x="562" y="293"/>
                    <a:pt x="622" y="313"/>
                  </a:cubicBezTo>
                  <a:cubicBezTo>
                    <a:pt x="723" y="347"/>
                    <a:pt x="828" y="386"/>
                    <a:pt x="934" y="401"/>
                  </a:cubicBezTo>
                  <a:cubicBezTo>
                    <a:pt x="1242" y="445"/>
                    <a:pt x="1570" y="435"/>
                    <a:pt x="1878" y="441"/>
                  </a:cubicBezTo>
                  <a:cubicBezTo>
                    <a:pt x="2037" y="481"/>
                    <a:pt x="2196" y="502"/>
                    <a:pt x="2358" y="529"/>
                  </a:cubicBezTo>
                  <a:cubicBezTo>
                    <a:pt x="2411" y="538"/>
                    <a:pt x="2466" y="540"/>
                    <a:pt x="2518" y="553"/>
                  </a:cubicBezTo>
                  <a:cubicBezTo>
                    <a:pt x="2624" y="580"/>
                    <a:pt x="2721" y="635"/>
                    <a:pt x="2830" y="649"/>
                  </a:cubicBezTo>
                  <a:cubicBezTo>
                    <a:pt x="2905" y="699"/>
                    <a:pt x="3015" y="691"/>
                    <a:pt x="3102" y="713"/>
                  </a:cubicBezTo>
                  <a:cubicBezTo>
                    <a:pt x="3105" y="721"/>
                    <a:pt x="3110" y="729"/>
                    <a:pt x="3110" y="737"/>
                  </a:cubicBezTo>
                  <a:cubicBezTo>
                    <a:pt x="3110" y="782"/>
                    <a:pt x="3114" y="829"/>
                    <a:pt x="3102" y="873"/>
                  </a:cubicBezTo>
                  <a:cubicBezTo>
                    <a:pt x="3099" y="884"/>
                    <a:pt x="3081" y="879"/>
                    <a:pt x="3070" y="881"/>
                  </a:cubicBezTo>
                  <a:cubicBezTo>
                    <a:pt x="3054" y="884"/>
                    <a:pt x="3038" y="887"/>
                    <a:pt x="3022" y="889"/>
                  </a:cubicBezTo>
                  <a:cubicBezTo>
                    <a:pt x="2982" y="893"/>
                    <a:pt x="2942" y="894"/>
                    <a:pt x="2902" y="897"/>
                  </a:cubicBezTo>
                  <a:cubicBezTo>
                    <a:pt x="2551" y="967"/>
                    <a:pt x="2156" y="904"/>
                    <a:pt x="1798" y="897"/>
                  </a:cubicBezTo>
                  <a:cubicBezTo>
                    <a:pt x="1214" y="873"/>
                    <a:pt x="631" y="839"/>
                    <a:pt x="46" y="825"/>
                  </a:cubicBezTo>
                  <a:cubicBezTo>
                    <a:pt x="70" y="729"/>
                    <a:pt x="62" y="634"/>
                    <a:pt x="46" y="537"/>
                  </a:cubicBezTo>
                  <a:cubicBezTo>
                    <a:pt x="34" y="359"/>
                    <a:pt x="14" y="194"/>
                    <a:pt x="22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"/>
            <p:cNvSpPr/>
            <p:nvPr/>
          </p:nvSpPr>
          <p:spPr>
            <a:xfrm>
              <a:off x="709200" y="3738600"/>
              <a:ext cx="7895880" cy="2759400"/>
            </a:xfrm>
            <a:custGeom>
              <a:avLst/>
              <a:gdLst/>
              <a:ahLst/>
              <a:rect l="l" t="t" r="r" b="b"/>
              <a:pathLst>
                <a:path w="3141" h="1230">
                  <a:moveTo>
                    <a:pt x="52" y="0"/>
                  </a:moveTo>
                  <a:cubicBezTo>
                    <a:pt x="65" y="39"/>
                    <a:pt x="87" y="67"/>
                    <a:pt x="116" y="96"/>
                  </a:cubicBezTo>
                  <a:cubicBezTo>
                    <a:pt x="136" y="156"/>
                    <a:pt x="107" y="84"/>
                    <a:pt x="148" y="136"/>
                  </a:cubicBezTo>
                  <a:cubicBezTo>
                    <a:pt x="153" y="143"/>
                    <a:pt x="151" y="153"/>
                    <a:pt x="156" y="160"/>
                  </a:cubicBezTo>
                  <a:cubicBezTo>
                    <a:pt x="191" y="213"/>
                    <a:pt x="170" y="156"/>
                    <a:pt x="196" y="208"/>
                  </a:cubicBezTo>
                  <a:cubicBezTo>
                    <a:pt x="209" y="234"/>
                    <a:pt x="197" y="233"/>
                    <a:pt x="220" y="256"/>
                  </a:cubicBezTo>
                  <a:cubicBezTo>
                    <a:pt x="259" y="295"/>
                    <a:pt x="336" y="297"/>
                    <a:pt x="388" y="304"/>
                  </a:cubicBezTo>
                  <a:cubicBezTo>
                    <a:pt x="474" y="333"/>
                    <a:pt x="613" y="325"/>
                    <a:pt x="692" y="328"/>
                  </a:cubicBezTo>
                  <a:cubicBezTo>
                    <a:pt x="816" y="346"/>
                    <a:pt x="938" y="377"/>
                    <a:pt x="1060" y="408"/>
                  </a:cubicBezTo>
                  <a:cubicBezTo>
                    <a:pt x="1128" y="425"/>
                    <a:pt x="1198" y="452"/>
                    <a:pt x="1268" y="456"/>
                  </a:cubicBezTo>
                  <a:cubicBezTo>
                    <a:pt x="1353" y="461"/>
                    <a:pt x="1439" y="461"/>
                    <a:pt x="1524" y="464"/>
                  </a:cubicBezTo>
                  <a:cubicBezTo>
                    <a:pt x="1630" y="499"/>
                    <a:pt x="1731" y="544"/>
                    <a:pt x="1844" y="560"/>
                  </a:cubicBezTo>
                  <a:cubicBezTo>
                    <a:pt x="1961" y="599"/>
                    <a:pt x="2080" y="625"/>
                    <a:pt x="2196" y="664"/>
                  </a:cubicBezTo>
                  <a:cubicBezTo>
                    <a:pt x="2249" y="682"/>
                    <a:pt x="2308" y="669"/>
                    <a:pt x="2364" y="672"/>
                  </a:cubicBezTo>
                  <a:cubicBezTo>
                    <a:pt x="2428" y="693"/>
                    <a:pt x="2490" y="712"/>
                    <a:pt x="2556" y="728"/>
                  </a:cubicBezTo>
                  <a:cubicBezTo>
                    <a:pt x="2581" y="734"/>
                    <a:pt x="2603" y="751"/>
                    <a:pt x="2628" y="752"/>
                  </a:cubicBezTo>
                  <a:cubicBezTo>
                    <a:pt x="2689" y="755"/>
                    <a:pt x="2751" y="757"/>
                    <a:pt x="2812" y="760"/>
                  </a:cubicBezTo>
                  <a:cubicBezTo>
                    <a:pt x="2878" y="793"/>
                    <a:pt x="2817" y="768"/>
                    <a:pt x="2940" y="784"/>
                  </a:cubicBezTo>
                  <a:cubicBezTo>
                    <a:pt x="2998" y="792"/>
                    <a:pt x="3059" y="813"/>
                    <a:pt x="3116" y="832"/>
                  </a:cubicBezTo>
                  <a:cubicBezTo>
                    <a:pt x="3132" y="881"/>
                    <a:pt x="3119" y="828"/>
                    <a:pt x="3116" y="896"/>
                  </a:cubicBezTo>
                  <a:cubicBezTo>
                    <a:pt x="3100" y="1230"/>
                    <a:pt x="3141" y="1102"/>
                    <a:pt x="3100" y="1224"/>
                  </a:cubicBezTo>
                  <a:cubicBezTo>
                    <a:pt x="3055" y="1215"/>
                    <a:pt x="2997" y="1205"/>
                    <a:pt x="2956" y="1184"/>
                  </a:cubicBezTo>
                  <a:cubicBezTo>
                    <a:pt x="2937" y="1174"/>
                    <a:pt x="2920" y="1160"/>
                    <a:pt x="2900" y="1152"/>
                  </a:cubicBezTo>
                  <a:cubicBezTo>
                    <a:pt x="2800" y="1109"/>
                    <a:pt x="2647" y="1088"/>
                    <a:pt x="2540" y="1080"/>
                  </a:cubicBezTo>
                  <a:cubicBezTo>
                    <a:pt x="2460" y="1053"/>
                    <a:pt x="2374" y="1060"/>
                    <a:pt x="2292" y="1040"/>
                  </a:cubicBezTo>
                  <a:cubicBezTo>
                    <a:pt x="2237" y="1026"/>
                    <a:pt x="2179" y="1022"/>
                    <a:pt x="2124" y="1008"/>
                  </a:cubicBezTo>
                  <a:cubicBezTo>
                    <a:pt x="2053" y="990"/>
                    <a:pt x="1982" y="948"/>
                    <a:pt x="1908" y="944"/>
                  </a:cubicBezTo>
                  <a:cubicBezTo>
                    <a:pt x="1823" y="939"/>
                    <a:pt x="1737" y="939"/>
                    <a:pt x="1652" y="936"/>
                  </a:cubicBezTo>
                  <a:cubicBezTo>
                    <a:pt x="1508" y="926"/>
                    <a:pt x="1364" y="917"/>
                    <a:pt x="1220" y="904"/>
                  </a:cubicBezTo>
                  <a:cubicBezTo>
                    <a:pt x="1153" y="891"/>
                    <a:pt x="1088" y="874"/>
                    <a:pt x="1020" y="864"/>
                  </a:cubicBezTo>
                  <a:cubicBezTo>
                    <a:pt x="942" y="838"/>
                    <a:pt x="854" y="843"/>
                    <a:pt x="772" y="832"/>
                  </a:cubicBezTo>
                  <a:cubicBezTo>
                    <a:pt x="735" y="827"/>
                    <a:pt x="660" y="816"/>
                    <a:pt x="660" y="816"/>
                  </a:cubicBezTo>
                  <a:cubicBezTo>
                    <a:pt x="583" y="790"/>
                    <a:pt x="517" y="745"/>
                    <a:pt x="444" y="712"/>
                  </a:cubicBezTo>
                  <a:cubicBezTo>
                    <a:pt x="374" y="681"/>
                    <a:pt x="302" y="659"/>
                    <a:pt x="228" y="640"/>
                  </a:cubicBezTo>
                  <a:cubicBezTo>
                    <a:pt x="185" y="629"/>
                    <a:pt x="163" y="599"/>
                    <a:pt x="132" y="568"/>
                  </a:cubicBezTo>
                  <a:cubicBezTo>
                    <a:pt x="113" y="549"/>
                    <a:pt x="60" y="536"/>
                    <a:pt x="60" y="536"/>
                  </a:cubicBezTo>
                  <a:cubicBezTo>
                    <a:pt x="21" y="478"/>
                    <a:pt x="37" y="395"/>
                    <a:pt x="20" y="328"/>
                  </a:cubicBezTo>
                  <a:cubicBezTo>
                    <a:pt x="10" y="231"/>
                    <a:pt x="0" y="162"/>
                    <a:pt x="20" y="56"/>
                  </a:cubicBezTo>
                  <a:cubicBezTo>
                    <a:pt x="22" y="44"/>
                    <a:pt x="46" y="50"/>
                    <a:pt x="52" y="40"/>
                  </a:cubicBezTo>
                  <a:cubicBezTo>
                    <a:pt x="59" y="28"/>
                    <a:pt x="52" y="13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940680" y="6090480"/>
              <a:ext cx="197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g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9"/>
          <p:cNvGrpSpPr/>
          <p:nvPr/>
        </p:nvGrpSpPr>
        <p:grpSpPr>
          <a:xfrm>
            <a:off x="1093680" y="4626000"/>
            <a:ext cx="6859440" cy="1206000"/>
            <a:chOff x="1093680" y="4626000"/>
            <a:chExt cx="6859440" cy="1206000"/>
          </a:xfrm>
        </p:grpSpPr>
        <p:sp>
          <p:nvSpPr>
            <p:cNvPr id="118" name="Text Box 10"/>
            <p:cNvSpPr/>
            <p:nvPr/>
          </p:nvSpPr>
          <p:spPr>
            <a:xfrm>
              <a:off x="1093680" y="4626000"/>
              <a:ext cx="247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tamorph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3225600" y="4984560"/>
              <a:ext cx="102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2"/>
            <p:cNvSpPr/>
            <p:nvPr/>
          </p:nvSpPr>
          <p:spPr>
            <a:xfrm>
              <a:off x="4271760" y="5200200"/>
              <a:ext cx="17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orm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6182640" y="5433120"/>
              <a:ext cx="177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2897280" y="5653080"/>
            <a:ext cx="2312280" cy="843120"/>
            <a:chOff x="2897280" y="5653080"/>
            <a:chExt cx="2312280" cy="843120"/>
          </a:xfrm>
        </p:grpSpPr>
        <p:sp>
          <p:nvSpPr>
            <p:cNvPr id="123" name="Text Box 17"/>
            <p:cNvSpPr/>
            <p:nvPr/>
          </p:nvSpPr>
          <p:spPr>
            <a:xfrm>
              <a:off x="3118320" y="5975640"/>
              <a:ext cx="1468080" cy="520560"/>
            </a:xfrm>
            <a:prstGeom prst="rect">
              <a:avLst/>
            </a:prstGeom>
            <a:gradFill rotWithShape="0">
              <a:gsLst>
                <a:gs pos="0">
                  <a:srgbClr val="f4e01e"/>
                </a:gs>
                <a:gs pos="100000">
                  <a:srgbClr val="ff76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8"/>
            <p:cNvSpPr/>
            <p:nvPr/>
          </p:nvSpPr>
          <p:spPr>
            <a:xfrm>
              <a:off x="4164120" y="577836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9"/>
            <p:cNvSpPr/>
            <p:nvPr/>
          </p:nvSpPr>
          <p:spPr>
            <a:xfrm>
              <a:off x="2897280" y="565308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4847760" y="5850000"/>
              <a:ext cx="361800" cy="573840"/>
            </a:xfrm>
            <a:prstGeom prst="upArrow">
              <a:avLst>
                <a:gd name="adj1" fmla="val 50000"/>
                <a:gd name="adj2" fmla="val 3965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1"/>
          <p:cNvGrpSpPr/>
          <p:nvPr/>
        </p:nvGrpSpPr>
        <p:grpSpPr>
          <a:xfrm>
            <a:off x="2771640" y="3284640"/>
            <a:ext cx="3455640" cy="1471320"/>
            <a:chOff x="2771640" y="3284640"/>
            <a:chExt cx="3455640" cy="1471320"/>
          </a:xfrm>
        </p:grpSpPr>
        <p:sp>
          <p:nvSpPr>
            <p:cNvPr id="128" name="Text Box 22"/>
            <p:cNvSpPr/>
            <p:nvPr/>
          </p:nvSpPr>
          <p:spPr>
            <a:xfrm>
              <a:off x="2771640" y="3284640"/>
              <a:ext cx="345564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essure from surface ro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3628800" y="4039200"/>
              <a:ext cx="478800" cy="547200"/>
            </a:xfrm>
            <a:prstGeom prst="downArrow">
              <a:avLst>
                <a:gd name="adj1" fmla="val 50000"/>
                <a:gd name="adj2" fmla="val 285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385160" y="4039200"/>
              <a:ext cx="479520" cy="622440"/>
            </a:xfrm>
            <a:prstGeom prst="downArrow">
              <a:avLst>
                <a:gd name="adj1" fmla="val 50000"/>
                <a:gd name="adj2" fmla="val 324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5066640" y="4076640"/>
              <a:ext cx="428760" cy="679320"/>
            </a:xfrm>
            <a:prstGeom prst="downArrow">
              <a:avLst>
                <a:gd name="adj1" fmla="val 50000"/>
                <a:gd name="adj2" fmla="val 3961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18:43Z</dcterms:created>
  <dc:creator>Karen MacNiven</dc:creator>
  <dc:description/>
  <dc:language>en-US</dc:language>
  <cp:lastModifiedBy>RomaK</cp:lastModifiedBy>
  <dcterms:modified xsi:type="dcterms:W3CDTF">2015-09-02T06:04:52Z</dcterms:modified>
  <cp:revision>6</cp:revision>
  <dc:subject/>
  <dc:title>Types of Rocks</dc:title>
</cp:coreProperties>
</file>