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24.jpeg" ContentType="image/jpeg"/>
  <Override PartName="/ppt/media/image21.jpeg" ContentType="image/jpeg"/>
  <Override PartName="/ppt/media/image2.wmf" ContentType="image/x-wmf"/>
  <Override PartName="/ppt/media/image19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6.jpeg" ContentType="image/jpeg"/>
  <Override PartName="/ppt/media/image7.png" ContentType="image/png"/>
  <Override PartName="/ppt/media/image34.jpeg" ContentType="image/jpeg"/>
  <Override PartName="/ppt/media/image10.png" ContentType="image/png"/>
  <Override PartName="/ppt/media/image30.png" ContentType="image/png"/>
  <Override PartName="/ppt/media/image8.jpeg" ContentType="image/jpeg"/>
  <Override PartName="/ppt/media/image29.wmf" ContentType="image/x-wmf"/>
  <Override PartName="/ppt/media/image11.png" ContentType="image/png"/>
  <Override PartName="/ppt/media/image31.jpeg" ContentType="image/jpeg"/>
  <Override PartName="/ppt/media/image38.wmf" ContentType="image/x-wmf"/>
  <Override PartName="/ppt/media/image4.jpeg" ContentType="image/jpeg"/>
  <Override PartName="/ppt/media/image32.png" ContentType="image/png"/>
  <Override PartName="/ppt/media/image25.jpeg" ContentType="image/jpeg"/>
  <Override PartName="/ppt/media/image33.png" ContentType="image/png"/>
  <Override PartName="/ppt/media/image14.jpeg" ContentType="image/jpeg"/>
  <Override PartName="/ppt/media/image1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22.jpeg" ContentType="image/jpeg"/>
  <Override PartName="/ppt/media/image9.png" ContentType="image/png"/>
  <Override PartName="/ppt/media/image37.wmf" ContentType="image/x-wmf"/>
  <Override PartName="/ppt/media/image17.png" ContentType="image/png"/>
  <Override PartName="/ppt/media/image39.wmf" ContentType="image/x-wmf"/>
  <Override PartName="/ppt/media/image13.jpeg" ContentType="image/jpeg"/>
  <Override PartName="/ppt/media/image23.png" ContentType="image/png"/>
  <Override PartName="/ppt/media/image3.wmf" ContentType="image/x-wmf"/>
  <Override PartName="/ppt/media/image15.jpeg" ContentType="image/jpeg"/>
  <Override PartName="/ppt/media/image1.wmf" ContentType="image/x-wmf"/>
  <Override PartName="/ppt/media/image1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7EB17-E445-4023-84DF-985D16C158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D21D5-4254-4715-BFA7-42343FD26E4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1EF23-D21E-4B43-A490-2DA79986251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ileo  being  launch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392A5-CAE3-4799-91B9-1ED9A3E08CD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p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CDE1E-55C9-4403-8C6F-F1F314513AF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piter and  its  moon,  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7FD48-A230-4FAC-90E3-1BE8ABB6171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ral  Moons  of  Jupiter  </a:t>
            </a:r>
            <a:br>
              <a:rPr sz="12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43  are  named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728E6-3C02-4DA3-B292-6B4039C4D9A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urn --  view  from  Hub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5EDD3-2AC9-4C98-A636-8EA815AC3DE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urn --  view  from  Hub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62EFA-37D2-4082-92C1-64F7C2282E7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yager  spacecra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FC7BA-A07F-4552-9BEF-7C445890EF8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-rings  of  Sat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34E3A-494E-4BAE-A697-FA73D1C1438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eroids   Gaspra  &amp;  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D47DD-4BCF-4866-ACFC-C0F883380FA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an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D57AA-07A3-47E7-A4B1-843D1CD61B0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 Global Surveyor (MG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96  to 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0,000  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7B2FF-D146-4A37-9394-099A3A02984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bble  Space  Tele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B5AAE-5659-4915-8DED-7C901001501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B9DAA-3E72-446C-9C27-A51D3E27FCB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5BA3B-58E4-4483-8E5D-DFEEDADF560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uds  above  Neptu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69643-BB0A-4E43-B379-B0F015B7034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ton -- one  of  Neptune’s  mo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8364F-EA9D-4FC3-BC3B-E8803CBAA64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tune  N-r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77017-D9D8-467F-BE2F-EB6D4A55053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to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 photograph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75140-817C-4C87-ACF0-457F20D26C2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to  and  its  satellite,  Cha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7847E-7A04-4E44-985B-2DA86A3D591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431DF-950B-4A3B-B3F9-9BA73D2879F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  photo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9C4F1-3B3B-4886-A08B-7DF4A41FC8E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2BE9A-2B58-4E00-8636-452A0B49911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18F3D-257D-4648-8EF4-1892C898136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 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ADC53-DA53-43C4-B198-32D1A86F2DF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lympus Mo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st  volcano  in  solar 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9C1B3-8CB3-4191-9ADE-0EE97D19C37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D generated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15D36-647C-490C-B15B-0EEA628360B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les  Marin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9320-D0E1-47BA-8B83-7AAA14A60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89FA-9810-4798-8C76-DB17E18DC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3622-AF4D-4410-9C69-CD773B512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0246-C263-403E-AC46-DF5DCE680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C72AE-CE77-404C-BEE6-F19E15E66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097F6-F086-4C13-B0B3-9E167AEC2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AE00F-8D07-42D2-A354-1D4260720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3A6CF-CE63-4C82-8460-8CFEF210A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DC02F-AD85-417B-A45B-52396F9DD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A802C-E12F-4F4B-B03C-F98F677EC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85F7D-9D25-4A05-8F03-9708D2061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1839-F1F8-4CDB-A1B2-668E384BA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6FD2B-DB2D-461E-BC4A-7621CFF0A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24265-752B-4426-8854-C2962F96B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FAC10-B9D0-4972-BCE9-285F73A93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C600D-0E88-4656-937B-CC99D34C6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BE3E8-C0CA-4033-A40E-2598A5277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0AFD-C8AB-4F3A-A44F-AFCB56A22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A422-2292-4694-8D9B-2EC6AFEE9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8231-83CA-4F68-BF5D-6C3AB7ACE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FE1F-845D-456A-87D9-2D0F5D54A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5225-1073-4024-83AD-8CC7248A1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A682-8DFD-4D62-836E-DECEE4900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8D39-38E8-46E7-ABAC-B29F1C0BF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D65A2-6721-41D0-9546-4B711C3475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87381-BB00-4AFF-8F80-FDA826F373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09320" y="1143000"/>
            <a:ext cx="67057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rt 2 of Solar Syste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0" name="Picture 4" descr="j0397524"/>
          <p:cNvPicPr/>
          <p:nvPr/>
        </p:nvPicPr>
        <p:blipFill>
          <a:blip r:embed="rId1"/>
          <a:stretch/>
        </p:blipFill>
        <p:spPr>
          <a:xfrm rot="327000">
            <a:off x="6933960" y="4800600"/>
            <a:ext cx="1827000" cy="14000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j0304259"/>
          <p:cNvPicPr/>
          <p:nvPr/>
        </p:nvPicPr>
        <p:blipFill>
          <a:blip r:embed="rId2"/>
          <a:stretch/>
        </p:blipFill>
        <p:spPr>
          <a:xfrm>
            <a:off x="380880" y="4419720"/>
            <a:ext cx="1792440" cy="17967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j0304245"/>
          <p:cNvPicPr/>
          <p:nvPr/>
        </p:nvPicPr>
        <p:blipFill>
          <a:blip r:embed="rId3"/>
          <a:stretch/>
        </p:blipFill>
        <p:spPr>
          <a:xfrm>
            <a:off x="152280" y="380880"/>
            <a:ext cx="179568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0" y="380880"/>
            <a:ext cx="41148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alileo  being  launche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6" name="Picture 3" descr="galileo"/>
          <p:cNvPicPr/>
          <p:nvPr/>
        </p:nvPicPr>
        <p:blipFill>
          <a:blip r:embed="rId1"/>
          <a:stretch/>
        </p:blipFill>
        <p:spPr>
          <a:xfrm>
            <a:off x="152280" y="685800"/>
            <a:ext cx="4559400" cy="549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2209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upit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8" name="Picture 3" descr="Jupiter"/>
          <p:cNvPicPr/>
          <p:nvPr/>
        </p:nvPicPr>
        <p:blipFill>
          <a:blip r:embed="rId1"/>
          <a:stretch/>
        </p:blipFill>
        <p:spPr>
          <a:xfrm>
            <a:off x="2133720" y="0"/>
            <a:ext cx="7010280" cy="664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236232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upiter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nd  its  moon,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 I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0" name="Picture 3" descr="Jupiter+Io"/>
          <p:cNvPicPr/>
          <p:nvPr/>
        </p:nvPicPr>
        <p:blipFill>
          <a:blip r:embed="rId1"/>
          <a:stretch/>
        </p:blipFill>
        <p:spPr>
          <a:xfrm>
            <a:off x="2286000" y="274680"/>
            <a:ext cx="6858000" cy="658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343040" y="380880"/>
            <a:ext cx="434340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veral  Moons  of  Jupiter  </a:t>
            </a:r>
            <a:br>
              <a:rPr sz="44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(43  are  named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2" name="Picture 3" descr="moonCALLISTO"/>
          <p:cNvPicPr/>
          <p:nvPr/>
        </p:nvPicPr>
        <p:blipFill>
          <a:blip r:embed="rId1"/>
          <a:stretch/>
        </p:blipFill>
        <p:spPr>
          <a:xfrm>
            <a:off x="380880" y="685800"/>
            <a:ext cx="2171880" cy="158112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4"/>
          <p:cNvSpPr/>
          <p:nvPr/>
        </p:nvSpPr>
        <p:spPr>
          <a:xfrm>
            <a:off x="914400" y="251460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lli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5" descr="moonEUROPA"/>
          <p:cNvPicPr/>
          <p:nvPr/>
        </p:nvPicPr>
        <p:blipFill>
          <a:blip r:embed="rId2"/>
          <a:stretch/>
        </p:blipFill>
        <p:spPr>
          <a:xfrm>
            <a:off x="3581280" y="2819520"/>
            <a:ext cx="2009880" cy="163836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6"/>
          <p:cNvSpPr/>
          <p:nvPr/>
        </p:nvSpPr>
        <p:spPr>
          <a:xfrm>
            <a:off x="4038480" y="44956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urop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7" descr="moonGANYMEDE"/>
          <p:cNvPicPr/>
          <p:nvPr/>
        </p:nvPicPr>
        <p:blipFill>
          <a:blip r:embed="rId3"/>
          <a:stretch/>
        </p:blipFill>
        <p:spPr>
          <a:xfrm>
            <a:off x="7010280" y="4191120"/>
            <a:ext cx="1800360" cy="15494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8"/>
          <p:cNvSpPr/>
          <p:nvPr/>
        </p:nvSpPr>
        <p:spPr>
          <a:xfrm>
            <a:off x="7086600" y="579132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anyme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9" descr="moonAMALTHEA"/>
          <p:cNvPicPr/>
          <p:nvPr/>
        </p:nvPicPr>
        <p:blipFill>
          <a:blip r:embed="rId4"/>
          <a:stretch/>
        </p:blipFill>
        <p:spPr>
          <a:xfrm>
            <a:off x="762120" y="4343400"/>
            <a:ext cx="1390680" cy="981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0"/>
          <p:cNvSpPr/>
          <p:nvPr/>
        </p:nvSpPr>
        <p:spPr>
          <a:xfrm>
            <a:off x="685800" y="548640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malthe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aturn --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view  from  Hubbl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1" name="Picture 3" descr="Saturn Hubble"/>
          <p:cNvPicPr/>
          <p:nvPr/>
        </p:nvPicPr>
        <p:blipFill>
          <a:blip r:embed="rId1"/>
          <a:stretch/>
        </p:blipFill>
        <p:spPr>
          <a:xfrm>
            <a:off x="0" y="1739880"/>
            <a:ext cx="9144000" cy="511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228240" y="6858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aturn: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infrared  im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Picture 3" descr="Saturn-IR"/>
          <p:cNvPicPr/>
          <p:nvPr/>
        </p:nvPicPr>
        <p:blipFill>
          <a:blip r:embed="rId1"/>
          <a:stretch/>
        </p:blipFill>
        <p:spPr>
          <a:xfrm>
            <a:off x="457200" y="1676520"/>
            <a:ext cx="7924680" cy="489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oyager  spacecraf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5" name="Picture 3" descr="voyager"/>
          <p:cNvPicPr/>
          <p:nvPr/>
        </p:nvPicPr>
        <p:blipFill>
          <a:blip r:embed="rId1"/>
          <a:stretch/>
        </p:blipFill>
        <p:spPr>
          <a:xfrm>
            <a:off x="1752480" y="2362320"/>
            <a:ext cx="5543640" cy="42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-rings  of  Satur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7" name="Picture 3" descr="Saturn B-ring"/>
          <p:cNvPicPr/>
          <p:nvPr/>
        </p:nvPicPr>
        <p:blipFill>
          <a:blip r:embed="rId1"/>
          <a:stretch/>
        </p:blipFill>
        <p:spPr>
          <a:xfrm>
            <a:off x="838080" y="2057400"/>
            <a:ext cx="7365960" cy="318132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4"/>
          <p:cNvSpPr/>
          <p:nvPr/>
        </p:nvSpPr>
        <p:spPr>
          <a:xfrm>
            <a:off x="2743200" y="556272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rom  Voyager  Nov. 200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steroids   Gaspra  &amp;  Id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0" name="Picture 3" descr="gaspra"/>
          <p:cNvPicPr/>
          <p:nvPr/>
        </p:nvPicPr>
        <p:blipFill>
          <a:blip r:embed="rId1"/>
          <a:stretch/>
        </p:blipFill>
        <p:spPr>
          <a:xfrm>
            <a:off x="228600" y="152388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Ida&amp;moon"/>
          <p:cNvPicPr/>
          <p:nvPr/>
        </p:nvPicPr>
        <p:blipFill>
          <a:blip r:embed="rId2"/>
          <a:stretch/>
        </p:blipFill>
        <p:spPr>
          <a:xfrm>
            <a:off x="4267080" y="3581280"/>
            <a:ext cx="3733920" cy="280044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5"/>
          <p:cNvSpPr/>
          <p:nvPr/>
        </p:nvSpPr>
        <p:spPr>
          <a:xfrm>
            <a:off x="8077320" y="48006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oon, Dacty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Line 6"/>
          <p:cNvSpPr/>
          <p:nvPr/>
        </p:nvSpPr>
        <p:spPr>
          <a:xfrm flipH="1">
            <a:off x="7543800" y="510552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Line 7"/>
          <p:cNvSpPr/>
          <p:nvPr/>
        </p:nvSpPr>
        <p:spPr>
          <a:xfrm flipH="1">
            <a:off x="3429000" y="1447920"/>
            <a:ext cx="137160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Line 8"/>
          <p:cNvSpPr/>
          <p:nvPr/>
        </p:nvSpPr>
        <p:spPr>
          <a:xfrm flipH="1">
            <a:off x="5943600" y="1371600"/>
            <a:ext cx="1295280" cy="2819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25192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ranus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7" name="Picture 3" descr="uranus_uniform"/>
          <p:cNvPicPr/>
          <p:nvPr/>
        </p:nvPicPr>
        <p:blipFill>
          <a:blip r:embed="rId1"/>
          <a:stretch/>
        </p:blipFill>
        <p:spPr>
          <a:xfrm>
            <a:off x="3657600" y="1066680"/>
            <a:ext cx="4952880" cy="495324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4"/>
          <p:cNvSpPr/>
          <p:nvPr/>
        </p:nvSpPr>
        <p:spPr>
          <a:xfrm>
            <a:off x="1219320" y="518148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Ultra-violet pho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1219320" y="2819520"/>
            <a:ext cx="1143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Giant  gas  pla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5486400" y="380520"/>
            <a:ext cx="36576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rs Global Surveyor (MG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96  to  20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40,000  pho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3" descr="mgs-mid-size"/>
          <p:cNvPicPr/>
          <p:nvPr/>
        </p:nvPicPr>
        <p:blipFill>
          <a:blip r:embed="rId1"/>
          <a:stretch/>
        </p:blipFill>
        <p:spPr>
          <a:xfrm>
            <a:off x="0" y="228600"/>
            <a:ext cx="5334120" cy="619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ubble  Space  Telescop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1" name="Picture 3" descr="hubblestlitho60"/>
          <p:cNvPicPr/>
          <p:nvPr/>
        </p:nvPicPr>
        <p:blipFill>
          <a:blip r:embed="rId1"/>
          <a:stretch/>
        </p:blipFill>
        <p:spPr>
          <a:xfrm>
            <a:off x="2438280" y="1787400"/>
            <a:ext cx="6705720" cy="507060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4"/>
          <p:cNvSpPr/>
          <p:nvPr/>
        </p:nvSpPr>
        <p:spPr>
          <a:xfrm>
            <a:off x="685800" y="5334120"/>
            <a:ext cx="213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Taken  from shuttle after deploy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Picture 5" descr="MCj00829910000[1]"/>
          <p:cNvPicPr/>
          <p:nvPr/>
        </p:nvPicPr>
        <p:blipFill>
          <a:blip r:embed="rId2"/>
          <a:stretch/>
        </p:blipFill>
        <p:spPr>
          <a:xfrm rot="20060400">
            <a:off x="0" y="2514600"/>
            <a:ext cx="1852560" cy="166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304920" y="380880"/>
            <a:ext cx="37339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ptun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5" name="Picture 3" descr="neptune_gds"/>
          <p:cNvPicPr/>
          <p:nvPr/>
        </p:nvPicPr>
        <p:blipFill>
          <a:blip r:embed="rId1"/>
          <a:stretch/>
        </p:blipFill>
        <p:spPr>
          <a:xfrm>
            <a:off x="2884320" y="0"/>
            <a:ext cx="625968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685800" y="2819520"/>
            <a:ext cx="19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Another giant  gas  pla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Neptune-dbl"/>
          <p:cNvPicPr/>
          <p:nvPr/>
        </p:nvPicPr>
        <p:blipFill>
          <a:blip r:embed="rId1"/>
          <a:stretch/>
        </p:blipFill>
        <p:spPr>
          <a:xfrm>
            <a:off x="0" y="1778040"/>
            <a:ext cx="9144000" cy="507996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3"/>
          <p:cNvSpPr/>
          <p:nvPr/>
        </p:nvSpPr>
        <p:spPr>
          <a:xfrm>
            <a:off x="1447920" y="53352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ptune  from  Mariner  Spacecra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Line 4"/>
          <p:cNvSpPr/>
          <p:nvPr/>
        </p:nvSpPr>
        <p:spPr>
          <a:xfrm flipH="1" flipV="1">
            <a:off x="2361960" y="4800240"/>
            <a:ext cx="2057400" cy="76212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Line 5"/>
          <p:cNvSpPr/>
          <p:nvPr/>
        </p:nvSpPr>
        <p:spPr>
          <a:xfrm flipV="1">
            <a:off x="4419720" y="4723920"/>
            <a:ext cx="2057400" cy="83844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ouds  above  Neptun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2" name="Picture 3" descr="neptune_clouds"/>
          <p:cNvPicPr/>
          <p:nvPr/>
        </p:nvPicPr>
        <p:blipFill>
          <a:blip r:embed="rId1"/>
          <a:stretch/>
        </p:blipFill>
        <p:spPr>
          <a:xfrm>
            <a:off x="2666880" y="1600200"/>
            <a:ext cx="396108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iton --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one  of  Neptune’s  moon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4" name="Picture 3" descr="triton_close"/>
          <p:cNvPicPr/>
          <p:nvPr/>
        </p:nvPicPr>
        <p:blipFill>
          <a:blip r:embed="rId1"/>
          <a:stretch/>
        </p:blipFill>
        <p:spPr>
          <a:xfrm>
            <a:off x="3124080" y="2666880"/>
            <a:ext cx="2895840" cy="242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2285640" y="304920"/>
            <a:ext cx="3962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ptune  N-r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Picture 3" descr="Neptune-N-rings"/>
          <p:cNvPicPr/>
          <p:nvPr/>
        </p:nvPicPr>
        <p:blipFill>
          <a:blip r:embed="rId1"/>
          <a:stretch/>
        </p:blipFill>
        <p:spPr>
          <a:xfrm>
            <a:off x="690480" y="1386000"/>
            <a:ext cx="7763040" cy="40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luto    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2 photograph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8" name="Picture 3" descr="hst_pluto2"/>
          <p:cNvPicPr/>
          <p:nvPr/>
        </p:nvPicPr>
        <p:blipFill>
          <a:blip r:embed="rId1"/>
          <a:stretch/>
        </p:blipFill>
        <p:spPr>
          <a:xfrm>
            <a:off x="1371600" y="2133720"/>
            <a:ext cx="6858000" cy="419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luto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nd  its  satellite,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 Char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80" name="Picture 3" descr="hst_pluto_charon"/>
          <p:cNvPicPr/>
          <p:nvPr/>
        </p:nvPicPr>
        <p:blipFill>
          <a:blip r:embed="rId1"/>
          <a:stretch/>
        </p:blipFill>
        <p:spPr>
          <a:xfrm>
            <a:off x="-152280" y="2023920"/>
            <a:ext cx="9296280" cy="4834080"/>
          </a:xfrm>
          <a:prstGeom prst="rect">
            <a:avLst/>
          </a:prstGeom>
          <a:ln w="0">
            <a:noFill/>
          </a:ln>
        </p:spPr>
      </p:pic>
      <p:sp>
        <p:nvSpPr>
          <p:cNvPr id="181" name="Line 4"/>
          <p:cNvSpPr/>
          <p:nvPr/>
        </p:nvSpPr>
        <p:spPr>
          <a:xfrm>
            <a:off x="7620120" y="1371600"/>
            <a:ext cx="0" cy="1676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Line 5"/>
          <p:cNvSpPr/>
          <p:nvPr/>
        </p:nvSpPr>
        <p:spPr>
          <a:xfrm>
            <a:off x="1371600" y="1447920"/>
            <a:ext cx="0" cy="3429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WordArt 2"/>
          <p:cNvSpPr txBox="1"/>
          <p:nvPr/>
        </p:nvSpPr>
        <p:spPr>
          <a:xfrm>
            <a:off x="1981080" y="1828800"/>
            <a:ext cx="388620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he 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184" name="Picture 3" descr="j0301076"/>
          <p:cNvPicPr/>
          <p:nvPr/>
        </p:nvPicPr>
        <p:blipFill>
          <a:blip r:embed="rId1"/>
          <a:stretch/>
        </p:blipFill>
        <p:spPr>
          <a:xfrm rot="447600">
            <a:off x="5943240" y="44956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MCj03189040000[1]"/>
          <p:cNvPicPr/>
          <p:nvPr/>
        </p:nvPicPr>
        <p:blipFill>
          <a:blip r:embed="rId2"/>
          <a:stretch/>
        </p:blipFill>
        <p:spPr>
          <a:xfrm rot="20212800">
            <a:off x="6934320" y="685440"/>
            <a:ext cx="1823760" cy="1790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MCj04105950000[1]"/>
          <p:cNvPicPr/>
          <p:nvPr/>
        </p:nvPicPr>
        <p:blipFill>
          <a:blip r:embed="rId3"/>
          <a:stretch/>
        </p:blipFill>
        <p:spPr>
          <a:xfrm rot="21126600">
            <a:off x="457200" y="228240"/>
            <a:ext cx="2160720" cy="20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981080"/>
            <a:ext cx="32767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rs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hotograph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6" name="Picture 3" descr="hst_Mars"/>
          <p:cNvPicPr/>
          <p:nvPr/>
        </p:nvPicPr>
        <p:blipFill>
          <a:blip r:embed="rId1"/>
          <a:stretch/>
        </p:blipFill>
        <p:spPr>
          <a:xfrm>
            <a:off x="3287880" y="609480"/>
            <a:ext cx="5856120" cy="586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hst_mars_4"/>
          <p:cNvPicPr/>
          <p:nvPr/>
        </p:nvPicPr>
        <p:blipFill>
          <a:blip r:embed="rId1"/>
          <a:stretch/>
        </p:blipFill>
        <p:spPr>
          <a:xfrm>
            <a:off x="0" y="679320"/>
            <a:ext cx="9144000" cy="61786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3"/>
          <p:cNvSpPr/>
          <p:nvPr/>
        </p:nvSpPr>
        <p:spPr>
          <a:xfrm>
            <a:off x="2438280" y="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  views  of  surf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40384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0" name="Picture 3" descr="viking_lander_model"/>
          <p:cNvPicPr/>
          <p:nvPr/>
        </p:nvPicPr>
        <p:blipFill>
          <a:blip r:embed="rId1"/>
          <a:stretch/>
        </p:blipFill>
        <p:spPr>
          <a:xfrm>
            <a:off x="380880" y="3124080"/>
            <a:ext cx="2438640" cy="1511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vikinglander1-1small"/>
          <p:cNvPicPr/>
          <p:nvPr/>
        </p:nvPicPr>
        <p:blipFill>
          <a:blip r:embed="rId2"/>
          <a:stretch/>
        </p:blipFill>
        <p:spPr>
          <a:xfrm>
            <a:off x="4343400" y="1676520"/>
            <a:ext cx="4822920" cy="495288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"/>
          <p:cNvSpPr/>
          <p:nvPr/>
        </p:nvSpPr>
        <p:spPr>
          <a:xfrm rot="20091000">
            <a:off x="533880" y="510516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Viking  Spacecraft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5943600" y="2743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9 June 197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20720" y="228240"/>
            <a:ext cx="49658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rs  surfa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5" name="Picture 3" descr="marspath_sol30s55"/>
          <p:cNvPicPr/>
          <p:nvPr/>
        </p:nvPicPr>
        <p:blipFill>
          <a:blip r:embed="rId1"/>
          <a:stretch/>
        </p:blipFill>
        <p:spPr>
          <a:xfrm>
            <a:off x="4724280" y="2554200"/>
            <a:ext cx="4114800" cy="4017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marspath_sol65"/>
          <p:cNvPicPr/>
          <p:nvPr/>
        </p:nvPicPr>
        <p:blipFill>
          <a:blip r:embed="rId2"/>
          <a:stretch/>
        </p:blipFill>
        <p:spPr>
          <a:xfrm>
            <a:off x="152280" y="1905120"/>
            <a:ext cx="3505320" cy="339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lympus Mons</a:t>
            </a:r>
            <a:br>
              <a:rPr sz="44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argest  volcano  in  solar  system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8" name="Picture 3" descr="olympus_mons"/>
          <p:cNvPicPr/>
          <p:nvPr/>
        </p:nvPicPr>
        <p:blipFill>
          <a:blip r:embed="rId1"/>
          <a:stretch/>
        </p:blipFill>
        <p:spPr>
          <a:xfrm>
            <a:off x="2209680" y="1981080"/>
            <a:ext cx="5029200" cy="465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980720" y="5562720"/>
            <a:ext cx="49532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D generated im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Picture 3" descr="Olympus3D"/>
          <p:cNvPicPr/>
          <p:nvPr/>
        </p:nvPicPr>
        <p:blipFill>
          <a:blip r:embed="rId1"/>
          <a:stretch/>
        </p:blipFill>
        <p:spPr>
          <a:xfrm>
            <a:off x="1676520" y="0"/>
            <a:ext cx="5638680" cy="563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Valles  Marinesi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2" name="Picture 3" descr="vallesmarineris3500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123" name="Line 4"/>
          <p:cNvSpPr/>
          <p:nvPr/>
        </p:nvSpPr>
        <p:spPr>
          <a:xfrm>
            <a:off x="152280" y="5867280"/>
            <a:ext cx="86868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3276720" y="59436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,200 k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31T06:49:45Z</dcterms:created>
  <dc:creator>Ben Zalewski</dc:creator>
  <dc:description>Part 2 of Solar System</dc:description>
  <cp:keywords>Part 2 of Solar System</cp:keywords>
  <dc:language>en-US</dc:language>
  <cp:lastModifiedBy>RomaK</cp:lastModifiedBy>
  <dcterms:modified xsi:type="dcterms:W3CDTF">2015-08-01T07:03:33Z</dcterms:modified>
  <cp:revision>11</cp:revision>
  <dc:subject>Part 2 of Solar System</dc:subject>
  <dc:title>Part 2 of Solar System</dc:title>
</cp:coreProperties>
</file>