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24.jpeg" ContentType="image/jpeg"/>
  <Override PartName="/ppt/media/image21.jpeg" ContentType="image/jpeg"/>
  <Override PartName="/ppt/media/image2.wmf" ContentType="image/x-wmf"/>
  <Override PartName="/ppt/media/image19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6.jpeg" ContentType="image/jpeg"/>
  <Override PartName="/ppt/media/image7.png" ContentType="image/png"/>
  <Override PartName="/ppt/media/image34.jpeg" ContentType="image/jpeg"/>
  <Override PartName="/ppt/media/image10.png" ContentType="image/png"/>
  <Override PartName="/ppt/media/image30.png" ContentType="image/png"/>
  <Override PartName="/ppt/media/image8.jpeg" ContentType="image/jpeg"/>
  <Override PartName="/ppt/media/image29.wmf" ContentType="image/x-wmf"/>
  <Override PartName="/ppt/media/image11.png" ContentType="image/png"/>
  <Override PartName="/ppt/media/image31.jpeg" ContentType="image/jpeg"/>
  <Override PartName="/ppt/media/image38.wmf" ContentType="image/x-wmf"/>
  <Override PartName="/ppt/media/image4.jpeg" ContentType="image/jpeg"/>
  <Override PartName="/ppt/media/image32.png" ContentType="image/png"/>
  <Override PartName="/ppt/media/image25.jpeg" ContentType="image/jpeg"/>
  <Override PartName="/ppt/media/image33.png" ContentType="image/png"/>
  <Override PartName="/ppt/media/image14.jpeg" ContentType="image/jpeg"/>
  <Override PartName="/ppt/media/image1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22.jpeg" ContentType="image/jpeg"/>
  <Override PartName="/ppt/media/image9.png" ContentType="image/png"/>
  <Override PartName="/ppt/media/image37.wmf" ContentType="image/x-wmf"/>
  <Override PartName="/ppt/media/image17.png" ContentType="image/png"/>
  <Override PartName="/ppt/media/image39.wmf" ContentType="image/x-wmf"/>
  <Override PartName="/ppt/media/image13.jpeg" ContentType="image/jpeg"/>
  <Override PartName="/ppt/media/image23.png" ContentType="image/png"/>
  <Override PartName="/ppt/media/image3.wmf" ContentType="image/x-wmf"/>
  <Override PartName="/ppt/media/image15.jpeg" ContentType="image/jpeg"/>
  <Override PartName="/ppt/media/image1.wmf" ContentType="image/x-wmf"/>
  <Override PartName="/ppt/media/image1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BFB1C-BB31-4E7C-BE42-DFCB0A15E7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22866-23EC-4718-9B5C-D441589789C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1BC72-3C3E-4DAB-8728-AFC86C3AB6E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ileo  being  launch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7AAF1-C7B7-4A64-98D5-17EC49ADD39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p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EA91E-9B2B-4654-8A53-1571682BDA2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piter and  its  moon,  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A1767-6773-4783-9284-05F56D3B94B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ral  Moons  of  Jupiter  </a:t>
            </a:r>
            <a:br>
              <a:rPr sz="12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43  are  named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80372-4280-4826-BD3F-18073DA4C3F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urn --  view  from  Hub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BF98B-8D3D-4EDF-9FC9-CAF62B9362A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urn --  view  from  Hub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AF4D3-8F5C-4F8E-8701-19C9079D91F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yager  spacecra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E7C5C-9407-465C-8B0A-C156DE50141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-rings  of  Sat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F6D8C-0E80-4BF5-9F28-543E7D08964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eroids   Gaspra  &amp;  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0C66A-C01B-4100-969E-D400F177FCC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an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7B6A2-8968-4595-8FB7-B6E6442403A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 Global Surveyor (MG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96  to 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0,000  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A40FD-D0DB-4202-A5B6-1F79ADD4677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bble  Space  Tele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25209-1339-4063-B635-54DC1BAE8DB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5243F-6B24-4A17-A728-74D2737038D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82EEA-7081-4598-88DC-5A7B7A6BCAE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uds  above  Neptu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C8253-EE55-4916-A569-9FE21E7715C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ton -- one  of  Neptune’s  mo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03660-2D0E-418A-A2FF-4233684628B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tune  N-r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00B12-D886-4B56-BC46-616BC636C23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to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 photograph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C59D2-A227-48B3-B922-365BE0FAC28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to  and  its  satellite,  Cha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F956D-CB21-4797-A062-697A6544524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03E38-EC34-43E4-9AF0-40D21A29182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  photo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8F8BF-DB0F-44A0-8DC0-D40BA9D2209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477CD-A59E-42E9-9DCA-DA428F56232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261E8-A867-4698-8A76-F128651AB37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 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2861E-AD93-4AAA-A061-215D0F1D046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lympus Mo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st  volcano  in  solar 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8F888-77F3-49FC-BFD3-5F6C9994050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D generated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237F1-3159-4023-A9DA-5D54F7FAD80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les  Marin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F73C-0E8A-40B3-AA94-458E6CDA2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7924-D32B-4BA4-96D5-4FB9775FD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AB76-6EB3-4EB3-A72A-54D9901AD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1AD5-DADD-4FBC-A13B-A5A26E5EE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EEFFC-9F51-4D58-8249-5EFB2C244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5596E-0A8A-4F60-8DB6-80A8DA1EA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D4CFD-53C1-4E1C-8D27-1BB01578B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94E46-7B95-43EF-A8B6-6A8814A4D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E83DB-99F3-48F5-A76C-72D329F35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DB39C-A340-4C28-80E4-4AB72B811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5E59C-890B-46D8-9C98-17D7EDD17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81F2-78F0-4DD9-81A5-F18C4303E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324ED-449E-4612-8964-890517AAC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C78F4-0D01-41D1-A156-DBA604E5D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4BC26-C3B0-42E2-9F08-776926BCD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163ED-A4D3-4ABA-8C55-EFE5B9A24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36A89-C127-4B09-89F5-EE94CFBA0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1D68-9E6A-4A6B-9ECA-2974E9B52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CE2B-5DA9-47B6-B549-0179C958D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F4EE-AFCA-4EA8-B42F-16179C11B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2950-4A9C-441E-AB4E-6411D2F46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FFDA-CCA1-4953-967E-39A7D191B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EA33-70A6-4689-9F1F-63C6EE7C4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2536-6EA2-4769-947D-2EFE2B1FA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F69D0-2131-4B74-9762-20A96237D0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E3C50-44B7-4A59-A277-F09373F622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09320" y="1143000"/>
            <a:ext cx="67057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rt 2 of Solar Syste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0" name="Picture 4" descr="j0397524"/>
          <p:cNvPicPr/>
          <p:nvPr/>
        </p:nvPicPr>
        <p:blipFill>
          <a:blip r:embed="rId1"/>
          <a:stretch/>
        </p:blipFill>
        <p:spPr>
          <a:xfrm rot="327000">
            <a:off x="6933960" y="4800600"/>
            <a:ext cx="1827000" cy="14000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j0304259"/>
          <p:cNvPicPr/>
          <p:nvPr/>
        </p:nvPicPr>
        <p:blipFill>
          <a:blip r:embed="rId2"/>
          <a:stretch/>
        </p:blipFill>
        <p:spPr>
          <a:xfrm>
            <a:off x="380880" y="4419720"/>
            <a:ext cx="1792440" cy="17967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j0304245"/>
          <p:cNvPicPr/>
          <p:nvPr/>
        </p:nvPicPr>
        <p:blipFill>
          <a:blip r:embed="rId3"/>
          <a:stretch/>
        </p:blipFill>
        <p:spPr>
          <a:xfrm>
            <a:off x="152280" y="380880"/>
            <a:ext cx="179568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0" y="380880"/>
            <a:ext cx="41148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alileo  being  launche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6" name="Picture 3" descr="galileo"/>
          <p:cNvPicPr/>
          <p:nvPr/>
        </p:nvPicPr>
        <p:blipFill>
          <a:blip r:embed="rId1"/>
          <a:stretch/>
        </p:blipFill>
        <p:spPr>
          <a:xfrm>
            <a:off x="152280" y="685800"/>
            <a:ext cx="4559400" cy="549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2209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upit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8" name="Picture 3" descr="Jupiter"/>
          <p:cNvPicPr/>
          <p:nvPr/>
        </p:nvPicPr>
        <p:blipFill>
          <a:blip r:embed="rId1"/>
          <a:stretch/>
        </p:blipFill>
        <p:spPr>
          <a:xfrm>
            <a:off x="2133720" y="0"/>
            <a:ext cx="7010280" cy="664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236232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upiter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nd  its  moon,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 I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0" name="Picture 3" descr="Jupiter+Io"/>
          <p:cNvPicPr/>
          <p:nvPr/>
        </p:nvPicPr>
        <p:blipFill>
          <a:blip r:embed="rId1"/>
          <a:stretch/>
        </p:blipFill>
        <p:spPr>
          <a:xfrm>
            <a:off x="2286000" y="274680"/>
            <a:ext cx="6858000" cy="658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343040" y="380880"/>
            <a:ext cx="434340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veral  Moons  of  Jupiter  </a:t>
            </a:r>
            <a:br>
              <a:rPr sz="44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(43  are  named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2" name="Picture 3" descr="moonCALLISTO"/>
          <p:cNvPicPr/>
          <p:nvPr/>
        </p:nvPicPr>
        <p:blipFill>
          <a:blip r:embed="rId1"/>
          <a:stretch/>
        </p:blipFill>
        <p:spPr>
          <a:xfrm>
            <a:off x="380880" y="685800"/>
            <a:ext cx="2171880" cy="158112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4"/>
          <p:cNvSpPr/>
          <p:nvPr/>
        </p:nvSpPr>
        <p:spPr>
          <a:xfrm>
            <a:off x="914400" y="251460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lli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5" descr="moonEUROPA"/>
          <p:cNvPicPr/>
          <p:nvPr/>
        </p:nvPicPr>
        <p:blipFill>
          <a:blip r:embed="rId2"/>
          <a:stretch/>
        </p:blipFill>
        <p:spPr>
          <a:xfrm>
            <a:off x="3581280" y="2819520"/>
            <a:ext cx="2009880" cy="163836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6"/>
          <p:cNvSpPr/>
          <p:nvPr/>
        </p:nvSpPr>
        <p:spPr>
          <a:xfrm>
            <a:off x="4038480" y="44956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urop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7" descr="moonGANYMEDE"/>
          <p:cNvPicPr/>
          <p:nvPr/>
        </p:nvPicPr>
        <p:blipFill>
          <a:blip r:embed="rId3"/>
          <a:stretch/>
        </p:blipFill>
        <p:spPr>
          <a:xfrm>
            <a:off x="7010280" y="4191120"/>
            <a:ext cx="1800360" cy="15494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8"/>
          <p:cNvSpPr/>
          <p:nvPr/>
        </p:nvSpPr>
        <p:spPr>
          <a:xfrm>
            <a:off x="7086600" y="579132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anyme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9" descr="moonAMALTHEA"/>
          <p:cNvPicPr/>
          <p:nvPr/>
        </p:nvPicPr>
        <p:blipFill>
          <a:blip r:embed="rId4"/>
          <a:stretch/>
        </p:blipFill>
        <p:spPr>
          <a:xfrm>
            <a:off x="762120" y="4343400"/>
            <a:ext cx="1390680" cy="981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0"/>
          <p:cNvSpPr/>
          <p:nvPr/>
        </p:nvSpPr>
        <p:spPr>
          <a:xfrm>
            <a:off x="685800" y="548640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malthe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aturn --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view  from  Hubbl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1" name="Picture 3" descr="Saturn Hubble"/>
          <p:cNvPicPr/>
          <p:nvPr/>
        </p:nvPicPr>
        <p:blipFill>
          <a:blip r:embed="rId1"/>
          <a:stretch/>
        </p:blipFill>
        <p:spPr>
          <a:xfrm>
            <a:off x="0" y="1739880"/>
            <a:ext cx="9144000" cy="511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228240" y="6858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aturn: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infrared  im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Picture 3" descr="Saturn-IR"/>
          <p:cNvPicPr/>
          <p:nvPr/>
        </p:nvPicPr>
        <p:blipFill>
          <a:blip r:embed="rId1"/>
          <a:stretch/>
        </p:blipFill>
        <p:spPr>
          <a:xfrm>
            <a:off x="457200" y="1676520"/>
            <a:ext cx="7924680" cy="489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oyager  spacecraf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5" name="Picture 3" descr="voyager"/>
          <p:cNvPicPr/>
          <p:nvPr/>
        </p:nvPicPr>
        <p:blipFill>
          <a:blip r:embed="rId1"/>
          <a:stretch/>
        </p:blipFill>
        <p:spPr>
          <a:xfrm>
            <a:off x="1752480" y="2362320"/>
            <a:ext cx="5543640" cy="42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-rings  of  Satur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7" name="Picture 3" descr="Saturn B-ring"/>
          <p:cNvPicPr/>
          <p:nvPr/>
        </p:nvPicPr>
        <p:blipFill>
          <a:blip r:embed="rId1"/>
          <a:stretch/>
        </p:blipFill>
        <p:spPr>
          <a:xfrm>
            <a:off x="838080" y="2057400"/>
            <a:ext cx="7365960" cy="318132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4"/>
          <p:cNvSpPr/>
          <p:nvPr/>
        </p:nvSpPr>
        <p:spPr>
          <a:xfrm>
            <a:off x="2743200" y="556272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rom  Voyager  Nov. 200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steroids   Gaspra  &amp;  Id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0" name="Picture 3" descr="gaspra"/>
          <p:cNvPicPr/>
          <p:nvPr/>
        </p:nvPicPr>
        <p:blipFill>
          <a:blip r:embed="rId1"/>
          <a:stretch/>
        </p:blipFill>
        <p:spPr>
          <a:xfrm>
            <a:off x="228600" y="152388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Ida&amp;moon"/>
          <p:cNvPicPr/>
          <p:nvPr/>
        </p:nvPicPr>
        <p:blipFill>
          <a:blip r:embed="rId2"/>
          <a:stretch/>
        </p:blipFill>
        <p:spPr>
          <a:xfrm>
            <a:off x="4267080" y="3581280"/>
            <a:ext cx="3733920" cy="280044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5"/>
          <p:cNvSpPr/>
          <p:nvPr/>
        </p:nvSpPr>
        <p:spPr>
          <a:xfrm>
            <a:off x="8077320" y="48006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oon, Dacty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Line 6"/>
          <p:cNvSpPr/>
          <p:nvPr/>
        </p:nvSpPr>
        <p:spPr>
          <a:xfrm flipH="1">
            <a:off x="7543800" y="510552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Line 7"/>
          <p:cNvSpPr/>
          <p:nvPr/>
        </p:nvSpPr>
        <p:spPr>
          <a:xfrm flipH="1">
            <a:off x="3429000" y="1447920"/>
            <a:ext cx="137160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Line 8"/>
          <p:cNvSpPr/>
          <p:nvPr/>
        </p:nvSpPr>
        <p:spPr>
          <a:xfrm flipH="1">
            <a:off x="5943600" y="1371600"/>
            <a:ext cx="1295280" cy="2819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25192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ranus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7" name="Picture 3" descr="uranus_uniform"/>
          <p:cNvPicPr/>
          <p:nvPr/>
        </p:nvPicPr>
        <p:blipFill>
          <a:blip r:embed="rId1"/>
          <a:stretch/>
        </p:blipFill>
        <p:spPr>
          <a:xfrm>
            <a:off x="3657600" y="1066680"/>
            <a:ext cx="4952880" cy="495324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4"/>
          <p:cNvSpPr/>
          <p:nvPr/>
        </p:nvSpPr>
        <p:spPr>
          <a:xfrm>
            <a:off x="1219320" y="518148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Ultra-violet pho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1219320" y="2819520"/>
            <a:ext cx="1143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Giant  gas  pla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5486400" y="380520"/>
            <a:ext cx="36576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rs Global Surveyor (MG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96  to  20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40,000  pho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3" descr="mgs-mid-size"/>
          <p:cNvPicPr/>
          <p:nvPr/>
        </p:nvPicPr>
        <p:blipFill>
          <a:blip r:embed="rId1"/>
          <a:stretch/>
        </p:blipFill>
        <p:spPr>
          <a:xfrm>
            <a:off x="0" y="228600"/>
            <a:ext cx="5334120" cy="619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ubble  Space  Telescop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1" name="Picture 3" descr="hubblestlitho60"/>
          <p:cNvPicPr/>
          <p:nvPr/>
        </p:nvPicPr>
        <p:blipFill>
          <a:blip r:embed="rId1"/>
          <a:stretch/>
        </p:blipFill>
        <p:spPr>
          <a:xfrm>
            <a:off x="2438280" y="1787400"/>
            <a:ext cx="6705720" cy="507060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4"/>
          <p:cNvSpPr/>
          <p:nvPr/>
        </p:nvSpPr>
        <p:spPr>
          <a:xfrm>
            <a:off x="685800" y="5334120"/>
            <a:ext cx="213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Taken  from shuttle after deploy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Picture 5" descr="MCj00829910000[1]"/>
          <p:cNvPicPr/>
          <p:nvPr/>
        </p:nvPicPr>
        <p:blipFill>
          <a:blip r:embed="rId2"/>
          <a:stretch/>
        </p:blipFill>
        <p:spPr>
          <a:xfrm rot="20060400">
            <a:off x="0" y="2514600"/>
            <a:ext cx="1852560" cy="166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304920" y="380880"/>
            <a:ext cx="37339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ptun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5" name="Picture 3" descr="neptune_gds"/>
          <p:cNvPicPr/>
          <p:nvPr/>
        </p:nvPicPr>
        <p:blipFill>
          <a:blip r:embed="rId1"/>
          <a:stretch/>
        </p:blipFill>
        <p:spPr>
          <a:xfrm>
            <a:off x="2884320" y="0"/>
            <a:ext cx="625968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685800" y="2819520"/>
            <a:ext cx="19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Another giant  gas  pla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Neptune-dbl"/>
          <p:cNvPicPr/>
          <p:nvPr/>
        </p:nvPicPr>
        <p:blipFill>
          <a:blip r:embed="rId1"/>
          <a:stretch/>
        </p:blipFill>
        <p:spPr>
          <a:xfrm>
            <a:off x="0" y="1778040"/>
            <a:ext cx="9144000" cy="507996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3"/>
          <p:cNvSpPr/>
          <p:nvPr/>
        </p:nvSpPr>
        <p:spPr>
          <a:xfrm>
            <a:off x="1447920" y="53352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ptune  from  Mariner  Spacecra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Line 4"/>
          <p:cNvSpPr/>
          <p:nvPr/>
        </p:nvSpPr>
        <p:spPr>
          <a:xfrm flipH="1" flipV="1">
            <a:off x="2361960" y="4800240"/>
            <a:ext cx="2057400" cy="76212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Line 5"/>
          <p:cNvSpPr/>
          <p:nvPr/>
        </p:nvSpPr>
        <p:spPr>
          <a:xfrm flipV="1">
            <a:off x="4419720" y="4723920"/>
            <a:ext cx="2057400" cy="83844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ouds  above  Neptun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2" name="Picture 3" descr="neptune_clouds"/>
          <p:cNvPicPr/>
          <p:nvPr/>
        </p:nvPicPr>
        <p:blipFill>
          <a:blip r:embed="rId1"/>
          <a:stretch/>
        </p:blipFill>
        <p:spPr>
          <a:xfrm>
            <a:off x="2666880" y="1600200"/>
            <a:ext cx="396108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iton --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one  of  Neptune’s  moon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4" name="Picture 3" descr="triton_close"/>
          <p:cNvPicPr/>
          <p:nvPr/>
        </p:nvPicPr>
        <p:blipFill>
          <a:blip r:embed="rId1"/>
          <a:stretch/>
        </p:blipFill>
        <p:spPr>
          <a:xfrm>
            <a:off x="3124080" y="2666880"/>
            <a:ext cx="2895840" cy="242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2285640" y="304920"/>
            <a:ext cx="3962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ptune  N-r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Picture 3" descr="Neptune-N-rings"/>
          <p:cNvPicPr/>
          <p:nvPr/>
        </p:nvPicPr>
        <p:blipFill>
          <a:blip r:embed="rId1"/>
          <a:stretch/>
        </p:blipFill>
        <p:spPr>
          <a:xfrm>
            <a:off x="690480" y="1386000"/>
            <a:ext cx="7763040" cy="40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luto    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2 photograph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8" name="Picture 3" descr="hst_pluto2"/>
          <p:cNvPicPr/>
          <p:nvPr/>
        </p:nvPicPr>
        <p:blipFill>
          <a:blip r:embed="rId1"/>
          <a:stretch/>
        </p:blipFill>
        <p:spPr>
          <a:xfrm>
            <a:off x="1371600" y="2133720"/>
            <a:ext cx="6858000" cy="419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luto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nd  its  satellite,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 Char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80" name="Picture 3" descr="hst_pluto_charon"/>
          <p:cNvPicPr/>
          <p:nvPr/>
        </p:nvPicPr>
        <p:blipFill>
          <a:blip r:embed="rId1"/>
          <a:stretch/>
        </p:blipFill>
        <p:spPr>
          <a:xfrm>
            <a:off x="-152280" y="2023920"/>
            <a:ext cx="9296280" cy="4834080"/>
          </a:xfrm>
          <a:prstGeom prst="rect">
            <a:avLst/>
          </a:prstGeom>
          <a:ln w="0">
            <a:noFill/>
          </a:ln>
        </p:spPr>
      </p:pic>
      <p:sp>
        <p:nvSpPr>
          <p:cNvPr id="181" name="Line 4"/>
          <p:cNvSpPr/>
          <p:nvPr/>
        </p:nvSpPr>
        <p:spPr>
          <a:xfrm>
            <a:off x="7620120" y="1371600"/>
            <a:ext cx="0" cy="1676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Line 5"/>
          <p:cNvSpPr/>
          <p:nvPr/>
        </p:nvSpPr>
        <p:spPr>
          <a:xfrm>
            <a:off x="1371600" y="1447920"/>
            <a:ext cx="0" cy="3429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WordArt 2"/>
          <p:cNvSpPr txBox="1"/>
          <p:nvPr/>
        </p:nvSpPr>
        <p:spPr>
          <a:xfrm>
            <a:off x="1981080" y="1828800"/>
            <a:ext cx="388620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he 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184" name="Picture 3" descr="j0301076"/>
          <p:cNvPicPr/>
          <p:nvPr/>
        </p:nvPicPr>
        <p:blipFill>
          <a:blip r:embed="rId1"/>
          <a:stretch/>
        </p:blipFill>
        <p:spPr>
          <a:xfrm rot="447600">
            <a:off x="5943240" y="44956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MCj03189040000[1]"/>
          <p:cNvPicPr/>
          <p:nvPr/>
        </p:nvPicPr>
        <p:blipFill>
          <a:blip r:embed="rId2"/>
          <a:stretch/>
        </p:blipFill>
        <p:spPr>
          <a:xfrm rot="20212800">
            <a:off x="6934320" y="685440"/>
            <a:ext cx="1823760" cy="1790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MCj04105950000[1]"/>
          <p:cNvPicPr/>
          <p:nvPr/>
        </p:nvPicPr>
        <p:blipFill>
          <a:blip r:embed="rId3"/>
          <a:stretch/>
        </p:blipFill>
        <p:spPr>
          <a:xfrm rot="21126600">
            <a:off x="457200" y="228240"/>
            <a:ext cx="2160720" cy="20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981080"/>
            <a:ext cx="32767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rs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hotograph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6" name="Picture 3" descr="hst_Mars"/>
          <p:cNvPicPr/>
          <p:nvPr/>
        </p:nvPicPr>
        <p:blipFill>
          <a:blip r:embed="rId1"/>
          <a:stretch/>
        </p:blipFill>
        <p:spPr>
          <a:xfrm>
            <a:off x="3287880" y="609480"/>
            <a:ext cx="5856120" cy="586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hst_mars_4"/>
          <p:cNvPicPr/>
          <p:nvPr/>
        </p:nvPicPr>
        <p:blipFill>
          <a:blip r:embed="rId1"/>
          <a:stretch/>
        </p:blipFill>
        <p:spPr>
          <a:xfrm>
            <a:off x="0" y="679320"/>
            <a:ext cx="9144000" cy="61786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3"/>
          <p:cNvSpPr/>
          <p:nvPr/>
        </p:nvSpPr>
        <p:spPr>
          <a:xfrm>
            <a:off x="2438280" y="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  views  of  surf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40384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0" name="Picture 3" descr="viking_lander_model"/>
          <p:cNvPicPr/>
          <p:nvPr/>
        </p:nvPicPr>
        <p:blipFill>
          <a:blip r:embed="rId1"/>
          <a:stretch/>
        </p:blipFill>
        <p:spPr>
          <a:xfrm>
            <a:off x="380880" y="3124080"/>
            <a:ext cx="2438640" cy="1511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vikinglander1-1small"/>
          <p:cNvPicPr/>
          <p:nvPr/>
        </p:nvPicPr>
        <p:blipFill>
          <a:blip r:embed="rId2"/>
          <a:stretch/>
        </p:blipFill>
        <p:spPr>
          <a:xfrm>
            <a:off x="4343400" y="1676520"/>
            <a:ext cx="4822920" cy="495288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"/>
          <p:cNvSpPr/>
          <p:nvPr/>
        </p:nvSpPr>
        <p:spPr>
          <a:xfrm rot="20091000">
            <a:off x="533880" y="510516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Viking  Spacecraft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5943600" y="2743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9 June 197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20720" y="228240"/>
            <a:ext cx="49658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rs  surfa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5" name="Picture 3" descr="marspath_sol30s55"/>
          <p:cNvPicPr/>
          <p:nvPr/>
        </p:nvPicPr>
        <p:blipFill>
          <a:blip r:embed="rId1"/>
          <a:stretch/>
        </p:blipFill>
        <p:spPr>
          <a:xfrm>
            <a:off x="4724280" y="2554200"/>
            <a:ext cx="4114800" cy="4017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marspath_sol65"/>
          <p:cNvPicPr/>
          <p:nvPr/>
        </p:nvPicPr>
        <p:blipFill>
          <a:blip r:embed="rId2"/>
          <a:stretch/>
        </p:blipFill>
        <p:spPr>
          <a:xfrm>
            <a:off x="152280" y="1905120"/>
            <a:ext cx="3505320" cy="339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lympus Mons</a:t>
            </a:r>
            <a:br>
              <a:rPr sz="44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argest  volcano  in  solar  system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8" name="Picture 3" descr="olympus_mons"/>
          <p:cNvPicPr/>
          <p:nvPr/>
        </p:nvPicPr>
        <p:blipFill>
          <a:blip r:embed="rId1"/>
          <a:stretch/>
        </p:blipFill>
        <p:spPr>
          <a:xfrm>
            <a:off x="2209680" y="1981080"/>
            <a:ext cx="5029200" cy="465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980720" y="5562720"/>
            <a:ext cx="49532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D generated im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Picture 3" descr="Olympus3D"/>
          <p:cNvPicPr/>
          <p:nvPr/>
        </p:nvPicPr>
        <p:blipFill>
          <a:blip r:embed="rId1"/>
          <a:stretch/>
        </p:blipFill>
        <p:spPr>
          <a:xfrm>
            <a:off x="1676520" y="0"/>
            <a:ext cx="5638680" cy="563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Valles  Marinesi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2" name="Picture 3" descr="vallesmarineris3500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123" name="Line 4"/>
          <p:cNvSpPr/>
          <p:nvPr/>
        </p:nvSpPr>
        <p:spPr>
          <a:xfrm>
            <a:off x="152280" y="5867280"/>
            <a:ext cx="86868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3276720" y="59436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,200 k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31T06:49:45Z</dcterms:created>
  <dc:creator>Ben Zalewski</dc:creator>
  <dc:description>Part 2 of Solar System</dc:description>
  <cp:keywords>Part 2 of Solar System</cp:keywords>
  <dc:language>en-US</dc:language>
  <cp:lastModifiedBy>RomaK</cp:lastModifiedBy>
  <dcterms:modified xsi:type="dcterms:W3CDTF">2015-08-01T07:03:33Z</dcterms:modified>
  <cp:revision>11</cp:revision>
  <dc:subject>Part 2 of Solar System</dc:subject>
  <dc:title>Part 2 of Solar System</dc:title>
</cp:coreProperties>
</file>