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7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7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DCE4-4963-458C-82A2-91959A14FC1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k Gods and Goddes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Kimberly Zink and Tiffany Eyer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Gods and Godd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Kimberly Zink and Tiffany Ey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 was the god of music and healing who fought man medic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son of Zeus and Leto.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twin sister named Artem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pollo’s daily task is to harness his chariot with four horses attached and drive the sun across the sk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famous for the oracle at Delphi.</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 was the god of music and healing who fought ma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son of Zeus and L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twin sister named Artem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ollo’s daily task is to harness his chariot with four horses attached and drive the sun across the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famous for the oracle at Del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 is the goddess of love, desire and beau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has a magical gift that compels anyone she wishes to desire her deep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represented sex affection and the attraction that binds people togethe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 is the goddess of love, desire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has a magical gift that compels anyone she wishes to desire her dee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represented sex affection and the attraction that binds peopl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 is the god of the under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brother of Ze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ife was Persepho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lmet Hades wears is invisib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 is the 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ife was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lmet Hades wears is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won the draw and became the Supreme ruler of go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lord of the sky and the r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eapon is a thunderbolt which he hurlers at those who don’t like hi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married to Hera but is famous for cheating on 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won the draw and became the Supreme ruler of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lord of the sky and the 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eapon is a thunderbolt which he hurlers at those who don’t like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married to Hera but is famous for cheating on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god of w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son of Zeus and He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n’t like his par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arried a blood stained spea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handsome and very cru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god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son of Zeus and H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n’t like his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arried a blood stained s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handsome and very cru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2333CE2-056B-40A2-B2FA-5B9411825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D36ABC-E8C0-4806-8089-C26704997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2C290F-D0F0-4749-9D17-66FEE46D65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039874-9131-4BF2-AA3E-A4A7725D64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8BD6D6-CDD0-422F-ADA6-76BAD02DF6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710ABF-6D19-46E2-BB33-BF937E8480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42B8FF-C23C-4157-8A3D-EB7E4131A6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345F24-4BA9-4012-AC96-89C65642A3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E1194D-DDCA-463B-B0B4-4E411EE3CA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320389-340E-4E73-A02F-C4EE9BE13B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336F17-8F39-445A-811B-114770BCDE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8D10F52-6224-48CF-BB80-C70CD0E2248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1ECC0BF-537C-4195-B743-A8D1B3603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EE59C8F-9D8D-4528-9D03-75F7B78E19E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50CE4D7-E1A9-460D-A8F8-673B727EF7F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2CA0CD3-349B-456F-A473-A0CF1484AF5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D8355A9-8D68-455A-8CAA-28B1D20D2CB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88766FA-FBDB-4ACD-B778-1472AFBEB87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06B24B4-A6EF-4F31-91EA-2BE4B8FDE6E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195D686-D577-4C34-84B3-1C6A38E623D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BBB4E57-7C8F-44A2-B011-DA256126D66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65B6639-DDE5-4C1E-B650-6C18C9309E6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0735392-D1D8-488E-9C58-99EAB4090BA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B0C6B5A-C250-4372-819E-400268491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D16BFB0-0930-491C-8230-6C6A245069C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5AD943-9313-4DD2-A578-7DC3080EB1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536489-EFD9-43E5-B1F3-94415D19E6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FB0241-EE0A-4B16-834A-74EC823E0E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605583-EB1E-4A8C-8938-B8D432C475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6D9F24-B685-4311-9945-5FA0878A33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099BF8-43C9-4626-9E60-AD704BFBB8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A2A2E7-276E-4DB4-BA7A-850374B02B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D9C482-6BD1-4E0A-B3A6-D1D5C9B30E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19FB4B-08FD-42D1-A360-81F1D4539A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8A1F5-6EDB-4E0D-BBCD-E999FDD4F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202E83-6CB8-431B-B65A-E6932825B0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E289FBA-318A-4774-B22E-1F62A5226D7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36CF607-AF1C-4AAA-A11F-FD5F21B65C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65C88BB-2652-4107-8547-54E75C204E4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096FE8-3CE5-458E-991B-27F32D7C4C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D8FE18-2BB2-4BA7-942D-580D2CE8BA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8FC118-F40E-4E05-9E82-31028C1108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B13E87-9787-4419-9B36-09AA714F9C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A50A84-DD54-486A-B15C-4192A75BC4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A17269-CEA3-4584-A9AD-743FB1E4A5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DA201-036C-4F18-82E4-69CFD2F9C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C9A3D5-5C67-448E-9DBE-16B055F343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1BB43A-CC8C-4465-97B6-C91EB69DC8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9D9965-0EAF-4694-996B-B30EA97891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94735A1-EEB7-426E-ACCE-3A627566CD7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BB730F4-0D3E-4E7C-A5A1-DA1E4DED469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D82B3DE-627D-4D23-9E77-ED4FC0AFDD0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6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AEDFE39-1980-4DE9-B8FB-E0386F4E29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EE926B4-0D07-45E1-A874-DDAD860857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FA1ED5-E1B3-48F9-9232-AE02D27CF0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111088-517E-4E9A-B8A4-4712863014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7A0F1-A429-48B5-980B-80A5FE80A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077BD23-F07A-47BB-B65C-2A2F30507C9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1427EE-D5E4-4032-8948-171632DB8D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B7DCBE-2D88-4959-A0DC-DCE840ADF5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226566-BB07-49DA-B319-A522590859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41E545D-39B9-43CA-B904-D895644242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27F52A3-B3D3-412A-B287-B04A57A09BB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0D07828-A7DA-43F3-8015-E6449A02415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1993FFA8-BE55-4C56-81AF-7AC288C4F39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0486E7B9-8F53-4523-A710-10A71F72055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1BF97593-C187-4FF7-90DF-882BE16CC2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7DBA7-CCD7-4B4F-84D5-329A09BBA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D66C1D94-619B-417F-AFA1-C59E7692232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E6C11D3F-49A3-4587-98F6-B9D49739DE1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F8FB05B6-EE22-4781-BA56-52B03496486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AF6D283-43FB-4E8E-92E5-291FF7CC1C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403E6FD8-3213-47F6-9AA4-53971613F6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12923A79-1935-4D75-993A-87A660E8E0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887E5F35-4702-4DA2-883B-28F606661A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D6DA9F45-5FBB-4E0D-80EF-7D572D66ED1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FAA0882C-4F05-492E-B0AB-152E858F52C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F6482-8260-4374-B2CD-9A6AB114C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1083C-FA22-40FF-AED6-66CD6D6FE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E3EA5-5C3C-4C35-B060-C656D4084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F2E27A2-E444-453B-9BD8-C1A47AB15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EE302-7984-4871-A042-BFDB762C1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36837-4A91-4B33-B6C0-B7690B1CA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C33BC-1B38-46A0-99BD-95A594B96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55CA31-2B24-43AB-87A9-8856C11DDC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09487-CA00-459D-92B3-A62795877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2206C6-1504-4FEF-8C7F-34A53270E0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99E31C-5987-49E0-B6B5-40C7DB92E2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EB96B4-6A16-48A5-AF63-64BFACE908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2BEB65-6567-45BE-8D2A-84C1B61B76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114D3A-0D4A-4744-A3C7-97890DAFA8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FE9FA12-3802-41B8-9EB4-2E65B8DDB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A24B44-A1CE-4DCE-B600-3AC976FE35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25176-66E6-4526-A3F7-0FFC3B5B2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A2C8E7-F8BB-4784-A6E5-9028D636A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5A341C-27DA-43AF-9872-F172E3B404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2DE10C-B391-4ECC-AC61-624BDEB193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6313A8-475F-4AE1-BE27-1C42B1AF8B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BA1DBE-54BE-42EE-AC1E-8D00A0E2E8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122773-65A5-43AA-A4BC-B14F43A41C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14F2F9-1E55-4681-8090-B58F8939A3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D06D30-6EAF-469A-9A9F-A7E6677F86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C0A46A8-1458-4C3D-8450-D8F6B6722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4F8183-0E75-419E-9680-905119FC62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69BBBC-25DB-4A09-8138-36B56153CE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4AB5BE-AADD-4FFA-AE3A-6E76C34989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270BB-1780-4B01-B47A-6BAD905AC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36A63-D581-4C9A-A3A8-BB5EFD0E9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C1803F-336A-4857-8C62-ED30F5A70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932D10-8E8D-4A99-B9AB-8630388590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29C60F-3114-488B-BAD2-AADC11A6E8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3B3DD0-AB3B-4AD1-8F79-F5DD92C6A0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A9C74F-8E9D-4EB6-AB0A-78873E6C30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722D411-0300-4684-B542-38C7FFD89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D01AFF-4072-4FBC-97C0-0A9023E253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7363B3-B143-47DA-8581-645F406989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A726D6-C099-42F1-A88B-889AF1C171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234258-064E-4C88-A5CB-F5F0588B41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DB6212-A534-4FFB-988B-81BDECB2A4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A4E7B1-5185-4E60-970D-EC1174C39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2D4AD0-E4B5-468A-BEA2-CD698FE0AA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2FB69D-E835-44D0-93B8-98D144AADC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691317-B050-4568-AD32-D3FC74F8FE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E82D89-B624-4874-8685-2C2EB11D67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3771FCA-07ED-4821-90E0-C37FA7B38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7292A1-9902-47AE-9278-79497425B5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80A2D4-8F35-42FA-B6B0-17D8D8E9A4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82CF0E-BDB4-457A-863D-8A1F5C390A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AAC95A-8D72-4799-9835-D367EB2737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ED8885-5361-4151-8EC1-B224D92300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86354A-F287-4036-BFCB-EC68225E29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B5ADE0-E2F0-4DBD-813D-55E768BC49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74A57-D813-4CC1-884F-3AC96444E7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8DB554-315B-4123-BDB0-3618BEB7C2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A9A717-FB9B-41BD-9B33-9DA9429A5B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95F119-0097-4465-A5AB-8C35C37B0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CCB135-C2E5-4A29-8DED-8C317E4135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DD1185-6260-4A74-8DFF-94DA5E4F37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706142-2ABE-44D5-BE56-8A838F23A6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53AE14-D2AA-4A2D-882A-EE4F225A36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044C59-728F-47B6-8165-FB5218279F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D2D961-9802-4384-A952-B728E505EC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8AB144-B1F6-464C-9ECA-D1FEF7E1EF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ED7B56-3B5A-407E-8906-46B9E70157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6B7014-8BB4-43C4-8845-4F116310A5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88EBF0-1C01-4CFE-B8D3-68CB301F16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02EE42-50AC-4E1A-A991-B13FB601D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535AE6-5BE1-4129-BBB1-0D8B8476D8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9BF708-C943-4E1F-A80C-4F24FAB639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BABCD0-9BB8-4B37-B62B-BC0F274744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9F6AB1-2885-46F5-A337-5876036296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12C70F-B69A-4BA3-A12E-5B879C6AA0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E155D6-E6B3-4E65-875D-8F5FF1E413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1E4425-2B1A-41BE-BCC1-6CE99C7A50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E8D728-3AFC-442D-A5A1-79478FAB4A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7C4F69-7E21-4716-8C65-DDA10E18EC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63D803-46E1-4F81-8534-B9C137C0ED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271484-23D5-4018-A591-3E5173F9E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170EE4-2907-4CF9-AA8E-A62999F68B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C15BC4-49CF-4D9D-A74B-562859D3B4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8746B7-DFE4-4329-9C43-057ECC26D3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6592BE-2E22-4212-B655-4BE4C4EC3A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38B458-DD14-491F-BA55-950F8C124F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22240F-09F6-445D-9D6F-6DFC682387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4F8822-A3A8-4523-8691-108F32E2D9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1BB2AA-BB7C-4F93-9FE1-59A4A2D828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4575C6-0539-4989-8DB1-987C91DB88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8CEC6B-EB29-4DC2-AA8D-1AC5A4513B3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B4D8-8473-4B0A-A58E-7BDBE325AE9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4"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5"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1646-1802-4590-AE32-4C5354EF91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6"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523" name="Group 2"/>
          <p:cNvGrpSpPr/>
          <p:nvPr/>
        </p:nvGrpSpPr>
        <p:grpSpPr>
          <a:xfrm>
            <a:off x="0" y="0"/>
            <a:ext cx="8458200" cy="5943600"/>
            <a:chOff x="0" y="0"/>
            <a:chExt cx="8458200" cy="5943600"/>
          </a:xfrm>
        </p:grpSpPr>
        <p:sp>
          <p:nvSpPr>
            <p:cNvPr id="524"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5"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2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3701-47F4-4D18-AC2A-603F2BA8F29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67" name="Group 2"/>
          <p:cNvGrpSpPr/>
          <p:nvPr/>
        </p:nvGrpSpPr>
        <p:grpSpPr>
          <a:xfrm>
            <a:off x="0" y="0"/>
            <a:ext cx="9144000" cy="6934320"/>
            <a:chOff x="0" y="0"/>
            <a:chExt cx="9144000" cy="6934320"/>
          </a:xfrm>
        </p:grpSpPr>
        <p:sp>
          <p:nvSpPr>
            <p:cNvPr id="568"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9"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0"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1"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2"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3"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4"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5"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6"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7"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8"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9"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0"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1"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2"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3"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4"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5"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88"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C88C-4334-4EAB-A4B3-8B283769A0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27" name="Group 2"/>
          <p:cNvGrpSpPr/>
          <p:nvPr/>
        </p:nvGrpSpPr>
        <p:grpSpPr>
          <a:xfrm>
            <a:off x="3800520" y="1789200"/>
            <a:ext cx="5348160" cy="5056200"/>
            <a:chOff x="3800520" y="1789200"/>
            <a:chExt cx="5348160" cy="5056200"/>
          </a:xfrm>
        </p:grpSpPr>
        <p:sp>
          <p:nvSpPr>
            <p:cNvPr id="62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63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66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4"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5"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6"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C6B3-943F-4D2B-BBAE-BDAD825A402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703" name="Group 2"/>
          <p:cNvGrpSpPr/>
          <p:nvPr/>
        </p:nvGrpSpPr>
        <p:grpSpPr>
          <a:xfrm>
            <a:off x="-6480" y="20520"/>
            <a:ext cx="9144000" cy="6858000"/>
            <a:chOff x="-6480" y="20520"/>
            <a:chExt cx="9144000" cy="6858000"/>
          </a:xfrm>
        </p:grpSpPr>
        <p:sp>
          <p:nvSpPr>
            <p:cNvPr id="704"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5"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06"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7" name="Group 6"/>
          <p:cNvGrpSpPr/>
          <p:nvPr/>
        </p:nvGrpSpPr>
        <p:grpSpPr>
          <a:xfrm>
            <a:off x="-1440" y="6033960"/>
            <a:ext cx="7844400" cy="850680"/>
            <a:chOff x="-1440" y="6033960"/>
            <a:chExt cx="7844400" cy="850680"/>
          </a:xfrm>
        </p:grpSpPr>
        <p:sp>
          <p:nvSpPr>
            <p:cNvPr id="708"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9" name="Group 8"/>
            <p:cNvGrpSpPr/>
            <p:nvPr/>
          </p:nvGrpSpPr>
          <p:grpSpPr>
            <a:xfrm>
              <a:off x="3944880" y="6033960"/>
              <a:ext cx="3898080" cy="850680"/>
              <a:chOff x="3944880" y="6033960"/>
              <a:chExt cx="3898080" cy="850680"/>
            </a:xfrm>
          </p:grpSpPr>
          <p:sp>
            <p:nvSpPr>
              <p:cNvPr id="710"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1"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2"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3"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4"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15"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716" name="Group 15"/>
          <p:cNvGrpSpPr/>
          <p:nvPr/>
        </p:nvGrpSpPr>
        <p:grpSpPr>
          <a:xfrm>
            <a:off x="627120" y="6021360"/>
            <a:ext cx="5684760" cy="849240"/>
            <a:chOff x="627120" y="6021360"/>
            <a:chExt cx="5684760" cy="849240"/>
          </a:xfrm>
        </p:grpSpPr>
        <p:sp>
          <p:nvSpPr>
            <p:cNvPr id="717"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8"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9"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0"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1"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2"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2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5"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6"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CD23-F574-4BDC-AE5A-CC459DD9D05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27" name="PlaceHolder 5"/>
          <p:cNvSpPr>
            <a:spLocks noGrp="1"/>
          </p:cNvSpPr>
          <p:nvPr>
            <p:ph type="ftr" idx="4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0BD4-6DBA-4D5C-9DA4-0BA9CCAAEB3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5521-EB87-4E43-9B47-80BCFFD4854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39" name="Group 2"/>
          <p:cNvGrpSpPr/>
          <p:nvPr/>
        </p:nvGrpSpPr>
        <p:grpSpPr>
          <a:xfrm>
            <a:off x="0" y="0"/>
            <a:ext cx="7242120" cy="1981080"/>
            <a:chOff x="0" y="0"/>
            <a:chExt cx="7242120" cy="1981080"/>
          </a:xfrm>
        </p:grpSpPr>
        <p:sp>
          <p:nvSpPr>
            <p:cNvPr id="140"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1"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4"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6"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69A5-0C37-4810-9C76-801F5884E7A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3" name="Group 2"/>
          <p:cNvGrpSpPr/>
          <p:nvPr/>
        </p:nvGrpSpPr>
        <p:grpSpPr>
          <a:xfrm>
            <a:off x="0" y="0"/>
            <a:ext cx="9144000" cy="6934320"/>
            <a:chOff x="0" y="0"/>
            <a:chExt cx="9144000" cy="6934320"/>
          </a:xfrm>
        </p:grpSpPr>
        <p:sp>
          <p:nvSpPr>
            <p:cNvPr id="184"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5"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6"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7"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8"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1"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2"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5"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8"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0"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1"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27A3-CE56-4E12-9E09-A1E88ACF7D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43" name="Group 2"/>
          <p:cNvGrpSpPr/>
          <p:nvPr/>
        </p:nvGrpSpPr>
        <p:grpSpPr>
          <a:xfrm>
            <a:off x="3800520" y="1789200"/>
            <a:ext cx="5348160" cy="5056200"/>
            <a:chOff x="3800520" y="1789200"/>
            <a:chExt cx="5348160" cy="5056200"/>
          </a:xfrm>
        </p:grpSpPr>
        <p:sp>
          <p:nvSpPr>
            <p:cNvPr id="244"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5"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246"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7"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8"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9"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0"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1"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2"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3"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4"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5"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6"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7"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8"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9"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0"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1"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2"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3"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4"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5"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6"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7"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8"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9"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0"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1"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2"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3"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4"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5"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276"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7"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0"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1"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2"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E7CB-1612-4283-AC00-9E9A56D5807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319" name="Group 2"/>
          <p:cNvGrpSpPr/>
          <p:nvPr/>
        </p:nvGrpSpPr>
        <p:grpSpPr>
          <a:xfrm>
            <a:off x="0" y="0"/>
            <a:ext cx="9144000" cy="6858000"/>
            <a:chOff x="0" y="0"/>
            <a:chExt cx="9144000" cy="6858000"/>
          </a:xfrm>
        </p:grpSpPr>
        <p:sp>
          <p:nvSpPr>
            <p:cNvPr id="320"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2"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6"/>
          <p:cNvGrpSpPr/>
          <p:nvPr/>
        </p:nvGrpSpPr>
        <p:grpSpPr>
          <a:xfrm>
            <a:off x="0" y="6019920"/>
            <a:ext cx="7848720" cy="857160"/>
            <a:chOff x="0" y="6019920"/>
            <a:chExt cx="7848720" cy="857160"/>
          </a:xfrm>
        </p:grpSpPr>
        <p:sp>
          <p:nvSpPr>
            <p:cNvPr id="324"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5" name="Group 8"/>
            <p:cNvGrpSpPr/>
            <p:nvPr/>
          </p:nvGrpSpPr>
          <p:grpSpPr>
            <a:xfrm>
              <a:off x="3946680" y="6019920"/>
              <a:ext cx="3902040" cy="857160"/>
              <a:chOff x="3946680" y="6019920"/>
              <a:chExt cx="3902040" cy="857160"/>
            </a:xfrm>
          </p:grpSpPr>
          <p:sp>
            <p:nvSpPr>
              <p:cNvPr id="326"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9"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0"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1"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332" name="Group 15"/>
          <p:cNvGrpSpPr/>
          <p:nvPr/>
        </p:nvGrpSpPr>
        <p:grpSpPr>
          <a:xfrm>
            <a:off x="627120" y="6021360"/>
            <a:ext cx="5684760" cy="849240"/>
            <a:chOff x="627120" y="6021360"/>
            <a:chExt cx="5684760" cy="849240"/>
          </a:xfrm>
        </p:grpSpPr>
        <p:sp>
          <p:nvSpPr>
            <p:cNvPr id="333"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4"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6"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4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1"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3"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B015-AF6E-4C25-80E9-6E2350F5E3C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80" name="Group 2"/>
          <p:cNvGrpSpPr/>
          <p:nvPr/>
        </p:nvGrpSpPr>
        <p:grpSpPr>
          <a:xfrm>
            <a:off x="0" y="0"/>
            <a:ext cx="9140760" cy="6850080"/>
            <a:chOff x="0" y="0"/>
            <a:chExt cx="9140760" cy="6850080"/>
          </a:xfrm>
        </p:grpSpPr>
        <p:grpSp>
          <p:nvGrpSpPr>
            <p:cNvPr id="381" name="Group 3"/>
            <p:cNvGrpSpPr/>
            <p:nvPr/>
          </p:nvGrpSpPr>
          <p:grpSpPr>
            <a:xfrm>
              <a:off x="2743200" y="3540240"/>
              <a:ext cx="6392880" cy="3309840"/>
              <a:chOff x="2743200" y="3540240"/>
              <a:chExt cx="6392880" cy="3309840"/>
            </a:xfrm>
          </p:grpSpPr>
          <p:sp>
            <p:nvSpPr>
              <p:cNvPr id="38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91" name="PlaceHolder 3"/>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2" name="PlaceHolder 4"/>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3" name="PlaceHolder 5"/>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224E-B5CC-42C4-AEDB-6F9784498C3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Group 2"/>
          <p:cNvGrpSpPr/>
          <p:nvPr/>
        </p:nvGrpSpPr>
        <p:grpSpPr>
          <a:xfrm>
            <a:off x="0" y="2438280"/>
            <a:ext cx="9009000" cy="1052640"/>
            <a:chOff x="0" y="2438280"/>
            <a:chExt cx="9009000" cy="1052640"/>
          </a:xfrm>
        </p:grpSpPr>
        <p:grpSp>
          <p:nvGrpSpPr>
            <p:cNvPr id="431" name="Group 3"/>
            <p:cNvGrpSpPr/>
            <p:nvPr/>
          </p:nvGrpSpPr>
          <p:grpSpPr>
            <a:xfrm>
              <a:off x="290520" y="2546280"/>
              <a:ext cx="711360" cy="474840"/>
              <a:chOff x="290520" y="2546280"/>
              <a:chExt cx="711360" cy="474840"/>
            </a:xfrm>
          </p:grpSpPr>
          <p:sp>
            <p:nvSpPr>
              <p:cNvPr id="432"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3"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grpSp>
          <p:nvGrpSpPr>
            <p:cNvPr id="434" name="Group 6"/>
            <p:cNvGrpSpPr/>
            <p:nvPr/>
          </p:nvGrpSpPr>
          <p:grpSpPr>
            <a:xfrm>
              <a:off x="414360" y="2968560"/>
              <a:ext cx="737640" cy="474840"/>
              <a:chOff x="414360" y="2968560"/>
              <a:chExt cx="737640" cy="474840"/>
            </a:xfrm>
          </p:grpSpPr>
          <p:sp>
            <p:nvSpPr>
              <p:cNvPr id="435"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6"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sp>
          <p:nvSpPr>
            <p:cNvPr id="43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Garamond"/>
              </a:endParaRPr>
            </a:p>
          </p:txBody>
        </p:sp>
      </p:grpSp>
      <p:sp>
        <p:nvSpPr>
          <p:cNvPr id="4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2" name="PlaceHolder 3"/>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PlaceHolder 5"/>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0772-95E3-48D8-94AC-0307C9F5014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eek Gods and Goddesses</a:t>
            </a:r>
            <a:endParaRPr b="0" lang="en-US" sz="4400" spc="-1" strike="noStrike">
              <a:solidFill>
                <a:srgbClr val="ffffff"/>
              </a:solidFill>
              <a:latin typeface="Tahoma"/>
            </a:endParaRPr>
          </a:p>
        </p:txBody>
      </p:sp>
      <p:sp>
        <p:nvSpPr>
          <p:cNvPr id="7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Kimberly Zink and Tiffany Eyerly</a:t>
            </a:r>
            <a:endParaRPr b="0" lang="en-US" sz="3200" spc="-1" strike="noStrike">
              <a:solidFill>
                <a:srgbClr val="ffffff"/>
              </a:solidFill>
              <a:latin typeface="Tahoma"/>
            </a:endParaRPr>
          </a:p>
        </p:txBody>
      </p:sp>
      <p:pic>
        <p:nvPicPr>
          <p:cNvPr id="773" name="vvmx241.wav" descr=""/>
          <p:cNvPicPr/>
          <p:nvPr/>
        </p:nvPicPr>
        <p:blipFill>
          <a:blip r:embed="rId1"/>
          <a:stretch/>
        </p:blipFill>
        <p:spPr>
          <a:xfrm>
            <a:off x="8534520" y="5791320"/>
            <a:ext cx="304560" cy="3045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09" fill="hold"/>
                                        <p:tgtEl>
                                          <p:spTgt spid="7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35072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Apollo</a:t>
            </a:r>
            <a:endParaRPr b="0" lang="en-US" sz="5400" spc="-1" strike="noStrike">
              <a:solidFill>
                <a:srgbClr val="333399"/>
              </a:solidFill>
              <a:latin typeface="Tahoma"/>
            </a:endParaRPr>
          </a:p>
        </p:txBody>
      </p:sp>
      <p:sp>
        <p:nvSpPr>
          <p:cNvPr id="775" name="PlaceHolder 2"/>
          <p:cNvSpPr>
            <a:spLocks noGrp="1"/>
          </p:cNvSpPr>
          <p:nvPr>
            <p:ph/>
          </p:nvPr>
        </p:nvSpPr>
        <p:spPr>
          <a:xfrm>
            <a:off x="533520" y="2017440"/>
            <a:ext cx="4952880" cy="445932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ollo was the god of music and healing who fought man medicin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the son of Zeus and Leto.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has a twin sister named Artemi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pollo’s daily task is to harness his chariot with four horses attached and drive the sun across the sky.</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famous for the oracle at Delphi.</a:t>
            </a:r>
            <a:endParaRPr b="0" lang="en-US" sz="2000" spc="-1" strike="noStrike">
              <a:solidFill>
                <a:srgbClr val="000000"/>
              </a:solidFill>
              <a:latin typeface="Tahoma"/>
            </a:endParaRPr>
          </a:p>
        </p:txBody>
      </p:sp>
      <p:pic>
        <p:nvPicPr>
          <p:cNvPr id="776" name="Picture 6" descr="a_apollo"/>
          <p:cNvPicPr/>
          <p:nvPr/>
        </p:nvPicPr>
        <p:blipFill>
          <a:blip r:embed="rId1"/>
          <a:stretch/>
        </p:blipFill>
        <p:spPr>
          <a:xfrm>
            <a:off x="5334120" y="2209680"/>
            <a:ext cx="3396960" cy="3962520"/>
          </a:xfrm>
          <a:prstGeom prst="rect">
            <a:avLst/>
          </a:prstGeom>
          <a:ln w="0">
            <a:noFill/>
          </a:ln>
        </p:spPr>
      </p:pic>
      <p:pic>
        <p:nvPicPr>
          <p:cNvPr id="777" name="vwchw2m1[1].wav" descr=""/>
          <p:cNvPicPr/>
          <p:nvPr/>
        </p:nvPicPr>
        <p:blipFill>
          <a:blip r:embed="rId2"/>
          <a:stretch/>
        </p:blipFill>
        <p:spPr>
          <a:xfrm>
            <a:off x="67816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682"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Aphrodite</a:t>
            </a:r>
            <a:endParaRPr b="1" lang="en-US" sz="4800" spc="-1" strike="noStrike">
              <a:solidFill>
                <a:srgbClr val="e5e5ff"/>
              </a:solidFill>
              <a:latin typeface="Garamond"/>
            </a:endParaRPr>
          </a:p>
        </p:txBody>
      </p:sp>
      <p:sp>
        <p:nvSpPr>
          <p:cNvPr id="779" name="PlaceHolder 2"/>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phrodite is the goddess of love, desire and beaut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he has a magical gift that compels anyone she wishes to desire her deepl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he represented sex affection and the attraction that binds people together. </a:t>
            </a:r>
            <a:endParaRPr b="0" lang="en-US" sz="2000" spc="-1" strike="noStrike">
              <a:solidFill>
                <a:srgbClr val="ffffff"/>
              </a:solidFill>
              <a:latin typeface="Garamond"/>
            </a:endParaRPr>
          </a:p>
        </p:txBody>
      </p:sp>
      <p:pic>
        <p:nvPicPr>
          <p:cNvPr id="780" name="Picture 9" descr="aphro2"/>
          <p:cNvPicPr/>
          <p:nvPr/>
        </p:nvPicPr>
        <p:blipFill>
          <a:blip r:embed="rId1"/>
          <a:stretch/>
        </p:blipFill>
        <p:spPr>
          <a:xfrm>
            <a:off x="380880" y="1905120"/>
            <a:ext cx="4038840" cy="4038480"/>
          </a:xfrm>
          <a:prstGeom prst="rect">
            <a:avLst/>
          </a:prstGeom>
          <a:ln w="0">
            <a:noFill/>
          </a:ln>
        </p:spPr>
      </p:pic>
      <p:pic>
        <p:nvPicPr>
          <p:cNvPr id="781" name="w1zvssap[1].wav" descr=""/>
          <p:cNvPicPr/>
          <p:nvPr/>
        </p:nvPicPr>
        <p:blipFill>
          <a:blip r:embed="rId2"/>
          <a:stretch/>
        </p:blipFill>
        <p:spPr>
          <a:xfrm>
            <a:off x="7620120" y="6095880"/>
            <a:ext cx="304560" cy="30492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3425"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des</a:t>
            </a:r>
            <a:endParaRPr b="0" lang="en-US" sz="4400" spc="-1" strike="noStrike">
              <a:solidFill>
                <a:srgbClr val="ffffcc"/>
              </a:solidFill>
              <a:latin typeface="Tahoma"/>
            </a:endParaRPr>
          </a:p>
        </p:txBody>
      </p:sp>
      <p:sp>
        <p:nvSpPr>
          <p:cNvPr id="783" name="PlaceHolder 2"/>
          <p:cNvSpPr>
            <a:spLocks noGrp="1"/>
          </p:cNvSpPr>
          <p:nvPr>
            <p:ph/>
          </p:nvPr>
        </p:nvSpPr>
        <p:spPr>
          <a:xfrm>
            <a:off x="456840" y="1600200"/>
            <a:ext cx="40402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des is the god of the underworl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the brother of Ze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wife was Persephon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elmet Hades wears is invisib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784" name="Picture 8" descr="hades"/>
          <p:cNvPicPr/>
          <p:nvPr/>
        </p:nvPicPr>
        <p:blipFill>
          <a:blip r:embed="rId1"/>
          <a:stretch/>
        </p:blipFill>
        <p:spPr>
          <a:xfrm>
            <a:off x="5257800" y="1828800"/>
            <a:ext cx="3352680" cy="4343400"/>
          </a:xfrm>
          <a:prstGeom prst="rect">
            <a:avLst/>
          </a:prstGeom>
          <a:ln w="0">
            <a:noFill/>
          </a:ln>
        </p:spPr>
      </p:pic>
      <p:pic>
        <p:nvPicPr>
          <p:cNvPr id="785" name="jsbj257.wav" descr=""/>
          <p:cNvPicPr/>
          <p:nvPr/>
        </p:nvPicPr>
        <p:blipFill>
          <a:blip r:embed="rId2"/>
          <a:stretch/>
        </p:blipFill>
        <p:spPr>
          <a:xfrm>
            <a:off x="8001000" y="6324480"/>
            <a:ext cx="304920" cy="30492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970"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Zeus </a:t>
            </a:r>
            <a:endParaRPr b="1" lang="en-US" sz="4400" spc="-1" strike="noStrike">
              <a:solidFill>
                <a:srgbClr val="feec94"/>
              </a:solidFill>
              <a:latin typeface="Times New Roman"/>
            </a:endParaRPr>
          </a:p>
        </p:txBody>
      </p:sp>
      <p:pic>
        <p:nvPicPr>
          <p:cNvPr id="787" name="Picture 8" descr="zeusx"/>
          <p:cNvPicPr/>
          <p:nvPr/>
        </p:nvPicPr>
        <p:blipFill>
          <a:blip r:embed="rId1"/>
          <a:stretch/>
        </p:blipFill>
        <p:spPr>
          <a:xfrm>
            <a:off x="685800" y="1523880"/>
            <a:ext cx="3733920" cy="4496040"/>
          </a:xfrm>
          <a:prstGeom prst="rect">
            <a:avLst/>
          </a:prstGeom>
          <a:ln w="0">
            <a:noFill/>
          </a:ln>
        </p:spPr>
      </p:pic>
      <p:sp>
        <p:nvSpPr>
          <p:cNvPr id="78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eus won the draw and became the Supreme ruler of god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is the lord of the sky and the rai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weapon is a thunderbolt which he hurlers at those who don’t like him.</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s married to Hera but is famous for cheating on her.</a:t>
            </a:r>
            <a:endParaRPr b="0" lang="en-US" sz="2400" spc="-1" strike="noStrike">
              <a:solidFill>
                <a:srgbClr val="ffffff"/>
              </a:solidFill>
              <a:latin typeface="Times New Roman"/>
            </a:endParaRPr>
          </a:p>
        </p:txBody>
      </p:sp>
      <p:pic>
        <p:nvPicPr>
          <p:cNvPr id="789" name="xprmklnm[1].wav" descr=""/>
          <p:cNvPicPr/>
          <p:nvPr/>
        </p:nvPicPr>
        <p:blipFill>
          <a:blip r:embed="rId2"/>
          <a:stretch/>
        </p:blipFill>
        <p:spPr>
          <a:xfrm>
            <a:off x="8153280" y="6172200"/>
            <a:ext cx="381240" cy="3808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9">
                                  <p:stCondLst>
                                    <p:cond delay="0"/>
                                  </p:stCondLst>
                                  <p:childTnLst>
                                    <p:set>
                                      <p:cBhvr>
                                        <p:cTn id="30" dur="1" fill="hold">
                                          <p:stCondLst>
                                            <p:cond delay="0"/>
                                          </p:stCondLst>
                                        </p:cTn>
                                        <p:tgtEl>
                                          <p:spTgt spid="786"/>
                                        </p:tgtEl>
                                        <p:attrNameLst>
                                          <p:attrName>style.visibility</p:attrName>
                                        </p:attrNameLst>
                                      </p:cBhvr>
                                      <p:to>
                                        <p:strVal val="visible"/>
                                      </p:to>
                                    </p:set>
                                    <p:animEffect filter="dissolve" transition="in">
                                      <p:cBhvr additive="repl">
                                        <p:cTn id="31" dur="500"/>
                                        <p:tgtEl>
                                          <p:spTgt spid="786"/>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788">
                                            <p:txEl>
                                              <p:pRg st="0" end="0"/>
                                            </p:txEl>
                                          </p:spTgt>
                                        </p:tgtEl>
                                        <p:attrNameLst>
                                          <p:attrName>style.visibility</p:attrName>
                                        </p:attrNameLst>
                                      </p:cBhvr>
                                      <p:to>
                                        <p:strVal val="visible"/>
                                      </p:to>
                                    </p:set>
                                    <p:animEffect filter="dissolve" transition="in">
                                      <p:cBhvr additive="repl">
                                        <p:cTn id="36" dur="500"/>
                                        <p:tgtEl>
                                          <p:spTgt spid="788">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788">
                                            <p:txEl>
                                              <p:pRg st="1" end="1"/>
                                            </p:txEl>
                                          </p:spTgt>
                                        </p:tgtEl>
                                        <p:attrNameLst>
                                          <p:attrName>style.visibility</p:attrName>
                                        </p:attrNameLst>
                                      </p:cBhvr>
                                      <p:to>
                                        <p:strVal val="visible"/>
                                      </p:to>
                                    </p:set>
                                    <p:animEffect filter="dissolve" transition="in">
                                      <p:cBhvr additive="repl">
                                        <p:cTn id="41" dur="500"/>
                                        <p:tgtEl>
                                          <p:spTgt spid="788">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788">
                                            <p:txEl>
                                              <p:pRg st="2" end="2"/>
                                            </p:txEl>
                                          </p:spTgt>
                                        </p:tgtEl>
                                        <p:attrNameLst>
                                          <p:attrName>style.visibility</p:attrName>
                                        </p:attrNameLst>
                                      </p:cBhvr>
                                      <p:to>
                                        <p:strVal val="visible"/>
                                      </p:to>
                                    </p:set>
                                    <p:animEffect filter="dissolve" transition="in">
                                      <p:cBhvr additive="repl">
                                        <p:cTn id="46" dur="500"/>
                                        <p:tgtEl>
                                          <p:spTgt spid="788">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788">
                                            <p:txEl>
                                              <p:pRg st="3" end="3"/>
                                            </p:txEl>
                                          </p:spTgt>
                                        </p:tgtEl>
                                        <p:attrNameLst>
                                          <p:attrName>style.visibility</p:attrName>
                                        </p:attrNameLst>
                                      </p:cBhvr>
                                      <p:to>
                                        <p:strVal val="visible"/>
                                      </p:to>
                                    </p:set>
                                    <p:animEffect filter="dissolve" transition="in">
                                      <p:cBhvr additive="repl">
                                        <p:cTn id="51" dur="500"/>
                                        <p:tgtEl>
                                          <p:spTgt spid="788">
                                            <p:txEl>
                                              <p:pRg st="3" end="3"/>
                                            </p:txEl>
                                          </p:spTgt>
                                        </p:tgtEl>
                                      </p:cBhvr>
                                    </p:animEffect>
                                  </p:childTnLst>
                                </p:cTn>
                              </p:par>
                            </p:childTnLst>
                          </p:cTn>
                        </p:par>
                        <p:par>
                          <p:cTn id="52" nodeType="afterEffect" fill="hold">
                            <p:stCondLst>
                              <p:cond delay="500"/>
                            </p:stCondLst>
                            <p:childTnLst>
                              <p:par>
                                <p:cTn id="53" nodeType="afterEffect" fill="hold" presetClass="mediacall" presetID="1">
                                  <p:stCondLst>
                                    <p:cond delay="0"/>
                                  </p:stCondLst>
                                  <p:childTnLst>
                                    <p:cmd type="call" cmd="playFrom(0.0)">
                                      <p:cBhvr>
                                        <p:cTn id="54" dur="2624"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res</a:t>
            </a:r>
            <a:endParaRPr b="0" lang="en-US" sz="4400" spc="-1" strike="noStrike">
              <a:solidFill>
                <a:srgbClr val="dbbd71"/>
              </a:solidFill>
              <a:latin typeface="Arial"/>
            </a:endParaRPr>
          </a:p>
        </p:txBody>
      </p:sp>
      <p:sp>
        <p:nvSpPr>
          <p:cNvPr id="791"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god of war.</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son of Zeus and Hera.</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didn’t like his parents.</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carried a blood stained spear.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handsome and very cruel. </a:t>
            </a:r>
            <a:endParaRPr b="0" lang="en-US" sz="2800" spc="-1" strike="noStrike">
              <a:solidFill>
                <a:srgbClr val="ffffff"/>
              </a:solidFill>
              <a:latin typeface="Tahoma"/>
            </a:endParaRPr>
          </a:p>
        </p:txBody>
      </p:sp>
      <p:pic>
        <p:nvPicPr>
          <p:cNvPr id="792" name="Picture 8" descr="h50"/>
          <p:cNvPicPr/>
          <p:nvPr/>
        </p:nvPicPr>
        <p:blipFill>
          <a:blip r:embed="rId1"/>
          <a:stretch/>
        </p:blipFill>
        <p:spPr>
          <a:xfrm>
            <a:off x="4657680" y="1676520"/>
            <a:ext cx="4191120" cy="4724280"/>
          </a:xfrm>
          <a:prstGeom prst="rect">
            <a:avLst/>
          </a:prstGeom>
          <a:ln w="0">
            <a:noFill/>
          </a:ln>
        </p:spPr>
      </p:pic>
      <p:pic>
        <p:nvPicPr>
          <p:cNvPr id="793" name="vvsrpkbf[1].wav" descr=""/>
          <p:cNvPicPr/>
          <p:nvPr/>
        </p:nvPicPr>
        <p:blipFill>
          <a:blip r:embed="rId2"/>
          <a:stretch/>
        </p:blipFill>
        <p:spPr>
          <a:xfrm>
            <a:off x="75438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349" fill="hold"/>
                                        <p:tgtEl>
                                          <p:spTgt spid="7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clusion</a:t>
            </a:r>
            <a:endParaRPr b="0" lang="en-US" sz="4400" spc="-1" strike="noStrike">
              <a:solidFill>
                <a:srgbClr val="e3e3ff"/>
              </a:solidFill>
              <a:latin typeface="Arial"/>
            </a:endParaRPr>
          </a:p>
        </p:txBody>
      </p:sp>
      <p:sp>
        <p:nvSpPr>
          <p:cNvPr id="7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3200" spc="-1" strike="noStrike">
              <a:solidFill>
                <a:srgbClr val="ffffff"/>
              </a:solidFill>
              <a:latin typeface="Arial"/>
            </a:endParaRPr>
          </a:p>
        </p:txBody>
      </p:sp>
      <p:pic>
        <p:nvPicPr>
          <p:cNvPr id="796" name="j021272.wav" descr=""/>
          <p:cNvPicPr/>
          <p:nvPr/>
        </p:nvPicPr>
        <p:blipFill>
          <a:blip r:embed="rId1"/>
          <a:stretch/>
        </p:blipFill>
        <p:spPr>
          <a:xfrm>
            <a:off x="4419720" y="3276720"/>
            <a:ext cx="304560" cy="304560"/>
          </a:xfrm>
          <a:prstGeom prst="rect">
            <a:avLst/>
          </a:prstGeom>
          <a:ln w="0">
            <a:noFill/>
          </a:ln>
        </p:spPr>
      </p:pic>
      <p:pic>
        <p:nvPicPr>
          <p:cNvPr id="797" name="j021273.wav" descr=""/>
          <p:cNvPicPr/>
          <p:nvPr/>
        </p:nvPicPr>
        <p:blipFill>
          <a:blip r:embed="rId2"/>
          <a:stretch/>
        </p:blipFill>
        <p:spPr>
          <a:xfrm>
            <a:off x="8001000" y="6095880"/>
            <a:ext cx="304920" cy="304920"/>
          </a:xfrm>
          <a:prstGeom prst="rect">
            <a:avLst/>
          </a:prstGeom>
          <a:ln w="0">
            <a:noFill/>
          </a:ln>
        </p:spPr>
      </p:pic>
    </p:spTree>
  </p:cSld>
  <p:transition>
    <p:push dir="r"/>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4716" fill="hold"/>
                                        <p:tgtEl>
                                          <p:spTgt spid="796"/>
                                        </p:tgtEl>
                                      </p:cBhvr>
                                    </p:cmd>
                                  </p:childTnLst>
                                </p:cTn>
                              </p:par>
                            </p:childTnLst>
                          </p:cTn>
                        </p:par>
                        <p:par>
                          <p:cTn id="67" nodeType="afterEffect" fill="hold">
                            <p:stCondLst>
                              <p:cond delay="4716"/>
                            </p:stCondLst>
                            <p:childTnLst>
                              <p:par>
                                <p:cTn id="68" nodeType="afterEffect" fill="hold" presetClass="mediacall" presetID="1">
                                  <p:stCondLst>
                                    <p:cond delay="0"/>
                                  </p:stCondLst>
                                  <p:childTnLst>
                                    <p:cmd type="call" cmd="playFrom(0.0)">
                                      <p:cBhvr>
                                        <p:cTn id="69" dur="4716" fill="hold"/>
                                        <p:tgtEl>
                                          <p:spTgt spid="7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30T17:31:09Z</dcterms:created>
  <dc:creator>CHS</dc:creator>
  <dc:description/>
  <dc:language>en-US</dc:language>
  <cp:lastModifiedBy>RomaK</cp:lastModifiedBy>
  <dcterms:modified xsi:type="dcterms:W3CDTF">2015-09-02T09:25:54Z</dcterms:modified>
  <cp:revision>10</cp:revision>
  <dc:subject/>
  <dc:title>Greek Gods and Goddesses</dc:title>
</cp:coreProperties>
</file>