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7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7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CAD1-159E-4F19-AA67-E24B1D94F75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k Gods and Goddes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Kimberly Zink and Tiffany Eyer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Gods and Godd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Kimberly Zink and Tiffany Ey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 was the god of music and healing who fought man medic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son of Zeus and Leto.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twin sister named Artem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pollo’s daily task is to harness his chariot with four horses attached and drive the sun across the sk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famous for the oracle at Delphi.</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was the god of music and healing who fought ma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son of Zeus and L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twin sister named Arte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ollo’s daily task is to harness his chariot with four horses attached and drive the sun across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amous for the oracle at Del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 is the goddess of love, desire and beau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has a magical gift that compels anyone she wishes to desire her deep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represented sex affection and the attraction that binds people togethe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 is the goddess of love, desire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has a magical gift that compels anyone she wishes to desire her de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represented sex affection and the attraction that binds peopl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 is the god of the under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brother of Ze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ife was Persepho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lmet Hades wears is invisib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is the 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ife was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lmet Hades wears is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won the draw and became the Supreme ruler of go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lord of the sky and the r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eapon is a thunderbolt which he hurlers at those who don’t like hi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married to Hera but is famous for cheating on 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won the draw and became the Supreme ruler of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lord of the sky and the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eapon is a thunderbolt which he hurlers at those who don’t like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married to Hera but is famous for cheating on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god of w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son of Zeus and He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n’t like his par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arried a blood stained spea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handsome and very cru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god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son of Zeus and H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n’t like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rried a blood stained s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handsome and very cr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E9AFAAF-4009-4EC4-9754-166C821A3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41EFC1-8434-4F21-B78C-9942F4C1B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939430-E744-4E43-AED7-28B1DC876A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510A5E-5DC3-41CC-874C-5365771797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C28E30-ECB8-410A-B65A-ACD64ADC85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39736D-8F23-43A5-AE31-77EAE33608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8510F-3EF6-4702-858D-DFD9D205B1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A7EC49-94AC-4756-B398-4B78B26305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85CE4F-E18A-4602-8643-32081A9DF3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1966C7-0E57-4988-BD30-77AD4CE846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6539C4-61D9-4E4E-A310-A1A312F1C4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1F19822-F4B6-4E95-8D57-276E35BE564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2D2D03F-6BEA-4AFA-9805-D604A3629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D0F3DF9-2CBF-456C-B477-BAC5AA05B74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E3E8698-D0CB-41D5-A33A-60F1763F8C5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B2F4826-5C92-46BA-836D-0946D64BD8E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2F86C4F-3B9E-46A6-A12F-55C9646D06E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BA9E392-2AF0-4FF0-96B9-63761025A71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55C35CF-F858-4C76-9156-43C28C0C7A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FC600B6-509C-4580-93F4-B0D169966BF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FE2E1CD-BF20-434C-9A2B-654D3B1AAE6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0D60C98-E803-4506-8024-EBC7C28CBE7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372F288-FF80-4E42-9091-5228C785C10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7A0074A-A9FC-4A78-B12C-7711C1C60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EB83238-EE9D-4281-97FB-D0E2F120954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EDCA11-4CB2-43B4-BB58-D3B806EE4F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4427B4-BAB8-4CD3-8993-8FD85D0759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528A42-7932-4E16-B6BE-B53A307585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16452F-EE4B-4FA1-95BF-6007E218BA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A60C41-E5E2-4E15-9187-1B95B06F09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A8867F-CD56-4880-85E1-D38CDCEEF2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502FEC-4EF8-42F9-82D6-96F87EC4B1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D9C4DC-3B95-4EFA-B09D-08D91DB070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7938FE-8358-4054-946F-E4B918F8F1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204BC-7F86-445F-BBCE-E4F7D11E6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6E1BCA-5269-4038-8B75-0124F08B33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F76402-C4F6-426A-BF4D-043C42057C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297A48-15BF-436E-B2E7-FC13843F45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F22B53-FA8E-4A90-BE97-7585E5AC09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E60105-D305-4068-A3B5-BF8DEDB589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AAAB56-CB08-4FB3-A5AD-F251EBF38E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26107C-9EC5-409E-BC39-A9C685C84A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D6D797-4FE2-4A72-9284-8670D1D445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D0F91E-33A7-4313-B5F9-A87914F10C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31AF7F-A149-4287-9B91-5DE350D3D9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181A-0EBD-4AA5-8301-D5F8E1DBA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FDC00B-ED22-493C-BFD5-0153E7A1CA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87C436-65F3-4733-A640-DE4351E2F4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4EFF45-15E6-4ABF-A49D-409F604E41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C9F1B4-3D40-4DF3-A453-A931B6B0186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B99ACA-5D6B-47D5-BC38-533A72E8D8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A507694-DE44-48DF-B1EA-BE81F769AF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98D831-8475-40D1-A1A0-7D5FF4A148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E1F951-208D-4D08-B987-605A1BAC2F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092F83-210D-444F-A3A0-0C90F5FDF5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63D661-51D9-468A-AD9F-59128E2EF2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A0394-817D-4F23-8CD7-F4488AD5F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EBD88D-A0D2-4433-9EA7-3FA553559F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B054E6-5155-400E-A5EE-D8A394921D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6F3651-5581-4981-8C53-FBAAF37092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871E07-F7ED-475E-8E52-C8E255E1DD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222E70-BB8E-4B66-A69C-267D403257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DF2DFFB-0BB6-4D47-BF9C-C639F370AB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6495191-4662-4842-B720-582BF0CE3C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6434BF2D-D3AD-4AAE-8824-1CA0AA3DF5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0EDAF7D0-2857-4241-87D8-247AA06F32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850562DF-FD80-45F7-97B2-2DF5E7FF8E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07CB6-EB67-4E5F-88E2-FEEF2D59C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4CF98409-FA7D-4186-8BBE-AB3B63171A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F2173353-D13F-4F71-B3C7-B22A33EE36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C29FC5E5-AE69-40AE-ACBD-E26C9A5365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EACF06B-D85B-436A-A58B-C609BDB4D0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21B4310-C2DB-470C-94A8-9E66DD5E1D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0B1CE650-52A5-4CCD-9B14-C03E5B7B77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3EFD07D-9012-456A-BD87-02D73625D8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6F850475-FB01-4F7C-8A7F-1A4876BBF18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4C48147E-BB71-4FCB-808A-9E54472DFE5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FCB23-0779-4E52-8389-0BD8018FF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AF3B2-081E-4114-82DC-0CE61E728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44F9E-FCD7-4C83-AF20-2727F8E96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085745-3E5A-42AA-BB6C-B3078555C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FC65A-D35E-4ABB-926E-46B94F513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DACBE-23EC-4459-A678-C89AC6551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3842D-95DD-4CDB-9E41-95D8FDEF9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1295F-8231-45BB-BFC6-C04DD6069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229EC-B8C3-4BE5-9A79-44253398C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8A26CC-DEBF-41E5-9C37-40447A1758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25627B-82EB-4762-B3C1-DFCE6E0C03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B56E3-9DAF-4D26-9B53-595AC5E399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6C1CE-62F2-4BE5-84A9-19C1CBF82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D76607-F633-4B12-8E3C-609F478D1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F1E07AE-40C0-4F97-8F6E-CBC592C9B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FAF1F-6AD3-41AD-99A9-A699560A8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6089A-9E28-4824-AA8B-5DDBA03FF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97ED0-26FE-49B6-B33C-F08FFC2CF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5794B-8D10-48FF-9CC2-A4526284D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E074DA-5829-481B-B1E2-09ADB1292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6B12C8-4FE0-4776-B1FA-0CD48B4250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5C7DE0-9CCF-4B67-B209-7C5A1FCD22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4C32E-DB27-4F94-887C-0C44900800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31B0F-B00F-4B96-8C10-3518F1583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B2300A-DC17-4ACD-AA22-20031F41B5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1478BD-9B05-41AA-9701-373E72651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363294-DEF3-41D7-9593-C04E83F208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8AC1D-81A4-4E1C-A7F9-0916B44C2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591E6A-7FF7-4438-99F0-E4AAB91F9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76582-B14C-491F-96B6-FCE3D111F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A63EB-CAEA-4CD2-9D9B-EB8D8EAB0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13761-8D12-43E5-946D-7238E7CCA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11B828-894D-4EB6-8F96-FF7ED3316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9857EA-7CF5-4AB5-B2DB-10C88126FC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C143D4-343A-4738-AC64-BFF78E43E3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786F38-D711-46DA-A568-C938314C4C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867B4F-48B9-4EEA-82B2-CAFDBE061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ABF24C-DB98-45BB-A0A1-B81014923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666E4-0D34-43FB-92DA-2CB07FAAA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C5DB6-FAC6-4E96-849C-D77CA744F0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6A094-15A6-4E10-B28A-ABB0B9D36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C8139-D6CD-4CC4-BE08-6514F4ABE2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C3069-B8F3-4D56-BFB3-3F53E4BDC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7566D-D952-4396-A450-E3CE9AE1F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39AE9-DA9F-4555-81B5-F1201A3E49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54D9BB-B9FC-42F3-829F-4A5F128BA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E04068-6BDE-4803-B770-1FA5FAC36A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2E9FA0-4595-4DDB-AAE5-AC06B2483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6E161D-6002-4BA4-9B8E-033E1256CC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48E896-C03F-4004-B2D7-F46BC53729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A3614C-0E8E-4034-8C13-3051AD748B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06258D-F070-4003-9CDF-C3FE6FCCCA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6BDEDF-CE2A-47FA-9127-83D6E0279A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EE40F3-3C68-499A-A46E-B75E5E812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7D4A1-F802-4976-995F-47A72DAF44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C5B4EE-C42A-4BDF-A355-3F80627C10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BC890-4F1F-4717-BAB2-9CC03D529E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74BF2-C5A5-4B21-8593-8C4B01BA7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61ECFA-2CC2-4966-AE96-665A35369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6F4D5A-E941-4BD1-A739-89B0155D40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BBEA51-D4EE-45A4-B76D-051D87D6E5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C24529-F004-4576-94DD-DAEF5EE87E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515920-5BB0-4D23-ABC8-78A4C3B186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686BA-A8DF-46F2-8065-4E2BBC0319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560E01-712C-44AB-A69E-BBAC581CA1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AFE81-7093-44E8-9720-80D1431378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0B69B-5748-4B12-AEBA-6C3C249FC8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A751B1-7D3C-45A8-A0EA-E86977CD9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A4083-A78D-467C-9FF8-C98B1C89A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973EFF-F573-4DA5-834A-80EB9A83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4C5B5-88FD-4100-94BF-327798D33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18377D-210C-46B1-8A31-F5ED49CDA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1CAD7A-F2EA-42D6-9906-96D20C1BC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3F8DB8-9FCC-4D9F-862B-66F1FA6418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3EB348-24B0-46A2-9D5C-2A1A393E7C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E9905F-9BB2-4E4A-B878-578216934E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E838E7-050A-45E9-8141-0EBA5DFBC1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F7F3FA-1AA3-4FA7-8325-07E55D3259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B34B64-03EF-4EF4-BCB0-E6F6D17BE5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87440-020C-46DD-986A-6C54DC1B73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3AF6F2-BD42-4C87-A771-28A2C676A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335190-4076-468D-874E-949647E89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947C2E-D63A-416C-973D-CC60625AA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D057D-6DF2-411D-9231-6830ADABA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0AD825-62BB-4A2F-AE0D-84CA202C3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94C641-14C7-40A7-9B83-5AEDAC2403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BC2679-279D-4A8D-B18C-103E914A56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9D91A7-F23B-4850-844D-DB6DBC677B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0D15EA-78A8-46E0-B61C-61C4A8B6BD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B4E291-826B-4FF8-BC55-C7D4D830C0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AD8BBD-B0CB-4DB4-A07F-2F13D65643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8435-5C58-4C86-B462-9D60AA48967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4"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5"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08EE-EA3A-40C7-B3AA-C172133B0C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23" name="Group 2"/>
          <p:cNvGrpSpPr/>
          <p:nvPr/>
        </p:nvGrpSpPr>
        <p:grpSpPr>
          <a:xfrm>
            <a:off x="0" y="0"/>
            <a:ext cx="8458200" cy="5943600"/>
            <a:chOff x="0" y="0"/>
            <a:chExt cx="8458200" cy="5943600"/>
          </a:xfrm>
        </p:grpSpPr>
        <p:sp>
          <p:nvSpPr>
            <p:cNvPr id="524"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2D76-A06D-4699-9773-BE48BF6909F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934320"/>
            <a:chOff x="0" y="0"/>
            <a:chExt cx="9144000" cy="6934320"/>
          </a:xfrm>
        </p:grpSpPr>
        <p:sp>
          <p:nvSpPr>
            <p:cNvPr id="5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742F-CEA2-482C-85E8-3D4859719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27" name="Group 2"/>
          <p:cNvGrpSpPr/>
          <p:nvPr/>
        </p:nvGrpSpPr>
        <p:grpSpPr>
          <a:xfrm>
            <a:off x="3800520" y="1789200"/>
            <a:ext cx="5348160" cy="5056200"/>
            <a:chOff x="3800520" y="1789200"/>
            <a:chExt cx="5348160" cy="5056200"/>
          </a:xfrm>
        </p:grpSpPr>
        <p:sp>
          <p:nvSpPr>
            <p:cNvPr id="62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63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6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6"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87EB-04CE-4BC5-A75F-4643BC98D6A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03" name="Group 2"/>
          <p:cNvGrpSpPr/>
          <p:nvPr/>
        </p:nvGrpSpPr>
        <p:grpSpPr>
          <a:xfrm>
            <a:off x="-6480" y="20520"/>
            <a:ext cx="9144000" cy="6858000"/>
            <a:chOff x="-6480" y="20520"/>
            <a:chExt cx="9144000" cy="6858000"/>
          </a:xfrm>
        </p:grpSpPr>
        <p:sp>
          <p:nvSpPr>
            <p:cNvPr id="704"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5"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6"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7" name="Group 6"/>
          <p:cNvGrpSpPr/>
          <p:nvPr/>
        </p:nvGrpSpPr>
        <p:grpSpPr>
          <a:xfrm>
            <a:off x="-1440" y="6033960"/>
            <a:ext cx="7844400" cy="850680"/>
            <a:chOff x="-1440" y="6033960"/>
            <a:chExt cx="7844400" cy="850680"/>
          </a:xfrm>
        </p:grpSpPr>
        <p:sp>
          <p:nvSpPr>
            <p:cNvPr id="708"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9" name="Group 8"/>
            <p:cNvGrpSpPr/>
            <p:nvPr/>
          </p:nvGrpSpPr>
          <p:grpSpPr>
            <a:xfrm>
              <a:off x="3944880" y="6033960"/>
              <a:ext cx="3898080" cy="850680"/>
              <a:chOff x="3944880" y="6033960"/>
              <a:chExt cx="3898080" cy="850680"/>
            </a:xfrm>
          </p:grpSpPr>
          <p:sp>
            <p:nvSpPr>
              <p:cNvPr id="710"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1"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2"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3"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4"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15"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716" name="Group 15"/>
          <p:cNvGrpSpPr/>
          <p:nvPr/>
        </p:nvGrpSpPr>
        <p:grpSpPr>
          <a:xfrm>
            <a:off x="627120" y="6021360"/>
            <a:ext cx="5684760" cy="849240"/>
            <a:chOff x="627120" y="6021360"/>
            <a:chExt cx="5684760" cy="849240"/>
          </a:xfrm>
        </p:grpSpPr>
        <p:sp>
          <p:nvSpPr>
            <p:cNvPr id="717"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8"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9"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0"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1"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2"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6"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76B9-E04C-4CD1-90AF-4D5EA70C33D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7" name="PlaceHolder 5"/>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5481-5743-4D2A-87AC-22DC613908B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95E8-DA43-4EAA-8F67-234FB13607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E635-52ED-4466-A92D-F126CBCED70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5"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6"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7"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8"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5"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0"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1"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F01C-63E1-414B-BB8C-F8BC35A1F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43" name="Group 2"/>
          <p:cNvGrpSpPr/>
          <p:nvPr/>
        </p:nvGrpSpPr>
        <p:grpSpPr>
          <a:xfrm>
            <a:off x="3800520" y="1789200"/>
            <a:ext cx="5348160" cy="5056200"/>
            <a:chOff x="3800520" y="1789200"/>
            <a:chExt cx="5348160" cy="5056200"/>
          </a:xfrm>
        </p:grpSpPr>
        <p:sp>
          <p:nvSpPr>
            <p:cNvPr id="24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24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27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CA2A-3D2B-4DED-B508-6A97D746BCD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19" name="Group 2"/>
          <p:cNvGrpSpPr/>
          <p:nvPr/>
        </p:nvGrpSpPr>
        <p:grpSpPr>
          <a:xfrm>
            <a:off x="0" y="0"/>
            <a:ext cx="9144000" cy="6858000"/>
            <a:chOff x="0" y="0"/>
            <a:chExt cx="9144000" cy="6858000"/>
          </a:xfrm>
        </p:grpSpPr>
        <p:sp>
          <p:nvSpPr>
            <p:cNvPr id="32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6"/>
          <p:cNvGrpSpPr/>
          <p:nvPr/>
        </p:nvGrpSpPr>
        <p:grpSpPr>
          <a:xfrm>
            <a:off x="0" y="6019920"/>
            <a:ext cx="7848720" cy="857160"/>
            <a:chOff x="0" y="6019920"/>
            <a:chExt cx="7848720" cy="857160"/>
          </a:xfrm>
        </p:grpSpPr>
        <p:sp>
          <p:nvSpPr>
            <p:cNvPr id="32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5" name="Group 8"/>
            <p:cNvGrpSpPr/>
            <p:nvPr/>
          </p:nvGrpSpPr>
          <p:grpSpPr>
            <a:xfrm>
              <a:off x="3946680" y="6019920"/>
              <a:ext cx="3902040" cy="857160"/>
              <a:chOff x="3946680" y="6019920"/>
              <a:chExt cx="3902040" cy="857160"/>
            </a:xfrm>
          </p:grpSpPr>
          <p:sp>
            <p:nvSpPr>
              <p:cNvPr id="32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32" name="Group 15"/>
          <p:cNvGrpSpPr/>
          <p:nvPr/>
        </p:nvGrpSpPr>
        <p:grpSpPr>
          <a:xfrm>
            <a:off x="627120" y="6021360"/>
            <a:ext cx="5684760" cy="849240"/>
            <a:chOff x="627120" y="6021360"/>
            <a:chExt cx="5684760" cy="849240"/>
          </a:xfrm>
        </p:grpSpPr>
        <p:sp>
          <p:nvSpPr>
            <p:cNvPr id="33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15E7-E960-4889-AC93-2DF582EFB47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80" name="Group 2"/>
          <p:cNvGrpSpPr/>
          <p:nvPr/>
        </p:nvGrpSpPr>
        <p:grpSpPr>
          <a:xfrm>
            <a:off x="0" y="0"/>
            <a:ext cx="9140760" cy="6850080"/>
            <a:chOff x="0" y="0"/>
            <a:chExt cx="9140760" cy="6850080"/>
          </a:xfrm>
        </p:grpSpPr>
        <p:grpSp>
          <p:nvGrpSpPr>
            <p:cNvPr id="381" name="Group 3"/>
            <p:cNvGrpSpPr/>
            <p:nvPr/>
          </p:nvGrpSpPr>
          <p:grpSpPr>
            <a:xfrm>
              <a:off x="2743200" y="3540240"/>
              <a:ext cx="6392880" cy="3309840"/>
              <a:chOff x="2743200" y="3540240"/>
              <a:chExt cx="6392880" cy="3309840"/>
            </a:xfrm>
          </p:grpSpPr>
          <p:sp>
            <p:nvSpPr>
              <p:cNvPr id="38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7804-4204-4D81-8FA3-1A771F88CB6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2438280"/>
            <a:ext cx="9009000" cy="1052640"/>
            <a:chOff x="0" y="2438280"/>
            <a:chExt cx="9009000" cy="1052640"/>
          </a:xfrm>
        </p:grpSpPr>
        <p:grpSp>
          <p:nvGrpSpPr>
            <p:cNvPr id="431" name="Group 3"/>
            <p:cNvGrpSpPr/>
            <p:nvPr/>
          </p:nvGrpSpPr>
          <p:grpSpPr>
            <a:xfrm>
              <a:off x="290520" y="2546280"/>
              <a:ext cx="711360" cy="474840"/>
              <a:chOff x="290520" y="2546280"/>
              <a:chExt cx="711360" cy="474840"/>
            </a:xfrm>
          </p:grpSpPr>
          <p:sp>
            <p:nvSpPr>
              <p:cNvPr id="4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nvGrpSpPr>
            <p:cNvPr id="434" name="Group 6"/>
            <p:cNvGrpSpPr/>
            <p:nvPr/>
          </p:nvGrpSpPr>
          <p:grpSpPr>
            <a:xfrm>
              <a:off x="414360" y="2968560"/>
              <a:ext cx="737640" cy="474840"/>
              <a:chOff x="414360" y="2968560"/>
              <a:chExt cx="737640" cy="474840"/>
            </a:xfrm>
          </p:grpSpPr>
          <p:sp>
            <p:nvSpPr>
              <p:cNvPr id="4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sp>
          <p:nvSpPr>
            <p:cNvPr id="4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Garamond"/>
              </a:endParaRPr>
            </a:p>
          </p:txBody>
        </p:sp>
      </p:grpSp>
      <p:sp>
        <p:nvSpPr>
          <p:cNvPr id="4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BB59-E98B-4E0F-AA0D-D443ED0DBF7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k Gods and Goddesses</a:t>
            </a:r>
            <a:endParaRPr b="0" lang="en-US" sz="4400" spc="-1" strike="noStrike">
              <a:solidFill>
                <a:srgbClr val="ffffff"/>
              </a:solidFill>
              <a:latin typeface="Tahoma"/>
            </a:endParaRPr>
          </a:p>
        </p:txBody>
      </p:sp>
      <p:sp>
        <p:nvSpPr>
          <p:cNvPr id="7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Kimberly Zink and Tiffany Eyerly</a:t>
            </a:r>
            <a:endParaRPr b="0" lang="en-US" sz="3200" spc="-1" strike="noStrike">
              <a:solidFill>
                <a:srgbClr val="ffffff"/>
              </a:solidFill>
              <a:latin typeface="Tahoma"/>
            </a:endParaRPr>
          </a:p>
        </p:txBody>
      </p:sp>
      <p:pic>
        <p:nvPicPr>
          <p:cNvPr id="773" name="vvmx241.wav" descr=""/>
          <p:cNvPicPr/>
          <p:nvPr/>
        </p:nvPicPr>
        <p:blipFill>
          <a:blip r:embed="rId1"/>
          <a:stretch/>
        </p:blipFill>
        <p:spPr>
          <a:xfrm>
            <a:off x="8534520" y="5791320"/>
            <a:ext cx="304560" cy="304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09"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35072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Apollo</a:t>
            </a:r>
            <a:endParaRPr b="0" lang="en-US" sz="5400" spc="-1" strike="noStrike">
              <a:solidFill>
                <a:srgbClr val="333399"/>
              </a:solidFill>
              <a:latin typeface="Tahoma"/>
            </a:endParaRPr>
          </a:p>
        </p:txBody>
      </p:sp>
      <p:sp>
        <p:nvSpPr>
          <p:cNvPr id="775" name="PlaceHolder 2"/>
          <p:cNvSpPr>
            <a:spLocks noGrp="1"/>
          </p:cNvSpPr>
          <p:nvPr>
            <p:ph/>
          </p:nvPr>
        </p:nvSpPr>
        <p:spPr>
          <a:xfrm>
            <a:off x="533520" y="2017440"/>
            <a:ext cx="4952880" cy="445932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ollo was the god of music and healing who fought man medicin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the son of Zeus and Let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has a twin sister named Artemi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pollo’s daily task is to harness his chariot with four horses attached and drive the sun across the sk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famous for the oracle at Delphi.</a:t>
            </a:r>
            <a:endParaRPr b="0" lang="en-US" sz="2000" spc="-1" strike="noStrike">
              <a:solidFill>
                <a:srgbClr val="000000"/>
              </a:solidFill>
              <a:latin typeface="Tahoma"/>
            </a:endParaRPr>
          </a:p>
        </p:txBody>
      </p:sp>
      <p:pic>
        <p:nvPicPr>
          <p:cNvPr id="776" name="Picture 6" descr="a_apollo"/>
          <p:cNvPicPr/>
          <p:nvPr/>
        </p:nvPicPr>
        <p:blipFill>
          <a:blip r:embed="rId1"/>
          <a:stretch/>
        </p:blipFill>
        <p:spPr>
          <a:xfrm>
            <a:off x="5334120" y="2209680"/>
            <a:ext cx="3396960" cy="3962520"/>
          </a:xfrm>
          <a:prstGeom prst="rect">
            <a:avLst/>
          </a:prstGeom>
          <a:ln w="0">
            <a:noFill/>
          </a:ln>
        </p:spPr>
      </p:pic>
      <p:pic>
        <p:nvPicPr>
          <p:cNvPr id="777" name="vwchw2m1[1].wav" descr=""/>
          <p:cNvPicPr/>
          <p:nvPr/>
        </p:nvPicPr>
        <p:blipFill>
          <a:blip r:embed="rId2"/>
          <a:stretch/>
        </p:blipFill>
        <p:spPr>
          <a:xfrm>
            <a:off x="6781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682"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Aphrodite</a:t>
            </a:r>
            <a:endParaRPr b="1" lang="en-US" sz="4800" spc="-1" strike="noStrike">
              <a:solidFill>
                <a:srgbClr val="e5e5ff"/>
              </a:solidFill>
              <a:latin typeface="Garamond"/>
            </a:endParaRPr>
          </a:p>
        </p:txBody>
      </p:sp>
      <p:sp>
        <p:nvSpPr>
          <p:cNvPr id="7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hrodite is the goddess of love, desire and beaut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has a magical gift that compels anyone she wishes to desire her deepl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represented sex affection and the attraction that binds people together. </a:t>
            </a:r>
            <a:endParaRPr b="0" lang="en-US" sz="2000" spc="-1" strike="noStrike">
              <a:solidFill>
                <a:srgbClr val="ffffff"/>
              </a:solidFill>
              <a:latin typeface="Garamond"/>
            </a:endParaRPr>
          </a:p>
        </p:txBody>
      </p:sp>
      <p:pic>
        <p:nvPicPr>
          <p:cNvPr id="780" name="Picture 9" descr="aphro2"/>
          <p:cNvPicPr/>
          <p:nvPr/>
        </p:nvPicPr>
        <p:blipFill>
          <a:blip r:embed="rId1"/>
          <a:stretch/>
        </p:blipFill>
        <p:spPr>
          <a:xfrm>
            <a:off x="380880" y="1905120"/>
            <a:ext cx="4038840" cy="4038480"/>
          </a:xfrm>
          <a:prstGeom prst="rect">
            <a:avLst/>
          </a:prstGeom>
          <a:ln w="0">
            <a:noFill/>
          </a:ln>
        </p:spPr>
      </p:pic>
      <p:pic>
        <p:nvPicPr>
          <p:cNvPr id="781" name="w1zvssap[1].wav" descr=""/>
          <p:cNvPicPr/>
          <p:nvPr/>
        </p:nvPicPr>
        <p:blipFill>
          <a:blip r:embed="rId2"/>
          <a:stretch/>
        </p:blipFill>
        <p:spPr>
          <a:xfrm>
            <a:off x="7620120" y="6095880"/>
            <a:ext cx="304560" cy="30492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3425"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des</a:t>
            </a:r>
            <a:endParaRPr b="0" lang="en-US" sz="4400" spc="-1" strike="noStrike">
              <a:solidFill>
                <a:srgbClr val="ffffcc"/>
              </a:solidFill>
              <a:latin typeface="Tahoma"/>
            </a:endParaRPr>
          </a:p>
        </p:txBody>
      </p:sp>
      <p:sp>
        <p:nvSpPr>
          <p:cNvPr id="783"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des is the god of the underworl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the brother of Ze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ife was Persephon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lmet Hades wears is invisib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784" name="Picture 8" descr="hades"/>
          <p:cNvPicPr/>
          <p:nvPr/>
        </p:nvPicPr>
        <p:blipFill>
          <a:blip r:embed="rId1"/>
          <a:stretch/>
        </p:blipFill>
        <p:spPr>
          <a:xfrm>
            <a:off x="5257800" y="1828800"/>
            <a:ext cx="3352680" cy="4343400"/>
          </a:xfrm>
          <a:prstGeom prst="rect">
            <a:avLst/>
          </a:prstGeom>
          <a:ln w="0">
            <a:noFill/>
          </a:ln>
        </p:spPr>
      </p:pic>
      <p:pic>
        <p:nvPicPr>
          <p:cNvPr id="785" name="jsbj257.wav" descr=""/>
          <p:cNvPicPr/>
          <p:nvPr/>
        </p:nvPicPr>
        <p:blipFill>
          <a:blip r:embed="rId2"/>
          <a:stretch/>
        </p:blipFill>
        <p:spPr>
          <a:xfrm>
            <a:off x="8001000" y="6324480"/>
            <a:ext cx="304920" cy="304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970"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Zeus </a:t>
            </a:r>
            <a:endParaRPr b="1" lang="en-US" sz="4400" spc="-1" strike="noStrike">
              <a:solidFill>
                <a:srgbClr val="feec94"/>
              </a:solidFill>
              <a:latin typeface="Times New Roman"/>
            </a:endParaRPr>
          </a:p>
        </p:txBody>
      </p:sp>
      <p:pic>
        <p:nvPicPr>
          <p:cNvPr id="787" name="Picture 8" descr="zeusx"/>
          <p:cNvPicPr/>
          <p:nvPr/>
        </p:nvPicPr>
        <p:blipFill>
          <a:blip r:embed="rId1"/>
          <a:stretch/>
        </p:blipFill>
        <p:spPr>
          <a:xfrm>
            <a:off x="685800" y="1523880"/>
            <a:ext cx="3733920" cy="4496040"/>
          </a:xfrm>
          <a:prstGeom prst="rect">
            <a:avLst/>
          </a:prstGeom>
          <a:ln w="0">
            <a:noFill/>
          </a:ln>
        </p:spPr>
      </p:pic>
      <p:sp>
        <p:nvSpPr>
          <p:cNvPr id="7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us won the draw and became the Supreme ruler of g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the lord of the sky and the ra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weapon is a thunderbolt which he hurlers at those who don’t like hi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married to Hera but is famous for cheating on her.</a:t>
            </a:r>
            <a:endParaRPr b="0" lang="en-US" sz="2400" spc="-1" strike="noStrike">
              <a:solidFill>
                <a:srgbClr val="ffffff"/>
              </a:solidFill>
              <a:latin typeface="Times New Roman"/>
            </a:endParaRPr>
          </a:p>
        </p:txBody>
      </p:sp>
      <p:pic>
        <p:nvPicPr>
          <p:cNvPr id="789" name="xprmklnm[1].wav" descr=""/>
          <p:cNvPicPr/>
          <p:nvPr/>
        </p:nvPicPr>
        <p:blipFill>
          <a:blip r:embed="rId2"/>
          <a:stretch/>
        </p:blipFill>
        <p:spPr>
          <a:xfrm>
            <a:off x="8153280" y="6172200"/>
            <a:ext cx="381240" cy="3808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786"/>
                                        </p:tgtEl>
                                        <p:attrNameLst>
                                          <p:attrName>style.visibility</p:attrName>
                                        </p:attrNameLst>
                                      </p:cBhvr>
                                      <p:to>
                                        <p:strVal val="visible"/>
                                      </p:to>
                                    </p:set>
                                    <p:animEffect filter="dissolve" transition="in">
                                      <p:cBhvr additive="repl">
                                        <p:cTn id="31" dur="500"/>
                                        <p:tgtEl>
                                          <p:spTgt spid="78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36" dur="500"/>
                                        <p:tgtEl>
                                          <p:spTgt spid="78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41" dur="500"/>
                                        <p:tgtEl>
                                          <p:spTgt spid="78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46" dur="500"/>
                                        <p:tgtEl>
                                          <p:spTgt spid="78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1" dur="500"/>
                                        <p:tgtEl>
                                          <p:spTgt spid="788">
                                            <p:txEl>
                                              <p:pRg st="3" end="3"/>
                                            </p:txEl>
                                          </p:spTgt>
                                        </p:tgtEl>
                                      </p:cBhvr>
                                    </p:animEffec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624"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es</a:t>
            </a:r>
            <a:endParaRPr b="0" lang="en-US" sz="4400" spc="-1" strike="noStrike">
              <a:solidFill>
                <a:srgbClr val="dbbd71"/>
              </a:solidFill>
              <a:latin typeface="Arial"/>
            </a:endParaRPr>
          </a:p>
        </p:txBody>
      </p:sp>
      <p:sp>
        <p:nvSpPr>
          <p:cNvPr id="791"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god of war.</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son of Zeus and He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idn’t like his parents.</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carried a blood stained spear.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andsome and very cruel. </a:t>
            </a:r>
            <a:endParaRPr b="0" lang="en-US" sz="2800" spc="-1" strike="noStrike">
              <a:solidFill>
                <a:srgbClr val="ffffff"/>
              </a:solidFill>
              <a:latin typeface="Tahoma"/>
            </a:endParaRPr>
          </a:p>
        </p:txBody>
      </p:sp>
      <p:pic>
        <p:nvPicPr>
          <p:cNvPr id="792" name="Picture 8" descr="h50"/>
          <p:cNvPicPr/>
          <p:nvPr/>
        </p:nvPicPr>
        <p:blipFill>
          <a:blip r:embed="rId1"/>
          <a:stretch/>
        </p:blipFill>
        <p:spPr>
          <a:xfrm>
            <a:off x="4657680" y="1676520"/>
            <a:ext cx="4191120" cy="4724280"/>
          </a:xfrm>
          <a:prstGeom prst="rect">
            <a:avLst/>
          </a:prstGeom>
          <a:ln w="0">
            <a:noFill/>
          </a:ln>
        </p:spPr>
      </p:pic>
      <p:pic>
        <p:nvPicPr>
          <p:cNvPr id="793" name="vvsrpkbf[1].wav" descr=""/>
          <p:cNvPicPr/>
          <p:nvPr/>
        </p:nvPicPr>
        <p:blipFill>
          <a:blip r:embed="rId2"/>
          <a:stretch/>
        </p:blipFill>
        <p:spPr>
          <a:xfrm>
            <a:off x="7543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349"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sp>
        <p:nvSpPr>
          <p:cNvPr id="7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3200" spc="-1" strike="noStrike">
              <a:solidFill>
                <a:srgbClr val="ffffff"/>
              </a:solidFill>
              <a:latin typeface="Arial"/>
            </a:endParaRPr>
          </a:p>
        </p:txBody>
      </p:sp>
      <p:pic>
        <p:nvPicPr>
          <p:cNvPr id="796" name="j021272.wav" descr=""/>
          <p:cNvPicPr/>
          <p:nvPr/>
        </p:nvPicPr>
        <p:blipFill>
          <a:blip r:embed="rId1"/>
          <a:stretch/>
        </p:blipFill>
        <p:spPr>
          <a:xfrm>
            <a:off x="4419720" y="3276720"/>
            <a:ext cx="304560" cy="304560"/>
          </a:xfrm>
          <a:prstGeom prst="rect">
            <a:avLst/>
          </a:prstGeom>
          <a:ln w="0">
            <a:noFill/>
          </a:ln>
        </p:spPr>
      </p:pic>
      <p:pic>
        <p:nvPicPr>
          <p:cNvPr id="797" name="j021273.wav" descr=""/>
          <p:cNvPicPr/>
          <p:nvPr/>
        </p:nvPicPr>
        <p:blipFill>
          <a:blip r:embed="rId2"/>
          <a:stretch/>
        </p:blipFill>
        <p:spPr>
          <a:xfrm>
            <a:off x="8001000" y="6095880"/>
            <a:ext cx="304920" cy="304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716" fill="hold"/>
                                        <p:tgtEl>
                                          <p:spTgt spid="796"/>
                                        </p:tgtEl>
                                      </p:cBhvr>
                                    </p:cmd>
                                  </p:childTnLst>
                                </p:cTn>
                              </p:par>
                            </p:childTnLst>
                          </p:cTn>
                        </p:par>
                        <p:par>
                          <p:cTn id="67" nodeType="afterEffect" fill="hold">
                            <p:stCondLst>
                              <p:cond delay="4716"/>
                            </p:stCondLst>
                            <p:childTnLst>
                              <p:par>
                                <p:cTn id="68" nodeType="afterEffect" fill="hold" presetClass="mediacall" presetID="1">
                                  <p:stCondLst>
                                    <p:cond delay="0"/>
                                  </p:stCondLst>
                                  <p:childTnLst>
                                    <p:cmd type="call" cmd="playFrom(0.0)">
                                      <p:cBhvr>
                                        <p:cTn id="69" dur="4716" fill="hold"/>
                                        <p:tgtEl>
                                          <p:spTgt spid="7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7:31:09Z</dcterms:created>
  <dc:creator>CHS</dc:creator>
  <dc:description/>
  <dc:language>en-US</dc:language>
  <cp:lastModifiedBy>RomaK</cp:lastModifiedBy>
  <dcterms:modified xsi:type="dcterms:W3CDTF">2015-09-02T09:25:54Z</dcterms:modified>
  <cp:revision>10</cp:revision>
  <dc:subject/>
  <dc:title>Greek Gods and Goddesses</dc:title>
</cp:coreProperties>
</file>