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0009-F3A5-4DE4-B97A-A944952556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68E-26CD-4826-ABF4-81F05920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680-D1ED-4134-A477-3FD770F9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C0C-7809-4204-900F-0B17518D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C98-3CA7-4BA6-B370-1EAD7F64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3130-2B53-404E-8814-1C0892DF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2D39-85FD-445E-8277-ECFCDB2C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69A6-8F3A-45CC-A85A-501798B4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43CE-3A4C-4FF6-B489-7AB33835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2558-D1B1-45F9-A237-966E0577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31A4-A6E1-411A-B614-FEDF4141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A9A7-FD9E-44D0-A09D-93A4879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C63-FBEC-4EF2-90BC-351F45E2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0513-2CAB-4769-A301-574BACD6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EFDF-0DAF-46BD-8EFE-67F8886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90BD-E4DF-4236-BDC7-8965F904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9085-8FE9-4F87-915E-347D4A66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DDDE-F271-4EAC-91E8-44FE2F72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671-9147-4ABF-9162-5DED5789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838-4C34-445B-8A46-329B7794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7B0-B708-46BB-AC57-2DC5E897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2B1-43DD-429F-887A-95E06DD7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25F-D7E6-441B-B0D8-72A1591B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E61-F6C0-4031-A0A6-4C9E7E9C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D40-B68E-497C-8113-7E109B2E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6716-56F2-4F5C-BDDF-9984A56A95B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AE88-54F1-432F-9F05-D55453F751E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tars10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5840"/>
            <a:ext cx="86374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6" name="Picture 1027" descr="homer"/>
          <p:cNvPicPr/>
          <p:nvPr/>
        </p:nvPicPr>
        <p:blipFill>
          <a:blip r:embed="rId1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8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3680" y="2631960"/>
            <a:ext cx="76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57280" y="361800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halseye"/>
          <p:cNvPicPr/>
          <p:nvPr/>
        </p:nvPicPr>
        <p:blipFill>
          <a:blip r:embed="rId1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6" descr="trojan%20horse"/>
          <p:cNvPicPr/>
          <p:nvPr/>
        </p:nvPicPr>
        <p:blipFill>
          <a:blip r:embed="rId1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Picture 3" descr="2001"/>
          <p:cNvPicPr/>
          <p:nvPr/>
        </p:nvPicPr>
        <p:blipFill>
          <a:blip r:embed="rId1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RomaK</cp:lastModifiedBy>
  <dcterms:modified xsi:type="dcterms:W3CDTF">2015-09-02T09:26:15Z</dcterms:modified>
  <cp:revision>24</cp:revision>
  <dc:subject/>
  <dc:title>Greek Mythology, Monsters and Exotic Worlds, Part I </dc:title>
</cp:coreProperties>
</file>