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stars10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2001them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FD39-339C-409E-9851-00A9000190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eek Mythology, Monsters and Exotic Worlds, Part I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ythology, Monsters and Exotic Worlds, Part I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BRICK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ie is fraught with analogies to classical stories and the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watching the movie, see if you agree or disagre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our parall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“The Dawn of Man” – the first scene in the mov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keys meet the monolith, and humanity is chan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ver – is it for good or i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olith as Pandora’s Box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) The moon monolith scene takes place at the moon cra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. Kubrick evidently scoured the list of moon crater nam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 is a real crater name - and chose Tycho, the name tha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st nearly resembled Troy. Both names are short, both beg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ith T, and both contain the additional letters o and 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 symbolizes Tro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The Monolith as a futuristic Trojan Ho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ene on the moon when Dr. Floyd visits the Monol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m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onard Wheat has drawn the following analogies to t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ene and the Hor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 moon monolith scene takes place at the moon cr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. Kubrick evidently scoured the list of moon crater na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 is a real crater name - and chose Tycho, the name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early resembled Troy. Both names are short, both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, and both contain the additional letters o and 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 symbolizes Tro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. The moon monolith is inside the walls of a pit. The pit's walls a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walls of Tro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. The astronauts in the pit, symbolizing the Trojans, curious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spect the object that stands within the wall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. Something comes out of the monolith - a powerful signa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amed at Jupi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. The symbolized Trojans reel in pain. The surface story has n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ed for them to reel in pain, no need for the signal to be painfu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 even audible. Kubrick had the astronauts fall back in pai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cause he wanted to symbolize the pain of the dying Trojan warrio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he moon monolith is inside the walls of a pit. The pit's wall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Tro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The astronauts in the pit, symbolizing the Trojans, curious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pect the object that stands within the wa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omething comes out of the monolith - a powerful sig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ed at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The symbolized Trojans reel in pain. The surface story has 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hem to reel in pain, no need for the signal to be painfu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even audible. Kubrick had the astronauts fall back in p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he wanted to symbolize the pain of the dying Trojan warri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ve’s last name is Bowman  Odysseus was the origin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) When HAL locks Dave out of the Discovery, the mytho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dventures/misadventures of Dave are to read as thos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e’s last name is Bowman  Odysseus was the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w-ma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When HAL locks Dave out of the Discovery, the mytho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cal roles are reveresed from the Polyphemus st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relies on brute strength while the mon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s on geni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When Dave enters the Monolith, he forgets himself and 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sion; the Monolith serving as a the lotus-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vie is about creation by design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uters and their part in them - computers tha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misfunction and cause destruction - or wa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t all part of the plan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The Prometheus myth and the Creation of 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olith brings man a gift, a gift that soon proves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his control (as does Prometh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 are created perfectly in a Golden Age, then quick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generate into the Iron Age (HAL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ie is about creation by design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s and their part in them - computers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misfunction and cause destruction - or w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ll part of the pl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Different Analogi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  the movie came out in 1968, and people STILL don’t kno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watch 2010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act, see how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Different Ana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watch, keep these in mind, but also see what your mind t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  the movie came out in 1968, and people STILL don’t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me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watch 201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ear We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, see 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hey puzz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one lin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e Bowm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’t have an Odyssey without an Ilia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’t have an Odyssey without an Ili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liad is the story of the Trojan War – a long, bloody confli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ing ten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roy finally f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rojan Hor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jan H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gets all the credit for the Trojan Horse, which fin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the Greeks to capture Troy, thus setting off the e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 of myths surrounding the return (or dispersal)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es of the war (eg. Menelaus, Diomedes, Aen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gil’s famous l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dquid id est, timeo Danaos et dona fer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rse appears as a gift to the Trojans, but a gift fraugh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gers (keep this theme in mind when we get to Kubri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Odyssey in 1500 Words Or L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dyssey in 1500 Words Or 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Odysseus visits the Lotus-Eaters.  Where were they going ag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ero visits the land of Polyphemus.  In a fit of pique, 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s to tell the Cyclopes his real name, thereby bri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the wrath of Poseidon upon him and hi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olus, king of the winds, gives Odysseus enough wind to ge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he’s going.  His companions open the bag at the wr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and get blown off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visits the Laistrygones, thereby making his men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mean, they REALLY becam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Hero Soldiers 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moly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ero Soldier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ends up on Circe’s island.  With a little help from mo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ves his men from a life of sw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The Sirens’ So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 version of “between a rock and a hard place” – Scy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haryd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’s men slaughter the Sun’s cattle.  Zeus then procee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nk their boat when they leave the har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ust One More Adventure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tory ends.  What happened th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One More Adventu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etting blown back to Charydis, Odysseus paddles about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ne days, winding up with Calyps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van Sickle sums this adventure up thus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re he gets carried for another nine days to another islan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nymph Calypso receives him in her vine-girt cave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. For seven years, then, he remained there, required to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 to the goddess by night, but sitting by day on the sho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ng for his distant ho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finally gets home, bloodily reclaims his palace, and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y ends.  What happened th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n odysse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odyss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YTHEME in our odyssey plot involves getting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etting started, then getting through or over any hurdles, obstacl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ls, or getting out of baited traps along the way), the seco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THEME involves getting what you went to get once you get the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the third MYTHEME involves getting away with it in spit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uards; and the fourth MYTHEME involves getting back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me from, again, as on the way out, getting past dangers,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harder now because the prize you're bringing back m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ore likely to get ripped off.” (van Sick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such a story, we can notice, the traveler keeps coming up agains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unexpected; in other words, dangers and distractions keep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taking one. Now "over" plus "take" add up to what in t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nguages derived from Latin gets called SURPRISE; while comi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pon or up against gets called ADVENTURE. So the odyssey we ha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en defining turns out to be a classic plot of adventure and surprise.”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ch a story, we can notice, the traveler keeps coming up again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expected; in other words, dangers and distractions kee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taking one. Now "over" plus "take" add up to what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s derived from Latin gets called SURPRISE; while com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or up against gets called ADVENTURE. So the odyssey w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n defining turns out to be a classic plot of adventure and surpris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can turn our attentions to Kubrick’s freaky future mindtri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2001: A Space Odyss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01: A Space Odys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29E-9C8D-4CE3-A24D-1E72D66E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6D1-7423-4D15-B256-453AA2BC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797A-910B-4146-84DF-88F60E42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F7A8-EA68-4D96-930D-FD076939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BFCF-454C-493B-BB1C-2F655034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A5DD-2B6D-488C-942E-643DD197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B73A-148C-496E-A9ED-C87ECE04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F747-CFE5-4D8A-A341-2965E0DF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D5A4-627E-40E4-97D9-A8DE10B9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4ECB-A171-47AB-AB57-AA864CA6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C8A6-7DFA-41F9-A87D-AAA8617B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67D-AF2B-4994-B54E-89ED01B0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7728-C105-4325-84CB-20E582B4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B16B-87AF-4818-905C-41FB7E00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0CD5-A644-45E0-8B25-A9CCE3F8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E616-9D30-4F80-9238-289CF491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3F0E-1C3E-46B0-8B2E-63B1E90F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7DAA-E85B-492C-B16E-226033F8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406-8F82-46E7-B62C-6B2077B3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9653-59F6-4F75-9190-0DC2966B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FC2-D812-43E5-AA3E-471A621C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D55-B007-4D48-B1D7-B291DAC6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EE46-AD68-400D-AD54-C36A8FD6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C8A-471B-46EE-B10F-C72FEB71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DFC9-4DBD-408F-9514-23695FE16A5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B88E-413B-4F89-9C30-060112CBA4A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stars10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2001them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-15840"/>
            <a:ext cx="863748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d9f3"/>
                </a:solidFill>
                <a:uFillTx/>
                <a:latin typeface="Arial"/>
              </a:rPr>
              <a:t>Greek Mythology, Monsters and Exotic Worlds, Part I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6" name="Picture 1027" descr="homer"/>
          <p:cNvPicPr/>
          <p:nvPr/>
        </p:nvPicPr>
        <p:blipFill>
          <a:blip r:embed="rId1"/>
          <a:stretch/>
        </p:blipFill>
        <p:spPr>
          <a:xfrm>
            <a:off x="3200400" y="1981080"/>
            <a:ext cx="2970360" cy="3589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28"/>
          <p:cNvSpPr/>
          <p:nvPr/>
        </p:nvSpPr>
        <p:spPr>
          <a:xfrm>
            <a:off x="149400" y="2057400"/>
            <a:ext cx="280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03480" y="197496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89440" y="2874960"/>
            <a:ext cx="85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-145440" y="4232160"/>
            <a:ext cx="76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442160" y="4789440"/>
            <a:ext cx="74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63760" y="583236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54880" y="221760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303200" y="2689200"/>
            <a:ext cx="73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343520" y="3575160"/>
            <a:ext cx="72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67520" y="4603680"/>
            <a:ext cx="897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) The moon monolith scene takes place at the moon cra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. Kubrick evidently scoured the list of moon crater nam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is a real crater name - and chose Tycho, the name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st nearly resembled Troy. Both names are short, both beg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th T, and both contain the additional letters o and y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symbolizes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88160" y="2103480"/>
            <a:ext cx="84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moon monolith is inside the walls of a pit. The pit's walls 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walls of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69080" y="2989440"/>
            <a:ext cx="790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astronauts in the pit, symbolizing the Trojans, curious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spect the object that stands within the wall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85280" y="3889440"/>
            <a:ext cx="75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mething comes out of the monolith - a powerful sign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amed at Jupi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5400" y="4818240"/>
            <a:ext cx="885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ymbolized Trojans reel in pain. The surface story has n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eed for them to reel in pain, no need for the signal to be painfu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 even audible. Kubrick had the astronauts fall back in pai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cause he wanted to symbolize the pain of the dying Trojan warrior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71240" y="2046240"/>
            <a:ext cx="82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244880" y="2903400"/>
            <a:ext cx="78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’s last name is Bowman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Odysseus was the origi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270440" y="3903840"/>
            <a:ext cx="777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) When HAL locks Dave out of th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Discover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the myth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299600" y="5703840"/>
            <a:ext cx="77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16880" y="1989000"/>
            <a:ext cx="63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453680" y="2631960"/>
            <a:ext cx="76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457280" y="361800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433160" y="4745160"/>
            <a:ext cx="750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e movie is about creation by design –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omputers and their part in them - computers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n misfunction and cause destruction - or w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at all part of the plan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Different Analog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71680" y="2075040"/>
            <a:ext cx="84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the movie came out in 1968, and peopl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STILL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on’t kn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halseye"/>
          <p:cNvPicPr/>
          <p:nvPr/>
        </p:nvPicPr>
        <p:blipFill>
          <a:blip r:embed="rId1"/>
          <a:stretch/>
        </p:blipFill>
        <p:spPr>
          <a:xfrm>
            <a:off x="3198960" y="3084480"/>
            <a:ext cx="3174840" cy="3175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64880" y="3689280"/>
            <a:ext cx="301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watch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201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tac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see how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815160" y="3274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s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ou can’t have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without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Ilia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335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30920" y="217476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38840" y="327672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6" descr="trojan%20horse"/>
          <p:cNvPicPr/>
          <p:nvPr/>
        </p:nvPicPr>
        <p:blipFill>
          <a:blip r:embed="rId1"/>
          <a:stretch/>
        </p:blipFill>
        <p:spPr>
          <a:xfrm>
            <a:off x="4191120" y="2971800"/>
            <a:ext cx="26049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Trojan Ho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09040" y="225108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17680" y="426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37400" y="396252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10840" y="5146560"/>
            <a:ext cx="82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in 1500 Words Or Les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57480" y="2022480"/>
            <a:ext cx="84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-26640" y="2708280"/>
            <a:ext cx="92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3400" y="4232160"/>
            <a:ext cx="96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33440" y="5908680"/>
            <a:ext cx="855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r Hero Soldiers 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32720" y="2251080"/>
            <a:ext cx="86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mol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41720" y="354636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10120" y="45370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10480" y="5756400"/>
            <a:ext cx="85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ust One More Adventure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59640" y="20988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7800" y="3048120"/>
            <a:ext cx="844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55680" y="590868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tory ends.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What happened the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63600" y="202248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an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8200" y="2784600"/>
            <a:ext cx="879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83960" y="2057400"/>
            <a:ext cx="881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such a story, we can notice, the traveler keeps coming up agains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unexpected; in other words, dangers and distractions keep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vertaking one. Now "over" plus "take" add up to what in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nguages derived from Latin gets called SURPRISE; while com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pon or up against gets called ADVENTURE. So the odyssey we ha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en defining turns out to be a classic plot of adventure and surprise.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13200" y="4803840"/>
            <a:ext cx="850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Odysse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9" name="Picture 3" descr="2001"/>
          <p:cNvPicPr/>
          <p:nvPr/>
        </p:nvPicPr>
        <p:blipFill>
          <a:blip r:embed="rId1"/>
          <a:stretch/>
        </p:blipFill>
        <p:spPr>
          <a:xfrm>
            <a:off x="1008000" y="1649520"/>
            <a:ext cx="73947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2001the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05:32:03Z</dcterms:created>
  <dc:creator>Classics TAs</dc:creator>
  <dc:description/>
  <dc:language>en-US</dc:language>
  <cp:lastModifiedBy>RomaK</cp:lastModifiedBy>
  <dcterms:modified xsi:type="dcterms:W3CDTF">2015-09-02T09:26:15Z</dcterms:modified>
  <cp:revision>24</cp:revision>
  <dc:subject/>
  <dc:title>Greek Mythology, Monsters and Exotic Worlds, Part I </dc:title>
</cp:coreProperties>
</file>