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CBF6-90DC-4C77-8792-E829DD245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S A CLASSIC GREEK HERO  </a:t>
            </a:r>
            <a:br>
              <a:rPr sz="1200"/>
            </a:br>
            <a:r>
              <a:rPr b="0" lang="en-US" sz="1200" spc="-1" strike="noStrike">
                <a:solidFill>
                  <a:srgbClr val="2f1311"/>
                </a:solidFill>
                <a:latin typeface="Arial"/>
              </a:rPr>
              <a:t>by Petunia Hinkledopper</a:t>
            </a:r>
            <a:br>
              <a:rPr sz="1200"/>
            </a:b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S A CLASSIC GREEK HERO  </a:t>
            </a:r>
            <a:br>
              <a:rPr sz="1200"/>
            </a:br>
            <a:r>
              <a:rPr b="0" lang="en-US" sz="1200" spc="-1" strike="noStrike">
                <a:solidFill>
                  <a:srgbClr val="000000"/>
                </a:solidFill>
                <a:latin typeface="Arial"/>
              </a:rPr>
              <a:t>by Petunia Hinkledopp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unlike heroes such as Beowulf who search out the dragon and the dange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ike heroes such as Beowulf who search out the dragon and the d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has a voracious appetite and a mortal’s weakness for comfor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has a voracious appetite and a mortal’s weakness for com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review…</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possesses a cunning wit, and he uses it more than he uses his aging 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brave, but he prefers to defeat his enemies with clever deception rather than meet them head-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on a journey home, and he must pass many trials to reach the safety of hi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must take the hero’s journey into the underworld and return, emerging as a new, wiser and more mature ma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has weaknesses, but he manages to overcome them to complete his journey and reclaim his home and fami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nteracts with the gods and receives both their favors and their curs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ultimately a heroic figure, a literary icon and an adventurer’s ido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En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possesses a cunning wit, and he uses it more than he uses his aging 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brave, but he prefers to defeat his enemies with clever deception rather than meet them hea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on a journey home, and he must pass many trials to reach the safety of hi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ust take the hero’s journey into the underworld and return, emerging as a new, wiser and more matur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weaknesses, but he manages to overcome them to complete his journey and reclaim his home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nteracts with the gods and receives both their favors and their c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ultimately a heroic figure, a literary icon and an adventurer’s id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ORKS CITE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sparknotes.com/lit/odyssey/themes.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mer. The Odyssey.  Translated by Robert Fagles. New York:  Penguin Books,199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parknotes.com/lit/odyssey/them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r. The Odyssey.  Translated by Robert Fagles. New York:  Penguin Books,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makes Odysseus a classic Greek hero?  How can Homer’s The Odyssey  be characterized as the story of an epic hero?</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start with the brains of the oper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Odysseus is intelligent, but his intelligence is of the cunning, sly type….not the book-smart type.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Odysseus a classic Greek hero?  How can Homer’s The Odyssey  be characterized as the story of an epic 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he brains of th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ysseus is intelligent, but his intelligence is of the cunning, sly type….not the book-smart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 wanderer who seeks to return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 wanderer who seeks to retur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mocks reliance on strength alone.  Strength without cunning is what dooms the suitors to Odysseus’s decep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cuts his losses to Charybdis and Scylla through careful navig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ble to use the strength of his mind to enjoy the siren’s song without falling prey to their seductive danger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mocks reliance on strength alone.  Strength without cunning is what dooms the suitors to Odysseus’s de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cuts his losses to Charybdis and Scylla through careful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ble to use the strength of his mind to enjoy the siren’s song without falling prey to their seductive dan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ortunate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f course, the gods are not always pleased.  Poseidon makes Odysseus’s journey a true test of his wit and valo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gods are not always pleased.  Poseidon makes Odysseus’s journey a true test of his wit and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els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 few notes on his atypical statu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notes on his atypical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713B5-A841-4250-A2AE-A05F845B1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52A03-1D92-46DC-ADC4-1F3FBDF2A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7DDA0-4EEE-45BB-B5DB-084B9D691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02305-FA51-492F-88C2-523E484F8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95515-0BCB-44CD-A249-A9ED2CD86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9F439-8BA5-4E48-ADAD-C968D838A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438E9-5D30-4A2B-B250-6720B0439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9DB7B-C637-422E-B598-DE45BA006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414B2-6A35-4DF6-AC5B-5ABD1F30E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BEEC4-40F7-48F3-8AC3-C55C27782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4CDA7-488A-46F5-B1E9-88F3F2952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52143-BC68-4E63-9F05-49854CF77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0539E-ECA0-4B29-9E9D-0075A5799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49CF8-2C6D-4CBA-9F42-902067D23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52264-D03F-4947-B1B6-E5769FAD7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77CBB-AD2A-4A6B-9284-1660283F9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0D612-6072-4796-8461-1B5A68225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18E67-69F8-46AE-8695-209D7675F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CA868-C88C-4193-87CD-09EFFA318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ABF93-1344-449D-BF4B-01A2802AC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157ED-10C6-4CD5-B733-5A15232E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47880-4E92-4828-9F29-4D1C6C63E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05C0B-EAF1-489F-A551-909347518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323EB-262A-4F1D-A4C9-E53703248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2F5B-A8B1-4E26-9292-FE7681F509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E4F7-53F5-400F-B974-1D6EA94F2827}"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200"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201" name="Picture 22" descr="j0302953"/>
          <p:cNvPicPr/>
          <p:nvPr/>
        </p:nvPicPr>
        <p:blipFill>
          <a:blip r:embed="rId2"/>
          <a:stretch/>
        </p:blipFill>
        <p:spPr>
          <a:xfrm>
            <a:off x="4665600" y="2028960"/>
            <a:ext cx="2343240" cy="3635280"/>
          </a:xfrm>
          <a:prstGeom prst="rect">
            <a:avLst/>
          </a:prstGeom>
          <a:ln w="0">
            <a:noFill/>
          </a:ln>
        </p:spPr>
      </p:pic>
      <p:sp>
        <p:nvSpPr>
          <p:cNvPr id="202"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3"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45"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46"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5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52"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205"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206"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7"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2" descr="BD05103_[1]"/>
          <p:cNvPicPr/>
          <p:nvPr/>
        </p:nvPicPr>
        <p:blipFill>
          <a:blip r:embed="rId1"/>
          <a:stretch/>
        </p:blipFill>
        <p:spPr>
          <a:xfrm>
            <a:off x="263520" y="3429000"/>
            <a:ext cx="2708280" cy="1847880"/>
          </a:xfrm>
          <a:prstGeom prst="rect">
            <a:avLst/>
          </a:prstGeom>
          <a:ln w="0">
            <a:noFill/>
          </a:ln>
        </p:spPr>
      </p:pic>
      <p:sp>
        <p:nvSpPr>
          <p:cNvPr id="209"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1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12" name="Picture 10" descr="map_greece"/>
          <p:cNvPicPr/>
          <p:nvPr/>
        </p:nvPicPr>
        <p:blipFill>
          <a:blip r:embed="rId2"/>
          <a:stretch/>
        </p:blipFill>
        <p:spPr>
          <a:xfrm>
            <a:off x="4025880" y="2239920"/>
            <a:ext cx="3624120" cy="3214800"/>
          </a:xfrm>
          <a:prstGeom prst="rect">
            <a:avLst/>
          </a:prstGeom>
          <a:ln w="0">
            <a:noFill/>
          </a:ln>
        </p:spPr>
      </p:pic>
      <p:sp>
        <p:nvSpPr>
          <p:cNvPr id="213"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15" name="Picture 10" descr="j0205520"/>
          <p:cNvPicPr/>
          <p:nvPr/>
        </p:nvPicPr>
        <p:blipFill>
          <a:blip r:embed="rId1"/>
          <a:stretch/>
        </p:blipFill>
        <p:spPr>
          <a:xfrm>
            <a:off x="5410080" y="3352680"/>
            <a:ext cx="1900440" cy="2057400"/>
          </a:xfrm>
          <a:prstGeom prst="rect">
            <a:avLst/>
          </a:prstGeom>
          <a:ln w="0">
            <a:noFill/>
          </a:ln>
        </p:spPr>
      </p:pic>
      <p:sp>
        <p:nvSpPr>
          <p:cNvPr id="216"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7"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20" name="Picture 10" descr="j0219117"/>
          <p:cNvPicPr/>
          <p:nvPr/>
        </p:nvPicPr>
        <p:blipFill>
          <a:blip r:embed="rId2"/>
          <a:stretch/>
        </p:blipFill>
        <p:spPr>
          <a:xfrm>
            <a:off x="5187960" y="5105520"/>
            <a:ext cx="1305000" cy="1066680"/>
          </a:xfrm>
          <a:prstGeom prst="rect">
            <a:avLst/>
          </a:prstGeom>
          <a:ln w="0">
            <a:noFill/>
          </a:ln>
        </p:spPr>
      </p:pic>
      <p:pic>
        <p:nvPicPr>
          <p:cNvPr id="221" name="Picture 11" descr="j0239783"/>
          <p:cNvPicPr/>
          <p:nvPr/>
        </p:nvPicPr>
        <p:blipFill>
          <a:blip r:embed="rId3"/>
          <a:stretch/>
        </p:blipFill>
        <p:spPr>
          <a:xfrm>
            <a:off x="5486400" y="380880"/>
            <a:ext cx="1812960" cy="1724040"/>
          </a:xfrm>
          <a:prstGeom prst="rect">
            <a:avLst/>
          </a:prstGeom>
          <a:ln w="0">
            <a:noFill/>
          </a:ln>
        </p:spPr>
      </p:pic>
      <p:pic>
        <p:nvPicPr>
          <p:cNvPr id="222" name="Picture 12" descr="j0213516"/>
          <p:cNvPicPr/>
          <p:nvPr/>
        </p:nvPicPr>
        <p:blipFill>
          <a:blip r:embed="rId4"/>
          <a:stretch/>
        </p:blipFill>
        <p:spPr>
          <a:xfrm>
            <a:off x="5715000" y="2971800"/>
            <a:ext cx="866880" cy="1143000"/>
          </a:xfrm>
          <a:prstGeom prst="rect">
            <a:avLst/>
          </a:prstGeom>
          <a:ln w="0">
            <a:noFill/>
          </a:ln>
        </p:spPr>
      </p:pic>
      <p:sp>
        <p:nvSpPr>
          <p:cNvPr id="223"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25" name="Picture 6" descr="grkship7"/>
          <p:cNvPicPr/>
          <p:nvPr/>
        </p:nvPicPr>
        <p:blipFill>
          <a:blip r:embed="rId1"/>
          <a:stretch/>
        </p:blipFill>
        <p:spPr>
          <a:xfrm>
            <a:off x="2743200" y="3276720"/>
            <a:ext cx="3049560" cy="2631960"/>
          </a:xfrm>
          <a:prstGeom prst="rect">
            <a:avLst/>
          </a:prstGeom>
          <a:ln w="0">
            <a:noFill/>
          </a:ln>
        </p:spPr>
      </p:pic>
      <p:sp>
        <p:nvSpPr>
          <p:cNvPr id="226"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7"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8"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9"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0"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32"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33" name="Picture 4" descr="j0116198[1]"/>
          <p:cNvPicPr/>
          <p:nvPr/>
        </p:nvPicPr>
        <p:blipFill>
          <a:blip r:embed="rId3"/>
          <a:stretch/>
        </p:blipFill>
        <p:spPr>
          <a:xfrm>
            <a:off x="4800600" y="2819520"/>
            <a:ext cx="2133720" cy="2584440"/>
          </a:xfrm>
          <a:prstGeom prst="rect">
            <a:avLst/>
          </a:prstGeom>
          <a:ln w="0">
            <a:noFill/>
          </a:ln>
        </p:spPr>
      </p:pic>
      <p:sp>
        <p:nvSpPr>
          <p:cNvPr id="234"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36"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7" name="Picture 11" descr="grkship8"/>
          <p:cNvPicPr/>
          <p:nvPr/>
        </p:nvPicPr>
        <p:blipFill>
          <a:blip r:embed="rId2"/>
          <a:stretch/>
        </p:blipFill>
        <p:spPr>
          <a:xfrm>
            <a:off x="1447920" y="2133720"/>
            <a:ext cx="2124000" cy="3181320"/>
          </a:xfrm>
          <a:prstGeom prst="rect">
            <a:avLst/>
          </a:prstGeom>
          <a:ln w="0">
            <a:noFill/>
          </a:ln>
        </p:spPr>
      </p:pic>
      <p:sp>
        <p:nvSpPr>
          <p:cNvPr id="238"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9"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4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42" name="Picture 7" descr="grkshp20"/>
          <p:cNvPicPr/>
          <p:nvPr/>
        </p:nvPicPr>
        <p:blipFill>
          <a:blip r:embed="rId2"/>
          <a:stretch/>
        </p:blipFill>
        <p:spPr>
          <a:xfrm>
            <a:off x="4025880" y="2341440"/>
            <a:ext cx="3624120" cy="3009960"/>
          </a:xfrm>
          <a:prstGeom prst="rect">
            <a:avLst/>
          </a:prstGeom>
          <a:ln w="0">
            <a:noFill/>
          </a:ln>
        </p:spPr>
      </p:pic>
      <p:sp>
        <p:nvSpPr>
          <p:cNvPr id="243"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RomaK</cp:lastModifiedBy>
  <dcterms:modified xsi:type="dcterms:W3CDTF">2015-09-02T09:27:12Z</dcterms:modified>
  <cp:revision>20</cp:revision>
  <dc:subject/>
  <dc:title>ODYSSEUS AS A HERO   by Petunia Hinklemeier  </dc:title>
</cp:coreProperties>
</file>