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wmf" ContentType="image/x-wmf"/>
  <Override PartName="/ppt/media/image3.png" ContentType="image/png"/>
  <Override PartName="/ppt/media/image17.png" ContentType="image/png"/>
  <Override PartName="/ppt/media/image16.png" ContentType="image/png"/>
  <Override PartName="/ppt/media/image14.wmf" ContentType="image/x-wmf"/>
  <Override PartName="/ppt/media/image9.wmf" ContentType="image/x-wmf"/>
  <Override PartName="/ppt/media/image1.wmf" ContentType="image/x-wmf"/>
  <Override PartName="/ppt/media/image2.png" ContentType="image/png"/>
  <Override PartName="/ppt/media/image4.png" ContentType="image/png"/>
  <Override PartName="/ppt/media/image5.png" ContentType="image/png"/>
  <Override PartName="/ppt/media/image6.jpeg" ContentType="image/jpeg"/>
  <Override PartName="/ppt/media/image7.wmf" ContentType="image/x-wmf"/>
  <Override PartName="/ppt/media/image8.png" ContentType="image/png"/>
  <Override PartName="/ppt/media/image13.png" ContentType="image/png"/>
  <Override PartName="/ppt/media/image1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2f1311"/>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move the slide</a:t>
            </a:r>
            <a:endParaRPr b="0" lang="en-US" sz="4000" spc="-1" strike="noStrike">
              <a:solidFill>
                <a:srgbClr val="f7d47d"/>
              </a:solidFill>
              <a:latin typeface="Arial"/>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C4046-55A7-4275-8209-DE1E8DD7F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AS A CLASSIC GREEK HERO  </a:t>
            </a:r>
            <a:br>
              <a:rPr sz="1200"/>
            </a:br>
            <a:r>
              <a:rPr b="0" lang="en-US" sz="1200" spc="-1" strike="noStrike">
                <a:solidFill>
                  <a:srgbClr val="2f1311"/>
                </a:solidFill>
                <a:latin typeface="Arial"/>
              </a:rPr>
              <a:t>by Petunia Hinkledopper</a:t>
            </a:r>
            <a:br>
              <a:rPr sz="1200"/>
            </a:b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t>
            </a:r>
            <a:r>
              <a:rPr b="0" lang="en-US" sz="1200" spc="-1" strike="noStrike">
                <a:solidFill>
                  <a:srgbClr val="2f1311"/>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AS A CLASSIC GREEK HERO  </a:t>
            </a:r>
            <a:br>
              <a:rPr sz="1200"/>
            </a:br>
            <a:r>
              <a:rPr b="0" lang="en-US" sz="1200" spc="-1" strike="noStrike">
                <a:solidFill>
                  <a:srgbClr val="000000"/>
                </a:solidFill>
                <a:latin typeface="Arial"/>
              </a:rPr>
              <a:t>by Petunia Hinkledopp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t>
            </a:r>
            <a:r>
              <a:rPr b="0" lang="en-US" sz="1200" spc="-1" strike="noStrike">
                <a:solidFill>
                  <a:srgbClr val="2f1311"/>
                </a:solidFill>
                <a:latin typeface="Arial"/>
              </a:rPr>
              <a:t>.unlike heroes such as Beowulf who search out the dragon and the danger….</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nlike heroes such as Beowulf who search out the dragon and the d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s with many tragic heroes, Odysseus has faults that lead to disaster.  Unlike tragic heroes, Odysseus is able to use his conniving to escape the ultimate price others have to pay for his mistake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many tragic heroes, Odysseus has faults that lead to disaster.  Unlike tragic heroes, Odysseus is able to use his conniving to escape the ultimate price others have to pay for his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has a voracious appetite and a mortal’s weakness for comfort.</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en Odysseus and his men slaughter the Sun’s flocks, and when they eat the fruit of the lotus and forget about their homes, Odysseus as the leader is responsible for the fall into tempta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has a voracious appetite and a mortal’s weakness for com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Odysseus and his men slaughter the Sun’s flocks, and when they eat the fruit of the lotus and forget about their homes, Odysseus as the leader is responsible for the fall into temp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Let’s review…</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possesses a cunning wit, and he uses it more than he uses his aging physical strength.</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s brave, but he prefers to defeat his enemies with clever deception rather than meet them head-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s on a journey home, and he must pass many trials to reach the safety of his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must take the hero’s journey into the underworld and return, emerging as a new, wiser and more mature ma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has weaknesses, but he manages to overcome them to complete his journey and reclaim his home and family.</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nteracts with the gods and receives both their favors and their curse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s ultimately a heroic figure, a literary icon and an adventurer’s ido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The End</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possesses a cunning wit, and he uses it more than he uses his aging physic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brave, but he prefers to defeat his enemies with clever deception rather than meet them hea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on a journey home, and he must pass many trials to reach the safety of his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must take the hero’s journey into the underworld and return, emerging as a new, wiser and more mature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weaknesses, but he manages to overcome them to complete his journey and reclaim his home and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nteracts with the gods and receives both their favors and their cu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ultimately a heroic figure, a literary icon and an adventurer’s id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ORKS CITED</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ttp://www.sparknotes.com/lit/odyssey/themes.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omer. The Odyssey.  Translated by Robert Fagles. New York:  Penguin Books,1996</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parknotes.com/lit/odyssey/them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r. The Odyssey.  Translated by Robert Fagles. New York:  Penguin Books,19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at makes Odysseus a classic Greek hero?  How can Homer’s The Odyssey  be characterized as the story of an epic hero?</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Let’s start with the brains of the opera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Odysseus is intelligent, but his intelligence is of the cunning, sly type….not the book-smart type.  </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He is, after all, a man of “twists and turns…”  The Greek term for this versatility is “polytropos,” or “turning in many directions.” Odysseus is a man of deceptions and disguises. </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Odysseus a classic Greek hero?  How can Homer’s The Odyssey  be characterized as the story of an epic h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with the brains of the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dysseus is intelligent, but his intelligence is of the cunning, sly type….not the book-smart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is, after all, a man of “twists and turns…”  The Greek term for this versatility is “polytropos,” or “turning in many directions.” Odysseus is a man of deceptions and disgui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 wanderer who seeks to return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 wanderer who seeks to return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mocks reliance on strength alone.  Strength without cunning is what dooms the suitors to Odysseus’s decep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cuts his losses to Charybdis and Scylla through careful naviga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lso able to use the strength of his mind to enjoy the siren’s song without falling prey to their seductive dangers. </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Even Odysseus’s encounter with Achilles in the Underworld is a reminder of how brutish glory brings a short, violent life.  Odysseus’s glory,  or kleos, is won by his wits and will yield him a long, peaceful lif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mocks reliance on strength alone.  Strength without cunning is what dooms the suitors to Odysseus’s dece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cuts his losses to Charybdis and Scylla through careful nav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lso able to use the strength of his mind to enjoy the siren’s song without falling prey to their seductive dang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Odysseus’s encounter with Achilles in the Underworld is a reminder of how brutish glory brings a short, violent life.  Odysseus’s glory,  or kleos, is won by his wits and will yield him a long, peaceful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Physical Strength</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In order to use his cunning and his strength, Odysseus must be willing to face danger with courage.  He does not shrink away from his leadership role in times of great peri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om 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use his cunning and his strength, Odysseus must be willing to face danger with courage.  He does not shrink away from his leadership role in times of great per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ortunately……</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f course, the gods are not always pleased.  Poseidon makes Odysseus’s journey a true test of his wit and valor.</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the gods are not always pleased.  Poseidon makes Odysseus’s journey a true test of his wit and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at els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om 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 few notes on his atypical statu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Yes, like most classic heroes, Odysseus must prove himself again and again and again, and the perceptions others have of him are of vital importance to his heroic stature, but………..</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om  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notes on his atypical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like most classic heroes, Odysseus must prove himself again and again and again, and the perceptions others have of him are of vital importance to his heroic statur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297DD-0D3E-4E28-B49E-DE56D8E23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E0979-CBF2-4DF0-A166-168F1840B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072E1-CC0C-4A8F-9C88-D7E719E3E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596C2-7FA0-49E2-B725-32B26BBAF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3174EA-1E61-42A1-8268-E4269C07F5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B81F5-F36A-4482-88BF-E939B5A32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2BF9F-6815-41B1-8E87-10677FBD8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E76A9-A9C6-40DB-980F-66B06F568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B3B41-5330-4EE5-B2BD-16948F003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87336-2357-460C-A0E2-9AE65C3B7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C4F1F-05DE-40FC-B0F4-EA7446588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C7EDC-1B0D-4917-8AF7-8D7FEFDFE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6DF2E-F4DE-4D38-94F1-8D2B102C5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10CBD-53E0-4AB9-8507-CB2AC5F5E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2072E-CEB8-4DFB-92EC-D359434B4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BD3DC4-44DB-4C41-A0B3-F8B001F3AE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591CBD-9931-41A0-9B44-AFC4184C56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47C05-359E-40DE-850A-90A2FAFEF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AC85D-CD8B-4EF2-8B52-D258B9D12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09D5C-A25B-4C82-A5AE-49B23F6D3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3D9AC-68B5-478E-8AF6-551625C30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5BDED-5270-4B1D-BCBD-FE42180C8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B7C61-570D-40CF-B5FA-9033BEE88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2115A-FE87-4C1A-B559-0BA3708C4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800" spc="-1" strike="noStrike">
                      <a:solidFill>
                        <a:srgbClr val="2f1311"/>
                      </a:solidFill>
                      <a:latin typeface="Arial"/>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800" spc="-1" strike="noStrike">
                      <a:solidFill>
                        <a:srgbClr val="2f1311"/>
                      </a:solidFill>
                      <a:latin typeface="Arial"/>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800" spc="-1" strike="noStrike">
                      <a:solidFill>
                        <a:srgbClr val="2f1311"/>
                      </a:solidFill>
                      <a:latin typeface="Arial"/>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800" spc="-1" strike="noStrike">
                      <a:solidFill>
                        <a:srgbClr val="2f1311"/>
                      </a:solidFill>
                      <a:latin typeface="Arial"/>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800" spc="-1" strike="noStrike">
                      <a:solidFill>
                        <a:srgbClr val="2f1311"/>
                      </a:solidFill>
                      <a:latin typeface="Arial"/>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0E66D-8612-47C8-B7E0-E7299A6666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800" spc="-1" strike="noStrike">
                      <a:solidFill>
                        <a:srgbClr val="2f1311"/>
                      </a:solidFill>
                      <a:latin typeface="Arial"/>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800" spc="-1" strike="noStrike">
                      <a:solidFill>
                        <a:srgbClr val="2f1311"/>
                      </a:solidFill>
                      <a:latin typeface="Arial"/>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800" spc="-1" strike="noStrike">
                      <a:solidFill>
                        <a:srgbClr val="2f1311"/>
                      </a:solidFill>
                      <a:latin typeface="Arial"/>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800" spc="-1" strike="noStrike">
                      <a:solidFill>
                        <a:srgbClr val="2f1311"/>
                      </a:solidFill>
                      <a:latin typeface="Arial"/>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800" spc="-1" strike="noStrike">
                      <a:solidFill>
                        <a:srgbClr val="2f1311"/>
                      </a:solidFill>
                      <a:latin typeface="Arial"/>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E5A4A-C9BA-4410-80A8-8B3706209AEA}"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image" Target="../media/image12.gi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762120"/>
            <a:ext cx="7543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AS A CLASSIC GREEK HERO  </a:t>
            </a:r>
            <a:br>
              <a:rPr sz="3600"/>
            </a:br>
            <a:r>
              <a:rPr b="0" lang="en-US" sz="3600" spc="-1" strike="noStrike">
                <a:solidFill>
                  <a:srgbClr val="f7d47d"/>
                </a:solidFill>
                <a:latin typeface="Arial"/>
              </a:rPr>
              <a:t>by Petunia Hinkledopper</a:t>
            </a:r>
            <a:br>
              <a:rPr sz="3600"/>
            </a:br>
            <a:endParaRPr b="0" lang="en-US" sz="3600" spc="-1" strike="noStrike">
              <a:solidFill>
                <a:srgbClr val="f7d47d"/>
              </a:solidFill>
              <a:latin typeface="Arial"/>
            </a:endParaRPr>
          </a:p>
        </p:txBody>
      </p:sp>
      <p:sp>
        <p:nvSpPr>
          <p:cNvPr id="200" name="PlaceHolder 2"/>
          <p:cNvSpPr>
            <a:spLocks noGrp="1"/>
          </p:cNvSpPr>
          <p:nvPr>
            <p:ph/>
          </p:nvPr>
        </p:nvSpPr>
        <p:spPr>
          <a:xfrm>
            <a:off x="263160" y="1828800"/>
            <a:ext cx="3624120" cy="4572000"/>
          </a:xfrm>
          <a:prstGeom prst="rect">
            <a:avLst/>
          </a:prstGeom>
          <a:noFill/>
          <a:ln w="0">
            <a:noFill/>
          </a:ln>
        </p:spPr>
        <p:txBody>
          <a:bodyPr anchor="t">
            <a:normAutofit/>
          </a:bodyPr>
          <a:p>
            <a:pPr marL="343080" indent="-34308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a:t>
            </a:r>
            <a:r>
              <a:rPr b="0" lang="en-US" sz="2200" spc="-1" strike="noStrike">
                <a:solidFill>
                  <a:srgbClr val="2f1311"/>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2200" spc="-1" strike="noStrike">
              <a:solidFill>
                <a:srgbClr val="2f1311"/>
              </a:solidFill>
              <a:latin typeface="Arial"/>
            </a:endParaRPr>
          </a:p>
        </p:txBody>
      </p:sp>
      <p:pic>
        <p:nvPicPr>
          <p:cNvPr id="201" name="Picture 22" descr="j0302953"/>
          <p:cNvPicPr/>
          <p:nvPr/>
        </p:nvPicPr>
        <p:blipFill>
          <a:blip r:embed="rId2"/>
          <a:stretch/>
        </p:blipFill>
        <p:spPr>
          <a:xfrm>
            <a:off x="4665600" y="2028960"/>
            <a:ext cx="2343240" cy="3635280"/>
          </a:xfrm>
          <a:prstGeom prst="rect">
            <a:avLst/>
          </a:prstGeom>
          <a:ln w="0">
            <a:noFill/>
          </a:ln>
        </p:spPr>
      </p:pic>
      <p:sp>
        <p:nvSpPr>
          <p:cNvPr id="202" name="Text Box 25"/>
          <p:cNvSpPr/>
          <p:nvPr/>
        </p:nvSpPr>
        <p:spPr>
          <a:xfrm>
            <a:off x="5715000" y="6095880"/>
            <a:ext cx="11588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03" name="Text Box 26"/>
          <p:cNvSpPr/>
          <p:nvPr/>
        </p:nvSpPr>
        <p:spPr>
          <a:xfrm>
            <a:off x="4800600" y="58672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t>
            </a:r>
            <a:r>
              <a:rPr b="0" lang="en-US" sz="3600" spc="-1" strike="noStrike">
                <a:solidFill>
                  <a:srgbClr val="f7d47d"/>
                </a:solidFill>
                <a:latin typeface="Arial"/>
              </a:rPr>
              <a:t>.unlike heroes such as Beowulf who search out the dragon and the danger….</a:t>
            </a:r>
            <a:endParaRPr b="0" lang="en-US" sz="3600" spc="-1" strike="noStrike">
              <a:solidFill>
                <a:srgbClr val="f7d47d"/>
              </a:solidFill>
              <a:latin typeface="Arial"/>
            </a:endParaRPr>
          </a:p>
        </p:txBody>
      </p:sp>
      <p:sp>
        <p:nvSpPr>
          <p:cNvPr id="245"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2400" spc="-1" strike="noStrike">
              <a:solidFill>
                <a:srgbClr val="2f1311"/>
              </a:solidFill>
              <a:latin typeface="Arial"/>
            </a:endParaRPr>
          </a:p>
        </p:txBody>
      </p:sp>
      <p:pic>
        <p:nvPicPr>
          <p:cNvPr id="246" name="Picture 7" descr="youngbeowulf"/>
          <p:cNvPicPr/>
          <p:nvPr/>
        </p:nvPicPr>
        <p:blipFill>
          <a:blip r:embed="rId2"/>
          <a:stretch/>
        </p:blipFill>
        <p:spPr>
          <a:xfrm>
            <a:off x="4586400" y="1735200"/>
            <a:ext cx="2503440" cy="422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04560" y="1142640"/>
            <a:ext cx="739116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s with many tragic heroes, Odysseus has faults that lead to disaster.  Unlike tragic heroes, Odysseus is able to use his conniving to escape the ultimate price others have to pay for his mistakes.</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has a voracious appetite and a mortal’s weakness for comfort.</a:t>
            </a:r>
            <a:endParaRPr b="0" lang="en-US" sz="3600" spc="-1" strike="noStrike">
              <a:solidFill>
                <a:srgbClr val="f7d47d"/>
              </a:solidFill>
              <a:latin typeface="Arial"/>
            </a:endParaRPr>
          </a:p>
        </p:txBody>
      </p:sp>
      <p:sp>
        <p:nvSpPr>
          <p:cNvPr id="24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When Odysseus and his men slaughter the Sun’s flocks, and when they eat the fruit of the lotus and forget about their homes, Odysseus as the leader is responsible for the fall into temptation.</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et’s review…</a:t>
            </a:r>
            <a:endParaRPr b="0" lang="en-US" sz="4000" spc="-1" strike="noStrike">
              <a:solidFill>
                <a:srgbClr val="f7d47d"/>
              </a:solidFill>
              <a:latin typeface="Arial"/>
            </a:endParaRPr>
          </a:p>
        </p:txBody>
      </p:sp>
      <p:sp>
        <p:nvSpPr>
          <p:cNvPr id="25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possesses a cunning wit, and he uses it more than he uses his aging physical strength.</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brave, but he prefers to defeat his enemies with clever deception rather than meet them head-on.</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on a journey home, and he must pass many trials to reach the safety of his home.</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must take the hero’s journey into the underworld and return, emerging as a new, wiser and more mature man.</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has weaknesses, but he manages to overcome them to complete his journey and reclaim his home and family.</a:t>
            </a:r>
            <a:endParaRPr b="0" lang="en-US" sz="2000" spc="-1" strike="noStrike">
              <a:solidFill>
                <a:srgbClr val="2f1311"/>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nteracts with the gods and receives both their favors and their curses.</a:t>
            </a:r>
            <a:endParaRPr b="0" lang="en-US" sz="2000" spc="-1" strike="noStrike">
              <a:solidFill>
                <a:srgbClr val="2f1311"/>
              </a:solidFill>
              <a:latin typeface="Arial"/>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ultimately a heroic figure, a literary icon and an adventurer’s idol.</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
        <p:nvSpPr>
          <p:cNvPr id="252" name="Text Box 4"/>
          <p:cNvSpPr/>
          <p:nvPr/>
        </p:nvSpPr>
        <p:spPr>
          <a:xfrm>
            <a:off x="3413160" y="5751360"/>
            <a:ext cx="11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he End</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ORKS CITED</a:t>
            </a:r>
            <a:endParaRPr b="0" lang="en-US" sz="4000" spc="-1" strike="noStrike">
              <a:solidFill>
                <a:srgbClr val="f7d47d"/>
              </a:solidFill>
              <a:latin typeface="Arial"/>
            </a:endParaRPr>
          </a:p>
        </p:txBody>
      </p:sp>
      <p:sp>
        <p:nvSpPr>
          <p:cNvPr id="254"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bulfinch.org/fables/ships/grkship1.html</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sparknotes.com/lit/odyssey/themes.html</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omer. </a:t>
            </a:r>
            <a:r>
              <a:rPr b="0" lang="en-US" sz="3200" spc="-1" strike="noStrike" u="sng">
                <a:solidFill>
                  <a:srgbClr val="2f1311"/>
                </a:solidFill>
                <a:uFillTx/>
                <a:latin typeface="Arial"/>
              </a:rPr>
              <a:t>The Odyssey</a:t>
            </a:r>
            <a:r>
              <a:rPr b="0" lang="en-US" sz="3200" spc="-1" strike="noStrike">
                <a:solidFill>
                  <a:srgbClr val="2f1311"/>
                </a:solidFill>
                <a:latin typeface="Arial"/>
              </a:rPr>
              <a:t>.  Translated by Robert Fagles. New York:  Penguin Books,1996</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457200"/>
            <a:ext cx="769608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What makes Odysseus a classic Greek hero?  How can Homer’s </a:t>
            </a:r>
            <a:r>
              <a:rPr b="0" lang="en-US" sz="3600" spc="-1" strike="noStrike" u="sng">
                <a:solidFill>
                  <a:srgbClr val="f7d47d"/>
                </a:solidFill>
                <a:uFillTx/>
                <a:latin typeface="Arial"/>
              </a:rPr>
              <a:t>The Odyssey</a:t>
            </a:r>
            <a:r>
              <a:rPr b="0" lang="en-US" sz="3600" spc="-1" strike="noStrike">
                <a:solidFill>
                  <a:srgbClr val="f7d47d"/>
                </a:solidFill>
                <a:latin typeface="Arial"/>
              </a:rPr>
              <a:t>  be characterized as the story of an epic hero?</a:t>
            </a:r>
            <a:endParaRPr b="0" lang="en-US" sz="3600" spc="-1" strike="noStrike">
              <a:solidFill>
                <a:srgbClr val="f7d47d"/>
              </a:solidFill>
              <a:latin typeface="Arial"/>
            </a:endParaRPr>
          </a:p>
        </p:txBody>
      </p:sp>
      <p:sp>
        <p:nvSpPr>
          <p:cNvPr id="205" name="PlaceHolder 2"/>
          <p:cNvSpPr>
            <a:spLocks noGrp="1"/>
          </p:cNvSpPr>
          <p:nvPr>
            <p:ph/>
          </p:nvPr>
        </p:nvSpPr>
        <p:spPr>
          <a:xfrm>
            <a:off x="3047760" y="3048120"/>
            <a:ext cx="4601880" cy="3504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Let’s start with the brains of the operation!</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Odysseus is intelligent, but his intelligence is of the cunning, sly type….not the book-smart type.  </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He is, after all, a man of “twists and turns…”  The Greek term for this versatility is “polytropos,” or “turning in many directions.” Odysseus is a man of deceptions and disguises. </a:t>
            </a:r>
            <a:endParaRPr b="0" lang="en-US" sz="2000" spc="-1" strike="noStrike">
              <a:solidFill>
                <a:srgbClr val="2f1311"/>
              </a:solidFill>
              <a:latin typeface="Arial"/>
            </a:endParaRPr>
          </a:p>
        </p:txBody>
      </p:sp>
      <p:sp>
        <p:nvSpPr>
          <p:cNvPr id="206" name="Text Box 8"/>
          <p:cNvSpPr/>
          <p:nvPr/>
        </p:nvSpPr>
        <p:spPr>
          <a:xfrm flipV="1">
            <a:off x="1660680" y="6035760"/>
            <a:ext cx="4816440" cy="36648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07" name="Text Box 9"/>
          <p:cNvSpPr/>
          <p:nvPr/>
        </p:nvSpPr>
        <p:spPr>
          <a:xfrm>
            <a:off x="4572000" y="2398680"/>
            <a:ext cx="2819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08" name="Picture 12" descr="BD05103_[1]"/>
          <p:cNvPicPr/>
          <p:nvPr/>
        </p:nvPicPr>
        <p:blipFill>
          <a:blip r:embed="rId1"/>
          <a:stretch/>
        </p:blipFill>
        <p:spPr>
          <a:xfrm>
            <a:off x="263520" y="3429000"/>
            <a:ext cx="2708280" cy="1847880"/>
          </a:xfrm>
          <a:prstGeom prst="rect">
            <a:avLst/>
          </a:prstGeom>
          <a:ln w="0">
            <a:noFill/>
          </a:ln>
        </p:spPr>
      </p:pic>
      <p:sp>
        <p:nvSpPr>
          <p:cNvPr id="209" name="Text Box 14"/>
          <p:cNvSpPr/>
          <p:nvPr/>
        </p:nvSpPr>
        <p:spPr>
          <a:xfrm>
            <a:off x="1279440" y="5799240"/>
            <a:ext cx="1348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is a wanderer who seeks to return home.</a:t>
            </a:r>
            <a:endParaRPr b="0" lang="en-US" sz="3600" spc="-1" strike="noStrike">
              <a:solidFill>
                <a:srgbClr val="f7d47d"/>
              </a:solidFill>
              <a:latin typeface="Arial"/>
            </a:endParaRPr>
          </a:p>
        </p:txBody>
      </p:sp>
      <p:sp>
        <p:nvSpPr>
          <p:cNvPr id="211"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2400" spc="-1" strike="noStrike">
              <a:solidFill>
                <a:srgbClr val="2f1311"/>
              </a:solidFill>
              <a:latin typeface="Arial"/>
            </a:endParaRPr>
          </a:p>
        </p:txBody>
      </p:sp>
      <p:pic>
        <p:nvPicPr>
          <p:cNvPr id="212" name="Picture 10" descr="map_greece"/>
          <p:cNvPicPr/>
          <p:nvPr/>
        </p:nvPicPr>
        <p:blipFill>
          <a:blip r:embed="rId2"/>
          <a:stretch/>
        </p:blipFill>
        <p:spPr>
          <a:xfrm>
            <a:off x="4025880" y="2239920"/>
            <a:ext cx="3624120" cy="3214800"/>
          </a:xfrm>
          <a:prstGeom prst="rect">
            <a:avLst/>
          </a:prstGeom>
          <a:ln w="0">
            <a:noFill/>
          </a:ln>
        </p:spPr>
      </p:pic>
      <p:sp>
        <p:nvSpPr>
          <p:cNvPr id="213" name="Text Box 11"/>
          <p:cNvSpPr/>
          <p:nvPr/>
        </p:nvSpPr>
        <p:spPr>
          <a:xfrm>
            <a:off x="4038480" y="5562720"/>
            <a:ext cx="3353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6"/>
          <p:cNvSpPr/>
          <p:nvPr/>
        </p:nvSpPr>
        <p:spPr>
          <a:xfrm>
            <a:off x="2362320" y="380880"/>
            <a:ext cx="327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15" name="Picture 10" descr="j0205520"/>
          <p:cNvPicPr/>
          <p:nvPr/>
        </p:nvPicPr>
        <p:blipFill>
          <a:blip r:embed="rId1"/>
          <a:stretch/>
        </p:blipFill>
        <p:spPr>
          <a:xfrm>
            <a:off x="5410080" y="3352680"/>
            <a:ext cx="1900440" cy="2057400"/>
          </a:xfrm>
          <a:prstGeom prst="rect">
            <a:avLst/>
          </a:prstGeom>
          <a:ln w="0">
            <a:noFill/>
          </a:ln>
        </p:spPr>
      </p:pic>
      <p:sp>
        <p:nvSpPr>
          <p:cNvPr id="216" name="Text Box 11"/>
          <p:cNvSpPr/>
          <p:nvPr/>
        </p:nvSpPr>
        <p:spPr>
          <a:xfrm>
            <a:off x="457200" y="609480"/>
            <a:ext cx="41911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mocks reliance on strength alone.  Strength without cunning is what dooms the suitors to Odysseus’s decep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cuts his losses to Charybdis and Scylla through careful naviga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is also able to use the strength of his mind to enjoy the siren’s song without falling prey to their seductive dangers.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Even Odysseus’s encounter with Achilles in the Underworld is a reminder of how brutish glory brings a short, violent life.  Odysseus’s glory,  or kleos, is won by his wits and will yield him a long, peaceful life.</a:t>
            </a:r>
            <a:endParaRPr b="0" lang="en-US" sz="1800" spc="-1" strike="noStrike">
              <a:solidFill>
                <a:srgbClr val="2f1311"/>
              </a:solidFill>
              <a:latin typeface="Arial"/>
            </a:endParaRPr>
          </a:p>
        </p:txBody>
      </p:sp>
      <p:sp>
        <p:nvSpPr>
          <p:cNvPr id="217" name="Text Box 12"/>
          <p:cNvSpPr/>
          <p:nvPr/>
        </p:nvSpPr>
        <p:spPr>
          <a:xfrm>
            <a:off x="5334120" y="556272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Physical Strength</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4308480" cy="44971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2400" spc="-1" strike="noStrike">
              <a:solidFill>
                <a:srgbClr val="2f1311"/>
              </a:solidFill>
              <a:latin typeface="Arial"/>
            </a:endParaRPr>
          </a:p>
        </p:txBody>
      </p:sp>
      <p:pic>
        <p:nvPicPr>
          <p:cNvPr id="220" name="Picture 10" descr="j0219117"/>
          <p:cNvPicPr/>
          <p:nvPr/>
        </p:nvPicPr>
        <p:blipFill>
          <a:blip r:embed="rId2"/>
          <a:stretch/>
        </p:blipFill>
        <p:spPr>
          <a:xfrm>
            <a:off x="5187960" y="5105520"/>
            <a:ext cx="1305000" cy="1066680"/>
          </a:xfrm>
          <a:prstGeom prst="rect">
            <a:avLst/>
          </a:prstGeom>
          <a:ln w="0">
            <a:noFill/>
          </a:ln>
        </p:spPr>
      </p:pic>
      <p:pic>
        <p:nvPicPr>
          <p:cNvPr id="221" name="Picture 11" descr="j0239783"/>
          <p:cNvPicPr/>
          <p:nvPr/>
        </p:nvPicPr>
        <p:blipFill>
          <a:blip r:embed="rId3"/>
          <a:stretch/>
        </p:blipFill>
        <p:spPr>
          <a:xfrm>
            <a:off x="5486400" y="380880"/>
            <a:ext cx="1812960" cy="1724040"/>
          </a:xfrm>
          <a:prstGeom prst="rect">
            <a:avLst/>
          </a:prstGeom>
          <a:ln w="0">
            <a:noFill/>
          </a:ln>
        </p:spPr>
      </p:pic>
      <p:pic>
        <p:nvPicPr>
          <p:cNvPr id="222" name="Picture 12" descr="j0213516"/>
          <p:cNvPicPr/>
          <p:nvPr/>
        </p:nvPicPr>
        <p:blipFill>
          <a:blip r:embed="rId4"/>
          <a:stretch/>
        </p:blipFill>
        <p:spPr>
          <a:xfrm>
            <a:off x="5715000" y="2971800"/>
            <a:ext cx="866880" cy="1143000"/>
          </a:xfrm>
          <a:prstGeom prst="rect">
            <a:avLst/>
          </a:prstGeom>
          <a:ln w="0">
            <a:noFill/>
          </a:ln>
        </p:spPr>
      </p:pic>
      <p:sp>
        <p:nvSpPr>
          <p:cNvPr id="223" name="Text Box 13"/>
          <p:cNvSpPr/>
          <p:nvPr/>
        </p:nvSpPr>
        <p:spPr>
          <a:xfrm>
            <a:off x="4632480" y="6400800"/>
            <a:ext cx="2682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1371600"/>
            <a:ext cx="73245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In order to use his cunning and his strength, Odysseus must be willing to face danger with courage.  He does not shrink away from his leadership role in times of great peril.</a:t>
            </a:r>
            <a:endParaRPr b="0" lang="en-US" sz="3600" spc="-1" strike="noStrike">
              <a:solidFill>
                <a:srgbClr val="f7d47d"/>
              </a:solidFill>
              <a:latin typeface="Arial"/>
            </a:endParaRPr>
          </a:p>
        </p:txBody>
      </p:sp>
      <p:pic>
        <p:nvPicPr>
          <p:cNvPr id="225" name="Picture 6" descr="grkship7"/>
          <p:cNvPicPr/>
          <p:nvPr/>
        </p:nvPicPr>
        <p:blipFill>
          <a:blip r:embed="rId1"/>
          <a:stretch/>
        </p:blipFill>
        <p:spPr>
          <a:xfrm>
            <a:off x="2743200" y="3276720"/>
            <a:ext cx="3049560" cy="2631960"/>
          </a:xfrm>
          <a:prstGeom prst="rect">
            <a:avLst/>
          </a:prstGeom>
          <a:ln w="0">
            <a:noFill/>
          </a:ln>
        </p:spPr>
      </p:pic>
      <p:sp>
        <p:nvSpPr>
          <p:cNvPr id="226" name="Text Box 7"/>
          <p:cNvSpPr/>
          <p:nvPr/>
        </p:nvSpPr>
        <p:spPr>
          <a:xfrm>
            <a:off x="2346480" y="6095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7" name="Text Box 9"/>
          <p:cNvSpPr/>
          <p:nvPr/>
        </p:nvSpPr>
        <p:spPr>
          <a:xfrm>
            <a:off x="1295280" y="5867280"/>
            <a:ext cx="502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8" name="Text Box 10"/>
          <p:cNvSpPr/>
          <p:nvPr/>
        </p:nvSpPr>
        <p:spPr>
          <a:xfrm>
            <a:off x="1728720" y="6248520"/>
            <a:ext cx="42912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9" name="Text Box 11"/>
          <p:cNvSpPr/>
          <p:nvPr/>
        </p:nvSpPr>
        <p:spPr>
          <a:xfrm>
            <a:off x="3429000" y="6172200"/>
            <a:ext cx="853920" cy="2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30" name="Text Box 12"/>
          <p:cNvSpPr/>
          <p:nvPr/>
        </p:nvSpPr>
        <p:spPr>
          <a:xfrm>
            <a:off x="2666880" y="6172200"/>
            <a:ext cx="4038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Fortunately……</a:t>
            </a:r>
            <a:endParaRPr b="0" lang="en-US" sz="4000" spc="-1" strike="noStrike">
              <a:solidFill>
                <a:srgbClr val="f7d47d"/>
              </a:solidFill>
              <a:latin typeface="Arial"/>
            </a:endParaRPr>
          </a:p>
        </p:txBody>
      </p:sp>
      <p:sp>
        <p:nvSpPr>
          <p:cNvPr id="232" name="PlaceHolder 2"/>
          <p:cNvSpPr>
            <a:spLocks noGrp="1"/>
          </p:cNvSpPr>
          <p:nvPr>
            <p:ph/>
          </p:nvPr>
        </p:nvSpPr>
        <p:spPr>
          <a:xfrm>
            <a:off x="263160" y="1598760"/>
            <a:ext cx="361620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f course, the gods are not always pleased.  Poseidon makes Odysseus’s journey a true test of his wit and valor.</a:t>
            </a:r>
            <a:endParaRPr b="0" lang="en-US" sz="2000" spc="-1" strike="noStrike">
              <a:solidFill>
                <a:srgbClr val="2f1311"/>
              </a:solidFill>
              <a:latin typeface="Arial"/>
            </a:endParaRPr>
          </a:p>
        </p:txBody>
      </p:sp>
      <p:pic>
        <p:nvPicPr>
          <p:cNvPr id="233" name="Picture 4" descr="j0116198[1]"/>
          <p:cNvPicPr/>
          <p:nvPr/>
        </p:nvPicPr>
        <p:blipFill>
          <a:blip r:embed="rId3"/>
          <a:stretch/>
        </p:blipFill>
        <p:spPr>
          <a:xfrm>
            <a:off x="4800600" y="2819520"/>
            <a:ext cx="2133720" cy="2584440"/>
          </a:xfrm>
          <a:prstGeom prst="rect">
            <a:avLst/>
          </a:prstGeom>
          <a:ln w="0">
            <a:noFill/>
          </a:ln>
        </p:spPr>
      </p:pic>
      <p:sp>
        <p:nvSpPr>
          <p:cNvPr id="234" name="Text Box 6"/>
          <p:cNvSpPr/>
          <p:nvPr/>
        </p:nvSpPr>
        <p:spPr>
          <a:xfrm>
            <a:off x="4800600" y="563868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hat else?</a:t>
            </a:r>
            <a:endParaRPr b="0" lang="en-US" sz="4000" spc="-1" strike="noStrike">
              <a:solidFill>
                <a:srgbClr val="f7d47d"/>
              </a:solidFill>
              <a:latin typeface="Arial"/>
            </a:endParaRPr>
          </a:p>
        </p:txBody>
      </p:sp>
      <p:sp>
        <p:nvSpPr>
          <p:cNvPr id="236" name="PlaceHolder 2"/>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2000" spc="-1" strike="noStrike">
              <a:solidFill>
                <a:srgbClr val="2f1311"/>
              </a:solidFill>
              <a:latin typeface="Arial"/>
            </a:endParaRPr>
          </a:p>
        </p:txBody>
      </p:sp>
      <p:pic>
        <p:nvPicPr>
          <p:cNvPr id="237" name="Picture 11" descr="grkship8"/>
          <p:cNvPicPr/>
          <p:nvPr/>
        </p:nvPicPr>
        <p:blipFill>
          <a:blip r:embed="rId2"/>
          <a:stretch/>
        </p:blipFill>
        <p:spPr>
          <a:xfrm>
            <a:off x="1447920" y="2133720"/>
            <a:ext cx="2124000" cy="3181320"/>
          </a:xfrm>
          <a:prstGeom prst="rect">
            <a:avLst/>
          </a:prstGeom>
          <a:ln w="0">
            <a:noFill/>
          </a:ln>
        </p:spPr>
      </p:pic>
      <p:sp>
        <p:nvSpPr>
          <p:cNvPr id="238" name="Text Box 13"/>
          <p:cNvSpPr/>
          <p:nvPr/>
        </p:nvSpPr>
        <p:spPr>
          <a:xfrm>
            <a:off x="914400" y="5692680"/>
            <a:ext cx="2133720" cy="21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39" name="Text Box 14"/>
          <p:cNvSpPr/>
          <p:nvPr/>
        </p:nvSpPr>
        <p:spPr>
          <a:xfrm>
            <a:off x="1370880" y="5562720"/>
            <a:ext cx="2687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 few notes on his atypical status….</a:t>
            </a:r>
            <a:endParaRPr b="0" lang="en-US" sz="3600" spc="-1" strike="noStrike">
              <a:solidFill>
                <a:srgbClr val="f7d47d"/>
              </a:solidFill>
              <a:latin typeface="Arial"/>
            </a:endParaRPr>
          </a:p>
        </p:txBody>
      </p:sp>
      <p:sp>
        <p:nvSpPr>
          <p:cNvPr id="241"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Yes, like most classic heroes, Odysseus must prove himself again and again and again, and the perceptions others have of him are of vital importance to his heroic stature, but………..</a:t>
            </a:r>
            <a:endParaRPr b="0" lang="en-US" sz="2800" spc="-1" strike="noStrike">
              <a:solidFill>
                <a:srgbClr val="2f1311"/>
              </a:solidFill>
              <a:latin typeface="Arial"/>
            </a:endParaRPr>
          </a:p>
        </p:txBody>
      </p:sp>
      <p:pic>
        <p:nvPicPr>
          <p:cNvPr id="242" name="Picture 7" descr="grkshp20"/>
          <p:cNvPicPr/>
          <p:nvPr/>
        </p:nvPicPr>
        <p:blipFill>
          <a:blip r:embed="rId2"/>
          <a:stretch/>
        </p:blipFill>
        <p:spPr>
          <a:xfrm>
            <a:off x="4025880" y="2341440"/>
            <a:ext cx="3624120" cy="3009960"/>
          </a:xfrm>
          <a:prstGeom prst="rect">
            <a:avLst/>
          </a:prstGeom>
          <a:ln w="0">
            <a:noFill/>
          </a:ln>
        </p:spPr>
      </p:pic>
      <p:sp>
        <p:nvSpPr>
          <p:cNvPr id="243" name="Text Box 8"/>
          <p:cNvSpPr/>
          <p:nvPr/>
        </p:nvSpPr>
        <p:spPr>
          <a:xfrm>
            <a:off x="4038480" y="5638680"/>
            <a:ext cx="4081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3:49:13Z</dcterms:created>
  <dc:creator>Middletown BOE</dc:creator>
  <dc:description/>
  <dc:language>en-US</dc:language>
  <cp:lastModifiedBy>RomaK</cp:lastModifiedBy>
  <dcterms:modified xsi:type="dcterms:W3CDTF">2015-09-02T09:27:12Z</dcterms:modified>
  <cp:revision>20</cp:revision>
  <dc:subject/>
  <dc:title>ODYSSEUS AS A HERO   by Petunia Hinklemeier  </dc:title>
</cp:coreProperties>
</file>