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2051-2330-46B6-AE09-46A94229B1C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racteristics of the Greek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acteristics of the Greek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to confront death and come back stronger and rejuven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mortal, so confronting death allowed them to face their own mort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to confront death and come back stronger and rejuvena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mortal, so confronting death allowed them to face their own 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invariable married a princess, but instead of marital bliss, this frequently brought turmoil and unhapp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ied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invariable married a princess, but instead of marital bliss, this frequently brought turmoil and unhappi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larger than life attributes, but he also had larger than life fla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tle would have called this hamartia, and it was usually brought on by hyb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few heroes could come to grips with their gifts and their mortality, but that humanity is part of their app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ppeal is what allowed their societies to forgive them and is also what kept the heroes alive for thousands of years after their de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larger than life attributes, but he also had larger than life f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stotle would have called this hamartia, and it was usually brought on by hyb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few heroes could come to grips with their gifts and their mortality, but that humanity is part of their appe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appeal is what allowed their societies to forgive them and is also what kept the heroes alive for thousands of years after their de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think of the word hero, what comes to m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ked men in spandex, tights, and c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tured loners with no one to l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cars, hot women, and high-tech gadg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d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e think of the word hero, what comes to m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ked men in spandex, tights, and ca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rtured loners with no one to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ol cars, hot women, and high-tech gadg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d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hero in Greek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one immortal pa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an unusual conception or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the subject of a prophe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abandoned at birth or while very you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ing on a qu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ing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ying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ing an 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a hero in Greek Myth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one immortal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an unusual conception or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the subject of a proph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abandoned at birth or while very you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ing on a qu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ing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ying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ing an 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usual Conception /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are often called “Demi-gods” because one parent is immortal and the other is mor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famous heroes were the offspring of Zeus or Poseidon, but sometimes the parent was a goddess such as Aphrodite or Thet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urther complicate things, often the heroes’ actual births involved strange com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usual Conception /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are often called “Demi-gods” because one parent is immortal and the other is mor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famous heroes were the offspring of Zeus or Poseidon, but sometimes the parent was a goddess such as Aphrodite or Thet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urther complicate things, often the heroes’ actual births involved strange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almost always the offspring of a princess or qu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the god responsible for the hero either came disguised as the husband of the queen, or the princess slept with a god and a mortal on the same 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riably the hero was claimed by his earthly father as well as his Olympian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almost always the offspring of a princess or que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ariably the hero was claimed by his earthly father as well as his Olympian 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hesy / Abandoned </a:t>
            </a:r>
            <a:br>
              <a:rPr sz="1200"/>
            </a:br>
            <a:r>
              <a:rPr b="0" lang="en-US" sz="1200" spc="-1" strike="noStrike">
                <a:solidFill>
                  <a:srgbClr val="000000"/>
                </a:solidFill>
                <a:latin typeface="Calibri"/>
              </a:rPr>
              <a:t>at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tes or the oracle often had something to say about the birth of a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rough no fault of the parents, the child needed to be raised away from ho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hesy / Abandoned </a:t>
            </a:r>
            <a:br>
              <a:rPr sz="1200"/>
            </a:br>
            <a:r>
              <a:rPr b="0" lang="en-US" sz="1200" spc="-1" strike="noStrike">
                <a:solidFill>
                  <a:srgbClr val="ffffff"/>
                </a:solidFill>
                <a:latin typeface="Arial"/>
              </a:rPr>
              <a:t>at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tes or the oracle often had something to say about the birth of a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rough no fault of the parents, the child needed to be raised away from ho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heroes invariable found a way to “strut their stuff” when they were wee tyk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acles killed two snakes as a youngster, Theseus moved a huge rock and fought what he thought was a 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were a hea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hat great things were in store for our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heroes invariable found a way to “strut their stuff” when they were wee ty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acles killed two snakes as a youngster, Theseus moved a huge rock and fought what he thought was a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events were a hea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p that great things were in store for our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heroes were the offspring of gods,   usually they were favored by the g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ild of Zeus would get help on a quest by Zeus or another Olymp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gifts such as helmets, winged sandals, and golden bridles were loaned to the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heroes were the offspring of gods,   usually they were favored by the go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ild of Zeus would get help on a quest by Zeus or another Olymp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gifts such as helmets, winged sandals, and golden bridles were loaned to the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s, Kleos and Arist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made the world a safer place by defeating a monster, killing an evil king, or righting a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anted their names to live forever since they could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must be sung that would perpetuate the stories of their great d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s, Kleos and Ariste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made the world a safer place by defeating a monster, killing an evil king, or righting a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anted their names to live forever since they could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must be sung that would perpetuate the stories of their great d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ED2B5-7D95-4D3C-A265-3C3D319B0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CDC23-6526-46E1-A353-AC6FFC79E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77A33-F5A9-4C12-AEAB-E62F9BC91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2E806-722D-4EF4-9FB5-9A62F1BDC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A75351-A80C-456B-A714-66DD4FE35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22539-CF70-4422-9B08-5A92D09D1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581B6-9919-41BE-A07D-4D317FE75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3105A-9F9C-4689-9018-3A7236FB5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8C42D-9497-476B-B8E3-A03745775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12226-A406-437A-9B67-7B507EEA4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0F361-2A57-455F-BA65-CA8032E26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78522-CA17-4F59-BF95-27BF27840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4FE0D-5A71-4F54-BC2C-518FA0D01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EF396-9EBD-4973-8C30-2457AD5AB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9EDF5-EA92-4564-AAD5-A7C714D3D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3BADA-8FA6-4033-BA3F-3E9A96687B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3583F0-D012-449F-BA19-FF08593CD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CD6A6-C0CA-4E7D-B2E1-4F27EF68D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1DA0D-E1F9-4D03-9B27-8689D4FAF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8AE42-CBB0-44F3-9CBB-D7CE38FB0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BE09C-9C9B-4F03-B2CA-EA920027D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83A17-3403-4BF8-AE41-58C8B1A59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BE8F7-BBE9-489C-A22A-59A9890CD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E9050-A402-4BA6-AA32-2A84F5334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499D3-DBDC-420A-A007-7073FC0D31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0D78-C933-4357-AD13-55944F95E9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perseus.tufts.edu/Herakles/Hicons/fronth.gif"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380880"/>
            <a:ext cx="7772400" cy="19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Characteristics of the Greek Hero</a:t>
            </a:r>
            <a:endParaRPr b="1" lang="en-US" sz="54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Arial"/>
            </a:endParaRPr>
          </a:p>
        </p:txBody>
      </p:sp>
      <p:pic>
        <p:nvPicPr>
          <p:cNvPr id="107" name="Picture 5" descr="f42ece0um1"/>
          <p:cNvPicPr/>
          <p:nvPr/>
        </p:nvPicPr>
        <p:blipFill>
          <a:blip r:embed="rId1"/>
          <a:stretch/>
        </p:blipFill>
        <p:spPr>
          <a:xfrm>
            <a:off x="152280" y="2590920"/>
            <a:ext cx="8839440" cy="426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vel to the Underworld</a:t>
            </a: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ro had to confront death and come back stronger and rejuvenate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were mortal, so confronting death allowed them to face their own mort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Picture 5" descr="35660~Orpheus-with-a-Harp-Playing-to-Pluto-and-Persephone-in-the-Underworld-Posters"/>
          <p:cNvPicPr/>
          <p:nvPr/>
        </p:nvPicPr>
        <p:blipFill>
          <a:blip r:embed="rId1"/>
          <a:stretch/>
        </p:blipFill>
        <p:spPr>
          <a:xfrm>
            <a:off x="1981080" y="4191120"/>
            <a:ext cx="5029200" cy="249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56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arried a Princess</a:t>
            </a:r>
            <a:endParaRPr b="1" lang="en-US" sz="4400" spc="-1" strike="noStrike">
              <a:solidFill>
                <a:srgbClr val="ffffb7"/>
              </a:solidFill>
              <a:latin typeface="Arial Black"/>
            </a:endParaRPr>
          </a:p>
        </p:txBody>
      </p:sp>
      <p:sp>
        <p:nvSpPr>
          <p:cNvPr id="135" name="PlaceHolder 2"/>
          <p:cNvSpPr>
            <a:spLocks noGrp="1"/>
          </p:cNvSpPr>
          <p:nvPr>
            <p:ph/>
          </p:nvPr>
        </p:nvSpPr>
        <p:spPr>
          <a:xfrm>
            <a:off x="838080" y="2286000"/>
            <a:ext cx="4114800" cy="45720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invariable married a princess, but instead of marital bliss, this frequently brought turmoil and unhappiness</a:t>
            </a:r>
            <a:endParaRPr b="0" lang="en-US" sz="3200" spc="-1" strike="noStrike">
              <a:solidFill>
                <a:srgbClr val="ffffff"/>
              </a:solidFill>
              <a:latin typeface="Arial"/>
            </a:endParaRPr>
          </a:p>
        </p:txBody>
      </p:sp>
      <p:pic>
        <p:nvPicPr>
          <p:cNvPr id="136" name="Picture 5" descr="Princess_Belle-Etoile_-_illustration_by_Walter_Crane_-_Project_Gutenberg_eText_18344"/>
          <p:cNvPicPr/>
          <p:nvPr/>
        </p:nvPicPr>
        <p:blipFill>
          <a:blip r:embed="rId1"/>
          <a:stretch/>
        </p:blipFill>
        <p:spPr>
          <a:xfrm>
            <a:off x="5029200" y="1905120"/>
            <a:ext cx="4114800" cy="49528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6">
                                  <p:stCondLst>
                                    <p:cond delay="0"/>
                                  </p:stCondLst>
                                  <p:childTnLst>
                                    <p:animScale>
                                      <p:cBhvr>
                                        <p:cTn id="18" dur="2000" fill="hold"/>
                                        <p:tgtEl>
                                          <p:spTgt spid="1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gnoble Death</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ro had larger than life attributes, but he also had larger than life flaw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stotle would have called this hamartia, and it was usually brought on by hybri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few heroes could come to grips with their gifts and their mortality, but that humanity is part of their appea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appeal is what allowed their societies to forgive them and is also what kept the heroes alive for thousands of years after their death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en we think of the word hero, what comes to mind?</a:t>
            </a:r>
            <a:endParaRPr b="1" lang="en-US" sz="40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ked men in spandex, tights, and cape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rtured loners with no one to love?</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l cars, hot women, and high-tech gadget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der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man?</a:t>
            </a:r>
            <a:endParaRPr b="0" lang="en-US" sz="2800" spc="-1" strike="noStrike">
              <a:solidFill>
                <a:srgbClr val="ffffff"/>
              </a:solidFill>
              <a:latin typeface="Arial"/>
            </a:endParaRPr>
          </a:p>
        </p:txBody>
      </p:sp>
      <p:pic>
        <p:nvPicPr>
          <p:cNvPr id="110" name="Picture 5" descr="392pxsupermanbatmansecretfilescvfh8"/>
          <p:cNvPicPr/>
          <p:nvPr/>
        </p:nvPicPr>
        <p:blipFill>
          <a:blip r:embed="rId1"/>
          <a:stretch/>
        </p:blipFill>
        <p:spPr>
          <a:xfrm>
            <a:off x="4800600" y="3352680"/>
            <a:ext cx="320040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1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makes a hero in Greek Mythology?</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one immortal paren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born into royalt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an unusual conception or birth</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favored by the god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the subject of a prophes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abandoned at birth or while very young</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ing an amazing feat at a young age</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ing on a ques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veling to the underworld</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rying a princes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ing an ignoble de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usual Conception / Birth</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are often called “Demi-gods” because one parent is immortal and the other is mortal</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mous heroes were the offspring of Zeus or Poseidon, but sometimes the parent was a goddess such as Aphrodite or Thet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further complicate things, often the heroes’ actual births involved strange complications</a:t>
            </a:r>
            <a:endParaRPr b="0" lang="en-US" sz="2800" spc="-1" strike="noStrike">
              <a:solidFill>
                <a:srgbClr val="ffffff"/>
              </a:solidFill>
              <a:latin typeface="Arial"/>
            </a:endParaRPr>
          </a:p>
        </p:txBody>
      </p:sp>
      <p:pic>
        <p:nvPicPr>
          <p:cNvPr id="115" name="Picture 5" descr="fronth">
            <a:hlinkClick r:id="rId1"/>
          </p:cNvPr>
          <p:cNvPicPr/>
          <p:nvPr/>
        </p:nvPicPr>
        <p:blipFill>
          <a:blip r:embed="rId2"/>
          <a:stretch/>
        </p:blipFill>
        <p:spPr>
          <a:xfrm>
            <a:off x="3733920" y="5181480"/>
            <a:ext cx="175248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orn into Royalty</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were almost always the offspring of a princess or queen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ariably the hero was claimed by his earthly father as well as his Olympian o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8" name="Picture 5" descr="koenigskrone370"/>
          <p:cNvPicPr/>
          <p:nvPr/>
        </p:nvPicPr>
        <p:blipFill>
          <a:blip r:embed="rId1"/>
          <a:stretch/>
        </p:blipFill>
        <p:spPr>
          <a:xfrm>
            <a:off x="6400800" y="0"/>
            <a:ext cx="2533680" cy="1828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44440"/>
            <a:ext cx="632448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Prophesy / Abandoned </a:t>
            </a:r>
            <a:br>
              <a:rPr sz="3600"/>
            </a:br>
            <a:r>
              <a:rPr b="1" lang="en-US" sz="3600" spc="-1" strike="noStrike">
                <a:solidFill>
                  <a:srgbClr val="ffffb7"/>
                </a:solidFill>
                <a:latin typeface="Arial Black"/>
              </a:rPr>
              <a:t>at Birth</a:t>
            </a:r>
            <a:endParaRPr b="1" lang="en-US" sz="36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tes or the oracle often had something to say about the birth of a hero</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through no fault of the parents, the child needed to be raised away from home </a:t>
            </a:r>
            <a:endParaRPr b="0" lang="en-US" sz="2800" spc="-1" strike="noStrike">
              <a:solidFill>
                <a:srgbClr val="ffffff"/>
              </a:solidFill>
              <a:latin typeface="Arial"/>
            </a:endParaRPr>
          </a:p>
        </p:txBody>
      </p:sp>
      <p:pic>
        <p:nvPicPr>
          <p:cNvPr id="121" name="Picture 5" descr="delphi_site"/>
          <p:cNvPicPr/>
          <p:nvPr/>
        </p:nvPicPr>
        <p:blipFill>
          <a:blip r:embed="rId1"/>
          <a:stretch/>
        </p:blipFill>
        <p:spPr>
          <a:xfrm>
            <a:off x="6019920" y="0"/>
            <a:ext cx="312408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08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erforming an amazing feat at a young age</a:t>
            </a:r>
            <a:endParaRPr b="1" lang="en-US" sz="4000" spc="-1" strike="noStrike">
              <a:solidFill>
                <a:srgbClr val="ffffb7"/>
              </a:solidFill>
              <a:latin typeface="Arial Black"/>
            </a:endParaRPr>
          </a:p>
        </p:txBody>
      </p:sp>
      <p:sp>
        <p:nvSpPr>
          <p:cNvPr id="123" name="PlaceHolder 2"/>
          <p:cNvSpPr>
            <a:spLocks noGrp="1"/>
          </p:cNvSpPr>
          <p:nvPr>
            <p:ph/>
          </p:nvPr>
        </p:nvSpPr>
        <p:spPr>
          <a:xfrm>
            <a:off x="228240" y="1828440"/>
            <a:ext cx="5181480" cy="48769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ng heroes invariable found a way to “strut their stuff” when they were wee tyk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acles killed two snakes as a youngster, Theseus moved a huge rock and fought what he thought was a lio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events were a heads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hat great things were in store for our heroes</a:t>
            </a:r>
            <a:endParaRPr b="0" lang="en-US" sz="2800" spc="-1" strike="noStrike">
              <a:solidFill>
                <a:srgbClr val="ffffff"/>
              </a:solidFill>
              <a:latin typeface="Arial"/>
            </a:endParaRPr>
          </a:p>
        </p:txBody>
      </p:sp>
      <p:pic>
        <p:nvPicPr>
          <p:cNvPr id="124" name="Picture 5" descr="herc01r"/>
          <p:cNvPicPr/>
          <p:nvPr/>
        </p:nvPicPr>
        <p:blipFill>
          <a:blip r:embed="rId1"/>
          <a:stretch/>
        </p:blipFill>
        <p:spPr>
          <a:xfrm>
            <a:off x="5715000" y="1828800"/>
            <a:ext cx="342900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10_Shipton"/>
          <p:cNvPicPr/>
          <p:nvPr/>
        </p:nvPicPr>
        <p:blipFill>
          <a:blip r:embed="rId1"/>
          <a:stretch/>
        </p:blipFill>
        <p:spPr>
          <a:xfrm>
            <a:off x="914400" y="1752480"/>
            <a:ext cx="7772400" cy="4819680"/>
          </a:xfrm>
          <a:prstGeom prst="rect">
            <a:avLst/>
          </a:prstGeom>
          <a:ln w="0">
            <a:noFill/>
          </a:ln>
        </p:spPr>
      </p:pic>
      <p:sp>
        <p:nvSpPr>
          <p:cNvPr id="126"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heroes were the offspring of gods,   usually they were favored by the god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ild of Zeus would get help on a quest by Zeus or another Olympia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gifts such as helmets, winged sandals, and golden bridles were loaned to the heroes</a:t>
            </a:r>
            <a:endParaRPr b="0" lang="en-US" sz="3200" spc="-1" strike="noStrike">
              <a:solidFill>
                <a:srgbClr val="ffffff"/>
              </a:solidFill>
              <a:latin typeface="Arial"/>
            </a:endParaRPr>
          </a:p>
        </p:txBody>
      </p:sp>
      <p:sp>
        <p:nvSpPr>
          <p:cNvPr id="127"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avored by the God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chimera"/>
          <p:cNvPicPr/>
          <p:nvPr/>
        </p:nvPicPr>
        <p:blipFill>
          <a:blip r:embed="rId1"/>
          <a:stretch/>
        </p:blipFill>
        <p:spPr>
          <a:xfrm>
            <a:off x="4191120" y="3544920"/>
            <a:ext cx="4952880" cy="3313080"/>
          </a:xfrm>
          <a:prstGeom prst="rect">
            <a:avLst/>
          </a:prstGeom>
          <a:ln w="0">
            <a:noFill/>
          </a:ln>
        </p:spPr>
      </p:pic>
      <p:sp>
        <p:nvSpPr>
          <p:cNvPr id="129" name="PlaceHolder 1"/>
          <p:cNvSpPr>
            <a:spLocks noGrp="1"/>
          </p:cNvSpPr>
          <p:nvPr>
            <p:ph type="title"/>
          </p:nvPr>
        </p:nvSpPr>
        <p:spPr>
          <a:xfrm>
            <a:off x="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uests, Kleos and Aristea </a:t>
            </a:r>
            <a:endParaRPr b="1" lang="en-US" sz="4400" spc="-1" strike="noStrike">
              <a:solidFill>
                <a:srgbClr val="ffffb7"/>
              </a:solidFill>
              <a:latin typeface="Arial Black"/>
            </a:endParaRPr>
          </a:p>
        </p:txBody>
      </p:sp>
      <p:sp>
        <p:nvSpPr>
          <p:cNvPr id="130" name="PlaceHolder 2"/>
          <p:cNvSpPr>
            <a:spLocks noGrp="1"/>
          </p:cNvSpPr>
          <p:nvPr>
            <p:ph/>
          </p:nvPr>
        </p:nvSpPr>
        <p:spPr>
          <a:xfrm>
            <a:off x="-360" y="1218960"/>
            <a:ext cx="8007480" cy="4190760"/>
          </a:xfrm>
          <a:prstGeom prst="rect">
            <a:avLst/>
          </a:prstGeom>
          <a:noFill/>
          <a:ln w="0">
            <a:noFill/>
          </a:ln>
        </p:spPr>
        <p:txBody>
          <a:bodyPr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made the world a safer place by defeating a monster, killing an evil king, or righting a wrong</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wanted their names to live forever since they could not.</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ongs must be sung that would perpetuate</a:t>
            </a:r>
            <a:r>
              <a:rPr b="0" lang="en-US" sz="3200" spc="-1" strike="noStrike">
                <a:solidFill>
                  <a:srgbClr val="006600"/>
                </a:solidFill>
                <a:latin typeface="Arial"/>
              </a:rPr>
              <a:t> </a:t>
            </a:r>
            <a:r>
              <a:rPr b="0" lang="en-US" sz="3200" spc="-1" strike="noStrike">
                <a:solidFill>
                  <a:srgbClr val="ffff66"/>
                </a:solidFill>
                <a:latin typeface="Arial"/>
              </a:rPr>
              <a:t>the stories of their great deeds</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23:28:07Z</dcterms:created>
  <dc:creator> </dc:creator>
  <dc:description/>
  <dc:language>en-US</dc:language>
  <cp:lastModifiedBy>RomaK</cp:lastModifiedBy>
  <dcterms:modified xsi:type="dcterms:W3CDTF">2015-09-02T09:27:41Z</dcterms:modified>
  <cp:revision>18</cp:revision>
  <dc:subject/>
  <dc:title>The Characteristics of the Greek Hero</dc:title>
</cp:coreProperties>
</file>