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0470-0430-4F3F-BE71-D0DAF13AC28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the Greek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acteristics of the Greek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to confront death and come back stronger and rejuven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mortal, so confronting death allowed them to face their own mort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to confront death and come back stronger and rejuvena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mortal, so confronting death allowed them to face their own 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invariable married a princess, but instead of marital bliss, this frequently brought turmoil and unhapp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ied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invariable married a princess, but instead of marital bliss, this frequently brought turmoil and unhappi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larger than life attributes, but he also had larger than life fla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tle would have called this hamartia, and it was usually brought on by hyb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few heroes could come to grips with their gifts and their mortality, but that humanity is part of their app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ppeal is what allowed their societies to forgive them and is also what kept the heroes alive for thousands of years after their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larger than life attributes, but he also had larger than life f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stotle would have called this hamartia, and it was usually brought on by hyb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few heroes could come to grips with their gifts and their mortality, but that humanity is part of their appe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appeal is what allowed their societies to forgive them and is also what kept the heroes alive for thousands of years after their de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think of the word hero, what comes to m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ked men in spandex, tights, and c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tured loners with no one to l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cars, hot women, and high-tech gad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d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e think of the word hero, what comes to m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ked men in spandex, tights, and ca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rtured loners with no one to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l cars, hot women, and high-tech gadg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d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hero in Greek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one immortal pa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unusual conception or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the subject of a prophe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bandoned at birth or while very you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on a qu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ing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ying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ing an 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a hero in Greek Myth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one immortal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an unusual conception or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the subject of a proph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abandoned at birth or while very you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ing on a qu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ing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ying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ing an 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usual Conception /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are often called “Demi-gods” because one parent is immortal and the other is mor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famous heroes were the offspring of Zeus or Poseidon, but sometimes the parent was a goddess such as Aphrodite or Thet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omplicate things, often the heroes’ actual births involved strange com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usual Conception /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are often called “Demi-gods” because one parent is immortal and the other is mor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mous heroes were the offspring of Zeus or Poseidon, but sometimes the parent was a goddess such as Aphrodite or Thet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urther complicate things, often the heroes’ actual births involved strange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almost always the offspring of a princess or qu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god responsible for the hero either came disguised as the husband of the queen, or the princess slept with a god and a mortal on the sam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riably the hero was claimed by his earthly father as well as his Olympian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almost always the offspring of a princess or que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ariably the hero was claimed by his earthly father as well as his Olympian 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hesy / Abandoned </a:t>
            </a:r>
            <a:br>
              <a:rPr sz="1200"/>
            </a:br>
            <a:r>
              <a:rPr b="0" lang="en-US" sz="1200" spc="-1" strike="noStrike">
                <a:solidFill>
                  <a:srgbClr val="000000"/>
                </a:solidFill>
                <a:latin typeface="Calibri"/>
              </a:rPr>
              <a:t>at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tes or the oracle often had something to say about the birth of a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rough no fault of the parents, the child needed to be raised away from ho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hesy / Abandoned </a:t>
            </a:r>
            <a:br>
              <a:rPr sz="1200"/>
            </a:br>
            <a:r>
              <a:rPr b="0" lang="en-US" sz="1200" spc="-1" strike="noStrike">
                <a:solidFill>
                  <a:srgbClr val="ffffff"/>
                </a:solidFill>
                <a:latin typeface="Arial"/>
              </a:rPr>
              <a:t>at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tes or the oracle often had something to say about the birth of a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rough no fault of the parents, the child needed to be raised away from ho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heroes invariable found a way to “strut their stuff” when they were wee ty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acles killed two snakes as a youngster, Theseus moved a huge rock and fought what he thought was a 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were a hea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hat great things were in store for our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heroes invariable found a way to “strut their stuff” when they were wee ty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acles killed two snakes as a youngster, Theseus moved a huge rock and fought what he thought was a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vents were a hea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 that great things were in store for our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heroes were the offspring of gods,   usually they were favored by the g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ild of Zeus would get help on a quest by Zeus or another Olymp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gifts such as helmets, winged sandals, and golden bridles were loaned to the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heroes were the offspring of gods,   usually they were favored by the go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ild of Zeus would get help on a quest by Zeus or another Olymp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gifts such as helmets, winged sandals, and golden bridles were loaned to the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s, Kleos and Arist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made the world a safer place by defeating a monster, killing an evil king, or righting a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anted their names to live forever since they could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must be sung that would perpetuate the stories of their great d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s, Kleos and Arist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made the world a safer place by defeating a monster, killing an evil king, or righting a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anted their names to live forever since they could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must be sung that would perpetuate the stories of their great d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B25D9-9E66-4213-AB9D-343241DA9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0E0DD-E89D-4D40-80BC-671C9A05C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518CF-70F4-4654-99E4-5534EB62E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D62FB-FF02-43EA-9ED3-189B2F564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77E50-4EFB-4212-9DDB-264D2B1B8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2ABF7-C07A-40F6-8750-9221C7EA2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9CAE5-0A7B-4FC1-A192-3F888D593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1B656-1A42-4A53-9AD1-F1187ED1B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5AF11-2C7A-4E80-97D9-449DDE851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C3DEB-96AC-41DC-8382-0FB022F3B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06151-8C1A-4F03-810C-FE07062A7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1A72D-1EB3-45BC-9560-67BBEEB68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72592-389F-4527-9307-814A3F7E6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B057F-B3DA-480F-ADD1-687BBDFC9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E1A57-D696-4852-8931-34BBBC989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CE961-0A53-4E80-B3ED-4B7058ABB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BBF59-DBBB-469D-9DCA-8400BC4DC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3DCC2-0F41-4FC4-9D35-9624A13FC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C718F-C6B3-4B3F-8FFE-0D912C43D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C23C5-AA45-43BC-9206-94C369339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2D3DE-9642-47B7-A030-0BC1B69BD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5C9E-45F7-4F4B-8A55-AD1469E9B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9B10-669C-4644-B19D-D83C7A88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0F58-991C-4FBA-809D-BB501585B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F54D-850B-4899-B550-BF1E8F77E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07F5-90F8-4176-922F-6BCC08C0AC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erseus.tufts.edu/Herakles/Hicons/fronth.gif"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80880"/>
            <a:ext cx="7772400" cy="19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haracteristics of the Greek Hero</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Arial"/>
            </a:endParaRPr>
          </a:p>
        </p:txBody>
      </p:sp>
      <p:pic>
        <p:nvPicPr>
          <p:cNvPr id="107" name="Picture 5" descr="f42ece0um1"/>
          <p:cNvPicPr/>
          <p:nvPr/>
        </p:nvPicPr>
        <p:blipFill>
          <a:blip r:embed="rId1"/>
          <a:stretch/>
        </p:blipFill>
        <p:spPr>
          <a:xfrm>
            <a:off x="152280" y="2590920"/>
            <a:ext cx="883944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vel to the Underworld</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ro had to confront death and come back stronger and rejuvenat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were mortal, so confronting death allowed them to face their own mort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35660~Orpheus-with-a-Harp-Playing-to-Pluto-and-Persephone-in-the-Underworld-Posters"/>
          <p:cNvPicPr/>
          <p:nvPr/>
        </p:nvPicPr>
        <p:blipFill>
          <a:blip r:embed="rId1"/>
          <a:stretch/>
        </p:blipFill>
        <p:spPr>
          <a:xfrm>
            <a:off x="1981080" y="4191120"/>
            <a:ext cx="5029200" cy="24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rried a Princess</a:t>
            </a:r>
            <a:endParaRPr b="1" lang="en-US" sz="4400" spc="-1" strike="noStrike">
              <a:solidFill>
                <a:srgbClr val="ffffb7"/>
              </a:solidFill>
              <a:latin typeface="Arial Black"/>
            </a:endParaRPr>
          </a:p>
        </p:txBody>
      </p:sp>
      <p:sp>
        <p:nvSpPr>
          <p:cNvPr id="135" name="PlaceHolder 2"/>
          <p:cNvSpPr>
            <a:spLocks noGrp="1"/>
          </p:cNvSpPr>
          <p:nvPr>
            <p:ph/>
          </p:nvPr>
        </p:nvSpPr>
        <p:spPr>
          <a:xfrm>
            <a:off x="838080" y="2286000"/>
            <a:ext cx="4114800" cy="4572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invariable married a princess, but instead of marital bliss, this frequently brought turmoil and unhappiness</a:t>
            </a:r>
            <a:endParaRPr b="0" lang="en-US" sz="3200" spc="-1" strike="noStrike">
              <a:solidFill>
                <a:srgbClr val="ffffff"/>
              </a:solidFill>
              <a:latin typeface="Arial"/>
            </a:endParaRPr>
          </a:p>
        </p:txBody>
      </p:sp>
      <p:pic>
        <p:nvPicPr>
          <p:cNvPr id="136" name="Picture 5" descr="Princess_Belle-Etoile_-_illustration_by_Walter_Crane_-_Project_Gutenberg_eText_18344"/>
          <p:cNvPicPr/>
          <p:nvPr/>
        </p:nvPicPr>
        <p:blipFill>
          <a:blip r:embed="rId1"/>
          <a:stretch/>
        </p:blipFill>
        <p:spPr>
          <a:xfrm>
            <a:off x="5029200" y="1905120"/>
            <a:ext cx="4114800" cy="495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6">
                                  <p:stCondLst>
                                    <p:cond delay="0"/>
                                  </p:stCondLst>
                                  <p:childTnLst>
                                    <p:animScale>
                                      <p:cBhvr>
                                        <p:cTn id="18"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gnoble Death</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ro had larger than life attributes, but he also had larger than life flaw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tle would have called this hamartia, and it was usually brought on by hybr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few heroes could come to grips with their gifts and their mortality, but that humanity is part of their appe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ppeal is what allowed their societies to forgive them and is also what kept the heroes alive for thousands of years after their dea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en we think of the word hero, what comes to min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ed men in spandex, tights, and cap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ured loners with no one to lov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l cars, hot women, and high-tech gadget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der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man?</a:t>
            </a:r>
            <a:endParaRPr b="0" lang="en-US" sz="2800" spc="-1" strike="noStrike">
              <a:solidFill>
                <a:srgbClr val="ffffff"/>
              </a:solidFill>
              <a:latin typeface="Arial"/>
            </a:endParaRPr>
          </a:p>
        </p:txBody>
      </p:sp>
      <p:pic>
        <p:nvPicPr>
          <p:cNvPr id="110" name="Picture 5" descr="392pxsupermanbatmansecretfilescvfh8"/>
          <p:cNvPicPr/>
          <p:nvPr/>
        </p:nvPicPr>
        <p:blipFill>
          <a:blip r:embed="rId1"/>
          <a:stretch/>
        </p:blipFill>
        <p:spPr>
          <a:xfrm>
            <a:off x="4800600" y="3352680"/>
            <a:ext cx="32004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kes a hero in Greek Mythology?</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one immortal paren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born into royalt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an unusual conception or birth</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favored by the god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the subject of a prophes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bandoned at birth or while very you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ing an amazing feat at a young ag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ing on a que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ing to the underworl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ying a princes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ing an ignobl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usual Conception / Birth</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are often called “Demi-gods” because one parent is immortal and the other is morta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mous heroes were the offspring of Zeus or Poseidon, but sometimes the parent was a goddess such as Aphrodite or Thet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urther complicate things, often the heroes’ actual births involved strange complications</a:t>
            </a:r>
            <a:endParaRPr b="0" lang="en-US" sz="2800" spc="-1" strike="noStrike">
              <a:solidFill>
                <a:srgbClr val="ffffff"/>
              </a:solidFill>
              <a:latin typeface="Arial"/>
            </a:endParaRPr>
          </a:p>
        </p:txBody>
      </p:sp>
      <p:pic>
        <p:nvPicPr>
          <p:cNvPr id="115" name="Picture 5" descr="fronth">
            <a:hlinkClick r:id="rId1"/>
          </p:cNvPr>
          <p:cNvPicPr/>
          <p:nvPr/>
        </p:nvPicPr>
        <p:blipFill>
          <a:blip r:embed="rId2"/>
          <a:stretch/>
        </p:blipFill>
        <p:spPr>
          <a:xfrm>
            <a:off x="3733920" y="5181480"/>
            <a:ext cx="17524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rn into Royal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were almost always the offspring of a princess or que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riably the hero was claimed by his earthly father as well as his Olympian 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8" name="Picture 5" descr="koenigskrone370"/>
          <p:cNvPicPr/>
          <p:nvPr/>
        </p:nvPicPr>
        <p:blipFill>
          <a:blip r:embed="rId1"/>
          <a:stretch/>
        </p:blipFill>
        <p:spPr>
          <a:xfrm>
            <a:off x="6400800" y="0"/>
            <a:ext cx="2533680" cy="182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44440"/>
            <a:ext cx="6324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ophesy / Abandoned </a:t>
            </a:r>
            <a:br>
              <a:rPr sz="3600"/>
            </a:br>
            <a:r>
              <a:rPr b="1" lang="en-US" sz="3600" spc="-1" strike="noStrike">
                <a:solidFill>
                  <a:srgbClr val="ffffb7"/>
                </a:solidFill>
                <a:latin typeface="Arial Black"/>
              </a:rPr>
              <a:t>at Birth</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es or the oracle often had something to say about the birth of a her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through no fault of the parents, the child needed to be raised away from home </a:t>
            </a:r>
            <a:endParaRPr b="0" lang="en-US" sz="2800" spc="-1" strike="noStrike">
              <a:solidFill>
                <a:srgbClr val="ffffff"/>
              </a:solidFill>
              <a:latin typeface="Arial"/>
            </a:endParaRPr>
          </a:p>
        </p:txBody>
      </p:sp>
      <p:pic>
        <p:nvPicPr>
          <p:cNvPr id="121" name="Picture 5" descr="delphi_site"/>
          <p:cNvPicPr/>
          <p:nvPr/>
        </p:nvPicPr>
        <p:blipFill>
          <a:blip r:embed="rId1"/>
          <a:stretch/>
        </p:blipFill>
        <p:spPr>
          <a:xfrm>
            <a:off x="6019920" y="0"/>
            <a:ext cx="31240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forming an amazing feat at a young age</a:t>
            </a:r>
            <a:endParaRPr b="1" lang="en-US" sz="4000" spc="-1" strike="noStrike">
              <a:solidFill>
                <a:srgbClr val="ffffb7"/>
              </a:solidFill>
              <a:latin typeface="Arial Black"/>
            </a:endParaRPr>
          </a:p>
        </p:txBody>
      </p:sp>
      <p:sp>
        <p:nvSpPr>
          <p:cNvPr id="123" name="PlaceHolder 2"/>
          <p:cNvSpPr>
            <a:spLocks noGrp="1"/>
          </p:cNvSpPr>
          <p:nvPr>
            <p:ph/>
          </p:nvPr>
        </p:nvSpPr>
        <p:spPr>
          <a:xfrm>
            <a:off x="228240" y="1828440"/>
            <a:ext cx="5181480" cy="48769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heroes invariable found a way to “strut their stuff” when they were wee tyk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acles killed two snakes as a youngster, Theseus moved a huge rock and fought what he thought was a l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events were a head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hat great things were in store for our heroes</a:t>
            </a:r>
            <a:endParaRPr b="0" lang="en-US" sz="2800" spc="-1" strike="noStrike">
              <a:solidFill>
                <a:srgbClr val="ffffff"/>
              </a:solidFill>
              <a:latin typeface="Arial"/>
            </a:endParaRPr>
          </a:p>
        </p:txBody>
      </p:sp>
      <p:pic>
        <p:nvPicPr>
          <p:cNvPr id="124" name="Picture 5" descr="herc01r"/>
          <p:cNvPicPr/>
          <p:nvPr/>
        </p:nvPicPr>
        <p:blipFill>
          <a:blip r:embed="rId1"/>
          <a:stretch/>
        </p:blipFill>
        <p:spPr>
          <a:xfrm>
            <a:off x="5715000" y="18288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10_Shipton"/>
          <p:cNvPicPr/>
          <p:nvPr/>
        </p:nvPicPr>
        <p:blipFill>
          <a:blip r:embed="rId1"/>
          <a:stretch/>
        </p:blipFill>
        <p:spPr>
          <a:xfrm>
            <a:off x="914400" y="1752480"/>
            <a:ext cx="7772400" cy="4819680"/>
          </a:xfrm>
          <a:prstGeom prst="rect">
            <a:avLst/>
          </a:prstGeom>
          <a:ln w="0">
            <a:noFill/>
          </a:ln>
        </p:spPr>
      </p:pic>
      <p:sp>
        <p:nvSpPr>
          <p:cNvPr id="126"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heroes were the offspring of gods,   usually they were favored by the god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of Zeus would get help on a quest by Zeus or another Olymp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gifts such as helmets, winged sandals, and golden bridles were loaned to the heroes</a:t>
            </a:r>
            <a:endParaRPr b="0" lang="en-US" sz="3200" spc="-1" strike="noStrike">
              <a:solidFill>
                <a:srgbClr val="ffffff"/>
              </a:solidFill>
              <a:latin typeface="Arial"/>
            </a:endParaRPr>
          </a:p>
        </p:txBody>
      </p:sp>
      <p:sp>
        <p:nvSpPr>
          <p:cNvPr id="12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vored by the God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chimera"/>
          <p:cNvPicPr/>
          <p:nvPr/>
        </p:nvPicPr>
        <p:blipFill>
          <a:blip r:embed="rId1"/>
          <a:stretch/>
        </p:blipFill>
        <p:spPr>
          <a:xfrm>
            <a:off x="4191120" y="3544920"/>
            <a:ext cx="4952880" cy="3313080"/>
          </a:xfrm>
          <a:prstGeom prst="rect">
            <a:avLst/>
          </a:prstGeom>
          <a:ln w="0">
            <a:noFill/>
          </a:ln>
        </p:spPr>
      </p:pic>
      <p:sp>
        <p:nvSpPr>
          <p:cNvPr id="129" name="PlaceHolder 1"/>
          <p:cNvSpPr>
            <a:spLocks noGrp="1"/>
          </p:cNvSpPr>
          <p:nvPr>
            <p:ph type="title"/>
          </p:nvPr>
        </p:nvSpPr>
        <p:spPr>
          <a:xfrm>
            <a:off x="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s, Kleos and Aristea </a:t>
            </a:r>
            <a:endParaRPr b="1" lang="en-US" sz="4400" spc="-1" strike="noStrike">
              <a:solidFill>
                <a:srgbClr val="ffffb7"/>
              </a:solidFill>
              <a:latin typeface="Arial Black"/>
            </a:endParaRPr>
          </a:p>
        </p:txBody>
      </p:sp>
      <p:sp>
        <p:nvSpPr>
          <p:cNvPr id="130" name="PlaceHolder 2"/>
          <p:cNvSpPr>
            <a:spLocks noGrp="1"/>
          </p:cNvSpPr>
          <p:nvPr>
            <p:ph/>
          </p:nvPr>
        </p:nvSpPr>
        <p:spPr>
          <a:xfrm>
            <a:off x="-360" y="12189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made the world a safer place by defeating a monster, killing an evil king, or righting a wro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wanted their names to live forever since they could no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ngs must be sung that would perpetuate</a:t>
            </a:r>
            <a:r>
              <a:rPr b="0" lang="en-US" sz="3200" spc="-1" strike="noStrike">
                <a:solidFill>
                  <a:srgbClr val="006600"/>
                </a:solidFill>
                <a:latin typeface="Arial"/>
              </a:rPr>
              <a:t> </a:t>
            </a:r>
            <a:r>
              <a:rPr b="0" lang="en-US" sz="3200" spc="-1" strike="noStrike">
                <a:solidFill>
                  <a:srgbClr val="ffff66"/>
                </a:solidFill>
                <a:latin typeface="Arial"/>
              </a:rPr>
              <a:t>the stories of their great deeds</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3:28:07Z</dcterms:created>
  <dc:creator> </dc:creator>
  <dc:description/>
  <dc:language>en-US</dc:language>
  <cp:lastModifiedBy>RomaK</cp:lastModifiedBy>
  <dcterms:modified xsi:type="dcterms:W3CDTF">2015-09-02T09:27:41Z</dcterms:modified>
  <cp:revision>18</cp:revision>
  <dc:subject/>
  <dc:title>The Characteristics of the Greek Hero</dc:title>
</cp:coreProperties>
</file>