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A79A-1E28-4AE5-89B4-5FF9F1EDCB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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practice to get ready for your test…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day 7th July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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-practice to get ready for your test…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day 7th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e need to work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better levels when we move on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high levels all the time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ave treats if we get high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earn more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need to work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better levels when we move on st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high levels all the time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have treats if we get high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learn more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your times tab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1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x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19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x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1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x2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x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your times tabl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x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x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x2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taking awa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4-1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8-25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5-321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3-19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3-42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71-46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2-123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taking awa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98-25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83-19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71-46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dd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72+19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54+2765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43+25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2+97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467+245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45+94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89+16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4+935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add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54+2765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2+97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5+94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4+935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.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D56-42B6-42BE-B815-8F1A60AF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356-9750-4C50-995B-2F355E55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E59-C356-40EB-B51C-5584E5FD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E4B-D1D2-42EE-83E8-BF61D251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48F-50E0-4B3F-89C4-C04C4CFE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0A6-E27A-4178-9002-844315DA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0FC-AA25-423A-8AAE-C115FB26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0AB-D711-4BAE-B049-BFD3115A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44A-D6CD-44A5-93DD-25EDA133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5C2-DDF6-43C5-AE3B-A23F787E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F43-22D3-4FB7-BD78-0293775F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C38-4402-4345-80CE-25C51075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7487-C2BA-4694-9BA9-D08065AF2CA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0e500"/>
                </a:solidFill>
                <a:uFillTx/>
                <a:latin typeface="Maiandra GD"/>
              </a:rPr>
              <a:t>Mat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Re-practice to get ready for your test…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Monday 7</a:t>
            </a:r>
            <a:r>
              <a:rPr b="1" lang="en-GB" sz="1200" spc="-1" strike="noStrike" baseline="30000">
                <a:solidFill>
                  <a:srgbClr val="ffffff"/>
                </a:solidFill>
                <a:latin typeface="Maiandra GD"/>
              </a:rPr>
              <a:t>th</a:t>
            </a: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MPj04118030000[1]"/>
          <p:cNvPicPr/>
          <p:nvPr/>
        </p:nvPicPr>
        <p:blipFill>
          <a:blip r:embed="rId1"/>
          <a:stretch/>
        </p:blipFill>
        <p:spPr>
          <a:xfrm>
            <a:off x="6802560" y="0"/>
            <a:ext cx="2341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we need to work hard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get better levels when we mo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o get high levels all the time 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To have treats if we get high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To learn more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e500"/>
                </a:solidFill>
                <a:latin typeface="Arial"/>
              </a:rPr>
              <a:t>Practise your times table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7x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1x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45x2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4211640" y="2205000"/>
            <a:ext cx="2808360" cy="2879640"/>
            <a:chOff x="4211640" y="2205000"/>
            <a:chExt cx="2808360" cy="2879640"/>
          </a:xfrm>
        </p:grpSpPr>
        <p:sp>
          <p:nvSpPr>
            <p:cNvPr id="57" name="Line 4"/>
            <p:cNvSpPr/>
            <p:nvPr/>
          </p:nvSpPr>
          <p:spPr>
            <a:xfrm>
              <a:off x="493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565164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637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211640" y="2637000"/>
              <a:ext cx="27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4211640" y="3429000"/>
              <a:ext cx="28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4284720" y="4365720"/>
              <a:ext cx="25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435600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15"/>
          <p:cNvGrpSpPr/>
          <p:nvPr/>
        </p:nvGrpSpPr>
        <p:grpSpPr>
          <a:xfrm>
            <a:off x="5076720" y="2060640"/>
            <a:ext cx="1081080" cy="531000"/>
            <a:chOff x="5076720" y="2060640"/>
            <a:chExt cx="1081080" cy="531000"/>
          </a:xfrm>
        </p:grpSpPr>
        <p:sp>
          <p:nvSpPr>
            <p:cNvPr id="65" name="Text Box 11"/>
            <p:cNvSpPr/>
            <p:nvPr/>
          </p:nvSpPr>
          <p:spPr>
            <a:xfrm>
              <a:off x="5076720" y="206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5797440" y="213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4284720" y="2852640"/>
            <a:ext cx="863640" cy="1396080"/>
            <a:chOff x="4284720" y="2852640"/>
            <a:chExt cx="863640" cy="1396080"/>
          </a:xfrm>
        </p:grpSpPr>
        <p:sp>
          <p:nvSpPr>
            <p:cNvPr id="68" name="Text Box 13"/>
            <p:cNvSpPr/>
            <p:nvPr/>
          </p:nvSpPr>
          <p:spPr>
            <a:xfrm>
              <a:off x="4284720" y="2852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500720" y="37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4932360" y="2852640"/>
            <a:ext cx="1368360" cy="1305000"/>
            <a:chOff x="4932360" y="2852640"/>
            <a:chExt cx="1368360" cy="1305000"/>
          </a:xfrm>
        </p:grpSpPr>
        <p:sp>
          <p:nvSpPr>
            <p:cNvPr id="71" name="Text Box 18"/>
            <p:cNvSpPr/>
            <p:nvPr/>
          </p:nvSpPr>
          <p:spPr>
            <a:xfrm>
              <a:off x="4932360" y="2852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5651640" y="29242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4932360" y="378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3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5724360" y="3789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ractise taking away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998-25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783-19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671-46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8a4b"/>
                </a:solidFill>
                <a:latin typeface="Arial"/>
              </a:rPr>
              <a:t>Try adding…</a:t>
            </a: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1654+2765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512+97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645+94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374+935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e2e40"/>
                </a:solidFill>
                <a:latin typeface="Arial"/>
              </a:rPr>
              <a:t>Square these number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quare these numb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8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0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2.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7:47:07Z</dcterms:created>
  <dc:creator>ESRA</dc:creator>
  <dc:description/>
  <dc:language>en-US</dc:language>
  <cp:lastModifiedBy>RomaK</cp:lastModifiedBy>
  <dcterms:modified xsi:type="dcterms:W3CDTF">2015-09-04T07:35:20Z</dcterms:modified>
  <cp:revision>11</cp:revision>
  <dc:subject/>
  <dc:title>Maths- Addition, subtraction, multiplication and division</dc:title>
</cp:coreProperties>
</file>