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7837-DFDB-4B60-B83C-3746490D5E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lgebra</a:t>
            </a: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Gr. 6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difference between an expression and an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has an equal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xplain the difference between an expression and an equatio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quation has an equal sign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9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(9 + 3)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9s - 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area of the wall that Keesha will paint?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 l x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 18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  64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10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is the area of the wall that Keesha will paint?  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 =  l x 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number should replace 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number should replace 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+ 2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816-4286-4675-95DF-A8F05E27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041-5967-4202-9C72-1631AF32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3AA-DE99-478A-AB99-F369C34F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7EC-A812-415E-996E-8A0F3B8D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B6FD-2D29-4ADA-977C-3FF82718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C6E3-9996-408D-92E7-581FD9D0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5E0E-1ED1-4902-8285-64314282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76FF-3627-4CAA-B0BF-33B9E3E1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139F-B690-417A-A30A-E4DB1671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7A81-27D7-4148-9A70-724EDD90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486A-E8FE-4988-9D66-2C971E52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4B8-4D92-496C-B7D8-F5FC2848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335B-00D9-4236-9146-C3DA3E70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1840-7FAB-48F3-8DC4-EAA67BE7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442A-D0B8-40A5-9086-741CDFDA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F3F5-5490-4666-828B-C2F67A5F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8B30-44A9-4FD9-94CE-12680DA9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A74-0DA7-4390-9079-C5C2AA09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D50D-784F-4C36-AE92-A1B04C54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3E78-E9CD-4CDF-B715-AEC10FB4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8B5-A698-41EB-8C80-CE9C7E60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EBE8-D07E-42C4-990A-7611D3F0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4B9-7AB8-4505-8065-E42575F8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AEE-BC62-47E7-B12F-4E5C3FF7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83A3-ADB6-491E-9C93-91A2B9EED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C570-34FC-4571-B0D4-C211D5C0CFA0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6666"/>
                </a:solidFill>
                <a:latin typeface="Verdana"/>
              </a:rPr>
              <a:t>Algebra</a:t>
            </a:r>
            <a:br>
              <a:rPr sz="52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Gr. 6</a:t>
            </a:r>
            <a:br>
              <a:rPr sz="52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2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Explain the difference between an expression and an equation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Equation has an equal sign.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Which expression represents the number of stamps Sarah has left?</a:t>
            </a:r>
            <a:br>
              <a:rPr sz="40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s,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n each envelope. She sells 3 of the envelop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hat is the area of the wall that Keesha will paint?    </a:t>
            </a:r>
            <a:r>
              <a:rPr b="1" i="1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 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l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x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What number should replace n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rite an expression for the number of hummingbirds Lewis saw on Saturday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h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. On Saturday, he saw 3 more than twice the number of hummingbirds he saw on Friday. Write your answ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35:40Z</dcterms:modified>
  <cp:revision>9</cp:revision>
  <dc:subject/>
  <dc:title>Percent</dc:title>
</cp:coreProperties>
</file>