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move the slid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60CD2-C967-464F-B406-17D30A4767E3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gebra 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r. Clut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llegas Middle Schoo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lgebra I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r. Clutte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Villegas Middle School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bra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006-2007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rite Algebraic Expression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ese Word Phra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number s plus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number decrease by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1 less than a numb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number b increased by 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m of a number &amp; 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9 more than a numb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 +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 -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 - 3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 + 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 + 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 + 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rite Algebraic Expressions</a:t>
            </a:r>
            <a:br>
              <a:rPr sz="1200"/>
            </a:b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or These Word Phras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 number s plus 2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 number decrease by 1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31 less than a numbe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 number b increased by 7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sum of a number &amp; 6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9 more than a numbe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 + 2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k - 1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x - 31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 + 7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 + 6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z + 9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aluate each algebraic expression when x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 + 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 + 4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 + 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 – x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 - 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2 - 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valuate each algebraic expression when x = 10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x + 8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x + 49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x + x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x – x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x - 7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42 - x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8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59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0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32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lete This Ta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mplete This Tabl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8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9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lete This Ta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mplete This Tabl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1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6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7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38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rite an Algebraic Expression for These Situ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cott’s brother is 2 years younger than Scot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m of two numbers is 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ifference between two numbers is 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 -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 + c = 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 – n = 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rite an Algebraic Expression for These Situation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cott’s brother is 2 years younger than Scot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sum of two numbers is 12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difference between two numbers is 5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 - 2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v + c = 12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 – n = 5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ini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ariable – A variable is a letter or symbol that represents a number (unknown quantity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 + n = 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efinition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Variable – A variable is a letter or symbol that represents a number (unknown quantity)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8 + n = 12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ini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variable can use any letter of the alphabe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 + 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 – 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 - 2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efinition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 variable can use any letter of the alphabet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 + 5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x – 7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 - 25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ini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gebraic expression – a group of numbers, symbols, and variables that express an operation or a series of operat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 + 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 –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efinition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lgebraic expression – a group of numbers, symbols, and variables that express an operation or a series of operation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 + 8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 – 3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ini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aluate an algebraic expression – To find the value of an algebraic expression by substituting numbers for variabl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 + 8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 = 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+ 8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 – 3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 = 5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– 3 =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efinition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valuate an algebraic expression – To find the value of an algebraic expression by substituting numbers for variable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 + 8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 = 2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 + 8 = 10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 – 3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 = 5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5 – 3 = 2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ini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mplify – Combine like terms and complete all oper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 =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 + 8 + m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m + 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2 x 2) + 8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+ 8 = 1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efinition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implify – Combine like terms and complete all operation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 = 2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 + 8 + m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 m + 8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(2 x 2) + 8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4 + 8 = 12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rds That Lead to Add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re th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creas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togeth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ords That Lead to Additi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um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ore tha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ncreased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lu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ltogethe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rds That Lead to Subtra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creas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er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n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many m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ords That Lead to Subtracti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ecreased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es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ifferenc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inu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ow many mor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rite Algebraic Expression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ese Word Phra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n more than a numb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number decrease by 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 less than a numb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number increased by 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m of a number &amp; 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more than a numb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 +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 - 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 - 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 + 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 + 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 +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rite Algebraic Expressions</a:t>
            </a:r>
            <a:br>
              <a:rPr sz="1200"/>
            </a:b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or These Word Phras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en more than a numbe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 number decrease by 5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6 less than a numbe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 number increased by 8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sum of a number &amp; 9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4 more than a numbe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 + 10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 - 5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x - 6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 + 8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 + 9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y + 4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81024-3E20-4737-A765-BEADF0E35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F9E9E-4AEF-40BE-BCE5-9639936DC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4FB1E-4DD7-4753-8A0A-3D8487981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DDAEC-011B-4234-891A-1BC9F4B45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58DC5-469D-4D29-80CA-6C7A501A2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DE46D-D410-440F-A366-458F56A85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08A41-7A63-43E1-9886-78CB7B534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90D5F-7FF1-411C-80E6-9EFAA53E9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CCE3E-55DF-415D-B45D-93C67D7D1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EFEC7-DC8A-4D05-8D9C-7FA03F8EA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0267A-97F8-4193-9CA0-224AECC5D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5DB26-C879-473B-A547-D6CFE4CDD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4F1C9-F08A-42DA-9F00-D3CEE686A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322D5-8DEB-4EBE-9D16-05054BD6F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F6103-E867-40E5-9FDD-C084FA0DB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6CCC7-45FC-48E7-9EFE-9AFE8A6A3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E10F1-75D9-4757-9B3C-048A43FEF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E916D-5E35-4F3C-A52C-9A9EB88A0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CC422-D521-46DA-9902-04B39BB02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D4C12-0402-4138-B59A-B8EE380EE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1B9A2-DEA8-40F6-B2B4-84E2B452D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2A398-5603-4924-8C30-4FA66EF8E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67D4C-2614-4F6A-9DD9-C85A87BD0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93DEF-EA2D-4951-AC3F-380B27136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"/>
          <p:cNvGrpSpPr/>
          <p:nvPr/>
        </p:nvGrpSpPr>
        <p:grpSpPr>
          <a:xfrm>
            <a:off x="457200" y="992160"/>
            <a:ext cx="8153280" cy="1600200"/>
            <a:chOff x="457200" y="992160"/>
            <a:chExt cx="8153280" cy="1600200"/>
          </a:xfrm>
        </p:grpSpPr>
        <p:sp>
          <p:nvSpPr>
            <p:cNvPr id="1" name="Arc 2"/>
            <p:cNvSpPr/>
            <p:nvPr/>
          </p:nvSpPr>
          <p:spPr>
            <a:xfrm>
              <a:off x="5707080" y="992160"/>
              <a:ext cx="2903400" cy="1600200"/>
            </a:xfrm>
            <a:custGeom>
              <a:avLst/>
              <a:gdLst/>
              <a:ahLst/>
              <a:rect l="l" t="t" r="r" b="b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  <a:lnTo>
                    <a:pt x="312" y="21600"/>
                  </a:ln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Arc 3"/>
            <p:cNvSpPr/>
            <p:nvPr/>
          </p:nvSpPr>
          <p:spPr>
            <a:xfrm>
              <a:off x="5632560" y="1157400"/>
              <a:ext cx="2906640" cy="1269720"/>
            </a:xfrm>
            <a:custGeom>
              <a:avLst/>
              <a:gdLst/>
              <a:ahLst/>
              <a:rect l="l" t="t" r="r" b="b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  <a:lnTo>
                    <a:pt x="324" y="21600"/>
                  </a:lnTo>
                  <a:lnTo>
                    <a:pt x="31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Arc 4"/>
            <p:cNvSpPr/>
            <p:nvPr/>
          </p:nvSpPr>
          <p:spPr>
            <a:xfrm>
              <a:off x="5589720" y="1378080"/>
              <a:ext cx="2904840" cy="828720"/>
            </a:xfrm>
            <a:custGeom>
              <a:avLst/>
              <a:gdLst/>
              <a:ahLst/>
              <a:rect l="l" t="t" r="r" b="b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  <a:lnTo>
                    <a:pt x="325" y="21600"/>
                  </a:lnTo>
                  <a:lnTo>
                    <a:pt x="31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AutoShape 5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D89C5-6688-4A38-9B39-C839A4ABAA4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1030"/>
          <p:cNvGrpSpPr/>
          <p:nvPr/>
        </p:nvGrpSpPr>
        <p:grpSpPr>
          <a:xfrm>
            <a:off x="457200" y="2363760"/>
            <a:ext cx="8153280" cy="1600200"/>
            <a:chOff x="457200" y="2363760"/>
            <a:chExt cx="8153280" cy="1600200"/>
          </a:xfrm>
        </p:grpSpPr>
        <p:sp>
          <p:nvSpPr>
            <p:cNvPr id="47" name="Arc 1026"/>
            <p:cNvSpPr/>
            <p:nvPr/>
          </p:nvSpPr>
          <p:spPr>
            <a:xfrm>
              <a:off x="5707080" y="2363760"/>
              <a:ext cx="2903400" cy="1600200"/>
            </a:xfrm>
            <a:custGeom>
              <a:avLst/>
              <a:gdLst/>
              <a:ahLst/>
              <a:rect l="l" t="t" r="r" b="b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  <a:lnTo>
                    <a:pt x="312" y="21600"/>
                  </a:ln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Arc 1027"/>
            <p:cNvSpPr/>
            <p:nvPr/>
          </p:nvSpPr>
          <p:spPr>
            <a:xfrm>
              <a:off x="5632560" y="2529000"/>
              <a:ext cx="2906640" cy="1269720"/>
            </a:xfrm>
            <a:custGeom>
              <a:avLst/>
              <a:gdLst/>
              <a:ahLst/>
              <a:rect l="l" t="t" r="r" b="b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  <a:lnTo>
                    <a:pt x="324" y="21600"/>
                  </a:lnTo>
                  <a:lnTo>
                    <a:pt x="31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Arc 1028"/>
            <p:cNvSpPr/>
            <p:nvPr/>
          </p:nvSpPr>
          <p:spPr>
            <a:xfrm>
              <a:off x="5589720" y="2749680"/>
              <a:ext cx="2904840" cy="828720"/>
            </a:xfrm>
            <a:custGeom>
              <a:avLst/>
              <a:gdLst/>
              <a:ahLst/>
              <a:rect l="l" t="t" r="r" b="b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  <a:lnTo>
                    <a:pt x="325" y="21600"/>
                  </a:lnTo>
                  <a:lnTo>
                    <a:pt x="31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AutoShape 1029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1C403-98FA-4AFB-B3DD-EB25CF570956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Times New Roman"/>
              </a:rPr>
              <a:t>Algebra I</a:t>
            </a:r>
            <a:endParaRPr b="0" i="1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r. Clutter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Villegas Middle Schoo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Librar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2006-2007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Write Algebraic Expressions</a:t>
            </a:r>
            <a:br>
              <a:rPr sz="4400"/>
            </a:b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for These Word Phrase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-360" y="2057040"/>
            <a:ext cx="6629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 number s plus 2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 number decrease by 1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31 less than a number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 number b increased by 7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The sum of a number &amp; 6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9 more than a number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6918840" y="2004840"/>
            <a:ext cx="1275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 + 2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" name="Text Box 5"/>
          <p:cNvSpPr/>
          <p:nvPr/>
        </p:nvSpPr>
        <p:spPr>
          <a:xfrm>
            <a:off x="6934320" y="2819520"/>
            <a:ext cx="1617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k - 1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Text Box 6"/>
          <p:cNvSpPr/>
          <p:nvPr/>
        </p:nvSpPr>
        <p:spPr>
          <a:xfrm>
            <a:off x="6933960" y="3657600"/>
            <a:ext cx="14882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x - 31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8" name="Text Box 7"/>
          <p:cNvSpPr/>
          <p:nvPr/>
        </p:nvSpPr>
        <p:spPr>
          <a:xfrm>
            <a:off x="6934680" y="4495680"/>
            <a:ext cx="133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b + 7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9" name="Text Box 8"/>
          <p:cNvSpPr/>
          <p:nvPr/>
        </p:nvSpPr>
        <p:spPr>
          <a:xfrm>
            <a:off x="6934680" y="5257800"/>
            <a:ext cx="133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n + 6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0" name="Text Box 9"/>
          <p:cNvSpPr/>
          <p:nvPr/>
        </p:nvSpPr>
        <p:spPr>
          <a:xfrm>
            <a:off x="6934320" y="6095880"/>
            <a:ext cx="1600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z + 9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Evaluate each algebraic expression when x = 10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09680" y="2057040"/>
            <a:ext cx="243864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x + 8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x + 49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x + x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x – x 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x - 7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42 - x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5944320" y="205740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18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" name="Text Box 5"/>
          <p:cNvSpPr/>
          <p:nvPr/>
        </p:nvSpPr>
        <p:spPr>
          <a:xfrm>
            <a:off x="6019920" y="2819520"/>
            <a:ext cx="1617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59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5" name="Text Box 6"/>
          <p:cNvSpPr/>
          <p:nvPr/>
        </p:nvSpPr>
        <p:spPr>
          <a:xfrm>
            <a:off x="6019920" y="3657600"/>
            <a:ext cx="7426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20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6249600" y="4572000"/>
            <a:ext cx="461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0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7" name="Text Box 8"/>
          <p:cNvSpPr/>
          <p:nvPr/>
        </p:nvSpPr>
        <p:spPr>
          <a:xfrm>
            <a:off x="6249600" y="5257800"/>
            <a:ext cx="461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3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8" name="Text Box 9"/>
          <p:cNvSpPr/>
          <p:nvPr/>
        </p:nvSpPr>
        <p:spPr>
          <a:xfrm>
            <a:off x="6019920" y="6019920"/>
            <a:ext cx="1600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32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omplete This Tabl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2438280" y="2209680"/>
          <a:ext cx="4419720" cy="3810240"/>
        </p:xfrm>
        <a:graphic>
          <a:graphicData uri="http://schemas.openxmlformats.org/drawingml/2006/table">
            <a:tbl>
              <a:tblPr/>
              <a:tblGrid>
                <a:gridCol w="2210040"/>
                <a:gridCol w="2209680"/>
              </a:tblGrid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n</a:t>
                      </a:r>
                      <a:endParaRPr b="0" lang="en-US" sz="4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n - 3</a:t>
                      </a:r>
                      <a:endParaRPr b="0" lang="en-US" sz="4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5</a:t>
                      </a:r>
                      <a:endParaRPr b="0" lang="en-US" sz="4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10</a:t>
                      </a:r>
                      <a:endParaRPr b="0" lang="en-US" sz="4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21</a:t>
                      </a:r>
                      <a:endParaRPr b="0" lang="en-US" sz="4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32</a:t>
                      </a:r>
                      <a:endParaRPr b="0" lang="en-US" sz="4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Text Box 44"/>
          <p:cNvSpPr/>
          <p:nvPr/>
        </p:nvSpPr>
        <p:spPr>
          <a:xfrm>
            <a:off x="5487480" y="297180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2" name="Text Box 45"/>
          <p:cNvSpPr/>
          <p:nvPr/>
        </p:nvSpPr>
        <p:spPr>
          <a:xfrm>
            <a:off x="5487480" y="373392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7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3" name="Text Box 46"/>
          <p:cNvSpPr/>
          <p:nvPr/>
        </p:nvSpPr>
        <p:spPr>
          <a:xfrm>
            <a:off x="5334480" y="449568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18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4" name="Text Box 47"/>
          <p:cNvSpPr/>
          <p:nvPr/>
        </p:nvSpPr>
        <p:spPr>
          <a:xfrm>
            <a:off x="5334120" y="5257800"/>
            <a:ext cx="742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29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omplete This Tabl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2438280" y="2209680"/>
          <a:ext cx="4419720" cy="3810240"/>
        </p:xfrm>
        <a:graphic>
          <a:graphicData uri="http://schemas.openxmlformats.org/drawingml/2006/table">
            <a:tbl>
              <a:tblPr/>
              <a:tblGrid>
                <a:gridCol w="2210040"/>
                <a:gridCol w="2209680"/>
              </a:tblGrid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x</a:t>
                      </a:r>
                      <a:endParaRPr b="0" lang="en-US" sz="4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x + 6</a:t>
                      </a:r>
                      <a:endParaRPr b="0" lang="en-US" sz="4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5</a:t>
                      </a:r>
                      <a:endParaRPr b="0" lang="en-US" sz="4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10</a:t>
                      </a:r>
                      <a:endParaRPr b="0" lang="en-US" sz="4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21</a:t>
                      </a:r>
                      <a:endParaRPr b="0" lang="en-US" sz="4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32</a:t>
                      </a:r>
                      <a:endParaRPr b="0" lang="en-US" sz="4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Text Box 23"/>
          <p:cNvSpPr/>
          <p:nvPr/>
        </p:nvSpPr>
        <p:spPr>
          <a:xfrm>
            <a:off x="5410800" y="297180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11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8" name="Text Box 24"/>
          <p:cNvSpPr/>
          <p:nvPr/>
        </p:nvSpPr>
        <p:spPr>
          <a:xfrm>
            <a:off x="5410800" y="373392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16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9" name="Text Box 25"/>
          <p:cNvSpPr/>
          <p:nvPr/>
        </p:nvSpPr>
        <p:spPr>
          <a:xfrm>
            <a:off x="5410800" y="449568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27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0" name="Text Box 26"/>
          <p:cNvSpPr/>
          <p:nvPr/>
        </p:nvSpPr>
        <p:spPr>
          <a:xfrm>
            <a:off x="5410080" y="5257800"/>
            <a:ext cx="743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38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Write an Algebraic Expression for These Situation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0" y="20574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Scott’s brother is 2 years younger than Scott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The sum of two numbers is 12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The difference between two numbers is 5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Text Box 4"/>
          <p:cNvSpPr/>
          <p:nvPr/>
        </p:nvSpPr>
        <p:spPr>
          <a:xfrm>
            <a:off x="4115160" y="2743200"/>
            <a:ext cx="1145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 - 2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" name="Text Box 5"/>
          <p:cNvSpPr/>
          <p:nvPr/>
        </p:nvSpPr>
        <p:spPr>
          <a:xfrm>
            <a:off x="4114080" y="4267080"/>
            <a:ext cx="2462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v + c = 12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" name="Text Box 6"/>
          <p:cNvSpPr/>
          <p:nvPr/>
        </p:nvSpPr>
        <p:spPr>
          <a:xfrm>
            <a:off x="4114800" y="5638680"/>
            <a:ext cx="2332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m – n = 5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Times New Roman"/>
              </a:rPr>
              <a:t>Definitions</a:t>
            </a:r>
            <a:endParaRPr b="0" i="1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Variable – A variable is a letter or symbol that represents a number (unknown quantity)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8 + 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n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 = 12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3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3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3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Times New Roman"/>
              </a:rPr>
              <a:t>Definitions</a:t>
            </a:r>
            <a:endParaRPr b="0" i="1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 variable can use any letter of the alphabet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n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 + 5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x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 – 7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w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 - 25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3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3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3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3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3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3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Times New Roman"/>
              </a:rPr>
              <a:t>Definitions</a:t>
            </a:r>
            <a:endParaRPr b="0" i="1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20574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lgebraic expression – a group of numbers, symbols, and variables that express an operation or a series of operations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m + 8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r – 3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3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3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3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3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3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Times New Roman"/>
              </a:rPr>
              <a:t>Definitions</a:t>
            </a:r>
            <a:endParaRPr b="0" i="1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520" y="20574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Evaluate an algebraic expression – To find the value of an algebraic expression by substituting numbers for variables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m</a:t>
            </a: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+ 8</a:t>
            </a: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m = 2</a:t>
            </a: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2 + 8 = 10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r – 3</a:t>
            </a: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r = 5</a:t>
            </a: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5 – 3 = 2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3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3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3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3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3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3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Times New Roman"/>
              </a:rPr>
              <a:t>Definitions</a:t>
            </a:r>
            <a:endParaRPr b="0" i="1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Simplify – Combine like terms and complete all operation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m = 2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m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+ 8 + m 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2 m + 8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(2 x 2) + 8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4 + 8 = 12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3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3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3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3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3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3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3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3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Times New Roman"/>
              </a:rPr>
              <a:t>Words That Lead to Addition</a:t>
            </a:r>
            <a:endParaRPr b="0" i="1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Sum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More than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Increased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Plu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ltogether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3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3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3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3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3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3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Times New Roman"/>
              </a:rPr>
              <a:t>Words That Lead to Subtraction</a:t>
            </a:r>
            <a:endParaRPr b="0" i="1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Decreased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Les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Difference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Minu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How many more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3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3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3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3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3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3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3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3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Write Algebraic Expressions</a:t>
            </a:r>
            <a:br>
              <a:rPr sz="4400"/>
            </a:b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for These Word Phrase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920" y="2057040"/>
            <a:ext cx="63244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Ten more than a number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 number decrease by 5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6 less than a number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 number increased by 8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The sum of a number &amp; 9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4 more than a number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6918480" y="2004840"/>
            <a:ext cx="1617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n + 10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6934320" y="2819520"/>
            <a:ext cx="1617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w - 5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" name="Text Box 6"/>
          <p:cNvSpPr/>
          <p:nvPr/>
        </p:nvSpPr>
        <p:spPr>
          <a:xfrm>
            <a:off x="6934320" y="3657600"/>
            <a:ext cx="1207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x - 6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Text Box 7"/>
          <p:cNvSpPr/>
          <p:nvPr/>
        </p:nvSpPr>
        <p:spPr>
          <a:xfrm>
            <a:off x="6934680" y="4495680"/>
            <a:ext cx="133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n + 8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Text Box 8"/>
          <p:cNvSpPr/>
          <p:nvPr/>
        </p:nvSpPr>
        <p:spPr>
          <a:xfrm>
            <a:off x="6934680" y="5257800"/>
            <a:ext cx="133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n + 9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Text Box 9"/>
          <p:cNvSpPr/>
          <p:nvPr/>
        </p:nvSpPr>
        <p:spPr>
          <a:xfrm>
            <a:off x="6934320" y="6095880"/>
            <a:ext cx="1600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y + 4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02T14:00:10Z</dcterms:created>
  <dc:creator>Mr. Clutter</dc:creator>
  <dc:description/>
  <dc:language>en-US</dc:language>
  <cp:lastModifiedBy>RomaK</cp:lastModifiedBy>
  <dcterms:modified xsi:type="dcterms:W3CDTF">2015-09-04T07:36:07Z</dcterms:modified>
  <cp:revision>8</cp:revision>
  <dc:subject/>
  <dc:title>Algebra- Definitions</dc:title>
</cp:coreProperties>
</file>