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CD33-B3E8-4E8D-AF69-412478504B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gebra 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br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se Word Phr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s plu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decrease b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 less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b increased by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a number &amp;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These Word Phr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s plus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decrease by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1 less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b increased by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a number &amp;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 -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3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+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 each algebraic expression when x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 -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e each algebraic expression when x =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4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– x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2 - 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is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te This T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is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te This T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Algebraic Expression for These Sit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tt’s brother is 2 years younger than Sco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two numbers is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 between two numbers is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+ c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– n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n Algebraic Expression for These Situ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ott’s brother is 2 years younger than Scot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two numbers is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ifference between two numbers is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-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+ c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– n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– A variable is a letter or symbol that represents a number (unknown quantit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+ n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riable – A variable is a letter or symbol that represents a number (unknown quantity)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n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able can use any letter of the alphab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variable can use any letter of the alphab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–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- 2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expression – a group of numbers, symbols, and variables that express an operation or a series of ope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gebraic expression – a group of numbers, symbols, and variables that express an operation or a series of opera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–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 an algebraic expression – To find the value of an algebraic expression by substituting numbers for vari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+ 8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– 3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e an algebraic expression – To find the value of an algebraic expression by substituting numbers for variab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2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8 =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– 3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= 5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– 3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ify – Combine like terms and complete all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 + 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 x 2) +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+ 8 =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mplify – Combine like terms and complete all oper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 + 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m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2 x 2) + 8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8 = 12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Lead to 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ds That Lead to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re tha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rea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toge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Lead to 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ds That Lead to 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crea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any mo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se Word Phr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decrease by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less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increased by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a number &amp;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These Word Phr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n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decrease by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less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increased by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a number &amp;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-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+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1D17-EDA7-46CA-B49A-F52CAF30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78C4-5211-4DF7-8179-69D03BED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FE71-141F-4C1E-B336-533603C0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8F8-8340-4F69-8908-FFD01F5A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52C8-6ADC-4DF5-9010-286FCE0E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8429-80C7-4C94-865D-BD9F2127F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FCBC-39C1-4F79-986E-E1D12BC0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92A1-F051-4C25-A5AD-70CF3BFD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D023-EDCB-42C7-A277-AF39AB07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CA5F-0FBD-4B5A-BE83-2732E14A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D76E-42FC-4415-90B3-A2B1FDD0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A3D-1866-47A8-BDAC-C289CD69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1984-2DB8-4398-90E4-71B47906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E0E2-2D40-43A0-8A3A-AB9EA8E9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BA7C-3F78-4B99-B15E-A51CB193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B11C2-7359-4418-88AC-0F90E56B8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3ABC-941A-447C-BCFA-A9C8DD2C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768-219E-4988-912F-C4E32118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06E8-16DE-48FF-9EB9-76B039CB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9AE-2DB8-4AF4-88CD-A15D30C5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800-17C8-4C23-B8E6-EA42CB7C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9B35-C120-48E1-9AD3-1D43567B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7F9-0893-44F2-8239-1D66774F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733-F687-4389-A954-6D0A9771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7413-438A-4569-847D-9C9C9AE469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A800-5753-498D-B7D9-F8791F6629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Algebra I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r. Clut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llegas Middle Scho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bra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006-200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lgebraic Expression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 These Word Phr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s plus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decrease by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1 less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b increased by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um of a number &amp;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18840" y="2004840"/>
            <a:ext cx="127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+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9343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 -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933960" y="3657600"/>
            <a:ext cx="148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 - 3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9346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 +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9346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934320" y="60958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valuate each algebraic expression when x = 10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2438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4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– x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-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2 -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4320" y="2057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199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019920" y="3657600"/>
            <a:ext cx="74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249600" y="45720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249600" y="52578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01992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lete This 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38280" y="2209680"/>
          <a:ext cx="4419720" cy="38102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 - 3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44"/>
          <p:cNvSpPr/>
          <p:nvPr/>
        </p:nvSpPr>
        <p:spPr>
          <a:xfrm>
            <a:off x="5487480" y="2971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45"/>
          <p:cNvSpPr/>
          <p:nvPr/>
        </p:nvSpPr>
        <p:spPr>
          <a:xfrm>
            <a:off x="5487480" y="3733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46"/>
          <p:cNvSpPr/>
          <p:nvPr/>
        </p:nvSpPr>
        <p:spPr>
          <a:xfrm>
            <a:off x="5334480" y="4495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47"/>
          <p:cNvSpPr/>
          <p:nvPr/>
        </p:nvSpPr>
        <p:spPr>
          <a:xfrm>
            <a:off x="5334120" y="5257800"/>
            <a:ext cx="74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lete This 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38280" y="2209680"/>
          <a:ext cx="4419720" cy="38102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+ 6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23"/>
          <p:cNvSpPr/>
          <p:nvPr/>
        </p:nvSpPr>
        <p:spPr>
          <a:xfrm>
            <a:off x="5410800" y="2971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541080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5410800" y="4495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5410080" y="525780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n Algebraic Expression for These Situ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cott’s brother is 2 years younger than Scot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sum of two numbers is 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difference between two numbers is 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115160" y="2743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-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114080" y="4267080"/>
            <a:ext cx="24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 + c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114800" y="5638680"/>
            <a:ext cx="23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– n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ariable – A variable is a letter or symbol that represents a number (unknown quantity)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variable can use any letter of the alphabe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+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–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- 2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gebraic expression – a group of numbers, symbols, and variables that express an operation or a series of operatio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 + 8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– 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valuate an algebraic expression – To find the value of an algebraic expression by substituting numbers for variabl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+ 8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 = 2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 + 8 = 1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– 3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= 5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5 – 3 = 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mplify – Combine like terms and complete all opera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+ 8 + m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 m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2 x 2) + 8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+ 8 = 12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Words That Lead to Addi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ha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creas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togeth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Words That Lead to Subtrac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ecreas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fferen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in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many mo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lgebraic Expression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 These Word Phr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n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decrease by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 less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increased by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um of a number &amp;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918480" y="2004840"/>
            <a:ext cx="161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1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9343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 -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934320" y="3657600"/>
            <a:ext cx="120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 -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9346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9346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934320" y="60958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 +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4:00:10Z</dcterms:created>
  <dc:creator>Mr. Clutter</dc:creator>
  <dc:description/>
  <dc:language>en-US</dc:language>
  <cp:lastModifiedBy>RomaK</cp:lastModifiedBy>
  <dcterms:modified xsi:type="dcterms:W3CDTF">2015-09-04T07:36:07Z</dcterms:modified>
  <cp:revision>8</cp:revision>
  <dc:subject/>
  <dc:title>Algebra- Definitions</dc:title>
</cp:coreProperties>
</file>