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1992-373C-4AFF-8BFC-01450CF576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gebra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y Monica Yuskai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se equations true, false or o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+ v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–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 – the opposite operation used to undo the firs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3 = 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– 4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x 6 = 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/ 6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n addi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addition which is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8 = 1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- 8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4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8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solve a subtrac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nverse operation for subtraction which is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- 3 = 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 3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5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4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6 =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– 8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+ 4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+ 5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+ b = c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+ a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 + 3 = 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6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+ y = z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 + x = 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+ 4 + 1 = 8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 + 3 + 4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 these equations using the commutat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7 = 7 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2 = 2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+ 3 = 3 +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+ 6 = 6 +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+ 4 = 4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8 = 8 +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=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+ 0 =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+ 0 =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Identity Property of addition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0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+ 0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+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+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+ 0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traction Rules of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n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 – 0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 – 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–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+ 4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nd the value of n using the rules of subtrac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 - 8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9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7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– 0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n equation for these problems using a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smin runs 15 minutes before school and 30 minutes after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zinger costs 25 cents.  Issak bought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 + n = 99 or 99 – 72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+ 30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25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– A mathematical sentence with an equals 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– 5 =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 + 3 =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Sign (=) Means that the amount is the same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+ 2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– 2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quation is like a balance scale.  Everything must be equal on both s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+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equal on both sides it is a tru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mounts are unequal on both sides it is a fals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amount is unknown on one side of the equation it is an open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+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40B3-F042-42C6-81A3-6A2F9A66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45FB-2037-41D6-B2ED-863C4EE2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0554-0A5E-4D0C-A892-4E86AF3D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67D-5D99-4F05-A0D3-6FBD3E7F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C566-7A48-44C3-ACDE-A4C02AD6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B720-16A6-466D-B03B-80272C7ED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BD08-4815-4046-8756-F34939AA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2129-19B2-4A3F-9474-2052E6D6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F7C1-F889-4D6F-9609-8C18907C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E2C2-1A50-4A0D-A64B-535AEA2F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2562-9920-4D4F-96EC-09EFE32E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9F8-2050-44E1-B301-177D3A54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2D98-3238-4C11-B5AB-4E4FB56B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2836-6652-464A-9E5B-7B98CE3F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E17A-12AB-4A0C-87C5-3520BF8C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AAAC-156A-466F-B0FE-B1767C7A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F8F9-B1C6-4A42-83C6-70DFFD62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7C2-B627-4211-8392-C8A25034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4B6-3E4B-4422-9C83-E7E981DD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D650-652E-4E93-96DE-9125806A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CF2-5733-4334-BD36-70ACA09A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7AB3-AF07-45C1-97E9-FAB3FEB6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20E-AC51-4568-8CA5-42309C75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B743-1DB1-47CB-8BFB-520943E6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F647-5451-427D-AE0B-77FB20045B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CB79-CC52-44C6-8085-1FA1AC318C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y Monica Yuska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re these equations true, false or open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99840" y="205740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v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5 –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257800" y="198108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4840" y="266688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33760" y="342900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334120" y="4191120"/>
            <a:ext cx="1238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33760" y="4952880"/>
            <a:ext cx="127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p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410800" y="5715000"/>
            <a:ext cx="105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imes New Roman"/>
              </a:rPr>
              <a:t>Inverse operation – the opposite operation used to undo the first.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3 = 7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 – 4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6 x 6 = 36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6 / 6 =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n addi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addition which is subtr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= 12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2 - 8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4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4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+ 8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3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3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to solve a subtraction equa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e the inverse operation for subtraction which is addi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 3 =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 + 3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8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 u="sng">
                <a:solidFill>
                  <a:srgbClr val="ffcc66"/>
                </a:solidFill>
                <a:uFillTx/>
                <a:latin typeface="Times New Roman"/>
              </a:rPr>
              <a:t>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- 3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3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Solve these equations using the inverse opera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33530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5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4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6 = 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1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8 = 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792400" y="1828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792400" y="2590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5791680" y="3352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791680" y="4114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792400" y="48006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5792400" y="5486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Commutative Property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5 + 4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+ 5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b = c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a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+ 3 = 9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6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+ y = z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y + x = z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 + 4 + 1 = 8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 + 3 + 4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olve these equations using the commutative propert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520" y="205704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7 = 7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2 = 2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z + 3 = 3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g + 6 = 6 +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 + 4 = 4 +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8 = 8 +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172560" y="198108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248520" y="289548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6325200" y="3657600"/>
            <a:ext cx="13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324480" y="4495680"/>
            <a:ext cx="161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 = 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6324840" y="5257800"/>
            <a:ext cx="155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= 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63244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 = 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The Identity Property of Addit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81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+ 0 = 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 + 0 = c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2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3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3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3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3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3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Use the Identity Property of addition to solve these problem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80720" y="2057040"/>
            <a:ext cx="3124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+ 0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 +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+ 0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 +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w +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r + 0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40116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64771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6478200" y="3657600"/>
            <a:ext cx="149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= 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4774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6477480" y="5257800"/>
            <a:ext cx="146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55308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ubtraction Rules of zero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123720" y="2057040"/>
            <a:ext cx="3048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7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n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– 0 =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stating that 2 expressions are equal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– 3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4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ind the value of n using the rules of subtraction</a:t>
            </a:r>
            <a:br>
              <a:rPr sz="4400"/>
            </a:b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99840" y="2057040"/>
            <a:ext cx="3048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 - 8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9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7 = 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 – 0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6020280" y="2057400"/>
            <a:ext cx="133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6019920" y="3657600"/>
            <a:ext cx="137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0202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60202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equation for these problems using a vari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imothy got 72 right on his timed test in July.  He got 99 right on this same test in November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Jasmin runs 15 minutes before school and 30 minutes after school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7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75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One zinger costs 25 cents.  Issak bought 4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441800" y="3352680"/>
            <a:ext cx="608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2 + n = 99 or 99 – 72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275280" y="4952880"/>
            <a:ext cx="277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5 + 30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351240" y="6095880"/>
            <a:ext cx="24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x 25 = 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tion – A mathematical sentence with an equals sig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6 – 5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4 + 3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quals Sign (=) Means that the amount is the same on both sid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 + 2 = 6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-198720">
              <a:lnSpc>
                <a:spcPct val="8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5 – 2 = 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n Equation is like a balance scale.  Everything must be equal on both sides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6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0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 + 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Oval 8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equal on both sides it is a tru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5"/>
          <p:cNvSpPr/>
          <p:nvPr/>
        </p:nvSpPr>
        <p:spPr>
          <a:xfrm>
            <a:off x="2287800" y="419112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6 + 6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the amounts are unequal on both sides it is a fals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8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5792400" y="4267080"/>
            <a:ext cx="16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2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an amount is unknown on one side of the equation it is an open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en you find a number for n you change the open equation to a true equation.  You solve the equation.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5800" y="2438280"/>
            <a:ext cx="7848720" cy="39625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828800" y="2590920"/>
          <a:ext cx="5734080" cy="35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734080" cy="35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5"/>
          <p:cNvSpPr/>
          <p:nvPr/>
        </p:nvSpPr>
        <p:spPr>
          <a:xfrm>
            <a:off x="2287440" y="419112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7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5792400" y="4267080"/>
            <a:ext cx="16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n + 2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Oval 7"/>
          <p:cNvSpPr/>
          <p:nvPr/>
        </p:nvSpPr>
        <p:spPr>
          <a:xfrm>
            <a:off x="4114800" y="3429000"/>
            <a:ext cx="1143000" cy="99072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=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Oval 8"/>
          <p:cNvSpPr/>
          <p:nvPr/>
        </p:nvSpPr>
        <p:spPr>
          <a:xfrm>
            <a:off x="5562720" y="4267080"/>
            <a:ext cx="914400" cy="91440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66"/>
                </a:solidFill>
                <a:latin typeface="Times New Roman"/>
              </a:rPr>
              <a:t>5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onica/Bob Yuskaitis</dc:creator>
  <dc:description/>
  <dc:language>en-US</dc:language>
  <cp:lastModifiedBy>RomaK</cp:lastModifiedBy>
  <dcterms:modified xsi:type="dcterms:W3CDTF">2015-09-04T07:36:14Z</dcterms:modified>
  <cp:revision>6</cp:revision>
  <dc:subject/>
  <dc:title>Algebra I</dc:title>
</cp:coreProperties>
</file>