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2C44-B02A-458C-A666-B6511FB6F1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7F3-7135-47E5-AC64-9EE97080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D7D-4FBC-468D-8471-5700DFDD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719-31EF-4237-AB18-6F650643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737-389D-4884-A4D8-459D7970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2474-28ED-4B9E-801E-F6FE5172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0967-5FAE-4366-9A4D-33C696C6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6B3D-69F4-47D0-BFD1-1DB70875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42B8-94FC-4209-B28F-3BB5D59A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30E2-AEE5-4A93-B889-624E02EC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877D-D6A8-4394-A5C9-5E701E4F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CBBA-947F-4402-A6AA-06F63147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36C-403F-4887-BBA3-F8540470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1068-C620-4A03-99F8-3F090CF3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A2F7-8D49-4F0E-A411-9C046767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3835-3B9A-4C86-86B8-83FF2811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C490-A8B2-470A-B30F-7467D06F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E100-ED2E-4543-9B77-C5F7C00F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238-02D9-4BC9-895E-C6ADD676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4DD-9C5F-42BF-89BB-896DCE2A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628-E1B5-4487-B0F8-4BBDA04F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B26-A36A-468E-AD9E-371A69BF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551-EE95-4194-9A2A-3383B40C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FB8-878F-4B4B-9CEF-477014E2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CAC-B249-4A63-ACF2-6F77338C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A19A-7DB2-43F5-8134-313CC6C75C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F079-9DF3-4E0D-B4A0-70D31C5B31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re these equations true, false or open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99840" y="20574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257800" y="198108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4840" y="266688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33760" y="342900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334120" y="4191120"/>
            <a:ext cx="123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33760" y="495288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410800" y="571500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3 = 7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 – 4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6 x 6 = 36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6 / 6 =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n addi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= 12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2 - 8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4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+ 8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 subtrac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 3 =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 +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8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Solve these equations using the inverse opera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33530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792400" y="1828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92400" y="259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791680" y="3352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791680" y="4114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792400" y="4800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792400" y="5486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Commutative Propert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e these equations using the commutative propert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520" y="20570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172560" y="198108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248520" y="289548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325200" y="3657600"/>
            <a:ext cx="13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324480" y="4495680"/>
            <a:ext cx="161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 =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324840" y="5257800"/>
            <a:ext cx="15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=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3244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 =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Identity Property of Add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81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e the Identity Property of addition to solve these probl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80720" y="2057040"/>
            <a:ext cx="3124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40116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4771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478200" y="3657600"/>
            <a:ext cx="149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4774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477480" y="5257800"/>
            <a:ext cx="146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5530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btraction Rules of z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123720" y="20570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nd the value of n using the rules of subtraction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3048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2028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019920" y="36576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0202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60202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equation for these problems using a vari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1800" y="3352680"/>
            <a:ext cx="608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2 + n = 99 or 99 – 72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275280" y="495288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5 + 3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351240" y="6095880"/>
            <a:ext cx="24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x 25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6 –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4 + 3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 Equation is like a balance scale.  Everything must be equal on both sides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6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 + 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equal on both sides it is a tru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5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6 + 6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unequal on both sides it is a fals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2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an amount is unknown on one side of the equation it is an open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562720" y="4267080"/>
            <a:ext cx="914400" cy="9144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onica/Bob Yuskaitis</dc:creator>
  <dc:description/>
  <dc:language>en-US</dc:language>
  <cp:lastModifiedBy>RomaK</cp:lastModifiedBy>
  <dcterms:modified xsi:type="dcterms:W3CDTF">2015-09-04T07:36:14Z</dcterms:modified>
  <cp:revision>6</cp:revision>
  <dc:subject/>
  <dc:title>Algebra I</dc:title>
</cp:coreProperties>
</file>