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606C-D27D-42E2-91DB-0522ACA5A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stafson and F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view of Basic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(b + 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per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soci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t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(b + c) = ab + 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oppo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recipr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z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vers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oppos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reciproc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: repeated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base and n is the ex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 are NO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s to multiply “a” n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: repeated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is the base and n is the expon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 are NO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s to multiply “a” n t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up any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ex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ddition and subtract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RDER OF OPERAT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ear up any group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aluate expon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addition and subtract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Expression vs.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gebraic Expression vs.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nly add like term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k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n only add like term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EQUATION IN ONE VARIA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results by evalu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 SOLVE AN EQUATION IN ONE VARIABL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ck your results by evalua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YPES OF EQUA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6 &amp; 1.7: Solving Problems,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(for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‘ole common sens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: Basic Algebr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ze the processes and the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provide formulas for your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questions if you are un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apter 1: Basic Algebra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MMA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morize the processes and the proper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 will provide formulas for your refere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k questions if you are un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: collections of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TS: collections of obj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tur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ol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r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g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si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ga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en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dd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numbers are d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not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ion (the same as adding a number with the opposite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(the same as multiplying by the recipr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opposit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the sam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opposit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btract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the sam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y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: measures of central tend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TISTICS: measures of central tendenc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di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E4A8-0283-49C7-8F6F-C0022503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9D36-0179-4820-9955-FAF0F2A6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80DB-0045-4693-AB36-5955BFED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0731-4E00-49D3-82B4-2D8F0807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C2F6-FCE1-4404-96EA-30787B18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B75B-BD9D-40A8-B668-E23B2D57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0785-8347-46A9-9E79-19AD8FD7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7DFA-67E8-43B9-BC89-9FB534FC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0AF7-264F-47C5-9867-19D9409C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3532-535D-48F8-8CE1-B2457C40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C2EF-BA2A-4F6E-A640-3E784E7C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7EB1-3138-4294-BBEB-DE8EF0AE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A504-3F62-4B9C-9B33-09F1A65A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311C-D4B6-4EEE-9D03-74CD61DA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CD76-A03B-4899-8788-BB3BCDBA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B84E-CDA7-4AAB-8F4E-5ED23CB2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3A6C-5268-4155-95B3-326AA1F1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772-DC1B-488C-BE96-4834394B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4D0F-D034-4F83-A0C3-AC60AFD2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A827-079C-431F-97D8-408B04E7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E01A-F981-4A56-8D66-FD1D26E9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A403-8DAC-4335-88E7-CC3871F7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CA9-70E7-4423-807D-1AF89231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EDA0-F5B6-4876-A6A2-6D9B4B59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17F5-383A-4539-8CCF-4B8BC3D598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EBB6-AD71-40B6-8551-BBDB30AD93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mediate Algebra</a:t>
            </a:r>
            <a:br>
              <a:rPr sz="44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by Gustafson and Frisk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view of Basic Alg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per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t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066680" y="41148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ive – multiplication is distributed over addi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(b + c) = ab +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denti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Placeholder 26"/>
          <p:cNvSpPr/>
          <p:nvPr/>
        </p:nvSpPr>
        <p:spPr>
          <a:xfrm>
            <a:off x="914400" y="358128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vers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914400" y="434340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oppo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recipro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ONEN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ed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914400" y="2286000"/>
            <a:ext cx="75438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expression: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is the base and n is the ex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nents ar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to multiply “a” 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RDER OF 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914400" y="1905120"/>
            <a:ext cx="7543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n algebraic expression has more than one operation, the following order appl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up any grou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ex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ultiplication and divis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addition and subtract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lgebraic Expression vs.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914400" y="2286000"/>
            <a:ext cx="75438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ressions: a combination of numbers and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tion: a statement that two expressions are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RESS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14400" y="2286000"/>
            <a:ext cx="7543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multiplying, the terms do not need to be a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n only add like term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 SOLVE AN EQUATION IN ONE VARI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914400" y="1905120"/>
            <a:ext cx="78487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see fractions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ultiply both sides by the LC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This will eliminate the fr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implif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algebraic expressions on each side of the equal sign (eliminate parentheses and combine like term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addition property of equality to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solat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ariable terms from the constant term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opposite sides of the equal 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multiplication property to make the coefficient  of the variable equal to 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your results by evalu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0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1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6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7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2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3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8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9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3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YPES OF EQU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ITIONAL: if x equals this, then y equals t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TY: always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DICTION: never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S: conditional equations that model a relationship between the var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6 &amp; 1.7: Solving Problems,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YPES OF PROBLEM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914400" y="1905120"/>
            <a:ext cx="75438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s (for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orm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‘ole common sens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0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hapter 1: Basic Algebra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UMMAR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YOUR VOCABULARY!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’t follow directions if you don’t know what the words in the instructions m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orize the processes and the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provide formulas for your refer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questions if you are un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check your work to make sure that you answered the question, and that your answer is reason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E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s of obj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7720" y="2209680"/>
            <a:ext cx="35053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ur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l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876560" y="2209680"/>
            <a:ext cx="3431880" cy="27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d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Content Placeholder 25"/>
          <p:cNvSpPr/>
          <p:nvPr/>
        </p:nvSpPr>
        <p:spPr>
          <a:xfrm>
            <a:off x="914400" y="4800600"/>
            <a:ext cx="73152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8800" indent="-18288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{  }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{x | x &gt; 5}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read “the set of all x such that x is greater than 5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9"/>
          <p:cNvGrpSpPr/>
          <p:nvPr/>
        </p:nvGrpSpPr>
        <p:grpSpPr>
          <a:xfrm>
            <a:off x="1600200" y="4038480"/>
            <a:ext cx="6324480" cy="1178640"/>
            <a:chOff x="1600200" y="4038480"/>
            <a:chExt cx="6324480" cy="1178640"/>
          </a:xfrm>
        </p:grpSpPr>
        <p:sp>
          <p:nvSpPr>
            <p:cNvPr id="126" name="Rectangle 6"/>
            <p:cNvSpPr/>
            <p:nvPr/>
          </p:nvSpPr>
          <p:spPr>
            <a:xfrm>
              <a:off x="3701160" y="4572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440856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8"/>
            <p:cNvSpPr/>
            <p:nvPr/>
          </p:nvSpPr>
          <p:spPr>
            <a:xfrm>
              <a:off x="630288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504000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693432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1"/>
            <p:cNvSpPr/>
            <p:nvPr/>
          </p:nvSpPr>
          <p:spPr>
            <a:xfrm>
              <a:off x="567144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2"/>
            <p:cNvSpPr/>
            <p:nvPr/>
          </p:nvSpPr>
          <p:spPr>
            <a:xfrm>
              <a:off x="284112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1600200" y="426708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>
              <a:off x="243828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2220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400572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467532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>
              <a:off x="530676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1"/>
            <p:cNvSpPr/>
            <p:nvPr/>
          </p:nvSpPr>
          <p:spPr>
            <a:xfrm>
              <a:off x="59382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>
              <a:off x="656964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720108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205740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TextBox 46"/>
          <p:cNvSpPr/>
          <p:nvPr/>
        </p:nvSpPr>
        <p:spPr>
          <a:xfrm>
            <a:off x="1523880" y="24382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47"/>
          <p:cNvSpPr/>
          <p:nvPr/>
        </p:nvSpPr>
        <p:spPr>
          <a:xfrm>
            <a:off x="518148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7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46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31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166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TextBox 49"/>
          <p:cNvSpPr/>
          <p:nvPr/>
        </p:nvSpPr>
        <p:spPr>
          <a:xfrm>
            <a:off x="1371600" y="2209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5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70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71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traight Connector 73"/>
          <p:cNvSpPr/>
          <p:nvPr/>
        </p:nvSpPr>
        <p:spPr>
          <a:xfrm>
            <a:off x="4572000" y="4800600"/>
            <a:ext cx="129528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90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Group 22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210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TextBox 40"/>
          <p:cNvSpPr/>
          <p:nvPr/>
        </p:nvSpPr>
        <p:spPr>
          <a:xfrm>
            <a:off x="1219320" y="2209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4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42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43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Straight Connector 44"/>
          <p:cNvSpPr/>
          <p:nvPr/>
        </p:nvSpPr>
        <p:spPr>
          <a:xfrm>
            <a:off x="4572000" y="4800600"/>
            <a:ext cx="137160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63"/>
          <p:cNvSpPr/>
          <p:nvPr/>
        </p:nvSpPr>
        <p:spPr>
          <a:xfrm>
            <a:off x="762120" y="3803760"/>
            <a:ext cx="70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ion (the same as adding a number with the opposite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 (the same as multiplying by the reciproc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DDI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Content Placeholder 19"/>
          <p:cNvSpPr/>
          <p:nvPr/>
        </p:nvSpPr>
        <p:spPr>
          <a:xfrm>
            <a:off x="914400" y="3962520"/>
            <a:ext cx="7543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opposit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 with the largest absolute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914400" y="189072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the sam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ULTIPLICA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914400" y="2286000"/>
            <a:ext cx="75438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y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factors have the sam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is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factors have opposit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 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TATISTICS: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asures of central tendency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914400" y="228600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2:41:36Z</dcterms:created>
  <dc:creator>melissa.marshall</dc:creator>
  <dc:description/>
  <dc:language>en-US</dc:language>
  <cp:lastModifiedBy>RomaK</cp:lastModifiedBy>
  <dcterms:modified xsi:type="dcterms:W3CDTF">2015-09-04T07:36:20Z</dcterms:modified>
  <cp:revision>169</cp:revision>
  <dc:subject/>
  <dc:title>Inequalities and their Graphs</dc:title>
</cp:coreProperties>
</file>