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0398-E36B-42AF-BFBA-10742102A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Algeb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Gustafson and Fr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view of Basic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– addition,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– addition,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– multiplication is distributed over addi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(b + c) = ab + 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operti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ssociative – addition, multi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utative – addition, multi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tributive – multiplication is distributed over addi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 (b + c) = ab + 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i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 –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 –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 – oppo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 – recipro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dentiti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ition – zer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ication – o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vers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ition – opposi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ication – reciproc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3: Definition of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S: repeated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xpression: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the base and n is the ex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s are NOT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s to multiply “a” n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3: Definition of Expon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ONENTS: repeated multi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 the expression: an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 is the base and n is the expon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onents are NOT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ans to multiply “a” n ti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3: Definition of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OF OPERATI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algebraic expression has more than one operation, the following order appl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 up any group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 ex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multiplication and division from left to 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ddition and subtraction from left to 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3: Definition of Expon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ORDER OF OPERATION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an algebraic expression has more than one operation, the following order appli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ear up any group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valuate expone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o multiplication and division from left to righ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o addition and subtraction from left to righ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ic Expression vs.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ons: a combination of numbers and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: a statement that two expressions are eq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lgebraic Expression vs. Equ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ressions: a combination of numbers and oper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quation: a statement that two expressions are equ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ultiplying, the terms do not need to be a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only add like term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RESSION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e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Like te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hen multiplying, the terms do not need to be alik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an only add like term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AN EQUATION IN ONE VARIAB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see fractions, multiply both sides by the LCD. This will eliminate the fr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the algebraic expressions on each side of the equal sign (eliminate parentheses and combine like term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addition property of equality to isolate the variable terms from the constant terms on opposite sides of the equal 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multiplication property to make the coefficient  of the variable equal to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results by evalu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O SOLVE AN EQUATION IN ONE VARIABL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you see fractions, multiply both sides by the LCD. This will eliminate the fra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implify the algebraic expressions on each side of the equal sign (eliminate parentheses and combine like term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se the addition property of equality to isolate the variable terms from the constant terms on opposite sides of the equal sig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se the multiplication property to make the coefficient  of the variable equal to o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heck your results by evaluat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EQ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AL: if x equals this, then y equals th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: always true no matter what numbers you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DICTION: never true no matter what numbers you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S: conditional equations that model a relationship between the varia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YPES OF EQUATION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DITIONAL: if x equals this, then y equals tha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DENTITY: always true no matter what numbers you u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TRADICTION: never true no matter what numbers you u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ORMULAS: conditional equations that model a relationship between the variabl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6 &amp; 1.7: Solving Problems,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PROBL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(forc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orm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‘ole common sense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: Basic Algebra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YOUR VOCABULARY! You can’t follow directions if you don’t know what the words in the instructions m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ze the processes and the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provide formulas for your re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questions if you are un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check your work to make sure that you answered the question, and that your answer is reason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hapter 1: Basic Algebra Revie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UMMARY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NOW YOUR VOCABULARY! You can’t follow directions if you don’t know what the words in the instructions mea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morize the processes and the propert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 will provide formulas for your referen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sk questions if you are uns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lways check your work to make sure that you answered the question, and that your answer is reasona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: collections of ob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{  }  {x | x &gt; 5}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read “the set of all x such that x is greater than 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TS: collections of objec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atur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hol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ation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rration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g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sitiv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egativ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ven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Odd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se {  }  {x | x &gt; 5}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s read “the set of all x such that x is greater than 5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: plot on the numbe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 numbers are d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APHS: plot on the numbe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vidual numbers are do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: plot on the numbe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vals including end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APHS: plot on the numbe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vals including end 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: plot on the numbe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vals not including end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APHS: plot on the numbe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vals not including end 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ion (the same as adding a number with the opposite sig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sion (the same as multiplying by the recipro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nds that have opposite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absolut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e sign of the addend with the largest absolute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nds that have the same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bsolut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e sign of the add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ITION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ends that have opposite sig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ubtract absolute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eep the sign of the addend with the largest absolute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ends that have the same sig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 absolute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eep the sign of the adde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absolut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actors have the same sign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is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actors have opposite sign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is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ICATION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y absolute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the factors have the same signs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e product is posi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the factors have opposite signs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e product is nega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S: measures of central tend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TISTICS: measures of central tendenc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a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dia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7C7C-8095-43FA-98BF-634F026AF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9108-2011-4A50-8AE5-36CFE2CF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1F9F-B012-4855-B3BB-9D278D408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F806-0CC2-4063-8DF3-E03401667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9C52-5049-499F-AE6E-B596A845F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B8E9-104C-42DD-B3D0-E6D806BF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AD5C-2DE3-4CB5-BECB-B8B9B62E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E893-123A-44E8-967A-6BCB4D94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EEAF-8CD9-496C-A173-91F2B333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57EE1-CD91-4271-A9F3-49D6A52F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ABDE-C64A-404A-8D5A-66802708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C23E-850D-452B-BF21-C2657B91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A6A1-DE52-42BC-9B36-D63DA9A5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7D45-1B9E-4D2C-B26B-2859422F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9545-13EE-4D92-AAC2-6F595EBE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E7BF-F715-49E2-83D1-9E8A26EC2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36BC-DFBE-4A00-A851-0DF61D49D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E17D-4F04-4CC6-A65D-3EE218C3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DF94-016F-4438-941D-13C2839D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6656-CFF8-4068-AA8F-D582E0F8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A360-BE9F-477D-8E40-B65D9F7A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E393-2C55-4C40-96A7-31EEAF1E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FA93-37BA-4E08-B7AD-B2984568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8757-BAC8-4E04-A3D2-A94542CC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CEE0-E523-4248-88F3-DC7C0E13C8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E0F0-B259-42F5-A981-EF19913CFF5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ntermediate Algebra</a:t>
            </a:r>
            <a:br>
              <a:rPr sz="4400"/>
            </a:b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by Gustafson and Frisk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pter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Review of Basic Algeb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roperti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23"/>
          <p:cNvSpPr/>
          <p:nvPr/>
        </p:nvSpPr>
        <p:spPr>
          <a:xfrm>
            <a:off x="914400" y="1905120"/>
            <a:ext cx="7543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ociative – addition, multi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tative – addition, multi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24"/>
          <p:cNvSpPr/>
          <p:nvPr/>
        </p:nvSpPr>
        <p:spPr>
          <a:xfrm>
            <a:off x="1066680" y="41148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tributive – multiplication is distributed over addi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(b + c) = ab + 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dentiti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914400" y="1905120"/>
            <a:ext cx="7543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 – z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ication – 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Placeholder 26"/>
          <p:cNvSpPr/>
          <p:nvPr/>
        </p:nvSpPr>
        <p:spPr>
          <a:xfrm>
            <a:off x="914400" y="358128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vers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914400" y="4343400"/>
            <a:ext cx="7543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 – oppo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ication – reciproc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3: Definition of Ex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XPONENT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eated multi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914400" y="2286000"/>
            <a:ext cx="754380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expression: 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is the base and n is the expon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onents are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s to multiply “a” n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7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3: Definition of Ex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RDER OF OPERAT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914400" y="1905120"/>
            <a:ext cx="754380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an algebraic expression has more than one operation, the following order appli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ear up any group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te expon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multiplication and division from left to r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addition and subtraction from left to r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lgebraic Expression vs.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914400" y="2286000"/>
            <a:ext cx="754380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ressions: a combination of numbers and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ation: a statement that two expressions are eq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XPRESS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914400" y="2286000"/>
            <a:ext cx="754380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multiplying, the terms do not need to be ali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an only add like term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O SOLVE AN EQUATION IN ONE VARIAB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914400" y="1905120"/>
            <a:ext cx="784872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you see fractions,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multiply both sides by the LC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This will eliminate the frac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Simplif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e algebraic expressions on each side of the equal sign (eliminate parentheses and combine like term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the addition property of equality to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isolat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variable terms from the constant terms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 opposite sides of the equal sig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the multiplication property to make the coefficient  of the variable equal to 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eck your results by evalua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29" dur="indefinite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30" dur="indefinite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31" dur="indefinite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35" dur="indefinite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36" dur="indefinite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37" dur="indefinite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1" dur="indefinite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42" dur="indefinite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43" dur="indefinite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7" dur="indefinite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48" dur="indefinite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49" dur="indefinite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53" dur="indefinite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indefinite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indefinite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YPES OF EQUA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914400" y="1905120"/>
            <a:ext cx="7543800" cy="47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DITIONAL: if x equals this, then y equals th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TY: always true no matter what numbers you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ADICTION: never true no matter what numbers you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ULAS: conditional equations that model a relationship between the variab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6 &amp; 1.7: Solving Problems,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TYPES OF PROBLEM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914400" y="1905120"/>
            <a:ext cx="754380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ome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c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ysics (forc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form mo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x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d ‘ole common sense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20" dur="5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Chapter 1: Basic Algebra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SUMMARY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914400" y="1905120"/>
            <a:ext cx="7543800" cy="47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 YOUR VOCABULARY!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can’t follow directions if you don’t know what the words in the instructions me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orize the processes and the proper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ill provide formulas for your refer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k questions if you are uns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ways check your work to make sure that you answered the question, and that your answer is reason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1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0560" y="274320"/>
            <a:ext cx="6095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SET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lections of objec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37720" y="2209680"/>
            <a:ext cx="350532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tur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l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tion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rration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876560" y="2209680"/>
            <a:ext cx="3431880" cy="27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g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itiv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gativ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n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dd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Content Placeholder 25"/>
          <p:cNvSpPr/>
          <p:nvPr/>
        </p:nvSpPr>
        <p:spPr>
          <a:xfrm>
            <a:off x="914400" y="4800600"/>
            <a:ext cx="7315200" cy="15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8800" indent="-182880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e {  }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{x | x &gt; 5}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read “the set of all x such that x is greater than 5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828800" indent="-1828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90560" y="274320"/>
            <a:ext cx="6095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APH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 on the numbe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Group 9"/>
          <p:cNvGrpSpPr/>
          <p:nvPr/>
        </p:nvGrpSpPr>
        <p:grpSpPr>
          <a:xfrm>
            <a:off x="1600200" y="4038480"/>
            <a:ext cx="6324480" cy="1178640"/>
            <a:chOff x="1600200" y="4038480"/>
            <a:chExt cx="6324480" cy="1178640"/>
          </a:xfrm>
        </p:grpSpPr>
        <p:sp>
          <p:nvSpPr>
            <p:cNvPr id="126" name="Rectangle 6"/>
            <p:cNvSpPr/>
            <p:nvPr/>
          </p:nvSpPr>
          <p:spPr>
            <a:xfrm>
              <a:off x="3701160" y="457200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7"/>
            <p:cNvSpPr/>
            <p:nvPr/>
          </p:nvSpPr>
          <p:spPr>
            <a:xfrm>
              <a:off x="440856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8"/>
            <p:cNvSpPr/>
            <p:nvPr/>
          </p:nvSpPr>
          <p:spPr>
            <a:xfrm>
              <a:off x="630288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9"/>
            <p:cNvSpPr/>
            <p:nvPr/>
          </p:nvSpPr>
          <p:spPr>
            <a:xfrm>
              <a:off x="504000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10"/>
            <p:cNvSpPr/>
            <p:nvPr/>
          </p:nvSpPr>
          <p:spPr>
            <a:xfrm>
              <a:off x="693432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11"/>
            <p:cNvSpPr/>
            <p:nvPr/>
          </p:nvSpPr>
          <p:spPr>
            <a:xfrm>
              <a:off x="567144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12"/>
            <p:cNvSpPr/>
            <p:nvPr/>
          </p:nvSpPr>
          <p:spPr>
            <a:xfrm>
              <a:off x="2841120" y="457200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15"/>
            <p:cNvSpPr/>
            <p:nvPr/>
          </p:nvSpPr>
          <p:spPr>
            <a:xfrm>
              <a:off x="1600200" y="4267080"/>
              <a:ext cx="6324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16"/>
            <p:cNvSpPr/>
            <p:nvPr/>
          </p:nvSpPr>
          <p:spPr>
            <a:xfrm>
              <a:off x="243828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>
              <a:off x="322200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8"/>
            <p:cNvSpPr/>
            <p:nvPr/>
          </p:nvSpPr>
          <p:spPr>
            <a:xfrm>
              <a:off x="400572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9"/>
            <p:cNvSpPr/>
            <p:nvPr/>
          </p:nvSpPr>
          <p:spPr>
            <a:xfrm>
              <a:off x="467532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20"/>
            <p:cNvSpPr/>
            <p:nvPr/>
          </p:nvSpPr>
          <p:spPr>
            <a:xfrm>
              <a:off x="530676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21"/>
            <p:cNvSpPr/>
            <p:nvPr/>
          </p:nvSpPr>
          <p:spPr>
            <a:xfrm>
              <a:off x="593820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22"/>
            <p:cNvSpPr/>
            <p:nvPr/>
          </p:nvSpPr>
          <p:spPr>
            <a:xfrm>
              <a:off x="656964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19"/>
            <p:cNvSpPr/>
            <p:nvPr/>
          </p:nvSpPr>
          <p:spPr>
            <a:xfrm>
              <a:off x="720108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Rectangle 12"/>
            <p:cNvSpPr/>
            <p:nvPr/>
          </p:nvSpPr>
          <p:spPr>
            <a:xfrm>
              <a:off x="2057400" y="457200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TextBox 46"/>
          <p:cNvSpPr/>
          <p:nvPr/>
        </p:nvSpPr>
        <p:spPr>
          <a:xfrm>
            <a:off x="1523880" y="243828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Individual numbers are do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47"/>
          <p:cNvSpPr/>
          <p:nvPr/>
        </p:nvSpPr>
        <p:spPr>
          <a:xfrm>
            <a:off x="518148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7"/>
          <p:cNvGrpSpPr/>
          <p:nvPr/>
        </p:nvGrpSpPr>
        <p:grpSpPr>
          <a:xfrm>
            <a:off x="1523880" y="4611600"/>
            <a:ext cx="6324840" cy="1178640"/>
            <a:chOff x="1523880" y="4611600"/>
            <a:chExt cx="6324840" cy="1178640"/>
          </a:xfrm>
        </p:grpSpPr>
        <p:sp>
          <p:nvSpPr>
            <p:cNvPr id="146" name="Rectangle 6"/>
            <p:cNvSpPr/>
            <p:nvPr/>
          </p:nvSpPr>
          <p:spPr>
            <a:xfrm>
              <a:off x="3624840" y="514512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7"/>
            <p:cNvSpPr/>
            <p:nvPr/>
          </p:nvSpPr>
          <p:spPr>
            <a:xfrm>
              <a:off x="433260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8"/>
            <p:cNvSpPr/>
            <p:nvPr/>
          </p:nvSpPr>
          <p:spPr>
            <a:xfrm>
              <a:off x="622692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9"/>
            <p:cNvSpPr/>
            <p:nvPr/>
          </p:nvSpPr>
          <p:spPr>
            <a:xfrm>
              <a:off x="496404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10"/>
            <p:cNvSpPr/>
            <p:nvPr/>
          </p:nvSpPr>
          <p:spPr>
            <a:xfrm>
              <a:off x="685836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11"/>
            <p:cNvSpPr/>
            <p:nvPr/>
          </p:nvSpPr>
          <p:spPr>
            <a:xfrm>
              <a:off x="559548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12"/>
            <p:cNvSpPr/>
            <p:nvPr/>
          </p:nvSpPr>
          <p:spPr>
            <a:xfrm>
              <a:off x="276480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Line 15"/>
            <p:cNvSpPr/>
            <p:nvPr/>
          </p:nvSpPr>
          <p:spPr>
            <a:xfrm>
              <a:off x="1523880" y="4840200"/>
              <a:ext cx="6324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16"/>
            <p:cNvSpPr/>
            <p:nvPr/>
          </p:nvSpPr>
          <p:spPr>
            <a:xfrm>
              <a:off x="23619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Line 17"/>
            <p:cNvSpPr/>
            <p:nvPr/>
          </p:nvSpPr>
          <p:spPr>
            <a:xfrm>
              <a:off x="314568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18"/>
            <p:cNvSpPr/>
            <p:nvPr/>
          </p:nvSpPr>
          <p:spPr>
            <a:xfrm>
              <a:off x="39297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19"/>
            <p:cNvSpPr/>
            <p:nvPr/>
          </p:nvSpPr>
          <p:spPr>
            <a:xfrm>
              <a:off x="45993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20"/>
            <p:cNvSpPr/>
            <p:nvPr/>
          </p:nvSpPr>
          <p:spPr>
            <a:xfrm>
              <a:off x="523080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21"/>
            <p:cNvSpPr/>
            <p:nvPr/>
          </p:nvSpPr>
          <p:spPr>
            <a:xfrm>
              <a:off x="586224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22"/>
            <p:cNvSpPr/>
            <p:nvPr/>
          </p:nvSpPr>
          <p:spPr>
            <a:xfrm>
              <a:off x="649332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Line 19"/>
            <p:cNvSpPr/>
            <p:nvPr/>
          </p:nvSpPr>
          <p:spPr>
            <a:xfrm>
              <a:off x="71247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12"/>
            <p:cNvSpPr/>
            <p:nvPr/>
          </p:nvSpPr>
          <p:spPr>
            <a:xfrm>
              <a:off x="198108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Rectangle 2"/>
          <p:cNvSpPr/>
          <p:nvPr/>
        </p:nvSpPr>
        <p:spPr>
          <a:xfrm>
            <a:off x="2590920" y="274680"/>
            <a:ext cx="6095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APH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 on the numbe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Group 31"/>
          <p:cNvGrpSpPr/>
          <p:nvPr/>
        </p:nvGrpSpPr>
        <p:grpSpPr>
          <a:xfrm>
            <a:off x="1600200" y="3048120"/>
            <a:ext cx="6324480" cy="1178280"/>
            <a:chOff x="1600200" y="3048120"/>
            <a:chExt cx="6324480" cy="1178280"/>
          </a:xfrm>
        </p:grpSpPr>
        <p:sp>
          <p:nvSpPr>
            <p:cNvPr id="166" name="Rectangle 6"/>
            <p:cNvSpPr/>
            <p:nvPr/>
          </p:nvSpPr>
          <p:spPr>
            <a:xfrm>
              <a:off x="3701160" y="35812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440856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8"/>
            <p:cNvSpPr/>
            <p:nvPr/>
          </p:nvSpPr>
          <p:spPr>
            <a:xfrm>
              <a:off x="630288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9"/>
            <p:cNvSpPr/>
            <p:nvPr/>
          </p:nvSpPr>
          <p:spPr>
            <a:xfrm>
              <a:off x="504000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Rectangle 10"/>
            <p:cNvSpPr/>
            <p:nvPr/>
          </p:nvSpPr>
          <p:spPr>
            <a:xfrm>
              <a:off x="693432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Rectangle 11"/>
            <p:cNvSpPr/>
            <p:nvPr/>
          </p:nvSpPr>
          <p:spPr>
            <a:xfrm>
              <a:off x="567144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Rectangle 12"/>
            <p:cNvSpPr/>
            <p:nvPr/>
          </p:nvSpPr>
          <p:spPr>
            <a:xfrm>
              <a:off x="284112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15"/>
            <p:cNvSpPr/>
            <p:nvPr/>
          </p:nvSpPr>
          <p:spPr>
            <a:xfrm>
              <a:off x="1600200" y="3276360"/>
              <a:ext cx="6324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16"/>
            <p:cNvSpPr/>
            <p:nvPr/>
          </p:nvSpPr>
          <p:spPr>
            <a:xfrm>
              <a:off x="243828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17"/>
            <p:cNvSpPr/>
            <p:nvPr/>
          </p:nvSpPr>
          <p:spPr>
            <a:xfrm>
              <a:off x="32220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18"/>
            <p:cNvSpPr/>
            <p:nvPr/>
          </p:nvSpPr>
          <p:spPr>
            <a:xfrm>
              <a:off x="400572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19"/>
            <p:cNvSpPr/>
            <p:nvPr/>
          </p:nvSpPr>
          <p:spPr>
            <a:xfrm>
              <a:off x="467532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20"/>
            <p:cNvSpPr/>
            <p:nvPr/>
          </p:nvSpPr>
          <p:spPr>
            <a:xfrm>
              <a:off x="530676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21"/>
            <p:cNvSpPr/>
            <p:nvPr/>
          </p:nvSpPr>
          <p:spPr>
            <a:xfrm>
              <a:off x="59382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22"/>
            <p:cNvSpPr/>
            <p:nvPr/>
          </p:nvSpPr>
          <p:spPr>
            <a:xfrm>
              <a:off x="656964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9"/>
            <p:cNvSpPr/>
            <p:nvPr/>
          </p:nvSpPr>
          <p:spPr>
            <a:xfrm>
              <a:off x="720108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12"/>
            <p:cNvSpPr/>
            <p:nvPr/>
          </p:nvSpPr>
          <p:spPr>
            <a:xfrm>
              <a:off x="205740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TextBox 49"/>
          <p:cNvSpPr/>
          <p:nvPr/>
        </p:nvSpPr>
        <p:spPr>
          <a:xfrm>
            <a:off x="1371600" y="22096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tervals including end po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Box 51"/>
          <p:cNvSpPr/>
          <p:nvPr/>
        </p:nvSpPr>
        <p:spPr>
          <a:xfrm>
            <a:off x="5791320" y="289548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[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Box 70"/>
          <p:cNvSpPr/>
          <p:nvPr/>
        </p:nvSpPr>
        <p:spPr>
          <a:xfrm>
            <a:off x="4419720" y="441972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[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Box 71"/>
          <p:cNvSpPr/>
          <p:nvPr/>
        </p:nvSpPr>
        <p:spPr>
          <a:xfrm>
            <a:off x="5715000" y="441972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Straight Connector 73"/>
          <p:cNvSpPr/>
          <p:nvPr/>
        </p:nvSpPr>
        <p:spPr>
          <a:xfrm>
            <a:off x="4572000" y="4800600"/>
            <a:ext cx="1295280" cy="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23"/>
          <p:cNvSpPr/>
          <p:nvPr/>
        </p:nvSpPr>
        <p:spPr>
          <a:xfrm>
            <a:off x="5943600" y="3276720"/>
            <a:ext cx="1752480" cy="0"/>
          </a:xfrm>
          <a:prstGeom prst="line">
            <a:avLst/>
          </a:prstGeom>
          <a:ln w="152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1523880" y="4611600"/>
            <a:ext cx="6324840" cy="1178640"/>
            <a:chOff x="1523880" y="4611600"/>
            <a:chExt cx="6324840" cy="1178640"/>
          </a:xfrm>
        </p:grpSpPr>
        <p:sp>
          <p:nvSpPr>
            <p:cNvPr id="190" name="Rectangle 6"/>
            <p:cNvSpPr/>
            <p:nvPr/>
          </p:nvSpPr>
          <p:spPr>
            <a:xfrm>
              <a:off x="3624840" y="514512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Rectangle 7"/>
            <p:cNvSpPr/>
            <p:nvPr/>
          </p:nvSpPr>
          <p:spPr>
            <a:xfrm>
              <a:off x="433260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Rectangle 8"/>
            <p:cNvSpPr/>
            <p:nvPr/>
          </p:nvSpPr>
          <p:spPr>
            <a:xfrm>
              <a:off x="622692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Rectangle 9"/>
            <p:cNvSpPr/>
            <p:nvPr/>
          </p:nvSpPr>
          <p:spPr>
            <a:xfrm>
              <a:off x="496404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Rectangle 10"/>
            <p:cNvSpPr/>
            <p:nvPr/>
          </p:nvSpPr>
          <p:spPr>
            <a:xfrm>
              <a:off x="685836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Rectangle 11"/>
            <p:cNvSpPr/>
            <p:nvPr/>
          </p:nvSpPr>
          <p:spPr>
            <a:xfrm>
              <a:off x="559548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Rectangle 12"/>
            <p:cNvSpPr/>
            <p:nvPr/>
          </p:nvSpPr>
          <p:spPr>
            <a:xfrm>
              <a:off x="276480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15"/>
            <p:cNvSpPr/>
            <p:nvPr/>
          </p:nvSpPr>
          <p:spPr>
            <a:xfrm>
              <a:off x="1523880" y="4840200"/>
              <a:ext cx="6324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16"/>
            <p:cNvSpPr/>
            <p:nvPr/>
          </p:nvSpPr>
          <p:spPr>
            <a:xfrm>
              <a:off x="23619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17"/>
            <p:cNvSpPr/>
            <p:nvPr/>
          </p:nvSpPr>
          <p:spPr>
            <a:xfrm>
              <a:off x="314568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18"/>
            <p:cNvSpPr/>
            <p:nvPr/>
          </p:nvSpPr>
          <p:spPr>
            <a:xfrm>
              <a:off x="39297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19"/>
            <p:cNvSpPr/>
            <p:nvPr/>
          </p:nvSpPr>
          <p:spPr>
            <a:xfrm>
              <a:off x="45993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20"/>
            <p:cNvSpPr/>
            <p:nvPr/>
          </p:nvSpPr>
          <p:spPr>
            <a:xfrm>
              <a:off x="523080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21"/>
            <p:cNvSpPr/>
            <p:nvPr/>
          </p:nvSpPr>
          <p:spPr>
            <a:xfrm>
              <a:off x="586224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22"/>
            <p:cNvSpPr/>
            <p:nvPr/>
          </p:nvSpPr>
          <p:spPr>
            <a:xfrm>
              <a:off x="649332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19"/>
            <p:cNvSpPr/>
            <p:nvPr/>
          </p:nvSpPr>
          <p:spPr>
            <a:xfrm>
              <a:off x="71247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12"/>
            <p:cNvSpPr/>
            <p:nvPr/>
          </p:nvSpPr>
          <p:spPr>
            <a:xfrm>
              <a:off x="198108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Rectangle 2"/>
          <p:cNvSpPr/>
          <p:nvPr/>
        </p:nvSpPr>
        <p:spPr>
          <a:xfrm>
            <a:off x="2590920" y="274680"/>
            <a:ext cx="6095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APH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 on the numbe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Group 22"/>
          <p:cNvGrpSpPr/>
          <p:nvPr/>
        </p:nvGrpSpPr>
        <p:grpSpPr>
          <a:xfrm>
            <a:off x="1600200" y="3048120"/>
            <a:ext cx="6324480" cy="1178280"/>
            <a:chOff x="1600200" y="3048120"/>
            <a:chExt cx="6324480" cy="1178280"/>
          </a:xfrm>
        </p:grpSpPr>
        <p:sp>
          <p:nvSpPr>
            <p:cNvPr id="210" name="Rectangle 6"/>
            <p:cNvSpPr/>
            <p:nvPr/>
          </p:nvSpPr>
          <p:spPr>
            <a:xfrm>
              <a:off x="3701160" y="35812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Rectangle 7"/>
            <p:cNvSpPr/>
            <p:nvPr/>
          </p:nvSpPr>
          <p:spPr>
            <a:xfrm>
              <a:off x="440856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Rectangle 8"/>
            <p:cNvSpPr/>
            <p:nvPr/>
          </p:nvSpPr>
          <p:spPr>
            <a:xfrm>
              <a:off x="630288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Rectangle 9"/>
            <p:cNvSpPr/>
            <p:nvPr/>
          </p:nvSpPr>
          <p:spPr>
            <a:xfrm>
              <a:off x="504000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Rectangle 10"/>
            <p:cNvSpPr/>
            <p:nvPr/>
          </p:nvSpPr>
          <p:spPr>
            <a:xfrm>
              <a:off x="693432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11"/>
            <p:cNvSpPr/>
            <p:nvPr/>
          </p:nvSpPr>
          <p:spPr>
            <a:xfrm>
              <a:off x="567144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Rectangle 12"/>
            <p:cNvSpPr/>
            <p:nvPr/>
          </p:nvSpPr>
          <p:spPr>
            <a:xfrm>
              <a:off x="284112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15"/>
            <p:cNvSpPr/>
            <p:nvPr/>
          </p:nvSpPr>
          <p:spPr>
            <a:xfrm>
              <a:off x="1600200" y="3276360"/>
              <a:ext cx="6324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16"/>
            <p:cNvSpPr/>
            <p:nvPr/>
          </p:nvSpPr>
          <p:spPr>
            <a:xfrm>
              <a:off x="243828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17"/>
            <p:cNvSpPr/>
            <p:nvPr/>
          </p:nvSpPr>
          <p:spPr>
            <a:xfrm>
              <a:off x="32220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18"/>
            <p:cNvSpPr/>
            <p:nvPr/>
          </p:nvSpPr>
          <p:spPr>
            <a:xfrm>
              <a:off x="400572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19"/>
            <p:cNvSpPr/>
            <p:nvPr/>
          </p:nvSpPr>
          <p:spPr>
            <a:xfrm>
              <a:off x="467532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20"/>
            <p:cNvSpPr/>
            <p:nvPr/>
          </p:nvSpPr>
          <p:spPr>
            <a:xfrm>
              <a:off x="530676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21"/>
            <p:cNvSpPr/>
            <p:nvPr/>
          </p:nvSpPr>
          <p:spPr>
            <a:xfrm>
              <a:off x="59382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22"/>
            <p:cNvSpPr/>
            <p:nvPr/>
          </p:nvSpPr>
          <p:spPr>
            <a:xfrm>
              <a:off x="656964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19"/>
            <p:cNvSpPr/>
            <p:nvPr/>
          </p:nvSpPr>
          <p:spPr>
            <a:xfrm>
              <a:off x="720108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Rectangle 12"/>
            <p:cNvSpPr/>
            <p:nvPr/>
          </p:nvSpPr>
          <p:spPr>
            <a:xfrm>
              <a:off x="205740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7" name="TextBox 40"/>
          <p:cNvSpPr/>
          <p:nvPr/>
        </p:nvSpPr>
        <p:spPr>
          <a:xfrm>
            <a:off x="1219320" y="22096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tervals not including end po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Box 41"/>
          <p:cNvSpPr/>
          <p:nvPr/>
        </p:nvSpPr>
        <p:spPr>
          <a:xfrm>
            <a:off x="5791320" y="289548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(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Box 42"/>
          <p:cNvSpPr/>
          <p:nvPr/>
        </p:nvSpPr>
        <p:spPr>
          <a:xfrm>
            <a:off x="4419720" y="441972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(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Box 43"/>
          <p:cNvSpPr/>
          <p:nvPr/>
        </p:nvSpPr>
        <p:spPr>
          <a:xfrm>
            <a:off x="5715000" y="441972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Straight Connector 44"/>
          <p:cNvSpPr/>
          <p:nvPr/>
        </p:nvSpPr>
        <p:spPr>
          <a:xfrm>
            <a:off x="4572000" y="4800600"/>
            <a:ext cx="1371600" cy="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23"/>
          <p:cNvSpPr/>
          <p:nvPr/>
        </p:nvSpPr>
        <p:spPr>
          <a:xfrm>
            <a:off x="5943600" y="3276720"/>
            <a:ext cx="1752480" cy="0"/>
          </a:xfrm>
          <a:prstGeom prst="line">
            <a:avLst/>
          </a:prstGeom>
          <a:ln w="152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63"/>
          <p:cNvSpPr/>
          <p:nvPr/>
        </p:nvSpPr>
        <p:spPr>
          <a:xfrm>
            <a:off x="762120" y="3803760"/>
            <a:ext cx="701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PERAT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traction (the same as adding a number with the opposite sig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vision (the same as multiplying by the reciproca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DDITIO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Content Placeholder 19"/>
          <p:cNvSpPr/>
          <p:nvPr/>
        </p:nvSpPr>
        <p:spPr>
          <a:xfrm>
            <a:off x="914400" y="3962520"/>
            <a:ext cx="75438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ends that have opposite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tract absolute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the sign of the addend with the largest absolute va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914400" y="1890720"/>
            <a:ext cx="754380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ends that have the same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 absolute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the sign of the add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ULTIPLICATIO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914400" y="2286000"/>
            <a:ext cx="754380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y absolute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the factors have the same signs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duct is posi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factors have opposite signs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duct is neg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STATISTICS: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easures of central tendency</a:t>
            </a: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17"/>
          <p:cNvSpPr/>
          <p:nvPr/>
        </p:nvSpPr>
        <p:spPr>
          <a:xfrm>
            <a:off x="914400" y="2286000"/>
            <a:ext cx="754380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di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22:41:36Z</dcterms:created>
  <dc:creator>melissa.marshall</dc:creator>
  <dc:description/>
  <dc:language>en-US</dc:language>
  <cp:lastModifiedBy>RomaK</cp:lastModifiedBy>
  <dcterms:modified xsi:type="dcterms:W3CDTF">2015-09-04T07:36:20Z</dcterms:modified>
  <cp:revision>169</cp:revision>
  <dc:subject/>
  <dc:title>Inequalities and their Graphs</dc:title>
</cp:coreProperties>
</file>