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42D6-26A5-46D1-A9A7-1A156154C5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E87-D469-48FB-B3D3-65E732D1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EE9-E5D9-4535-8BC4-47283688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464-018A-4608-BEB1-9DB33506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176-F5DA-46F4-BDE1-EEF371C0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08C-8900-4E83-AA73-6D86B2EB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8D5-CA23-4A40-9DF4-54B27F33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C99-07EA-4506-B6E7-B530BEE3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872-7161-4827-B949-6A60350D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5A6-2415-4450-9A74-9E99CA00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244-5817-4D2B-838F-783FD2CB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080-D0EC-402D-8C47-4BDBAE56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3FB-CC25-4A4A-8B1D-47D876F6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1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1FA5-31E1-4C2B-834D-09546A3A6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Algebr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Addition and Subtraction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0"/>
          <p:cNvGrpSpPr/>
          <p:nvPr/>
        </p:nvGrpSpPr>
        <p:grpSpPr>
          <a:xfrm>
            <a:off x="1066680" y="457200"/>
            <a:ext cx="7010640" cy="5943600"/>
            <a:chOff x="1066680" y="457200"/>
            <a:chExt cx="7010640" cy="5943600"/>
          </a:xfrm>
        </p:grpSpPr>
        <p:pic>
          <p:nvPicPr>
            <p:cNvPr id="51" name="Object 5" descr=""/>
            <p:cNvPicPr/>
            <p:nvPr/>
          </p:nvPicPr>
          <p:blipFill>
            <a:blip r:embed="rId1"/>
            <a:stretch/>
          </p:blipFill>
          <p:spPr>
            <a:xfrm>
              <a:off x="1143000" y="533520"/>
              <a:ext cx="14428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7" descr="abacus"/>
            <p:cNvPicPr/>
            <p:nvPr/>
          </p:nvPicPr>
          <p:blipFill>
            <a:blip r:embed="rId2"/>
            <a:stretch/>
          </p:blipFill>
          <p:spPr>
            <a:xfrm>
              <a:off x="6400800" y="45720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BS01099_(p)"/>
            <p:cNvPicPr/>
            <p:nvPr/>
          </p:nvPicPr>
          <p:blipFill>
            <a:blip r:embed="rId3"/>
            <a:stretch/>
          </p:blipFill>
          <p:spPr>
            <a:xfrm>
              <a:off x="1066680" y="487692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j0130271(p)"/>
            <p:cNvPicPr/>
            <p:nvPr/>
          </p:nvPicPr>
          <p:blipFill>
            <a:blip r:embed="rId4"/>
            <a:stretch/>
          </p:blipFill>
          <p:spPr>
            <a:xfrm>
              <a:off x="6248520" y="4648320"/>
              <a:ext cx="175248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5.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2.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.1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.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0.6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5.5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0.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8.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2.9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.4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6.7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.1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.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34:05Z</dcterms:created>
  <dc:creator>staff</dc:creator>
  <dc:description/>
  <dc:language>en-US</dc:language>
  <cp:lastModifiedBy>RomaK</cp:lastModifiedBy>
  <dcterms:modified xsi:type="dcterms:W3CDTF">2015-09-04T07:36:37Z</dcterms:modified>
  <cp:revision>15</cp:revision>
  <dc:subject/>
  <dc:title>Algebra</dc:title>
</cp:coreProperties>
</file>