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D851-1D92-459D-9C5D-69A92D23306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 Calculus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alculus A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we are only finding indefinite solutions, we must indicate the ambiguity of the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, this is done through using a letter to represent any constant.  Generally, we use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ce we are only finding indefinite solutions, we must indicate the ambiguity of the constan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mally, this is done through using a letter to represent any constant.  Generally, we use C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ppoCamp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followi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Camp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lope field shows the general “flow” of a differential equation’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, slope fields are used in lieu of actually solving differential eq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lope field shows the general “flow” of a differential equation’s solu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ten, slope fields are used in lieu of actually solving differential equation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struct a slope field, start with a differential equation.  For simplicity’s sake we’ll use                          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 than solving the differential equation, we’ll construct a slope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points in the coordinate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g in the x and y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 is the slope of the tangent line at that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onstruct a slope field, start with a differential equation.  For simplicity’s sake we’ll use                          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her than solving the differential equation, we’ll construct a slope fie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ck points in the coordinate pla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g in the x and y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esult is the slope of the tangent line at that po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since there is no y in our equation, horizontal rows all contain parallel segments.  The same would be true for vertical columns if there were no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a slope field for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at since there is no y in our equation, horizontal rows all contain parallel segments.  The same would be true for vertical columns if there were no x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truct a slope field for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equ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inverse op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 and 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 and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s and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an inverse operation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ition and subtra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onents and logarith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tion also has an invers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fferent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tion also has an inverse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fferent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function       whose derivative is given by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          is an antiderivative of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function       whose derivative is given by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           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say that           is an antiderivative of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we say            is an antiderivative and not the antiderivative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           is an antiderivative of          , we c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that      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                           and                             ,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at we say            is an antiderivative and not the antiderivative.  Wh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ce            is an antiderivative of          , we ca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y that      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                            and                             , fi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all the earlier equation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a differential equation and could also be written as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think of solving a differential equation as being similar to solving any other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all the earlier equation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called a differential equation and could also be written as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an think of solving a differential equation as being similar to solving any other equ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ing to find y as a function 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nly find indefinite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ying to find y as a function of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 only find indefinite solu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basic steps to foll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Isolate the differ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 both sides…in other words,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tideriv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 are two basic steps to follow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Isolate the different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rt both sides…in other words, fi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antideriva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527E-9F97-40F7-A927-31AD69EF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DD6F-0E26-4919-8B79-5DF6D983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136-DA6D-4316-B41F-9C06A270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448F-777C-4727-8517-483E9F00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C51-6BE0-42E4-A9DB-339D174C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562-A341-438D-BF4A-C09DA9D4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E256-AD0E-4C15-8744-7C897D61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F11E-4CFF-4002-88AB-225BD306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BDE5-529A-4911-A5EF-9ECB4576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BB6-196E-4AA4-B817-CB71A375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AA34-2B89-4EFC-AA56-20AD84C5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E805-4039-46BB-808C-B10107BB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DEA6-E7D4-45F3-8743-B151E9E98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firstslide"/>
          </p:cNvPr>
          <p:cNvSpPr/>
          <p:nvPr/>
        </p:nvSpPr>
        <p:spPr>
          <a:xfrm>
            <a:off x="0" y="58672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12957" y="3837"/>
                </a:moveTo>
                <a:lnTo>
                  <a:pt x="15533" y="6448"/>
                </a:ln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lnTo>
                  <a:pt x="19920" y="10800"/>
                </a:lnTo>
                <a:lnTo>
                  <a:pt x="18266" y="10800"/>
                </a:lnTo>
                <a:lnTo>
                  <a:pt x="18266" y="17989"/>
                </a:lnTo>
                <a:lnTo>
                  <a:pt x="7648" y="17989"/>
                </a:lnTo>
                <a:lnTo>
                  <a:pt x="7648" y="10800"/>
                </a:lnTo>
                <a:lnTo>
                  <a:pt x="5994" y="10800"/>
                </a:lnTo>
                <a:close/>
              </a:path>
              <a:path fill="darkenLess" w="25914" h="21600">
                <a:moveTo>
                  <a:pt x="15533" y="6448"/>
                </a:move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close/>
              </a:path>
              <a:path fill="darkenLess" w="25914" h="21600">
                <a:moveTo>
                  <a:pt x="12034" y="14299"/>
                </a:moveTo>
                <a:lnTo>
                  <a:pt x="13880" y="14299"/>
                </a:lnTo>
                <a:lnTo>
                  <a:pt x="13880" y="17989"/>
                </a:lnTo>
                <a:lnTo>
                  <a:pt x="18266" y="17989"/>
                </a:lnTo>
                <a:lnTo>
                  <a:pt x="18266" y="10800"/>
                </a:lnTo>
                <a:lnTo>
                  <a:pt x="7648" y="10800"/>
                </a:lnTo>
                <a:lnTo>
                  <a:pt x="7648" y="17989"/>
                </a:lnTo>
                <a:lnTo>
                  <a:pt x="12034" y="17989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nextslide"/>
          </p:cNvPr>
          <p:cNvSpPr/>
          <p:nvPr/>
        </p:nvSpPr>
        <p:spPr>
          <a:xfrm>
            <a:off x="7772400" y="594360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P Calculus AB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tiderivatives,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ifferential Equations,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d Slope Field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ce we are only finding indefinite solutions, we must indicate the ambiguity of the constan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ormally, this is done through using a letter to represent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any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tant.  Generally, we use C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9"/>
          <p:cNvSpPr/>
          <p:nvPr/>
        </p:nvSpPr>
        <p:spPr>
          <a:xfrm>
            <a:off x="6324480" y="2971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lve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981080" y="1447920"/>
                <a:ext cx="6019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2517840" y="1743120"/>
                <a:ext cx="834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2209680" y="2743200"/>
                <a:ext cx="1771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AutoShape 8"/>
          <p:cNvSpPr/>
          <p:nvPr/>
        </p:nvSpPr>
        <p:spPr>
          <a:xfrm>
            <a:off x="6324480" y="28195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ider the following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ippoCampu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slope fiel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shows the general “flow” of a differential equation’s solutio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ften, slope fields are used in lieu of actually solving differential equatio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o construct a slope field, start with a differential equation.  For simplicity’s sake we’ll use                          Slope Fiel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Rather than solving the differential equation, we’ll construct a slope fiel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ick points in the coordinate plan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lug in the x and y value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result is the slope of the tangent line at that poin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1447920" y="2503440"/>
                <a:ext cx="1974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that since there is no y in our equation, horizontal rows all contain parallel segments.  The same would be true for vertical columns if there were no x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truct a slope field for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5122800" y="3678120"/>
                <a:ext cx="16588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6"/>
          <p:cNvSpPr/>
          <p:nvPr/>
        </p:nvSpPr>
        <p:spPr>
          <a:xfrm>
            <a:off x="4495680" y="2666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ider the equati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7"/>
              <p:cNvSpPr txBox="1"/>
              <p:nvPr/>
            </p:nvSpPr>
            <p:spPr>
              <a:xfrm>
                <a:off x="4495680" y="1523880"/>
                <a:ext cx="1162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6" name="Object 11"/>
          <p:cNvGraphicFramePr/>
          <p:nvPr/>
        </p:nvGraphicFramePr>
        <p:xfrm>
          <a:off x="2743200" y="2590920"/>
          <a:ext cx="53496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534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Group 14"/>
          <p:cNvGrpSpPr/>
          <p:nvPr/>
        </p:nvGrpSpPr>
        <p:grpSpPr>
          <a:xfrm>
            <a:off x="609480" y="2400480"/>
            <a:ext cx="2133720" cy="952200"/>
            <a:chOff x="609480" y="2400480"/>
            <a:chExt cx="2133720" cy="952200"/>
          </a:xfrm>
        </p:grpSpPr>
        <p:graphicFrame>
          <p:nvGraphicFramePr>
            <p:cNvPr id="59" name="Object 8"/>
            <p:cNvGraphicFramePr/>
            <p:nvPr/>
          </p:nvGraphicFramePr>
          <p:xfrm>
            <a:off x="1914480" y="2400480"/>
            <a:ext cx="828720" cy="952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4480" y="2400480"/>
                      <a:ext cx="828720" cy="95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Rectangle 12"/>
            <p:cNvSpPr/>
            <p:nvPr/>
          </p:nvSpPr>
          <p:spPr>
            <a:xfrm>
              <a:off x="609480" y="2590920"/>
              <a:ext cx="1371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eorgia"/>
                </a:rPr>
                <a:t>Fin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15"/>
          <p:cNvSpPr/>
          <p:nvPr/>
        </p:nvSpPr>
        <p:spPr>
          <a:xfrm>
            <a:off x="4495680" y="2590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at is an inverse operation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57200" y="2438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amples includ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838080" y="31240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ddition and subtr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838080" y="3657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ultiplication and di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838080" y="41911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ponents and loga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ifferentiation also has an inverse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57200" y="34290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antidefferentiation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ider the function       whose derivative is given by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at is            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4343400" y="1555920"/>
                <a:ext cx="5014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1295280" y="2038320"/>
                <a:ext cx="14162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2184480" y="2971800"/>
                <a:ext cx="939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0"/>
              <p:cNvSpPr txBox="1"/>
              <p:nvPr/>
            </p:nvSpPr>
            <p:spPr>
              <a:xfrm>
                <a:off x="2743200" y="4033800"/>
                <a:ext cx="939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1"/>
              <p:cNvSpPr txBox="1"/>
              <p:nvPr/>
            </p:nvSpPr>
            <p:spPr>
              <a:xfrm>
                <a:off x="7162920" y="3957480"/>
                <a:ext cx="939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Text Box 13"/>
          <p:cNvSpPr/>
          <p:nvPr/>
        </p:nvSpPr>
        <p:spPr>
          <a:xfrm>
            <a:off x="6324480" y="2971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/>
          <p:cNvSpPr/>
          <p:nvPr/>
        </p:nvSpPr>
        <p:spPr>
          <a:xfrm>
            <a:off x="6248520" y="281952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144000" y="4052880"/>
            <a:ext cx="83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say that           is an antiderivative of          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15"/>
          <p:cNvGraphicFramePr/>
          <p:nvPr/>
        </p:nvGraphicFramePr>
        <p:xfrm>
          <a:off x="3567240" y="2917800"/>
          <a:ext cx="1842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7240" y="2917800"/>
                    <a:ext cx="1842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that we say            is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a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ntiderivative and not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ntiderivative.  Why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nce            is an antiderivative of          , we can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ay that      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f                             and                             , fin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nd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3759120" y="1523880"/>
                <a:ext cx="965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1778040" y="2819520"/>
                <a:ext cx="965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6172200" y="2814480"/>
                <a:ext cx="939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2141640" y="3348000"/>
                <a:ext cx="2278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1219320" y="4226040"/>
                <a:ext cx="2349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4343400" y="4191120"/>
                <a:ext cx="2457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762120" y="5100480"/>
                <a:ext cx="9032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3"/>
              <p:cNvSpPr txBox="1"/>
              <p:nvPr/>
            </p:nvSpPr>
            <p:spPr>
              <a:xfrm>
                <a:off x="2438280" y="5181480"/>
                <a:ext cx="831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Recall the earlier equation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s is called a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differential equatio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nd could also be written as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can think of solving a differential equation as being similar to solving any other equation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5105520" y="1371600"/>
                <a:ext cx="6015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5641920" y="1666800"/>
                <a:ext cx="8352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3657600" y="3048120"/>
                <a:ext cx="1752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rying to find y as a function of x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57200" y="2666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an only find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indefinite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e are two basic steps to follow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14400" y="2438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1.  Isolate the different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914400" y="32767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286200" indent="-286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vert both sides…in other words, fi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6200" indent="-28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ntideriv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5:59:17Z</dcterms:created>
  <dc:creator>EBRPSS</dc:creator>
  <dc:description/>
  <dc:language>en-US</dc:language>
  <cp:lastModifiedBy>RomaK</cp:lastModifiedBy>
  <dcterms:modified xsi:type="dcterms:W3CDTF">2015-09-04T07:36:28Z</dcterms:modified>
  <cp:revision>21</cp:revision>
  <dc:subject/>
  <dc:title>AP Calculus AB</dc:title>
</cp:coreProperties>
</file>