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99AB-8E74-4792-8AC6-77AD33BCC435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 Calculus 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rivative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 Calculus A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rivatives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we are only finding indefinite solutions, we must indicate the ambiguity of the const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ly, this is done through using a letter to represent any constant.  Generally, we use 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nce we are only finding indefinite solutions, we must indicate the ambiguity of the constant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mally, this is done through using a letter to represent any constant.  Generally, we use C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v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e follow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ppoCamp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ider the following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ppoCampu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lope field shows the general “flow” of a differential equation’s sol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ten, slope fields are used in lieu of actually solving differential equ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slope field shows the general “flow” of a differential equation’s solu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ten, slope fields are used in lieu of actually solving differential equation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onstruct a slope field, start with a differential equation.  For simplicity’s sake we’ll use                          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her than solving the differential equation, we’ll construct a slope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k points in the coordinate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g in the x and y val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sult is the slope of the tangent line at that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construct a slope field, start with a differential equation.  For simplicity’s sake we’ll use                          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ther than solving the differential equation, we’ll construct a slope fiel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ck points in the coordinate plan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ug in the x and y valu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result is the slope of the tangent line at that poi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ice that since there is no y in our equation, horizontal rows all contain parallel segments.  The same would be true for vertical columns if there were no 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 a slope field for      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ice that since there is no y in our equation, horizontal rows all contain parallel segments.  The same would be true for vertical columns if there were no x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truct a slope field for          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e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ider the equ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riv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inverse oper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tion and sub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ication and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onents and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rivativ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s an inverse operation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s include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ition and subtrac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plication and divis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onents and logarith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riv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tion also has an invers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fferent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rivativ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tion also has an inverse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fferenti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riv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e function       whose derivative is given by 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          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ay that           is an antiderivative of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rivativ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ider the function       whose derivative is given by     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s            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 say that           is an antiderivative of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riv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ice that we say            is an antiderivative and not the antiderivative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           is an antiderivative of          , we ca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y that            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                            and                             , f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rivativ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ice that we say            is an antiderivative and not the antiderivative.  Wh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nce            is an antiderivative of          , we can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y that                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                            and                             , fi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all the earlier equation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called a differential equation and could also be written as      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think of solving a differential equation as being similar to solving any other equ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all the earlier equation    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is called a differential equation and could also be written as          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 can think of solving a differential equation as being similar to solving any other equ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ing to find y as a function of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only find indefinite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ying to find y as a function of 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n only find indefinite solu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basic steps to follow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Isolate the differ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rt both sides…in other words, f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tideriv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re are two basic steps to follow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 Isolate the differentia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rt both sides…in other words, fi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antiderivativ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7AF6-7415-4803-BB1E-7649A6EEA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9C27-2300-4CE9-902F-A89907C5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283A-EC9A-46A3-85DE-EF8308530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10FB-A359-48EC-860F-793A8C1A6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BDC1-DB16-466D-B448-1F4DF0E0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A310-EC71-4817-B816-37851750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6FED-CD24-4D29-852D-56098833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1966-9AFA-40F9-87DE-28C98470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62FF-7F4D-4AFE-ABEE-5B858507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3597-2CA6-439C-AEDC-97E130F6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8AFC-0E87-4436-A146-A4221799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5E7A-54C9-487B-BC73-76FA44AA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2486-053F-426D-9818-D7039779D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>
            <a:hlinkClick r:id="" action="ppaction://hlinkshowjump?jump=firstslide"/>
          </p:cNvPr>
          <p:cNvSpPr/>
          <p:nvPr/>
        </p:nvSpPr>
        <p:spPr>
          <a:xfrm>
            <a:off x="0" y="58672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4" h="21600">
                <a:moveTo>
                  <a:pt x="12957" y="3837"/>
                </a:moveTo>
                <a:lnTo>
                  <a:pt x="15533" y="6448"/>
                </a:lnTo>
                <a:lnTo>
                  <a:pt x="15533" y="4707"/>
                </a:lnTo>
                <a:lnTo>
                  <a:pt x="17309" y="4707"/>
                </a:lnTo>
                <a:lnTo>
                  <a:pt x="17309" y="8224"/>
                </a:lnTo>
                <a:lnTo>
                  <a:pt x="19920" y="10800"/>
                </a:lnTo>
                <a:lnTo>
                  <a:pt x="18266" y="10800"/>
                </a:lnTo>
                <a:lnTo>
                  <a:pt x="18266" y="17989"/>
                </a:lnTo>
                <a:lnTo>
                  <a:pt x="7648" y="17989"/>
                </a:lnTo>
                <a:lnTo>
                  <a:pt x="7648" y="10800"/>
                </a:lnTo>
                <a:lnTo>
                  <a:pt x="5994" y="10800"/>
                </a:lnTo>
                <a:close/>
              </a:path>
              <a:path fill="darkenLess" w="25914" h="21600">
                <a:moveTo>
                  <a:pt x="15533" y="6448"/>
                </a:moveTo>
                <a:lnTo>
                  <a:pt x="15533" y="4707"/>
                </a:lnTo>
                <a:lnTo>
                  <a:pt x="17309" y="4707"/>
                </a:lnTo>
                <a:lnTo>
                  <a:pt x="17309" y="8224"/>
                </a:lnTo>
                <a:close/>
              </a:path>
              <a:path fill="darkenLess" w="25914" h="21600">
                <a:moveTo>
                  <a:pt x="12034" y="14299"/>
                </a:moveTo>
                <a:lnTo>
                  <a:pt x="13880" y="14299"/>
                </a:lnTo>
                <a:lnTo>
                  <a:pt x="13880" y="17989"/>
                </a:lnTo>
                <a:lnTo>
                  <a:pt x="18266" y="17989"/>
                </a:lnTo>
                <a:lnTo>
                  <a:pt x="18266" y="10800"/>
                </a:lnTo>
                <a:lnTo>
                  <a:pt x="7648" y="10800"/>
                </a:lnTo>
                <a:lnTo>
                  <a:pt x="7648" y="17989"/>
                </a:lnTo>
                <a:lnTo>
                  <a:pt x="12034" y="17989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8">
            <a:hlinkClick r:id="" action="ppaction://hlinkshowjump?jump=nextslide"/>
          </p:cNvPr>
          <p:cNvSpPr/>
          <p:nvPr/>
        </p:nvSpPr>
        <p:spPr>
          <a:xfrm>
            <a:off x="7772400" y="5943600"/>
            <a:ext cx="1066680" cy="685800"/>
          </a:xfrm>
          <a:custGeom>
            <a:avLst/>
            <a:gdLst>
              <a:gd name="textAreaLeft" fmla="*/ 44280 w 1066680"/>
              <a:gd name="textAreaRight" fmla="*/ 1022400 w 1066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590" h="21600">
                <a:moveTo>
                  <a:pt x="0" y="0"/>
                </a:moveTo>
                <a:lnTo>
                  <a:pt x="33590" y="0"/>
                </a:lnTo>
                <a:lnTo>
                  <a:pt x="33590" y="21600"/>
                </a:lnTo>
                <a:lnTo>
                  <a:pt x="0" y="21600"/>
                </a:lnTo>
                <a:close/>
              </a:path>
              <a:path fill="lightenLess" w="33590" h="21600">
                <a:moveTo>
                  <a:pt x="0" y="0"/>
                </a:moveTo>
                <a:lnTo>
                  <a:pt x="33590" y="0"/>
                </a:lnTo>
                <a:lnTo>
                  <a:pt x="32190" y="1400"/>
                </a:lnTo>
                <a:lnTo>
                  <a:pt x="1400" y="1400"/>
                </a:lnTo>
                <a:close/>
              </a:path>
              <a:path fill="darken" w="33590" h="21600">
                <a:moveTo>
                  <a:pt x="33590" y="0"/>
                </a:moveTo>
                <a:lnTo>
                  <a:pt x="33590" y="21600"/>
                </a:lnTo>
                <a:lnTo>
                  <a:pt x="32190" y="20200"/>
                </a:lnTo>
                <a:lnTo>
                  <a:pt x="32190" y="1400"/>
                </a:lnTo>
                <a:close/>
              </a:path>
              <a:path fill="darkenLess" w="33590" h="21600">
                <a:moveTo>
                  <a:pt x="33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0" y="20200"/>
                </a:lnTo>
                <a:close/>
              </a:path>
              <a:path fill="lighten" w="33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0" h="21600">
                <a:moveTo>
                  <a:pt x="9788" y="3794"/>
                </a:moveTo>
                <a:lnTo>
                  <a:pt x="23801" y="10800"/>
                </a:lnTo>
                <a:lnTo>
                  <a:pt x="9788" y="17806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P Calculus AB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ntiderivatives,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Differential Equations,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nd Slope Field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Differential Equation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nce we are only finding indefinite solutions, we must indicate the ambiguity of the constant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Normally, this is done through using a letter to represent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any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onstant.  Generally, we use C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9"/>
          <p:cNvSpPr/>
          <p:nvPr/>
        </p:nvSpPr>
        <p:spPr>
          <a:xfrm>
            <a:off x="6324480" y="29718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Differential Equation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olve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1981080" y="1447920"/>
                <a:ext cx="60192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5"/>
              <p:cNvSpPr txBox="1"/>
              <p:nvPr/>
            </p:nvSpPr>
            <p:spPr>
              <a:xfrm>
                <a:off x="2517840" y="1743120"/>
                <a:ext cx="8348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6"/>
              <p:cNvSpPr txBox="1"/>
              <p:nvPr/>
            </p:nvSpPr>
            <p:spPr>
              <a:xfrm>
                <a:off x="2209680" y="2743200"/>
                <a:ext cx="17719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AutoShape 8"/>
          <p:cNvSpPr/>
          <p:nvPr/>
        </p:nvSpPr>
        <p:spPr>
          <a:xfrm>
            <a:off x="6324480" y="2819520"/>
            <a:ext cx="1067040" cy="685800"/>
          </a:xfrm>
          <a:custGeom>
            <a:avLst/>
            <a:gdLst>
              <a:gd name="textAreaLeft" fmla="*/ 44280 w 1067040"/>
              <a:gd name="textAreaRight" fmla="*/ 1022760 w 10670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601" h="21600">
                <a:moveTo>
                  <a:pt x="0" y="0"/>
                </a:moveTo>
                <a:lnTo>
                  <a:pt x="33601" y="0"/>
                </a:lnTo>
                <a:lnTo>
                  <a:pt x="33601" y="21600"/>
                </a:lnTo>
                <a:lnTo>
                  <a:pt x="0" y="21600"/>
                </a:lnTo>
                <a:close/>
              </a:path>
              <a:path fill="lightenLess" w="33601" h="21600">
                <a:moveTo>
                  <a:pt x="0" y="0"/>
                </a:moveTo>
                <a:lnTo>
                  <a:pt x="33601" y="0"/>
                </a:lnTo>
                <a:lnTo>
                  <a:pt x="32201" y="1400"/>
                </a:lnTo>
                <a:lnTo>
                  <a:pt x="1400" y="1400"/>
                </a:lnTo>
                <a:close/>
              </a:path>
              <a:path fill="darken" w="33601" h="21600">
                <a:moveTo>
                  <a:pt x="33601" y="0"/>
                </a:moveTo>
                <a:lnTo>
                  <a:pt x="33601" y="21600"/>
                </a:lnTo>
                <a:lnTo>
                  <a:pt x="32201" y="20200"/>
                </a:lnTo>
                <a:lnTo>
                  <a:pt x="32201" y="1400"/>
                </a:lnTo>
                <a:close/>
              </a:path>
              <a:path fill="darkenLess" w="33601" h="21600">
                <a:moveTo>
                  <a:pt x="33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01" y="20200"/>
                </a:lnTo>
                <a:close/>
              </a:path>
              <a:path fill="lighten" w="33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Slope Field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onsider the following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ippoCampu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Slope Field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slope field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shows the general “flow” of a differential equation’s solution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Often, slope fields are used in lieu of actually solving differential equation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Slope Field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o construct a slope field, start with a differential equation.  For simplicity’s sake we’ll use                          Slope Field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Rather than solving the differential equation, we’ll construct a slope field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Pick points in the coordinate plane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Plug in the x and y value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 result is the slope of the tangent line at that poin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1447920" y="2503440"/>
                <a:ext cx="19746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xdx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Slope Field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Notice that since there is no y in our equation, horizontal rows all contain parallel segments.  The same would be true for vertical columns if there were no x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onstruct a slope field for          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4"/>
              <p:cNvSpPr txBox="1"/>
              <p:nvPr/>
            </p:nvSpPr>
            <p:spPr>
              <a:xfrm>
                <a:off x="5122800" y="3678120"/>
                <a:ext cx="165888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6"/>
          <p:cNvSpPr/>
          <p:nvPr/>
        </p:nvSpPr>
        <p:spPr>
          <a:xfrm>
            <a:off x="4495680" y="26668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Review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onsider the equation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7"/>
              <p:cNvSpPr txBox="1"/>
              <p:nvPr/>
            </p:nvSpPr>
            <p:spPr>
              <a:xfrm>
                <a:off x="4495680" y="1523880"/>
                <a:ext cx="11620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56" name="Object 11"/>
          <p:cNvGraphicFramePr/>
          <p:nvPr/>
        </p:nvGraphicFramePr>
        <p:xfrm>
          <a:off x="2743200" y="2590920"/>
          <a:ext cx="534960" cy="46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590920"/>
                    <a:ext cx="53496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" name="Group 14"/>
          <p:cNvGrpSpPr/>
          <p:nvPr/>
        </p:nvGrpSpPr>
        <p:grpSpPr>
          <a:xfrm>
            <a:off x="609480" y="2400480"/>
            <a:ext cx="2133720" cy="952200"/>
            <a:chOff x="609480" y="2400480"/>
            <a:chExt cx="2133720" cy="952200"/>
          </a:xfrm>
        </p:grpSpPr>
        <p:graphicFrame>
          <p:nvGraphicFramePr>
            <p:cNvPr id="59" name="Object 8"/>
            <p:cNvGraphicFramePr/>
            <p:nvPr/>
          </p:nvGraphicFramePr>
          <p:xfrm>
            <a:off x="1914480" y="2400480"/>
            <a:ext cx="828720" cy="952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14480" y="2400480"/>
                      <a:ext cx="828720" cy="952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1" name="Rectangle 12"/>
            <p:cNvSpPr/>
            <p:nvPr/>
          </p:nvSpPr>
          <p:spPr>
            <a:xfrm>
              <a:off x="609480" y="2590920"/>
              <a:ext cx="1371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Georgia"/>
                </a:rPr>
                <a:t>Find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AutoShape 15"/>
          <p:cNvSpPr/>
          <p:nvPr/>
        </p:nvSpPr>
        <p:spPr>
          <a:xfrm>
            <a:off x="4495680" y="2590920"/>
            <a:ext cx="1067040" cy="685800"/>
          </a:xfrm>
          <a:custGeom>
            <a:avLst/>
            <a:gdLst>
              <a:gd name="textAreaLeft" fmla="*/ 44280 w 1067040"/>
              <a:gd name="textAreaRight" fmla="*/ 1022760 w 10670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601" h="21600">
                <a:moveTo>
                  <a:pt x="0" y="0"/>
                </a:moveTo>
                <a:lnTo>
                  <a:pt x="33601" y="0"/>
                </a:lnTo>
                <a:lnTo>
                  <a:pt x="33601" y="21600"/>
                </a:lnTo>
                <a:lnTo>
                  <a:pt x="0" y="21600"/>
                </a:lnTo>
                <a:close/>
              </a:path>
              <a:path fill="lightenLess" w="33601" h="21600">
                <a:moveTo>
                  <a:pt x="0" y="0"/>
                </a:moveTo>
                <a:lnTo>
                  <a:pt x="33601" y="0"/>
                </a:lnTo>
                <a:lnTo>
                  <a:pt x="32201" y="1400"/>
                </a:lnTo>
                <a:lnTo>
                  <a:pt x="1400" y="1400"/>
                </a:lnTo>
                <a:close/>
              </a:path>
              <a:path fill="darken" w="33601" h="21600">
                <a:moveTo>
                  <a:pt x="33601" y="0"/>
                </a:moveTo>
                <a:lnTo>
                  <a:pt x="33601" y="21600"/>
                </a:lnTo>
                <a:lnTo>
                  <a:pt x="32201" y="20200"/>
                </a:lnTo>
                <a:lnTo>
                  <a:pt x="32201" y="1400"/>
                </a:lnTo>
                <a:close/>
              </a:path>
              <a:path fill="darkenLess" w="33601" h="21600">
                <a:moveTo>
                  <a:pt x="33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01" y="20200"/>
                </a:lnTo>
                <a:close/>
              </a:path>
              <a:path fill="lighten" w="33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ntiderivative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at is an inverse operation?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457200" y="24382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Examples includ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838080" y="31240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ddition and subtra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838080" y="3657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ultiplication and divi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838080" y="41911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Exponents and logarith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ntiderivative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Differentiation also has an inverse…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57200" y="34290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eorgia"/>
              </a:rPr>
              <a:t>antidefferentiation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ntiderivative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onsider the function       whose derivative is given by     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hat is            ?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4343400" y="1555920"/>
                <a:ext cx="5014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6"/>
              <p:cNvSpPr txBox="1"/>
              <p:nvPr/>
            </p:nvSpPr>
            <p:spPr>
              <a:xfrm>
                <a:off x="1295280" y="2038320"/>
                <a:ext cx="141624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8"/>
              <p:cNvSpPr txBox="1"/>
              <p:nvPr/>
            </p:nvSpPr>
            <p:spPr>
              <a:xfrm>
                <a:off x="2184480" y="2971800"/>
                <a:ext cx="9396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10"/>
              <p:cNvSpPr txBox="1"/>
              <p:nvPr/>
            </p:nvSpPr>
            <p:spPr>
              <a:xfrm>
                <a:off x="2743200" y="4033800"/>
                <a:ext cx="9399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11"/>
              <p:cNvSpPr txBox="1"/>
              <p:nvPr/>
            </p:nvSpPr>
            <p:spPr>
              <a:xfrm>
                <a:off x="7162920" y="3957480"/>
                <a:ext cx="9396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" name="Text Box 13"/>
          <p:cNvSpPr/>
          <p:nvPr/>
        </p:nvSpPr>
        <p:spPr>
          <a:xfrm>
            <a:off x="6324480" y="29718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2"/>
          <p:cNvSpPr/>
          <p:nvPr/>
        </p:nvSpPr>
        <p:spPr>
          <a:xfrm>
            <a:off x="6248520" y="2819520"/>
            <a:ext cx="1066680" cy="685800"/>
          </a:xfrm>
          <a:custGeom>
            <a:avLst/>
            <a:gdLst>
              <a:gd name="textAreaLeft" fmla="*/ 44280 w 1066680"/>
              <a:gd name="textAreaRight" fmla="*/ 1022400 w 1066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590" h="21600">
                <a:moveTo>
                  <a:pt x="0" y="0"/>
                </a:moveTo>
                <a:lnTo>
                  <a:pt x="33590" y="0"/>
                </a:lnTo>
                <a:lnTo>
                  <a:pt x="33590" y="21600"/>
                </a:lnTo>
                <a:lnTo>
                  <a:pt x="0" y="21600"/>
                </a:lnTo>
                <a:close/>
              </a:path>
              <a:path fill="lightenLess" w="33590" h="21600">
                <a:moveTo>
                  <a:pt x="0" y="0"/>
                </a:moveTo>
                <a:lnTo>
                  <a:pt x="33590" y="0"/>
                </a:lnTo>
                <a:lnTo>
                  <a:pt x="32190" y="1400"/>
                </a:lnTo>
                <a:lnTo>
                  <a:pt x="1400" y="1400"/>
                </a:lnTo>
                <a:close/>
              </a:path>
              <a:path fill="darken" w="33590" h="21600">
                <a:moveTo>
                  <a:pt x="33590" y="0"/>
                </a:moveTo>
                <a:lnTo>
                  <a:pt x="33590" y="21600"/>
                </a:lnTo>
                <a:lnTo>
                  <a:pt x="32190" y="20200"/>
                </a:lnTo>
                <a:lnTo>
                  <a:pt x="32190" y="1400"/>
                </a:lnTo>
                <a:close/>
              </a:path>
              <a:path fill="darkenLess" w="33590" h="21600">
                <a:moveTo>
                  <a:pt x="33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0" y="20200"/>
                </a:lnTo>
                <a:close/>
              </a:path>
              <a:path fill="lighten" w="33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4"/>
          <p:cNvSpPr/>
          <p:nvPr/>
        </p:nvSpPr>
        <p:spPr>
          <a:xfrm>
            <a:off x="144000" y="4052880"/>
            <a:ext cx="832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say that           is an antiderivative of           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15"/>
          <p:cNvGraphicFramePr/>
          <p:nvPr/>
        </p:nvGraphicFramePr>
        <p:xfrm>
          <a:off x="3567240" y="2917800"/>
          <a:ext cx="184284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7240" y="2917800"/>
                    <a:ext cx="18428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ntiderivative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Notice that we say            is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an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antiderivative and not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antiderivative.  Why?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ince            is an antiderivative of          , we can 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ay that                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f                             and                             , find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            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and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4"/>
              <p:cNvSpPr txBox="1"/>
              <p:nvPr/>
            </p:nvSpPr>
            <p:spPr>
              <a:xfrm>
                <a:off x="3759120" y="1523880"/>
                <a:ext cx="96516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6"/>
              <p:cNvSpPr txBox="1"/>
              <p:nvPr/>
            </p:nvSpPr>
            <p:spPr>
              <a:xfrm>
                <a:off x="1778040" y="2819520"/>
                <a:ext cx="96516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8"/>
              <p:cNvSpPr txBox="1"/>
              <p:nvPr/>
            </p:nvSpPr>
            <p:spPr>
              <a:xfrm>
                <a:off x="6172200" y="2814480"/>
                <a:ext cx="9399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9"/>
              <p:cNvSpPr txBox="1"/>
              <p:nvPr/>
            </p:nvSpPr>
            <p:spPr>
              <a:xfrm>
                <a:off x="2141640" y="3348000"/>
                <a:ext cx="22780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10"/>
              <p:cNvSpPr txBox="1"/>
              <p:nvPr/>
            </p:nvSpPr>
            <p:spPr>
              <a:xfrm>
                <a:off x="1219320" y="4226040"/>
                <a:ext cx="23493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11"/>
              <p:cNvSpPr txBox="1"/>
              <p:nvPr/>
            </p:nvSpPr>
            <p:spPr>
              <a:xfrm>
                <a:off x="4343400" y="4191120"/>
                <a:ext cx="24573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12"/>
              <p:cNvSpPr txBox="1"/>
              <p:nvPr/>
            </p:nvSpPr>
            <p:spPr>
              <a:xfrm>
                <a:off x="762120" y="5100480"/>
                <a:ext cx="90324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13"/>
              <p:cNvSpPr txBox="1"/>
              <p:nvPr/>
            </p:nvSpPr>
            <p:spPr>
              <a:xfrm>
                <a:off x="2438280" y="5181480"/>
                <a:ext cx="8319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Differential Equation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Recall the earlier equation    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is is called a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differential equation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and could also be written as          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can think of solving a differential equation as being similar to solving any other equation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5105520" y="1371600"/>
                <a:ext cx="60156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5"/>
              <p:cNvSpPr txBox="1"/>
              <p:nvPr/>
            </p:nvSpPr>
            <p:spPr>
              <a:xfrm>
                <a:off x="5641920" y="1666800"/>
                <a:ext cx="83520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6"/>
              <p:cNvSpPr txBox="1"/>
              <p:nvPr/>
            </p:nvSpPr>
            <p:spPr>
              <a:xfrm>
                <a:off x="3657600" y="3048120"/>
                <a:ext cx="17524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xdx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Differential Equation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rying to find y as a function of x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457200" y="2666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an only find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indefinite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olu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Differential Equation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re are two basic steps to follow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914400" y="24382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1.  Isolate the different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914400" y="32767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marL="286200" indent="-286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nvert both sides…in other words, fi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6200" indent="-286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antideriv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5:59:17Z</dcterms:created>
  <dc:creator>EBRPSS</dc:creator>
  <dc:description/>
  <dc:language>en-US</dc:language>
  <cp:lastModifiedBy>RomaK</cp:lastModifiedBy>
  <dcterms:modified xsi:type="dcterms:W3CDTF">2015-09-04T07:36:28Z</dcterms:modified>
  <cp:revision>21</cp:revision>
  <dc:subject/>
  <dc:title>AP Calculus AB</dc:title>
</cp:coreProperties>
</file>