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4.jpeg" ContentType="image/jpeg"/>
  <Override PartName="/ppt/media/image31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gif" ContentType="image/gif"/>
  <Override PartName="/ppt/media/image19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13.png" ContentType="image/png"/>
  <Override PartName="/ppt/media/image20.gif" ContentType="image/gif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195F-2C27-4601-8735-FF4FB5F326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Blast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ast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B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tail of a wall painting in the Stanzino delle Matematiche in the Galleria degli Uffizi in Florence, Italy.  Painted by Giulio Parigi (1571-1635) in the years 1599-1600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tail of a wall painting in the Stanzino delle Matematiche in the Galleria degli Uffizi in Florence, Italy.  Painted by Giulio Parigi (1571-1635) in the years 1599-16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Mirror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used mirrors to reflect and intensify the sun, causing the ships to catch on fire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used mirrors to reflect and intensify the sun, causing the ships to catch on f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 painting from the Stanzino delle Matematiche in the Galleria degli Uffizi (Florence, Italy). Painted by Giulio Parigi (1571-1635) in the years 1599-1600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 painting from the Stanzino delle Matematiche in the Galleria degli Uffizi (Florence, Italy). Painted by Giulio Parigi (1571-1635) in the years 1599-160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raving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s Magaz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, 1824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me a place to stand and I will move the earth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raving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s Magaz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, 182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me a place to stand and I will move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of the Lever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crum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 x d1 = w2 x d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of the L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c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1 x d1 = w2 x 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d1 = w2 x d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d1 = w2 x d2      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5 = 400 x 5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= 400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8 = 400 x 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= 100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d1 = w2 x 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d1 = w2 x d2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5 = 400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=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x 8 = 400 x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1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 Proble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 is your turn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20 ton dinosaur?  Place the dinosaur 10 feet from the fulcrum and pretend you weigh 100 pounds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team of 10 football players (weighing 200 pounds each)? Use the same set-up as above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lifetime supply of candy bars?  Estimate that you can eat 2 pounds of candy each week for 70 years.  Use the same set-up as above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 Proble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 is your 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20 ton dinosaur?  Place the dinosaur 10 feet from the fulcrum and pretend you weigh 100 p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team of 10 football players (weighing 200 pounds each)? Use the same set-up as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would the lever need to be so that you can lift a lifetime supply of candy bars?  Estimate that you can eat 2 pounds of candy each week for 70 years.  Use the same set-up as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ath of Archimedes depicted on a Roman floor mosaic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ath of Archimedes depicted on a Roman floor mosa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racuse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n part of Greece)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7-212 BC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rac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n part of Gree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7-212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how to calculate the volu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of a sphere, and even wanted th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agram on his tombstone.  He made s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uch progress in this area that noth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could be added for 18 centuries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EKA (I have found it!) – Bouyancy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Exponential system of wri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large numbers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e Law of the Lever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how to calculate the volu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of a sphere, and even wanted th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agram on his tombstone.  He made s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uch progress in this area that noth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could be added for 18 centu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EKA (I have found it!) – Bouy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Exponential system of wri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larg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e Law of the L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ian postage stamp honoring Archimedes May 2, 198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t Catalogue Number 1559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tatue in the National Museum in Naples, Italy, was widely claimed to be Archimedes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ctually a bust of Archidamos III, a third century BC king of Sparta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is commemorated on a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postage stamp from 1983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s Medal carries a portrait of Archimedes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ian postage stamp honoring Archimedes May 2, 198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t Catalogue Number 15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tatue in the National Museum in Naples, Italy, was widely claimed to be Archime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ctually a bust of Archidamos III, a third century BC king of Spa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is commemorated on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 postage stamp from 198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s Medal carries a portrait of Archime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water screw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pump, still used in many parts of the world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water scr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pump, still used in many parts of the wor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1740 engraving of Archimedes planning the defenses of Syracuse. The Greek writing on his cap is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         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rchimedes the geometer).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1740 engraving of Archimedes planning the defenses of Syracuse. The Greek writing on his cap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         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rchimedes the geometer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designed many tools for defending Syracuse from invasion.  This is a model of how one of Archimedes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gadgets may have worked.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medes designed many tools for defending Syracuse from invasion.  This is a model of how one of Archime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gadgets may have wor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B290-B3E5-4504-A283-4E33BD2D4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535B-3A24-4C00-B287-04852142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4082-1E2F-4129-ADDB-C7246177D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866E-A099-4F3E-A3D1-9E0571776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0977-A116-402E-A9FB-66B89932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ADE3-B644-4766-BEB8-E9C8E0EB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69A2-F778-49F1-945F-D4C50568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B354-2E69-4A37-9225-A0050BE9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C647-7009-40B7-B808-6E7A859A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4C0D-8B7D-411B-8D02-60BBFBDB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5086-E371-4E10-B3A3-ADDBB171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C987-45DE-4F97-AD5E-AABA3DEC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1DD6-69E7-4AD8-ADDE-5A7BACE33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hyperlink" Target="http://upload.wikimedia.org/wikipedia/commons/e/e7/Domenico-Fetti_Archimedes_1620.jpg" TargetMode="External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hyperlink" Target="http://en.wikipedia.org/wiki/Image:Archimedes_greece_1983.png" TargetMode="External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3" descr="8799.jpg"/>
          <p:cNvPicPr/>
          <p:nvPr/>
        </p:nvPicPr>
        <p:blipFill>
          <a:blip r:embed="rId1"/>
          <a:stretch/>
        </p:blipFill>
        <p:spPr>
          <a:xfrm>
            <a:off x="1371600" y="3886200"/>
            <a:ext cx="1298520" cy="1676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Outdoor-Clock-11892TCH.jpg"/>
          <p:cNvPicPr/>
          <p:nvPr/>
        </p:nvPicPr>
        <p:blipFill>
          <a:blip r:embed="rId2"/>
          <a:stretch/>
        </p:blipFill>
        <p:spPr>
          <a:xfrm>
            <a:off x="0" y="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50" name="WordArt 4"/>
          <p:cNvSpPr txBox="1"/>
          <p:nvPr/>
        </p:nvSpPr>
        <p:spPr>
          <a:xfrm>
            <a:off x="2209680" y="76320"/>
            <a:ext cx="6705720" cy="38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6633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Pristina"/>
              </a:rPr>
              <a:t>Math Blast</a:t>
            </a:r>
            <a:endParaRPr b="1" lang="en-US" sz="1800" spc="1" strike="noStrike">
              <a:ln w="9360">
                <a:solidFill>
                  <a:srgbClr val="996633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Pristina"/>
              <a:ea typeface="Pristi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6633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Pristina"/>
              </a:rPr>
              <a:t>From the Past</a:t>
            </a:r>
            <a:endParaRPr b="1" lang="en-US" sz="1800" spc="1" strike="noStrike">
              <a:ln w="9360">
                <a:solidFill>
                  <a:srgbClr val="996633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Pristina"/>
              <a:ea typeface="Pristina"/>
            </a:endParaRPr>
          </a:p>
        </p:txBody>
      </p:sp>
      <p:pic>
        <p:nvPicPr>
          <p:cNvPr id="51" name="Picture 9" descr="fermilarge.jpg"/>
          <p:cNvPicPr/>
          <p:nvPr/>
        </p:nvPicPr>
        <p:blipFill>
          <a:blip r:embed="rId7"/>
          <a:stretch/>
        </p:blipFill>
        <p:spPr>
          <a:xfrm>
            <a:off x="-171360" y="4495680"/>
            <a:ext cx="1535040" cy="2362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archimedes.jpg"/>
          <p:cNvPicPr/>
          <p:nvPr/>
        </p:nvPicPr>
        <p:blipFill>
          <a:blip r:embed="rId8"/>
          <a:stretch/>
        </p:blipFill>
        <p:spPr>
          <a:xfrm>
            <a:off x="1371600" y="5562720"/>
            <a:ext cx="1981080" cy="1276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Image:Domenico-Fetti Archimedes 1620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038480" y="3924360"/>
            <a:ext cx="2200320" cy="293364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shipshaker1"/>
          <p:cNvPicPr/>
          <p:nvPr/>
        </p:nvPicPr>
        <p:blipFill>
          <a:blip r:embed="rId1"/>
          <a:stretch/>
        </p:blipFill>
        <p:spPr>
          <a:xfrm>
            <a:off x="304920" y="304920"/>
            <a:ext cx="8494560" cy="6081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claw_uffizi_small"/>
          <p:cNvPicPr/>
          <p:nvPr/>
        </p:nvPicPr>
        <p:blipFill>
          <a:blip r:embed="rId1"/>
          <a:stretch/>
        </p:blipFill>
        <p:spPr>
          <a:xfrm>
            <a:off x="1752480" y="304920"/>
            <a:ext cx="5715000" cy="4603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838080" y="4952880"/>
            <a:ext cx="769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etail of a wall painting in the Stanzino delle Matematiche in the Galleria degli Uffizi in Florence, Italy.  Painted by Giulio Parigi (1571-1635) in the years 1599-1600.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cover dir="ru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EngravingMirrorSmall"/>
          <p:cNvPicPr/>
          <p:nvPr/>
        </p:nvPicPr>
        <p:blipFill>
          <a:blip r:embed="rId1"/>
          <a:stretch/>
        </p:blipFill>
        <p:spPr>
          <a:xfrm>
            <a:off x="228600" y="304920"/>
            <a:ext cx="4191120" cy="63244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181480" y="609480"/>
            <a:ext cx="314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urning Mirror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medes used mirrors to reflect and intensify the sun, causing the ships to catch on fire.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90" name="Picture 7" descr="Archimedes may have used mirrors acting as a parabolic reflector to burn ships attacking Syracuse"/>
          <p:cNvPicPr/>
          <p:nvPr/>
        </p:nvPicPr>
        <p:blipFill>
          <a:blip r:embed="rId2"/>
          <a:stretch/>
        </p:blipFill>
        <p:spPr>
          <a:xfrm>
            <a:off x="5029200" y="2895480"/>
            <a:ext cx="3125880" cy="3733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77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770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MirrorSmall"/>
          <p:cNvPicPr/>
          <p:nvPr/>
        </p:nvPicPr>
        <p:blipFill>
          <a:blip r:embed="rId1"/>
          <a:stretch/>
        </p:blipFill>
        <p:spPr>
          <a:xfrm>
            <a:off x="838080" y="304920"/>
            <a:ext cx="7391520" cy="39956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228600" y="472428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ll painting from the Stanzino delle Matematiche in the Galleria degli Uffizi (Florence, Italy). Painted by Giulio Parigi (1571-1635) in the years 1599-1600. 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zoom dir="in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LeverMid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0450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1"/>
          <p:cNvSpPr/>
          <p:nvPr/>
        </p:nvSpPr>
        <p:spPr>
          <a:xfrm>
            <a:off x="3280680" y="5638320"/>
            <a:ext cx="232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raving from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chanics Magazi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don, 1824 </a:t>
            </a: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-1800" y="228600"/>
            <a:ext cx="91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me a place to stand and I will move the earth</a:t>
            </a:r>
            <a:endParaRPr b="0" lang="en-US" sz="32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2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w of the L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2362320" y="3429000"/>
            <a:ext cx="373356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4419720" y="35812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0" name="Oval 6"/>
          <p:cNvSpPr/>
          <p:nvPr/>
        </p:nvSpPr>
        <p:spPr>
          <a:xfrm>
            <a:off x="5562720" y="26668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2362320" y="2819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3384000" y="2971800"/>
            <a:ext cx="49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4888800" y="3124080"/>
            <a:ext cx="49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3964680" y="429588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crum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5" name="Line 13"/>
          <p:cNvSpPr/>
          <p:nvPr/>
        </p:nvSpPr>
        <p:spPr>
          <a:xfrm flipV="1">
            <a:off x="4419720" y="40381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886040" y="5232240"/>
            <a:ext cx="58417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x d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= w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x d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checker dir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1"/>
          <p:cNvGrpSpPr/>
          <p:nvPr/>
        </p:nvGrpSpPr>
        <p:grpSpPr>
          <a:xfrm>
            <a:off x="2473200" y="3200400"/>
            <a:ext cx="6744600" cy="2057400"/>
            <a:chOff x="2473200" y="3200400"/>
            <a:chExt cx="6744600" cy="2057400"/>
          </a:xfrm>
        </p:grpSpPr>
        <p:sp>
          <p:nvSpPr>
            <p:cNvPr id="108" name="AutoShape 5"/>
            <p:cNvSpPr/>
            <p:nvPr/>
          </p:nvSpPr>
          <p:spPr>
            <a:xfrm>
              <a:off x="5267160" y="4648320"/>
              <a:ext cx="457200" cy="609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09" name="Text Box 7"/>
            <p:cNvSpPr/>
            <p:nvPr/>
          </p:nvSpPr>
          <p:spPr>
            <a:xfrm>
              <a:off x="5751000" y="468792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 feet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0" name="Text Box 8"/>
            <p:cNvSpPr/>
            <p:nvPr/>
          </p:nvSpPr>
          <p:spPr>
            <a:xfrm>
              <a:off x="2915640" y="457200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8 feet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1" name="Text Box 9"/>
            <p:cNvSpPr/>
            <p:nvPr/>
          </p:nvSpPr>
          <p:spPr>
            <a:xfrm>
              <a:off x="2764080" y="39625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pic>
          <p:nvPicPr>
            <p:cNvPr id="112" name="Picture 16" descr="dinosaur2.jpg"/>
            <p:cNvPicPr/>
            <p:nvPr/>
          </p:nvPicPr>
          <p:blipFill>
            <a:blip r:embed="rId1"/>
            <a:stretch/>
          </p:blipFill>
          <p:spPr>
            <a:xfrm>
              <a:off x="5952960" y="3200400"/>
              <a:ext cx="15242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6"/>
            <p:cNvSpPr/>
            <p:nvPr/>
          </p:nvSpPr>
          <p:spPr>
            <a:xfrm>
              <a:off x="7174800" y="3733920"/>
              <a:ext cx="20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00 pounds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4" name="Line 4"/>
            <p:cNvSpPr/>
            <p:nvPr/>
          </p:nvSpPr>
          <p:spPr>
            <a:xfrm>
              <a:off x="2473200" y="4506840"/>
              <a:ext cx="4343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ristina"/>
              </a:endParaRPr>
            </a:p>
          </p:txBody>
        </p:sp>
      </p:grpSp>
      <p:grpSp>
        <p:nvGrpSpPr>
          <p:cNvPr id="115" name="Group 20"/>
          <p:cNvGrpSpPr/>
          <p:nvPr/>
        </p:nvGrpSpPr>
        <p:grpSpPr>
          <a:xfrm>
            <a:off x="2676600" y="0"/>
            <a:ext cx="6464880" cy="1996920"/>
            <a:chOff x="2676600" y="0"/>
            <a:chExt cx="6464880" cy="1996920"/>
          </a:xfrm>
        </p:grpSpPr>
        <p:pic>
          <p:nvPicPr>
            <p:cNvPr id="116" name="Picture 17" descr="dinosaur2.jpg"/>
            <p:cNvPicPr/>
            <p:nvPr/>
          </p:nvPicPr>
          <p:blipFill>
            <a:blip r:embed="rId2"/>
            <a:stretch/>
          </p:blipFill>
          <p:spPr>
            <a:xfrm>
              <a:off x="5877000" y="0"/>
              <a:ext cx="15238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Line 10"/>
            <p:cNvSpPr/>
            <p:nvPr/>
          </p:nvSpPr>
          <p:spPr>
            <a:xfrm>
              <a:off x="2676600" y="1295280"/>
              <a:ext cx="4343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8" name="AutoShape 11"/>
            <p:cNvSpPr/>
            <p:nvPr/>
          </p:nvSpPr>
          <p:spPr>
            <a:xfrm>
              <a:off x="4657680" y="1371600"/>
              <a:ext cx="457200" cy="609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19" name="Text Box 12"/>
            <p:cNvSpPr/>
            <p:nvPr/>
          </p:nvSpPr>
          <p:spPr>
            <a:xfrm>
              <a:off x="7098480" y="533520"/>
              <a:ext cx="20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00 pounds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20" name="Text Box 13"/>
            <p:cNvSpPr/>
            <p:nvPr/>
          </p:nvSpPr>
          <p:spPr>
            <a:xfrm>
              <a:off x="5497200" y="147636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 feet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21" name="Text Box 14"/>
            <p:cNvSpPr/>
            <p:nvPr/>
          </p:nvSpPr>
          <p:spPr>
            <a:xfrm>
              <a:off x="3119040" y="136044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 feet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  <p:sp>
          <p:nvSpPr>
            <p:cNvPr id="122" name="Text Box 18"/>
            <p:cNvSpPr/>
            <p:nvPr/>
          </p:nvSpPr>
          <p:spPr>
            <a:xfrm>
              <a:off x="3362760" y="7002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Pristina"/>
              </a:endParaRPr>
            </a:p>
          </p:txBody>
        </p:sp>
      </p:grpSp>
      <p:sp>
        <p:nvSpPr>
          <p:cNvPr id="123" name="Text Box 19"/>
          <p:cNvSpPr/>
          <p:nvPr/>
        </p:nvSpPr>
        <p:spPr>
          <a:xfrm>
            <a:off x="18360" y="5013360"/>
            <a:ext cx="4384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d1 = w2 x d2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76320" y="1889280"/>
            <a:ext cx="442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d1 = w2 x d2       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5" name="Rectangle 23"/>
          <p:cNvSpPr/>
          <p:nvPr/>
        </p:nvSpPr>
        <p:spPr>
          <a:xfrm>
            <a:off x="309240" y="2514600"/>
            <a:ext cx="393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5 = 400 x 5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6" name="Rectangle 24"/>
          <p:cNvSpPr/>
          <p:nvPr/>
        </p:nvSpPr>
        <p:spPr>
          <a:xfrm>
            <a:off x="990720" y="312408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= 400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7" name="Rectangle 25"/>
          <p:cNvSpPr/>
          <p:nvPr/>
        </p:nvSpPr>
        <p:spPr>
          <a:xfrm>
            <a:off x="309240" y="5638680"/>
            <a:ext cx="393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x 8 = 400 x 2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128" name="Rectangle 26"/>
          <p:cNvSpPr/>
          <p:nvPr/>
        </p:nvSpPr>
        <p:spPr>
          <a:xfrm>
            <a:off x="914400" y="615636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Maiandra GD"/>
              </a:rPr>
              <a:t>w1 = 100</a:t>
            </a:r>
            <a:endParaRPr b="0" lang="en-US" sz="40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wheel spokes="1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ver Problems</a:t>
            </a:r>
            <a:br>
              <a:rPr sz="4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w it is your 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long would the lever need to be so tha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lift a 20 ton dinosaur?  Place the dinosaur 10 feet from the fulcrum and pretend you weigh 100 poun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long would the lever need to be so tha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lift a team of 10 football players (weighing 200 pounds each)? Use the same set-up as abo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long would the lever need to be so that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lift a lifetime supply of candy bars?  Estimate that you can eat 2 pounds of candy each week for 70 years.  Use the same set-up as abo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3352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ath of Archimedes depicted on a Roman floor mosa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Archimedes_9"/>
          <p:cNvPicPr/>
          <p:nvPr/>
        </p:nvPicPr>
        <p:blipFill>
          <a:blip r:embed="rId1"/>
          <a:stretch/>
        </p:blipFill>
        <p:spPr>
          <a:xfrm>
            <a:off x="1523880" y="1066680"/>
            <a:ext cx="5867640" cy="4951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1219320" y="304920"/>
            <a:ext cx="6476760" cy="19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Archimed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pic>
        <p:nvPicPr>
          <p:cNvPr id="55" name="Picture 6" descr="archimedes"/>
          <p:cNvPicPr/>
          <p:nvPr/>
        </p:nvPicPr>
        <p:blipFill>
          <a:blip r:embed="rId1"/>
          <a:stretch/>
        </p:blipFill>
        <p:spPr>
          <a:xfrm>
            <a:off x="762120" y="2590920"/>
            <a:ext cx="3733560" cy="3317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sphere_cylinder"/>
          <p:cNvPicPr/>
          <p:nvPr/>
        </p:nvPicPr>
        <p:blipFill>
          <a:blip r:embed="rId2"/>
          <a:stretch/>
        </p:blipFill>
        <p:spPr>
          <a:xfrm>
            <a:off x="5562720" y="4191120"/>
            <a:ext cx="2157120" cy="23619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9"/>
          <p:cNvSpPr/>
          <p:nvPr/>
        </p:nvSpPr>
        <p:spPr>
          <a:xfrm>
            <a:off x="5151600" y="2530440"/>
            <a:ext cx="31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Syracuse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(then part of Greece)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287-212 BC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wipe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sphere_cylinder"/>
          <p:cNvPicPr/>
          <p:nvPr/>
        </p:nvPicPr>
        <p:blipFill>
          <a:blip r:embed="rId1"/>
          <a:stretch/>
        </p:blipFill>
        <p:spPr>
          <a:xfrm>
            <a:off x="380880" y="685800"/>
            <a:ext cx="1346400" cy="14731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228600" y="152280"/>
            <a:ext cx="8610480" cy="69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Discovered how to calculate the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volume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  of a sphere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, and even wanted this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diagram on his tombstone.  He made so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much progress in this area that nothing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could be added for 18 centuries.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EUREKA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(I have found it!) – Bouyancy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Developed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Exponential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system of writing 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large numbers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Discovered the </a:t>
            </a:r>
            <a:r>
              <a:rPr b="0" lang="en-US" sz="2800" spc="-1" strike="noStrike">
                <a:solidFill>
                  <a:srgbClr val="cc0000"/>
                </a:solidFill>
                <a:latin typeface="Maiandra GD"/>
              </a:rPr>
              <a:t>Law of the Lever</a:t>
            </a:r>
            <a:endParaRPr b="0" lang="en-US" sz="28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60" name="Picture 7" descr="bubbletubblank.gif"/>
          <p:cNvPicPr/>
          <p:nvPr/>
        </p:nvPicPr>
        <p:blipFill>
          <a:blip r:embed="rId2"/>
          <a:stretch/>
        </p:blipFill>
        <p:spPr>
          <a:xfrm>
            <a:off x="7086600" y="2895480"/>
            <a:ext cx="1523880" cy="11811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610560" y="4129200"/>
            <a:ext cx="1142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0000"/>
                </a:solidFill>
                <a:latin typeface="Maiandra GD"/>
              </a:rPr>
              <a:t>x</a:t>
            </a:r>
            <a:r>
              <a:rPr b="0" lang="en-US" sz="8800" spc="-1" strike="noStrike" baseline="30000">
                <a:solidFill>
                  <a:srgbClr val="cc0000"/>
                </a:solidFill>
                <a:latin typeface="Maiandra GD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62" name="Picture 10" descr="Lever.jpg"/>
          <p:cNvPicPr/>
          <p:nvPr/>
        </p:nvPicPr>
        <p:blipFill>
          <a:blip r:embed="rId3"/>
          <a:stretch/>
        </p:blipFill>
        <p:spPr>
          <a:xfrm>
            <a:off x="6858000" y="53341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Archimedes6"/>
          <p:cNvPicPr/>
          <p:nvPr/>
        </p:nvPicPr>
        <p:blipFill>
          <a:blip r:embed="rId1"/>
          <a:stretch/>
        </p:blipFill>
        <p:spPr>
          <a:xfrm>
            <a:off x="457200" y="228600"/>
            <a:ext cx="3089160" cy="4038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stamp_italian_small"/>
          <p:cNvPicPr/>
          <p:nvPr/>
        </p:nvPicPr>
        <p:blipFill>
          <a:blip r:embed="rId2"/>
          <a:stretch/>
        </p:blipFill>
        <p:spPr>
          <a:xfrm>
            <a:off x="3886200" y="2895480"/>
            <a:ext cx="2987640" cy="22338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3"/>
          <p:cNvSpPr/>
          <p:nvPr/>
        </p:nvSpPr>
        <p:spPr>
          <a:xfrm>
            <a:off x="3809880" y="5334840"/>
            <a:ext cx="312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alian postage stamp honoring Archimedes May 2, 198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tt Catalogue Number 1559</a:t>
            </a:r>
            <a:endParaRPr b="0" lang="en-US" sz="1600" spc="-1" strike="noStrike">
              <a:solidFill>
                <a:srgbClr val="000000"/>
              </a:solidFill>
              <a:latin typeface="Pristina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4114800" y="152280"/>
            <a:ext cx="480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tatue in the National Museum in Naples, Italy, was widely claimed to be Archimedes. 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ctually a bust of Archidamos III, a third century BC king of Sparta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67" name="Picture 16" descr="Archimedes is commemorated on a Greek postage stamp from 1983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86600" y="2895480"/>
            <a:ext cx="1714680" cy="23529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7"/>
          <p:cNvSpPr/>
          <p:nvPr/>
        </p:nvSpPr>
        <p:spPr>
          <a:xfrm>
            <a:off x="7010280" y="5335200"/>
            <a:ext cx="21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chimedes is commemorated on a </a:t>
            </a:r>
            <a:endParaRPr b="0" lang="en-US" sz="1600" spc="-1" strike="noStrike">
              <a:solidFill>
                <a:srgbClr val="000000"/>
              </a:solidFill>
              <a:latin typeface="Pristi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ek postage stamp from 1983. </a:t>
            </a:r>
            <a:endParaRPr b="0" lang="en-US" sz="16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69" name="Picture 19" descr="Image:FieldsMedalFrontArchimedes.jpg"/>
          <p:cNvPicPr/>
          <p:nvPr/>
        </p:nvPicPr>
        <p:blipFill>
          <a:blip r:embed="rId5"/>
          <a:stretch/>
        </p:blipFill>
        <p:spPr>
          <a:xfrm>
            <a:off x="914400" y="4343400"/>
            <a:ext cx="2209680" cy="2124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0"/>
          <p:cNvSpPr/>
          <p:nvPr/>
        </p:nvSpPr>
        <p:spPr>
          <a:xfrm>
            <a:off x="-4320" y="6490440"/>
            <a:ext cx="52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s Medal carries a portrait of Archimedes.</a:t>
            </a:r>
            <a:r>
              <a:rPr b="0" lang="en-US" sz="1800" spc="-1" strike="noStrike">
                <a:solidFill>
                  <a:srgbClr val="000000"/>
                </a:solidFill>
                <a:latin typeface="Pristi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wheel spokes="8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ScrewMineMed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4599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1905120" y="380880"/>
            <a:ext cx="51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chimedes water screw</a:t>
            </a:r>
            <a:endParaRPr b="0" lang="en-US" sz="36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74" name="Picture 7" descr="The Archimedes' screw can raise water efficiently."/>
          <p:cNvPicPr/>
          <p:nvPr/>
        </p:nvPicPr>
        <p:blipFill>
          <a:blip r:embed="rId2"/>
          <a:stretch/>
        </p:blipFill>
        <p:spPr>
          <a:xfrm flipH="1">
            <a:off x="5486040" y="4267080"/>
            <a:ext cx="2057400" cy="14972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528480" y="6279120"/>
            <a:ext cx="81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This is a pump, still used in many parts of the world. 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comb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304920" y="303480"/>
            <a:ext cx="4038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1740 engraving of Archimedes planning the defenses of Syracuse. The Greek writing on his cap is</a:t>
            </a:r>
            <a:endParaRPr b="0" lang="en-US" sz="20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                   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rchimedes the geometer). </a:t>
            </a:r>
            <a:endParaRPr b="0" lang="en-US" sz="2000" spc="-1" strike="noStrike">
              <a:solidFill>
                <a:srgbClr val="000000"/>
              </a:solidFill>
              <a:latin typeface="Pristina"/>
            </a:endParaRPr>
          </a:p>
        </p:txBody>
      </p:sp>
      <p:pic>
        <p:nvPicPr>
          <p:cNvPr id="77" name="Picture 5" descr="Greek_geometer"/>
          <p:cNvPicPr/>
          <p:nvPr/>
        </p:nvPicPr>
        <p:blipFill>
          <a:blip r:embed="rId1"/>
          <a:stretch/>
        </p:blipFill>
        <p:spPr>
          <a:xfrm>
            <a:off x="533520" y="1828800"/>
            <a:ext cx="3539880" cy="415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ArchimedesSiege"/>
          <p:cNvPicPr/>
          <p:nvPr/>
        </p:nvPicPr>
        <p:blipFill>
          <a:blip r:embed="rId2"/>
          <a:stretch/>
        </p:blipFill>
        <p:spPr>
          <a:xfrm>
            <a:off x="4343400" y="533520"/>
            <a:ext cx="4421160" cy="5486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Map_CarthageRome"/>
          <p:cNvPicPr/>
          <p:nvPr/>
        </p:nvPicPr>
        <p:blipFill>
          <a:blip r:embed="rId3"/>
          <a:stretch/>
        </p:blipFill>
        <p:spPr>
          <a:xfrm>
            <a:off x="457200" y="3124080"/>
            <a:ext cx="3581280" cy="32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" descr="anim-b"/>
          <p:cNvPicPr/>
          <p:nvPr/>
        </p:nvPicPr>
        <p:blipFill>
          <a:blip r:embed="rId1"/>
          <a:stretch/>
        </p:blipFill>
        <p:spPr>
          <a:xfrm>
            <a:off x="685800" y="228600"/>
            <a:ext cx="4889520" cy="64771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4"/>
          <p:cNvSpPr/>
          <p:nvPr/>
        </p:nvSpPr>
        <p:spPr>
          <a:xfrm>
            <a:off x="5867280" y="1523880"/>
            <a:ext cx="2835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medes designed many tools for defending Syracuse from invasion.  This is a model of how one of Archimedes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 gadgets may have worked.</a:t>
            </a:r>
            <a:endParaRPr b="0" lang="en-US" sz="2400" spc="-1" strike="noStrike">
              <a:solidFill>
                <a:srgbClr val="000000"/>
              </a:solidFill>
              <a:latin typeface="Pristina"/>
            </a:endParaRPr>
          </a:p>
        </p:txBody>
      </p:sp>
    </p:spTree>
  </p:cSld>
  <p:transition spd="med">
    <p:wheel spokes="2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claw_max&amp;fra_2"/>
          <p:cNvPicPr/>
          <p:nvPr/>
        </p:nvPicPr>
        <p:blipFill>
          <a:blip r:embed="rId1"/>
          <a:stretch/>
        </p:blipFill>
        <p:spPr>
          <a:xfrm>
            <a:off x="914400" y="380880"/>
            <a:ext cx="7391520" cy="57470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Harris_7"/>
          <p:cNvPicPr/>
          <p:nvPr/>
        </p:nvPicPr>
        <p:blipFill>
          <a:blip r:embed="rId1"/>
          <a:stretch/>
        </p:blipFill>
        <p:spPr>
          <a:xfrm>
            <a:off x="3581280" y="2685960"/>
            <a:ext cx="5562720" cy="4172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arris_2"/>
          <p:cNvPicPr/>
          <p:nvPr/>
        </p:nvPicPr>
        <p:blipFill>
          <a:blip r:embed="rId2"/>
          <a:stretch/>
        </p:blipFill>
        <p:spPr>
          <a:xfrm>
            <a:off x="0" y="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1T16:00:49Z</dcterms:created>
  <dc:creator>SalgadoL</dc:creator>
  <dc:description/>
  <dc:language>en-US</dc:language>
  <cp:lastModifiedBy>RomaK</cp:lastModifiedBy>
  <dcterms:modified xsi:type="dcterms:W3CDTF">2015-09-04T07:36:51Z</dcterms:modified>
  <cp:revision>20</cp:revision>
  <dc:subject/>
  <dc:title>Slide 1</dc:title>
</cp:coreProperties>
</file>