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EC2F-A53B-44DA-A98B-1FCB12A35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4B8-634C-40CD-B1A6-1A446BBD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FC0-3FFD-4477-AD33-8AEB332D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270-52E6-4B9A-8231-148D4365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37E-3EBF-4FF4-95AB-F065A98F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DB7-4299-4341-88B6-531A86D9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EC4-3C2B-4E8F-B401-AE636634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19C-1441-4D71-94A9-E864116B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6A9-0208-4FFF-B97B-A60DEC1D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B26-EC3B-4D5A-AAF2-1A7C5301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4D6-DFB9-4E20-ADFB-B918E90C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041-C2B9-438F-A5AD-23A5844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BB6-3755-41A7-8FA6-A661F1A9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B40B-C960-49CA-A3EC-3E60D2B4F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hyperlink" Target="http://upload.wikimedia.org/wikipedia/commons/e/e7/Domenico-Fetti_Archimedes_1620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Archimedes_greece_1983.png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8799.jpg"/>
          <p:cNvPicPr/>
          <p:nvPr/>
        </p:nvPicPr>
        <p:blipFill>
          <a:blip r:embed="rId1"/>
          <a:stretch/>
        </p:blipFill>
        <p:spPr>
          <a:xfrm>
            <a:off x="1371600" y="3886200"/>
            <a:ext cx="129852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utdoor-Clock-11892TCH.jp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209680" y="76320"/>
            <a:ext cx="6705720" cy="38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ristina"/>
              </a:rPr>
              <a:t>Math Bl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Pristina"/>
              </a:rPr>
              <a:t>From the P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Pristina"/>
              <a:ea typeface="Pristina"/>
            </a:endParaRPr>
          </a:p>
        </p:txBody>
      </p:sp>
      <p:pic>
        <p:nvPicPr>
          <p:cNvPr id="51" name="Picture 9" descr="fermilarge.jpg"/>
          <p:cNvPicPr/>
          <p:nvPr/>
        </p:nvPicPr>
        <p:blipFill>
          <a:blip r:embed="rId7"/>
          <a:stretch/>
        </p:blipFill>
        <p:spPr>
          <a:xfrm>
            <a:off x="-171360" y="4495680"/>
            <a:ext cx="153504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rchimedes.jpg"/>
          <p:cNvPicPr/>
          <p:nvPr/>
        </p:nvPicPr>
        <p:blipFill>
          <a:blip r:embed="rId8"/>
          <a:stretch/>
        </p:blipFill>
        <p:spPr>
          <a:xfrm>
            <a:off x="1371600" y="5562720"/>
            <a:ext cx="19810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Image:Domenico-Fetti Archimedes 162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924360"/>
            <a:ext cx="220032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hipshaker1"/>
          <p:cNvPicPr/>
          <p:nvPr/>
        </p:nvPicPr>
        <p:blipFill>
          <a:blip r:embed="rId1"/>
          <a:stretch/>
        </p:blipFill>
        <p:spPr>
          <a:xfrm>
            <a:off x="304920" y="304920"/>
            <a:ext cx="8494560" cy="60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law_uffizi_small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603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838080" y="4952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ver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ngravingMirrorSmall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81480" y="609480"/>
            <a:ext cx="31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ning Mirror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90" name="Picture 7" descr="Archimedes may have used mirrors acting as a parabolic reflector to burn ships attacking Syracuse"/>
          <p:cNvPicPr/>
          <p:nvPr/>
        </p:nvPicPr>
        <p:blipFill>
          <a:blip r:embed="rId2"/>
          <a:stretch/>
        </p:blipFill>
        <p:spPr>
          <a:xfrm>
            <a:off x="5029200" y="2895480"/>
            <a:ext cx="31258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irrorSmall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399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228600" y="4724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everMid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3280680" y="563832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-1800" y="22860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3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362320" y="3429000"/>
            <a:ext cx="37335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19720" y="3581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236232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38400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88800" y="3124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964680" y="42958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44197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886040" y="5232240"/>
            <a:ext cx="584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1"/>
          <p:cNvGrpSpPr/>
          <p:nvPr/>
        </p:nvGrpSpPr>
        <p:grpSpPr>
          <a:xfrm>
            <a:off x="2473200" y="3200400"/>
            <a:ext cx="6744600" cy="2057400"/>
            <a:chOff x="2473200" y="3200400"/>
            <a:chExt cx="6744600" cy="2057400"/>
          </a:xfrm>
        </p:grpSpPr>
        <p:sp>
          <p:nvSpPr>
            <p:cNvPr id="108" name="AutoShape 5"/>
            <p:cNvSpPr/>
            <p:nvPr/>
          </p:nvSpPr>
          <p:spPr>
            <a:xfrm>
              <a:off x="5267160" y="464832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5751000" y="46879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2915640" y="4572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2764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pic>
          <p:nvPicPr>
            <p:cNvPr id="112" name="Picture 16" descr="dinosaur2.jpg"/>
            <p:cNvPicPr/>
            <p:nvPr/>
          </p:nvPicPr>
          <p:blipFill>
            <a:blip r:embed="rId1"/>
            <a:stretch/>
          </p:blipFill>
          <p:spPr>
            <a:xfrm>
              <a:off x="5952960" y="3200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7174800" y="37339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2473200" y="450684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2676600" y="0"/>
            <a:ext cx="6464880" cy="1996920"/>
            <a:chOff x="2676600" y="0"/>
            <a:chExt cx="6464880" cy="1996920"/>
          </a:xfrm>
        </p:grpSpPr>
        <p:pic>
          <p:nvPicPr>
            <p:cNvPr id="116" name="Picture 17" descr="dinosaur2.jpg"/>
            <p:cNvPicPr/>
            <p:nvPr/>
          </p:nvPicPr>
          <p:blipFill>
            <a:blip r:embed="rId2"/>
            <a:stretch/>
          </p:blipFill>
          <p:spPr>
            <a:xfrm>
              <a:off x="58770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0"/>
            <p:cNvSpPr/>
            <p:nvPr/>
          </p:nvSpPr>
          <p:spPr>
            <a:xfrm>
              <a:off x="2676600" y="129528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4657680" y="137160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7098480" y="5335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5497200" y="1476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3119040" y="1360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362760" y="70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sp>
        <p:nvSpPr>
          <p:cNvPr id="123" name="Text Box 19"/>
          <p:cNvSpPr/>
          <p:nvPr/>
        </p:nvSpPr>
        <p:spPr>
          <a:xfrm>
            <a:off x="18360" y="5013360"/>
            <a:ext cx="43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76320" y="1889280"/>
            <a:ext cx="44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       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309240" y="251460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5 = 400 x 5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990720" y="3124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4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309240" y="563868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8 = 400 x 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91440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1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20 ton dinosaur?  Place the dinosaur 10 feet from the fulcrum and pretend you weigh 100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team of 10 football players (weighing 200 pounds each)?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lifetime supply of candy bars?  Estimate that you can eat 2 pounds of candy each week for 70 years. 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rchimedes_9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19320" y="304920"/>
            <a:ext cx="647676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rchime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6" descr="archimedes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33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phere_cylinder"/>
          <p:cNvPicPr/>
          <p:nvPr/>
        </p:nvPicPr>
        <p:blipFill>
          <a:blip r:embed="rId2"/>
          <a:stretch/>
        </p:blipFill>
        <p:spPr>
          <a:xfrm>
            <a:off x="5562720" y="4191120"/>
            <a:ext cx="215712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151600" y="2530440"/>
            <a:ext cx="31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Syracuse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(then part of Greece)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287-212 BC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phere_cylinder"/>
          <p:cNvPicPr/>
          <p:nvPr/>
        </p:nvPicPr>
        <p:blipFill>
          <a:blip r:embed="rId1"/>
          <a:stretch/>
        </p:blipFill>
        <p:spPr>
          <a:xfrm>
            <a:off x="380880" y="685800"/>
            <a:ext cx="1346400" cy="1473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152280"/>
            <a:ext cx="861048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how to calculate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volum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  of a spher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, and even wanted th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diagram on his tombstone.  He made so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much progress in this area that noth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could be added for 18 centuries.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UREKA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(I have found it!) – Bouyancy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veloped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system of writ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large numbers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Law of the Lever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0" name="Picture 7" descr="bubbletubblank.gif"/>
          <p:cNvPicPr/>
          <p:nvPr/>
        </p:nvPicPr>
        <p:blipFill>
          <a:blip r:embed="rId2"/>
          <a:stretch/>
        </p:blipFill>
        <p:spPr>
          <a:xfrm>
            <a:off x="7086600" y="2895480"/>
            <a:ext cx="1523880" cy="1181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610560" y="4129200"/>
            <a:ext cx="11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Maiandra GD"/>
              </a:rPr>
              <a:t>x</a:t>
            </a:r>
            <a:r>
              <a:rPr b="0" lang="en-US" sz="8800" spc="-1" strike="noStrike" baseline="30000">
                <a:solidFill>
                  <a:srgbClr val="cc0000"/>
                </a:solidFill>
                <a:latin typeface="Maiandra G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2" name="Picture 10" descr="Lever.jpg"/>
          <p:cNvPicPr/>
          <p:nvPr/>
        </p:nvPicPr>
        <p:blipFill>
          <a:blip r:embed="rId3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Archimedes6"/>
          <p:cNvPicPr/>
          <p:nvPr/>
        </p:nvPicPr>
        <p:blipFill>
          <a:blip r:embed="rId1"/>
          <a:stretch/>
        </p:blipFill>
        <p:spPr>
          <a:xfrm>
            <a:off x="457200" y="228600"/>
            <a:ext cx="308916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tamp_italian_small"/>
          <p:cNvPicPr/>
          <p:nvPr/>
        </p:nvPicPr>
        <p:blipFill>
          <a:blip r:embed="rId2"/>
          <a:stretch/>
        </p:blipFill>
        <p:spPr>
          <a:xfrm>
            <a:off x="3886200" y="28954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3809880" y="533484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114800" y="1522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7" name="Picture 16" descr="Archimedes is commemorated on a Greek postage stamp from 198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2895480"/>
            <a:ext cx="1714680" cy="235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7"/>
          <p:cNvSpPr/>
          <p:nvPr/>
        </p:nvSpPr>
        <p:spPr>
          <a:xfrm>
            <a:off x="7010280" y="5335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9" name="Picture 19" descr="Image:FieldsMedalFrontArchimedes.jpg"/>
          <p:cNvPicPr/>
          <p:nvPr/>
        </p:nvPicPr>
        <p:blipFill>
          <a:blip r:embed="rId5"/>
          <a:stretch/>
        </p:blipFill>
        <p:spPr>
          <a:xfrm>
            <a:off x="914400" y="434340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-4320" y="649044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s Medal carries a portrait of Archimedes.</a:t>
            </a:r>
            <a:r>
              <a:rPr b="0" lang="en-US" sz="1800" spc="-1" strike="noStrike">
                <a:solidFill>
                  <a:srgbClr val="000000"/>
                </a:solidFill>
                <a:latin typeface="Pristi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crewMineMed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905120" y="38088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3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4" name="Picture 7" descr="The Archimedes' screw can raise water efficiently."/>
          <p:cNvPicPr/>
          <p:nvPr/>
        </p:nvPicPr>
        <p:blipFill>
          <a:blip r:embed="rId2"/>
          <a:stretch/>
        </p:blipFill>
        <p:spPr>
          <a:xfrm flipH="1">
            <a:off x="5486040" y="42670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28480" y="627912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is is a pump, still used in many parts of the world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04920" y="303480"/>
            <a:ext cx="4038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7" name="Picture 5" descr="Greek_geometer"/>
          <p:cNvPicPr/>
          <p:nvPr/>
        </p:nvPicPr>
        <p:blipFill>
          <a:blip r:embed="rId1"/>
          <a:stretch/>
        </p:blipFill>
        <p:spPr>
          <a:xfrm>
            <a:off x="533520" y="1828800"/>
            <a:ext cx="3539880" cy="41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rchimedesSiege"/>
          <p:cNvPicPr/>
          <p:nvPr/>
        </p:nvPicPr>
        <p:blipFill>
          <a:blip r:embed="rId2"/>
          <a:stretch/>
        </p:blipFill>
        <p:spPr>
          <a:xfrm>
            <a:off x="4343400" y="53352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Map_CarthageRome"/>
          <p:cNvPicPr/>
          <p:nvPr/>
        </p:nvPicPr>
        <p:blipFill>
          <a:blip r:embed="rId3"/>
          <a:stretch/>
        </p:blipFill>
        <p:spPr>
          <a:xfrm>
            <a:off x="457200" y="31240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anim-b"/>
          <p:cNvPicPr/>
          <p:nvPr/>
        </p:nvPicPr>
        <p:blipFill>
          <a:blip r:embed="rId1"/>
          <a:stretch/>
        </p:blipFill>
        <p:spPr>
          <a:xfrm>
            <a:off x="685800" y="228600"/>
            <a:ext cx="488952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5867280" y="152388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aw_max&amp;fra_2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574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arris_7"/>
          <p:cNvPicPr/>
          <p:nvPr/>
        </p:nvPicPr>
        <p:blipFill>
          <a:blip r:embed="rId1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arris_2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6:00:49Z</dcterms:created>
  <dc:creator>SalgadoL</dc:creator>
  <dc:description/>
  <dc:language>en-US</dc:language>
  <cp:lastModifiedBy>RomaK</cp:lastModifiedBy>
  <dcterms:modified xsi:type="dcterms:W3CDTF">2015-09-04T07:36:51Z</dcterms:modified>
  <cp:revision>20</cp:revision>
  <dc:subject/>
  <dc:title>Slide 1</dc:title>
</cp:coreProperties>
</file>