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945F-831C-419A-93A4-6A36B3C6E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upper and lower sums can be defined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important to note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pproximation will give you the actu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approximation can be found to such a degree that it is accurate enough by taking the limit as n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0D91-0265-4F41-BDF5-41D37222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6E7-C6AD-485D-9EBB-A0FAD876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A199-C6E5-4F9E-AFA3-87B0CC22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76E-B471-47C4-BC16-CB2822CE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5ED-7E69-481F-AF34-5EDFC598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2A0-974D-428F-8139-45B35582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08F-2D44-4CCB-99A6-ECCDD6BB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DDD-A511-48A1-B6A4-6E236388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E526-D0E3-48E1-A0FC-95E6C942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FC2-9AD7-4182-89E3-9544CBDA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842-619B-4C24-925E-8500FA9D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88FE-D9B2-4093-AC90-D8277B15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50000">
              <a:srgbClr val="800000"/>
            </a:gs>
            <a:gs pos="100000">
              <a:srgbClr val="29292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C8A3-33BA-44F4-8E33-D6D8C8D7D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nextslide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previousslide"/>
          </p:cNvPr>
          <p:cNvSpPr/>
          <p:nvPr/>
        </p:nvSpPr>
        <p:spPr>
          <a:xfrm>
            <a:off x="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4267080" y="3514680"/>
                <a:ext cx="17528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Rectangle 5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ubintervals of width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990720" y="4952880"/>
                <a:ext cx="1117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Text Box 11"/>
          <p:cNvSpPr/>
          <p:nvPr/>
        </p:nvSpPr>
        <p:spPr>
          <a:xfrm>
            <a:off x="2057400" y="4876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in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057400" y="58053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ax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93" name="Group 21"/>
          <p:cNvGrpSpPr/>
          <p:nvPr/>
        </p:nvGrpSpPr>
        <p:grpSpPr>
          <a:xfrm>
            <a:off x="152280" y="984240"/>
            <a:ext cx="8152920" cy="5792760"/>
            <a:chOff x="152280" y="984240"/>
            <a:chExt cx="8152920" cy="5792760"/>
          </a:xfrm>
        </p:grpSpPr>
        <p:grpSp>
          <p:nvGrpSpPr>
            <p:cNvPr id="94" name="Group 5"/>
            <p:cNvGrpSpPr/>
            <p:nvPr/>
          </p:nvGrpSpPr>
          <p:grpSpPr>
            <a:xfrm>
              <a:off x="456840" y="1295280"/>
              <a:ext cx="7848360" cy="5105160"/>
              <a:chOff x="456840" y="1295280"/>
              <a:chExt cx="7848360" cy="5105160"/>
            </a:xfrm>
          </p:grpSpPr>
          <mc:AlternateContent>
            <mc:Choice xmlns:a14="http://schemas.microsoft.com/office/drawing/2010/main" Requires="a14">
              <p:sp>
                <p:nvSpPr>
                  <p:cNvPr id="95" name="Object 6"/>
                  <p:cNvSpPr txBox="1"/>
                  <p:nvPr/>
                </p:nvSpPr>
                <p:spPr>
                  <a:xfrm>
                    <a:off x="6933960" y="5833440"/>
                    <a:ext cx="406440" cy="53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Object 7"/>
                  <p:cNvSpPr txBox="1"/>
                  <p:nvPr/>
                </p:nvSpPr>
                <p:spPr>
                  <a:xfrm>
                    <a:off x="1218960" y="5975280"/>
                    <a:ext cx="415800" cy="42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97" name="Group 8"/>
              <p:cNvGrpSpPr/>
              <p:nvPr/>
            </p:nvGrpSpPr>
            <p:grpSpPr>
              <a:xfrm>
                <a:off x="456840" y="1295280"/>
                <a:ext cx="7848360" cy="4820400"/>
                <a:chOff x="456840" y="1295280"/>
                <a:chExt cx="7848360" cy="4820400"/>
              </a:xfrm>
            </p:grpSpPr>
            <p:grpSp>
              <p:nvGrpSpPr>
                <p:cNvPr id="98" name="Group 9"/>
                <p:cNvGrpSpPr/>
                <p:nvPr/>
              </p:nvGrpSpPr>
              <p:grpSpPr>
                <a:xfrm>
                  <a:off x="550800" y="1811160"/>
                  <a:ext cx="7659000" cy="4304520"/>
                  <a:chOff x="550800" y="1811160"/>
                  <a:chExt cx="7659000" cy="4304520"/>
                </a:xfrm>
              </p:grpSpPr>
              <p:sp>
                <p:nvSpPr>
                  <p:cNvPr id="99" name="Line 10"/>
                  <p:cNvSpPr/>
                  <p:nvPr/>
                </p:nvSpPr>
                <p:spPr>
                  <a:xfrm flipV="1">
                    <a:off x="929160" y="1811160"/>
                    <a:ext cx="0" cy="43045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11"/>
                  <p:cNvSpPr/>
                  <p:nvPr/>
                </p:nvSpPr>
                <p:spPr>
                  <a:xfrm>
                    <a:off x="550800" y="5771520"/>
                    <a:ext cx="765900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Freeform 12"/>
                <p:cNvSpPr/>
                <p:nvPr/>
              </p:nvSpPr>
              <p:spPr>
                <a:xfrm>
                  <a:off x="456840" y="1295280"/>
                  <a:ext cx="7848360" cy="3873960"/>
                </a:xfrm>
                <a:custGeom>
                  <a:avLst/>
                  <a:gdLst>
                    <a:gd name="textAreaLeft" fmla="*/ 0 w 7848360"/>
                    <a:gd name="textAreaRight" fmla="*/ 7848720 w 7848360"/>
                    <a:gd name="textAreaTop" fmla="*/ 0 h 3873960"/>
                    <a:gd name="textAreaBottom" fmla="*/ 3874320 h 3873960"/>
                  </a:gdLst>
                  <a:ahLst/>
                  <a:rect l="textAreaLeft" t="textAreaTop" r="textAreaRight" b="textAreaBottom"/>
                  <a:pathLst>
                    <a:path w="3984" h="2160">
                      <a:moveTo>
                        <a:pt x="0" y="2160"/>
                      </a:moveTo>
                      <a:cubicBezTo>
                        <a:pt x="56" y="1872"/>
                        <a:pt x="112" y="1584"/>
                        <a:pt x="336" y="1344"/>
                      </a:cubicBezTo>
                      <a:cubicBezTo>
                        <a:pt x="560" y="1104"/>
                        <a:pt x="1040" y="768"/>
                        <a:pt x="1344" y="720"/>
                      </a:cubicBezTo>
                      <a:cubicBezTo>
                        <a:pt x="1648" y="672"/>
                        <a:pt x="1720" y="1176"/>
                        <a:pt x="2160" y="1056"/>
                      </a:cubicBezTo>
                      <a:cubicBezTo>
                        <a:pt x="2600" y="936"/>
                        <a:pt x="3664" y="192"/>
                        <a:pt x="3984" y="0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3"/>
                <p:cNvSpPr/>
                <p:nvPr/>
              </p:nvSpPr>
              <p:spPr>
                <a:xfrm flipV="1">
                  <a:off x="1401840" y="3447720"/>
                  <a:ext cx="0" cy="23241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>
                  <a:off x="7170480" y="1983960"/>
                  <a:ext cx="0" cy="37879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04" name="Object 15"/>
                <p:cNvSpPr txBox="1"/>
                <p:nvPr/>
              </p:nvSpPr>
              <p:spPr>
                <a:xfrm>
                  <a:off x="7445520" y="984240"/>
                  <a:ext cx="40320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20"/>
                <p:cNvSpPr txBox="1"/>
                <p:nvPr/>
              </p:nvSpPr>
              <p:spPr>
                <a:xfrm>
                  <a:off x="3581280" y="6400800"/>
                  <a:ext cx="4572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Rectangle 16"/>
            <p:cNvSpPr/>
            <p:nvPr/>
          </p:nvSpPr>
          <p:spPr>
            <a:xfrm>
              <a:off x="3352680" y="2590560"/>
              <a:ext cx="914400" cy="3352680"/>
            </a:xfrm>
            <a:prstGeom prst="rect">
              <a:avLst/>
            </a:prstGeom>
            <a:solidFill>
              <a:srgbClr val="bbe0e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7"/>
            <p:cNvSpPr/>
            <p:nvPr/>
          </p:nvSpPr>
          <p:spPr>
            <a:xfrm rot="16200000">
              <a:off x="3657600" y="5791320"/>
              <a:ext cx="304560" cy="914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990360" y="3200400"/>
              <a:ext cx="32767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990360" y="2590560"/>
              <a:ext cx="23623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Object 24"/>
                <p:cNvSpPr txBox="1"/>
                <p:nvPr/>
              </p:nvSpPr>
              <p:spPr>
                <a:xfrm>
                  <a:off x="152280" y="2361960"/>
                  <a:ext cx="66996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  <m:e/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AutoShape 12">
            <a:hlinkClick r:id="" action="ppaction://hlinkshowjump?jump=next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16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8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19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20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Rectangle 8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" name="Rectangle 10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AutoShape 12">
            <a:hlinkClick r:id="" action="ppaction://hlinkshowjump?jump=previous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AutoShape 14">
            <a:hlinkClick r:id="" action="ppaction://hlinkshowjump?jump=next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43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45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47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2743200" y="5334120"/>
                <a:ext cx="28195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6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Rectangle 8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AutoShape 10"/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>
            <a:hlinkClick r:id="" action="ppaction://hlinkshowjump?jump=previous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457200" y="38862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upper and lower sums can be defin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9"/>
              <p:cNvSpPr txBox="1"/>
              <p:nvPr/>
            </p:nvSpPr>
            <p:spPr>
              <a:xfrm>
                <a:off x="2743200" y="4307040"/>
                <a:ext cx="29718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20"/>
          <p:cNvSpPr/>
          <p:nvPr/>
        </p:nvSpPr>
        <p:spPr>
          <a:xfrm>
            <a:off x="457200" y="44956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Low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Upp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t is important to note th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either approximation will give you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ctual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ither approximation can be found to such a degree that it is accurate enough by taking the limit as n goes to infinit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other wor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5181480" y="1536840"/>
                <a:ext cx="3505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≤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"/>
              <p:cNvSpPr txBox="1"/>
              <p:nvPr/>
            </p:nvSpPr>
            <p:spPr>
              <a:xfrm>
                <a:off x="3325680" y="5486400"/>
                <a:ext cx="26179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of a Plane Reg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lculus was built around two problem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angent li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approximate area, we use rectangl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ore rectangles means more accurac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6" name="Picture 7" descr="tutintarecdy1"/>
          <p:cNvPicPr/>
          <p:nvPr/>
        </p:nvPicPr>
        <p:blipFill>
          <a:blip r:embed="rId1"/>
          <a:stretch/>
        </p:blipFill>
        <p:spPr>
          <a:xfrm>
            <a:off x="5105520" y="1228680"/>
            <a:ext cx="3352680" cy="245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tutintarecdy5"/>
          <p:cNvPicPr/>
          <p:nvPr/>
        </p:nvPicPr>
        <p:blipFill>
          <a:blip r:embed="rId2"/>
          <a:stretch/>
        </p:blipFill>
        <p:spPr>
          <a:xfrm>
            <a:off x="5105520" y="3886200"/>
            <a:ext cx="3352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an over approximate with an upp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under approximate with a low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0" name="Picture 4" descr="uppersum"/>
          <p:cNvPicPr/>
          <p:nvPr/>
        </p:nvPicPr>
        <p:blipFill>
          <a:blip r:embed="rId1"/>
          <a:stretch/>
        </p:blipFill>
        <p:spPr>
          <a:xfrm>
            <a:off x="4952880" y="1305000"/>
            <a:ext cx="3124440" cy="21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lower sum"/>
          <p:cNvPicPr/>
          <p:nvPr/>
        </p:nvPicPr>
        <p:blipFill>
          <a:blip r:embed="rId2"/>
          <a:stretch/>
        </p:blipFill>
        <p:spPr>
          <a:xfrm>
            <a:off x="4952880" y="3505320"/>
            <a:ext cx="31244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Variables includ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umber of rectangle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ndpoint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egardless of the number of rectangles or types of inputs used, the method is basically the sa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y width times height and ad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Upper and Lower Sum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upper sum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is defined as the area of circum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lower sum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s defined as the area of in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ctual area under a curve i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lway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etween these two sums or equal to one or both of them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261040" y="3919680"/>
                <a:ext cx="606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Rectangle 6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sub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57200" y="3733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ach subinterval is of width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74" name="Group 57"/>
          <p:cNvGrpSpPr/>
          <p:nvPr/>
        </p:nvGrpSpPr>
        <p:grpSpPr>
          <a:xfrm>
            <a:off x="380880" y="1143000"/>
            <a:ext cx="7848360" cy="5486400"/>
            <a:chOff x="380880" y="1143000"/>
            <a:chExt cx="7848360" cy="5486400"/>
          </a:xfrm>
        </p:grpSpPr>
        <mc:AlternateContent>
          <mc:Choice xmlns:a14="http://schemas.microsoft.com/office/drawing/2010/main" Requires="a14">
            <p:sp>
              <p:nvSpPr>
                <p:cNvPr id="75" name="Object 9"/>
                <p:cNvSpPr txBox="1"/>
                <p:nvPr/>
              </p:nvSpPr>
              <p:spPr>
                <a:xfrm>
                  <a:off x="6858000" y="6019920"/>
                  <a:ext cx="40644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Object 49"/>
                <p:cNvSpPr txBox="1"/>
                <p:nvPr/>
              </p:nvSpPr>
              <p:spPr>
                <a:xfrm>
                  <a:off x="1143000" y="6172200"/>
                  <a:ext cx="415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77" name="Group 48"/>
            <p:cNvGrpSpPr/>
            <p:nvPr/>
          </p:nvGrpSpPr>
          <p:grpSpPr>
            <a:xfrm>
              <a:off x="380880" y="1143000"/>
              <a:ext cx="7848360" cy="5180040"/>
              <a:chOff x="380880" y="1143000"/>
              <a:chExt cx="7848360" cy="5180040"/>
            </a:xfrm>
          </p:grpSpPr>
          <p:grpSp>
            <p:nvGrpSpPr>
              <p:cNvPr id="78" name="Group 7"/>
              <p:cNvGrpSpPr/>
              <p:nvPr/>
            </p:nvGrpSpPr>
            <p:grpSpPr>
              <a:xfrm>
                <a:off x="474840" y="1697400"/>
                <a:ext cx="7659000" cy="4625640"/>
                <a:chOff x="474840" y="1697400"/>
                <a:chExt cx="7659000" cy="4625640"/>
              </a:xfrm>
            </p:grpSpPr>
            <p:sp>
              <p:nvSpPr>
                <p:cNvPr id="79" name="Line 4"/>
                <p:cNvSpPr/>
                <p:nvPr/>
              </p:nvSpPr>
              <p:spPr>
                <a:xfrm flipV="1">
                  <a:off x="853200" y="1697400"/>
                  <a:ext cx="0" cy="462564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6"/>
                <p:cNvSpPr/>
                <p:nvPr/>
              </p:nvSpPr>
              <p:spPr>
                <a:xfrm>
                  <a:off x="474840" y="59533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Freeform 8"/>
              <p:cNvSpPr/>
              <p:nvPr/>
            </p:nvSpPr>
            <p:spPr>
              <a:xfrm>
                <a:off x="380880" y="1143000"/>
                <a:ext cx="7848360" cy="416304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4163040"/>
                  <a:gd name="textAreaBottom" fmla="*/ 4163400 h 416304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1"/>
              <p:cNvSpPr/>
              <p:nvPr/>
            </p:nvSpPr>
            <p:spPr>
              <a:xfrm flipV="1">
                <a:off x="1325880" y="3456000"/>
                <a:ext cx="0" cy="2497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2"/>
              <p:cNvSpPr/>
              <p:nvPr/>
            </p:nvSpPr>
            <p:spPr>
              <a:xfrm>
                <a:off x="7094520" y="1883160"/>
                <a:ext cx="0" cy="407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4" name="Object 55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20:06:40Z</dcterms:created>
  <dc:creator>EBRPSS</dc:creator>
  <dc:description/>
  <dc:language>en-US</dc:language>
  <cp:lastModifiedBy>RomaK</cp:lastModifiedBy>
  <dcterms:modified xsi:type="dcterms:W3CDTF">2015-09-04T07:37:44Z</dcterms:modified>
  <cp:revision>9</cp:revision>
  <dc:subject/>
  <dc:title>Slide 1</dc:title>
</cp:coreProperties>
</file>