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298F-E2EE-4C77-9912-A8D9208B8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 Cal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 Cal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gin by subdividing the interval [a, b] into 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intervals of width 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imum value of f in the ith subint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um value of f in the ith subint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gin by subdividing the interval [a, b] into 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intervals of width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value of f in the ith sub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value of f in the ith sub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ight of each rectangle is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width of each rectangl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ight of each rectangle is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upper and lower sums can be defined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important to note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pproximation will give you the actual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approximation can be found to such a degree that it is accurate enough by taking the limit as n goes to inf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a Plane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us was built around two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en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Plane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us was built around two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approximate area, we use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ctangles means more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pproximate area, we use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ctangles means more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ver approximate with an upp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under approximate with a lower 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ver approximate with an upper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under approximate with a lower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s incl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rectangle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point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rectangle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ardless of the number of rectangles or types of inputs used, the method is basically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width times height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rdless of the number of rectangles or types of inputs used, the method is basically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width times height and a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per and Lower Su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pper sum is defined as the area of circumscribed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sum is defined as the area of inscribed rect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ual area under a curve is always between these two sums or equal to one or both of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nd Lower S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pper sum is defined as the area of circumscribed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sum is defined as the area of inscribed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ual area under a curve is always between these two sums or equal to one or both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gin by subdividing the interval [a, b] into n sub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ubinterval is of width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sh to approximate the area under a curve f from a to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gin by subdividing the interval [a, b] into n subinter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ubinterval is of width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Approx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5DF-2FEF-4263-8383-EB038992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252B-F154-457A-85A7-FB7B5146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A4A-41AF-402E-B413-C019B6DD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288-F34A-4C6B-A4D3-A6387A08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A01-378B-4EF2-88FE-14C7AB93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DED6-9C17-48F9-9B6E-B532FA79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6846-B921-4CE3-9B9C-AE6006B9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5BEE-57F5-4410-A1E5-57B15440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196-1D7E-4688-81D5-9B557CC9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C9AB-4A8C-49F2-B666-9645AE5D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E42D-C6F4-435D-B325-1636C5A9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837-69FB-4214-BA13-F8B4F494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2929"/>
            </a:gs>
            <a:gs pos="50000">
              <a:srgbClr val="800000"/>
            </a:gs>
            <a:gs pos="100000">
              <a:srgbClr val="29292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71A8-3DE1-4A99-A219-175B9590F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nextslide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previousslide"/>
          </p:cNvPr>
          <p:cNvSpPr/>
          <p:nvPr/>
        </p:nvSpPr>
        <p:spPr>
          <a:xfrm>
            <a:off x="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P Calculu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ish to approximate the area under a curv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from a to b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4267080" y="3514680"/>
                <a:ext cx="17528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Rectangle 5"/>
          <p:cNvSpPr/>
          <p:nvPr/>
        </p:nvSpPr>
        <p:spPr>
          <a:xfrm>
            <a:off x="457200" y="2590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begin by subdividing the interval [a, b] into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ubintervals of width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990720" y="4952880"/>
                <a:ext cx="1117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Text Box 11"/>
          <p:cNvSpPr/>
          <p:nvPr/>
        </p:nvSpPr>
        <p:spPr>
          <a:xfrm>
            <a:off x="2057400" y="4876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inimum value of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 sub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057400" y="580536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aximum value of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 sub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93" name="Group 21"/>
          <p:cNvGrpSpPr/>
          <p:nvPr/>
        </p:nvGrpSpPr>
        <p:grpSpPr>
          <a:xfrm>
            <a:off x="152280" y="984240"/>
            <a:ext cx="8152920" cy="5792760"/>
            <a:chOff x="152280" y="984240"/>
            <a:chExt cx="8152920" cy="5792760"/>
          </a:xfrm>
        </p:grpSpPr>
        <p:grpSp>
          <p:nvGrpSpPr>
            <p:cNvPr id="94" name="Group 5"/>
            <p:cNvGrpSpPr/>
            <p:nvPr/>
          </p:nvGrpSpPr>
          <p:grpSpPr>
            <a:xfrm>
              <a:off x="456840" y="1295280"/>
              <a:ext cx="7848360" cy="5105160"/>
              <a:chOff x="456840" y="1295280"/>
              <a:chExt cx="7848360" cy="5105160"/>
            </a:xfrm>
          </p:grpSpPr>
          <mc:AlternateContent>
            <mc:Choice xmlns:a14="http://schemas.microsoft.com/office/drawing/2010/main" Requires="a14">
              <p:sp>
                <p:nvSpPr>
                  <p:cNvPr id="95" name="Object 6"/>
                  <p:cNvSpPr txBox="1"/>
                  <p:nvPr/>
                </p:nvSpPr>
                <p:spPr>
                  <a:xfrm>
                    <a:off x="6933960" y="5833440"/>
                    <a:ext cx="406440" cy="53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6" name="Object 7"/>
                  <p:cNvSpPr txBox="1"/>
                  <p:nvPr/>
                </p:nvSpPr>
                <p:spPr>
                  <a:xfrm>
                    <a:off x="1218960" y="5975280"/>
                    <a:ext cx="415800" cy="42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97" name="Group 8"/>
              <p:cNvGrpSpPr/>
              <p:nvPr/>
            </p:nvGrpSpPr>
            <p:grpSpPr>
              <a:xfrm>
                <a:off x="456840" y="1295280"/>
                <a:ext cx="7848360" cy="4820400"/>
                <a:chOff x="456840" y="1295280"/>
                <a:chExt cx="7848360" cy="4820400"/>
              </a:xfrm>
            </p:grpSpPr>
            <p:grpSp>
              <p:nvGrpSpPr>
                <p:cNvPr id="98" name="Group 9"/>
                <p:cNvGrpSpPr/>
                <p:nvPr/>
              </p:nvGrpSpPr>
              <p:grpSpPr>
                <a:xfrm>
                  <a:off x="550800" y="1811160"/>
                  <a:ext cx="7659000" cy="4304520"/>
                  <a:chOff x="550800" y="1811160"/>
                  <a:chExt cx="7659000" cy="4304520"/>
                </a:xfrm>
              </p:grpSpPr>
              <p:sp>
                <p:nvSpPr>
                  <p:cNvPr id="99" name="Line 10"/>
                  <p:cNvSpPr/>
                  <p:nvPr/>
                </p:nvSpPr>
                <p:spPr>
                  <a:xfrm flipV="1">
                    <a:off x="929160" y="1811160"/>
                    <a:ext cx="0" cy="430452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11"/>
                  <p:cNvSpPr/>
                  <p:nvPr/>
                </p:nvSpPr>
                <p:spPr>
                  <a:xfrm>
                    <a:off x="550800" y="5771520"/>
                    <a:ext cx="7659000" cy="0"/>
                  </a:xfrm>
                  <a:prstGeom prst="line">
                    <a:avLst/>
                  </a:prstGeom>
                  <a:ln w="507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Freeform 12"/>
                <p:cNvSpPr/>
                <p:nvPr/>
              </p:nvSpPr>
              <p:spPr>
                <a:xfrm>
                  <a:off x="456840" y="1295280"/>
                  <a:ext cx="7848360" cy="3873960"/>
                </a:xfrm>
                <a:custGeom>
                  <a:avLst/>
                  <a:gdLst>
                    <a:gd name="textAreaLeft" fmla="*/ 0 w 7848360"/>
                    <a:gd name="textAreaRight" fmla="*/ 7848720 w 7848360"/>
                    <a:gd name="textAreaTop" fmla="*/ 0 h 3873960"/>
                    <a:gd name="textAreaBottom" fmla="*/ 3874320 h 3873960"/>
                  </a:gdLst>
                  <a:ahLst/>
                  <a:rect l="textAreaLeft" t="textAreaTop" r="textAreaRight" b="textAreaBottom"/>
                  <a:pathLst>
                    <a:path w="3984" h="2160">
                      <a:moveTo>
                        <a:pt x="0" y="2160"/>
                      </a:moveTo>
                      <a:cubicBezTo>
                        <a:pt x="56" y="1872"/>
                        <a:pt x="112" y="1584"/>
                        <a:pt x="336" y="1344"/>
                      </a:cubicBezTo>
                      <a:cubicBezTo>
                        <a:pt x="560" y="1104"/>
                        <a:pt x="1040" y="768"/>
                        <a:pt x="1344" y="720"/>
                      </a:cubicBezTo>
                      <a:cubicBezTo>
                        <a:pt x="1648" y="672"/>
                        <a:pt x="1720" y="1176"/>
                        <a:pt x="2160" y="1056"/>
                      </a:cubicBezTo>
                      <a:cubicBezTo>
                        <a:pt x="2600" y="936"/>
                        <a:pt x="3664" y="192"/>
                        <a:pt x="3984" y="0"/>
                      </a:cubicBez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round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3"/>
                <p:cNvSpPr/>
                <p:nvPr/>
              </p:nvSpPr>
              <p:spPr>
                <a:xfrm flipV="1">
                  <a:off x="1401840" y="3447720"/>
                  <a:ext cx="0" cy="23241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>
                  <a:off x="7170480" y="1983960"/>
                  <a:ext cx="0" cy="37879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04" name="Object 15"/>
                <p:cNvSpPr txBox="1"/>
                <p:nvPr/>
              </p:nvSpPr>
              <p:spPr>
                <a:xfrm>
                  <a:off x="7445520" y="984240"/>
                  <a:ext cx="40320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20"/>
                <p:cNvSpPr txBox="1"/>
                <p:nvPr/>
              </p:nvSpPr>
              <p:spPr>
                <a:xfrm>
                  <a:off x="3581280" y="6400800"/>
                  <a:ext cx="4572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Rectangle 16"/>
            <p:cNvSpPr/>
            <p:nvPr/>
          </p:nvSpPr>
          <p:spPr>
            <a:xfrm>
              <a:off x="3352680" y="2590560"/>
              <a:ext cx="914400" cy="3352680"/>
            </a:xfrm>
            <a:prstGeom prst="rect">
              <a:avLst/>
            </a:prstGeom>
            <a:solidFill>
              <a:srgbClr val="bbe0e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7"/>
            <p:cNvSpPr/>
            <p:nvPr/>
          </p:nvSpPr>
          <p:spPr>
            <a:xfrm rot="16200000">
              <a:off x="3657600" y="5791320"/>
              <a:ext cx="304560" cy="9144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 flipH="1">
              <a:off x="990360" y="3200400"/>
              <a:ext cx="32767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 flipH="1">
              <a:off x="990360" y="2590560"/>
              <a:ext cx="236232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Object 24"/>
                <p:cNvSpPr txBox="1"/>
                <p:nvPr/>
              </p:nvSpPr>
              <p:spPr>
                <a:xfrm>
                  <a:off x="152280" y="2361960"/>
                  <a:ext cx="66996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</m:e>
                        <m:e/>
                        <m:e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AutoShape 12">
            <a:hlinkClick r:id="" action="ppaction://hlinkshowjump?jump=nextslide"/>
          </p:cNvPr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5"/>
          <p:cNvGrpSpPr/>
          <p:nvPr/>
        </p:nvGrpSpPr>
        <p:grpSpPr>
          <a:xfrm>
            <a:off x="457200" y="1295280"/>
            <a:ext cx="7848360" cy="5105160"/>
            <a:chOff x="457200" y="1295280"/>
            <a:chExt cx="7848360" cy="5105160"/>
          </a:xfrm>
        </p:grpSpPr>
        <mc:AlternateContent>
          <mc:Choice xmlns:a14="http://schemas.microsoft.com/office/drawing/2010/main" Requires="a14">
            <p:sp>
              <p:nvSpPr>
                <p:cNvPr id="116" name="Object 9"/>
                <p:cNvSpPr txBox="1"/>
                <p:nvPr/>
              </p:nvSpPr>
              <p:spPr>
                <a:xfrm>
                  <a:off x="6934320" y="5833440"/>
                  <a:ext cx="4064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Object 10"/>
                <p:cNvSpPr txBox="1"/>
                <p:nvPr/>
              </p:nvSpPr>
              <p:spPr>
                <a:xfrm>
                  <a:off x="1219320" y="5975280"/>
                  <a:ext cx="41580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8" name="Group 8"/>
            <p:cNvGrpSpPr/>
            <p:nvPr/>
          </p:nvGrpSpPr>
          <p:grpSpPr>
            <a:xfrm>
              <a:off x="457200" y="1295280"/>
              <a:ext cx="7848360" cy="4820400"/>
              <a:chOff x="457200" y="1295280"/>
              <a:chExt cx="7848360" cy="4820400"/>
            </a:xfrm>
          </p:grpSpPr>
          <p:grpSp>
            <p:nvGrpSpPr>
              <p:cNvPr id="119" name="Group 9"/>
              <p:cNvGrpSpPr/>
              <p:nvPr/>
            </p:nvGrpSpPr>
            <p:grpSpPr>
              <a:xfrm>
                <a:off x="551160" y="1811160"/>
                <a:ext cx="7659000" cy="4304520"/>
                <a:chOff x="551160" y="1811160"/>
                <a:chExt cx="7659000" cy="4304520"/>
              </a:xfrm>
            </p:grpSpPr>
            <p:sp>
              <p:nvSpPr>
                <p:cNvPr id="120" name="Line 10"/>
                <p:cNvSpPr/>
                <p:nvPr/>
              </p:nvSpPr>
              <p:spPr>
                <a:xfrm flipV="1">
                  <a:off x="929520" y="1811160"/>
                  <a:ext cx="0" cy="43045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1"/>
                <p:cNvSpPr/>
                <p:nvPr/>
              </p:nvSpPr>
              <p:spPr>
                <a:xfrm>
                  <a:off x="551160" y="57715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Freeform 12"/>
              <p:cNvSpPr/>
              <p:nvPr/>
            </p:nvSpPr>
            <p:spPr>
              <a:xfrm>
                <a:off x="457200" y="1295280"/>
                <a:ext cx="7848360" cy="387396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3873960"/>
                  <a:gd name="textAreaBottom" fmla="*/ 3874320 h 387396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3"/>
              <p:cNvSpPr/>
              <p:nvPr/>
            </p:nvSpPr>
            <p:spPr>
              <a:xfrm flipV="1">
                <a:off x="1402200" y="3447720"/>
                <a:ext cx="0" cy="2324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14"/>
              <p:cNvSpPr/>
              <p:nvPr/>
            </p:nvSpPr>
            <p:spPr>
              <a:xfrm>
                <a:off x="7170840" y="1983960"/>
                <a:ext cx="0" cy="3787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2"/>
              <p:cNvSpPr txBox="1"/>
              <p:nvPr/>
            </p:nvSpPr>
            <p:spPr>
              <a:xfrm>
                <a:off x="3581280" y="6400800"/>
                <a:ext cx="457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16"/>
          <p:cNvSpPr/>
          <p:nvPr/>
        </p:nvSpPr>
        <p:spPr>
          <a:xfrm>
            <a:off x="3352680" y="2590920"/>
            <a:ext cx="914400" cy="33526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7"/>
          <p:cNvSpPr/>
          <p:nvPr/>
        </p:nvSpPr>
        <p:spPr>
          <a:xfrm rot="16200000">
            <a:off x="3657240" y="5790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 flipH="1">
            <a:off x="990360" y="3200400"/>
            <a:ext cx="3276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 flipH="1">
            <a:off x="990360" y="25909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3"/>
              <p:cNvSpPr txBox="1"/>
              <p:nvPr/>
            </p:nvSpPr>
            <p:spPr>
              <a:xfrm>
                <a:off x="152280" y="2362320"/>
                <a:ext cx="6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Rectangle 8"/>
          <p:cNvSpPr/>
          <p:nvPr/>
        </p:nvSpPr>
        <p:spPr>
          <a:xfrm>
            <a:off x="457200" y="2514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height of each rectangle i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6907320" y="2538360"/>
                <a:ext cx="877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" name="Rectangle 10"/>
          <p:cNvSpPr/>
          <p:nvPr/>
        </p:nvSpPr>
        <p:spPr>
          <a:xfrm>
            <a:off x="457200" y="32004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393920" y="3224160"/>
                <a:ext cx="957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AutoShape 12">
            <a:hlinkClick r:id="" action="ppaction://hlinkshowjump?jump=previousslide"/>
          </p:cNvPr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AutoShape 14">
            <a:hlinkClick r:id="" action="ppaction://hlinkshowjump?jump=nextslide"/>
          </p:cNvPr>
          <p:cNvSpPr/>
          <p:nvPr/>
        </p:nvSpPr>
        <p:spPr>
          <a:xfrm>
            <a:off x="2666880" y="30481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05" h="21600">
                <a:moveTo>
                  <a:pt x="1320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05" h="21600">
                <a:moveTo>
                  <a:pt x="10626" y="8224"/>
                </a:moveTo>
                <a:lnTo>
                  <a:pt x="14491" y="8224"/>
                </a:lnTo>
                <a:lnTo>
                  <a:pt x="14491" y="15221"/>
                </a:lnTo>
                <a:lnTo>
                  <a:pt x="15779" y="15221"/>
                </a:lnTo>
                <a:lnTo>
                  <a:pt x="15779" y="16144"/>
                </a:lnTo>
                <a:lnTo>
                  <a:pt x="10626" y="16144"/>
                </a:lnTo>
                <a:lnTo>
                  <a:pt x="10626" y="15221"/>
                </a:lnTo>
                <a:lnTo>
                  <a:pt x="11914" y="15221"/>
                </a:lnTo>
                <a:lnTo>
                  <a:pt x="11914" y="9129"/>
                </a:lnTo>
                <a:lnTo>
                  <a:pt x="10626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5"/>
          <p:cNvGrpSpPr/>
          <p:nvPr/>
        </p:nvGrpSpPr>
        <p:grpSpPr>
          <a:xfrm>
            <a:off x="457200" y="1295280"/>
            <a:ext cx="7848360" cy="5105160"/>
            <a:chOff x="457200" y="1295280"/>
            <a:chExt cx="7848360" cy="5105160"/>
          </a:xfrm>
        </p:grpSpPr>
        <mc:AlternateContent>
          <mc:Choice xmlns:a14="http://schemas.microsoft.com/office/drawing/2010/main" Requires="a14">
            <p:sp>
              <p:nvSpPr>
                <p:cNvPr id="143" name="Object 9"/>
                <p:cNvSpPr txBox="1"/>
                <p:nvPr/>
              </p:nvSpPr>
              <p:spPr>
                <a:xfrm>
                  <a:off x="6934320" y="5833440"/>
                  <a:ext cx="4064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0"/>
                <p:cNvSpPr txBox="1"/>
                <p:nvPr/>
              </p:nvSpPr>
              <p:spPr>
                <a:xfrm>
                  <a:off x="1219320" y="5975280"/>
                  <a:ext cx="41580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45" name="Group 8"/>
            <p:cNvGrpSpPr/>
            <p:nvPr/>
          </p:nvGrpSpPr>
          <p:grpSpPr>
            <a:xfrm>
              <a:off x="457200" y="1295280"/>
              <a:ext cx="7848360" cy="4820400"/>
              <a:chOff x="457200" y="1295280"/>
              <a:chExt cx="7848360" cy="482040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551160" y="1811160"/>
                <a:ext cx="7659000" cy="4304520"/>
                <a:chOff x="551160" y="1811160"/>
                <a:chExt cx="7659000" cy="4304520"/>
              </a:xfrm>
            </p:grpSpPr>
            <p:sp>
              <p:nvSpPr>
                <p:cNvPr id="147" name="Line 10"/>
                <p:cNvSpPr/>
                <p:nvPr/>
              </p:nvSpPr>
              <p:spPr>
                <a:xfrm flipV="1">
                  <a:off x="929520" y="1811160"/>
                  <a:ext cx="0" cy="430452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11"/>
                <p:cNvSpPr/>
                <p:nvPr/>
              </p:nvSpPr>
              <p:spPr>
                <a:xfrm>
                  <a:off x="551160" y="57715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Freeform 12"/>
              <p:cNvSpPr/>
              <p:nvPr/>
            </p:nvSpPr>
            <p:spPr>
              <a:xfrm>
                <a:off x="457200" y="1295280"/>
                <a:ext cx="7848360" cy="387396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3873960"/>
                  <a:gd name="textAreaBottom" fmla="*/ 3874320 h 387396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3"/>
              <p:cNvSpPr/>
              <p:nvPr/>
            </p:nvSpPr>
            <p:spPr>
              <a:xfrm flipV="1">
                <a:off x="1402200" y="3447720"/>
                <a:ext cx="0" cy="2324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4"/>
              <p:cNvSpPr/>
              <p:nvPr/>
            </p:nvSpPr>
            <p:spPr>
              <a:xfrm>
                <a:off x="7170840" y="1983960"/>
                <a:ext cx="0" cy="3787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2"/>
              <p:cNvSpPr txBox="1"/>
              <p:nvPr/>
            </p:nvSpPr>
            <p:spPr>
              <a:xfrm>
                <a:off x="3581280" y="6400800"/>
                <a:ext cx="457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16"/>
          <p:cNvSpPr/>
          <p:nvPr/>
        </p:nvSpPr>
        <p:spPr>
          <a:xfrm>
            <a:off x="3352680" y="2590920"/>
            <a:ext cx="914400" cy="335268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 rot="16200000">
            <a:off x="3657240" y="579060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H="1">
            <a:off x="990360" y="3200400"/>
            <a:ext cx="3276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 flipH="1">
            <a:off x="990360" y="2590920"/>
            <a:ext cx="23619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3"/>
              <p:cNvSpPr txBox="1"/>
              <p:nvPr/>
            </p:nvSpPr>
            <p:spPr>
              <a:xfrm>
                <a:off x="152280" y="2362320"/>
                <a:ext cx="669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width of each rectangle i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2743200" y="5334120"/>
                <a:ext cx="28195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5981760" y="1517760"/>
                <a:ext cx="1485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6"/>
          <p:cNvSpPr/>
          <p:nvPr/>
        </p:nvSpPr>
        <p:spPr>
          <a:xfrm>
            <a:off x="457200" y="25146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height of each rectangle is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6907320" y="2538360"/>
                <a:ext cx="877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Rectangle 8"/>
          <p:cNvSpPr/>
          <p:nvPr/>
        </p:nvSpPr>
        <p:spPr>
          <a:xfrm>
            <a:off x="457200" y="32004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1393920" y="3224160"/>
                <a:ext cx="957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AutoShape 10"/>
          <p:cNvSpPr/>
          <p:nvPr/>
        </p:nvSpPr>
        <p:spPr>
          <a:xfrm>
            <a:off x="7772400" y="1371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394" h="21600">
                <a:moveTo>
                  <a:pt x="1319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394" h="21600">
                <a:moveTo>
                  <a:pt x="10621" y="8224"/>
                </a:moveTo>
                <a:lnTo>
                  <a:pt x="14485" y="8224"/>
                </a:lnTo>
                <a:lnTo>
                  <a:pt x="14485" y="15221"/>
                </a:lnTo>
                <a:lnTo>
                  <a:pt x="15773" y="15221"/>
                </a:lnTo>
                <a:lnTo>
                  <a:pt x="15773" y="16144"/>
                </a:lnTo>
                <a:lnTo>
                  <a:pt x="10621" y="16144"/>
                </a:lnTo>
                <a:lnTo>
                  <a:pt x="10621" y="15221"/>
                </a:lnTo>
                <a:lnTo>
                  <a:pt x="11909" y="15221"/>
                </a:lnTo>
                <a:lnTo>
                  <a:pt x="11909" y="9129"/>
                </a:lnTo>
                <a:lnTo>
                  <a:pt x="10621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>
            <a:hlinkClick r:id="" action="ppaction://hlinkshowjump?jump=previousslide"/>
          </p:cNvPr>
          <p:cNvSpPr/>
          <p:nvPr/>
        </p:nvSpPr>
        <p:spPr>
          <a:xfrm>
            <a:off x="2666880" y="30481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1320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6405" h="21600">
                <a:moveTo>
                  <a:pt x="1320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6405" h="21600">
                <a:moveTo>
                  <a:pt x="10626" y="8224"/>
                </a:moveTo>
                <a:lnTo>
                  <a:pt x="14491" y="8224"/>
                </a:lnTo>
                <a:lnTo>
                  <a:pt x="14491" y="15221"/>
                </a:lnTo>
                <a:lnTo>
                  <a:pt x="15779" y="15221"/>
                </a:lnTo>
                <a:lnTo>
                  <a:pt x="15779" y="16144"/>
                </a:lnTo>
                <a:lnTo>
                  <a:pt x="10626" y="16144"/>
                </a:lnTo>
                <a:lnTo>
                  <a:pt x="10626" y="15221"/>
                </a:lnTo>
                <a:lnTo>
                  <a:pt x="11914" y="15221"/>
                </a:lnTo>
                <a:lnTo>
                  <a:pt x="11914" y="9129"/>
                </a:lnTo>
                <a:lnTo>
                  <a:pt x="10626" y="9129"/>
                </a:lnTo>
                <a:close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457200" y="38862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o the upper and lower sums can be defin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9"/>
              <p:cNvSpPr txBox="1"/>
              <p:nvPr/>
            </p:nvSpPr>
            <p:spPr>
              <a:xfrm>
                <a:off x="2743200" y="4307040"/>
                <a:ext cx="29718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Rectangle 20"/>
          <p:cNvSpPr/>
          <p:nvPr/>
        </p:nvSpPr>
        <p:spPr>
          <a:xfrm>
            <a:off x="457200" y="449568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Lower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Upper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t is important to note th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either approximation will give you 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actual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re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ither approximation can be found to such a degree that it is accurate enough by taking the limit as n goes to infinit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other wor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5181480" y="1536840"/>
                <a:ext cx="3505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≤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"/>
              <p:cNvSpPr txBox="1"/>
              <p:nvPr/>
            </p:nvSpPr>
            <p:spPr>
              <a:xfrm>
                <a:off x="3325680" y="5486400"/>
                <a:ext cx="26179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of a Plane Reg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alculus was built around two problem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angent lin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o approximate area, we use rectangl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ore rectangles means more accurac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6" name="Picture 7" descr="tutintarecdy1"/>
          <p:cNvPicPr/>
          <p:nvPr/>
        </p:nvPicPr>
        <p:blipFill>
          <a:blip r:embed="rId1"/>
          <a:stretch/>
        </p:blipFill>
        <p:spPr>
          <a:xfrm>
            <a:off x="5105520" y="1228680"/>
            <a:ext cx="3352680" cy="245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tutintarecdy5"/>
          <p:cNvPicPr/>
          <p:nvPr/>
        </p:nvPicPr>
        <p:blipFill>
          <a:blip r:embed="rId2"/>
          <a:stretch/>
        </p:blipFill>
        <p:spPr>
          <a:xfrm>
            <a:off x="5105520" y="3886200"/>
            <a:ext cx="33526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an over approximate with an upper sum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Or under approximate with a lower sum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0" name="Picture 4" descr="uppersum"/>
          <p:cNvPicPr/>
          <p:nvPr/>
        </p:nvPicPr>
        <p:blipFill>
          <a:blip r:embed="rId1"/>
          <a:stretch/>
        </p:blipFill>
        <p:spPr>
          <a:xfrm>
            <a:off x="4952880" y="1305000"/>
            <a:ext cx="3124440" cy="21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lower sum"/>
          <p:cNvPicPr/>
          <p:nvPr/>
        </p:nvPicPr>
        <p:blipFill>
          <a:blip r:embed="rId2"/>
          <a:stretch/>
        </p:blipFill>
        <p:spPr>
          <a:xfrm>
            <a:off x="4952880" y="3505320"/>
            <a:ext cx="31244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Variables includ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umber of rectangles use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ndpoints use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egardless of the number of rectangles or types of inputs used, the method is basically the sam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ultiply width times height and ad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Upper and Lower Sum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upper sum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is defined as the area of circumscribed rectang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lower sum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s defined as the area of inscribed rectang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ctual area under a curve is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always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etween these two sums or equal to one or both of them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ish to approximate the area under a curv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from a to b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261040" y="3919680"/>
                <a:ext cx="606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Rectangle 6"/>
          <p:cNvSpPr/>
          <p:nvPr/>
        </p:nvSpPr>
        <p:spPr>
          <a:xfrm>
            <a:off x="457200" y="2590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begin by subdividing the interval [a, b] into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sub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57200" y="3733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ach subinterval is of width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rea Approximation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74" name="Group 57"/>
          <p:cNvGrpSpPr/>
          <p:nvPr/>
        </p:nvGrpSpPr>
        <p:grpSpPr>
          <a:xfrm>
            <a:off x="380880" y="1143000"/>
            <a:ext cx="7848360" cy="5486400"/>
            <a:chOff x="380880" y="1143000"/>
            <a:chExt cx="7848360" cy="5486400"/>
          </a:xfrm>
        </p:grpSpPr>
        <mc:AlternateContent>
          <mc:Choice xmlns:a14="http://schemas.microsoft.com/office/drawing/2010/main" Requires="a14">
            <p:sp>
              <p:nvSpPr>
                <p:cNvPr id="75" name="Object 9"/>
                <p:cNvSpPr txBox="1"/>
                <p:nvPr/>
              </p:nvSpPr>
              <p:spPr>
                <a:xfrm>
                  <a:off x="6858000" y="6019920"/>
                  <a:ext cx="40644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" name="Object 49"/>
                <p:cNvSpPr txBox="1"/>
                <p:nvPr/>
              </p:nvSpPr>
              <p:spPr>
                <a:xfrm>
                  <a:off x="1143000" y="6172200"/>
                  <a:ext cx="415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77" name="Group 48"/>
            <p:cNvGrpSpPr/>
            <p:nvPr/>
          </p:nvGrpSpPr>
          <p:grpSpPr>
            <a:xfrm>
              <a:off x="380880" y="1143000"/>
              <a:ext cx="7848360" cy="5180040"/>
              <a:chOff x="380880" y="1143000"/>
              <a:chExt cx="7848360" cy="5180040"/>
            </a:xfrm>
          </p:grpSpPr>
          <p:grpSp>
            <p:nvGrpSpPr>
              <p:cNvPr id="78" name="Group 7"/>
              <p:cNvGrpSpPr/>
              <p:nvPr/>
            </p:nvGrpSpPr>
            <p:grpSpPr>
              <a:xfrm>
                <a:off x="474840" y="1697400"/>
                <a:ext cx="7659000" cy="4625640"/>
                <a:chOff x="474840" y="1697400"/>
                <a:chExt cx="7659000" cy="4625640"/>
              </a:xfrm>
            </p:grpSpPr>
            <p:sp>
              <p:nvSpPr>
                <p:cNvPr id="79" name="Line 4"/>
                <p:cNvSpPr/>
                <p:nvPr/>
              </p:nvSpPr>
              <p:spPr>
                <a:xfrm flipV="1">
                  <a:off x="853200" y="1697400"/>
                  <a:ext cx="0" cy="462564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6"/>
                <p:cNvSpPr/>
                <p:nvPr/>
              </p:nvSpPr>
              <p:spPr>
                <a:xfrm>
                  <a:off x="474840" y="5953320"/>
                  <a:ext cx="7659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Freeform 8"/>
              <p:cNvSpPr/>
              <p:nvPr/>
            </p:nvSpPr>
            <p:spPr>
              <a:xfrm>
                <a:off x="380880" y="1143000"/>
                <a:ext cx="7848360" cy="4163040"/>
              </a:xfrm>
              <a:custGeom>
                <a:avLst/>
                <a:gdLst>
                  <a:gd name="textAreaLeft" fmla="*/ 0 w 7848360"/>
                  <a:gd name="textAreaRight" fmla="*/ 7848720 w 7848360"/>
                  <a:gd name="textAreaTop" fmla="*/ 0 h 4163040"/>
                  <a:gd name="textAreaBottom" fmla="*/ 4163400 h 4163040"/>
                </a:gdLst>
                <a:ahLst/>
                <a:rect l="textAreaLeft" t="textAreaTop" r="textAreaRight" b="textAreaBottom"/>
                <a:pathLst>
                  <a:path w="3984" h="2160">
                    <a:moveTo>
                      <a:pt x="0" y="2160"/>
                    </a:moveTo>
                    <a:cubicBezTo>
                      <a:pt x="56" y="1872"/>
                      <a:pt x="112" y="1584"/>
                      <a:pt x="336" y="1344"/>
                    </a:cubicBezTo>
                    <a:cubicBezTo>
                      <a:pt x="560" y="1104"/>
                      <a:pt x="1040" y="768"/>
                      <a:pt x="1344" y="720"/>
                    </a:cubicBezTo>
                    <a:cubicBezTo>
                      <a:pt x="1648" y="672"/>
                      <a:pt x="1720" y="1176"/>
                      <a:pt x="2160" y="1056"/>
                    </a:cubicBezTo>
                    <a:cubicBezTo>
                      <a:pt x="2600" y="936"/>
                      <a:pt x="3664" y="192"/>
                      <a:pt x="3984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1"/>
              <p:cNvSpPr/>
              <p:nvPr/>
            </p:nvSpPr>
            <p:spPr>
              <a:xfrm flipV="1">
                <a:off x="1325880" y="3456000"/>
                <a:ext cx="0" cy="2497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2"/>
              <p:cNvSpPr/>
              <p:nvPr/>
            </p:nvSpPr>
            <p:spPr>
              <a:xfrm>
                <a:off x="7094520" y="1883160"/>
                <a:ext cx="0" cy="4070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4" name="Object 55"/>
              <p:cNvSpPr txBox="1"/>
              <p:nvPr/>
            </p:nvSpPr>
            <p:spPr>
              <a:xfrm>
                <a:off x="7445520" y="984240"/>
                <a:ext cx="403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20:06:40Z</dcterms:created>
  <dc:creator>EBRPSS</dc:creator>
  <dc:description/>
  <dc:language>en-US</dc:language>
  <cp:lastModifiedBy>RomaK</cp:lastModifiedBy>
  <dcterms:modified xsi:type="dcterms:W3CDTF">2015-09-04T07:37:44Z</dcterms:modified>
  <cp:revision>9</cp:revision>
  <dc:subject/>
  <dc:title>Slide 1</dc:title>
</cp:coreProperties>
</file>