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AA59A-E174-4705-819F-245F842FD01A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r Graphs and Histogra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INCESS C. BARCEG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PG SCHOOL, MANAMA, BAHRA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werpoint hosted on www.worldofteaching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ease visit for 100’s more free powerpoi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 Graphs and Histo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NCESS C. BARCEG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G SCHOOL, MANAMA, BAHR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werpoint hosted on www.worldofteaching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ease visit for 100’s more free power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 3 and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bel the axes and give the graph a tit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ke a key to show what each bar repres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Limit (mi/h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rb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ur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Limit on Interstate Roa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3 and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el the axes and give the graph a titl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a key to show what each bar repres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Limit (mi/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rb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Limit on Interstate Roa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stogra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stogram is a bar graph that shows the frequency of data within equal interva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is no space in between the bar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sto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stogram is a bar graph that shows the frequency of data within equal interval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is no space in between the bar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to make a histogram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to make a histogra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able below shows the number of hours students watch TV in one week Make a histogram of all the dat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able below shows the number of hours students watch TV in one week Make a histogram of all the dat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ke a frequency table of the data. Be sure to use equal interv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a frequency table of the data. Be sure to use equal interv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oose an appropriate scale and interval for the vertical axis. The greatest value on the scale should be at least as great as the greatest frequenc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oose an appropriate scale and interval for the vertical axis. The greatest value on the scale should be at least as great as the greatest frequenc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raw a bar for each interval. The height of the bar is the frequency for that interval. Bars must touch but not overlap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bel the axes and give the graph tit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aw a bar for each interval. The height of the bar is the frequency for that interval. Bars must touch but not overlap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el the axes and give the graph tit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 you now make a bar graph, double bar Graph and a histogram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you now make a bar graph, double bar Graph and a histogra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ist below shows the results of a typing test in words per minute. Make a histogram of the dat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2, 55, 68, 47, 50, 41, 62, 39, 54, 70, 56, 70, 56, 47, 71, 55, 60, 4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ist below shows the results of a typing test in words per minute. Make a histogram of the dat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5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8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7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9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6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6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7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5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o you know abou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r graph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uble bar graph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stogram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you know ab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 grap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uble bar grap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stogra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r Grap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bar graph can be used to display and compare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cale should include all the data values and be easily divided into equal interva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 Gra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ar graph can be used to display and compare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cale should include all the data values and be easily divided into equal interval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to interpret a Bar Graph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many of Mr. Snowden’s students are band member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many of Mr. Snowden’s students are not band member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bar graph shows Mr. Snowden’s students by gender and band membership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to interpret a Bar Grap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any of Mr. Snowden’s students are band member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any of Mr. Snowden’s students are not band member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ar graph shows Mr. Snowden’s students by gender and band membership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uble Bar Grap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 be used to compare two related sets of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uble Bar Gra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be used to compare two related sets of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to make a Double-Bar Graph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oose a scale and interval for the vertical axi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raw a pair of bars for each country’s data. Use different colors to show males and femal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bel the axes and   give the graph a tit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ke a key to show what each bar represen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to make a Double-Bar Grap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oose a scale and interval for the vertical axi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aw a pair of bars for each country’s data. Use different colors to show males and femal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el the axes and   give the graph a titl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a key to show what each bar represent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able shows the highway speed limits on interstate roads  .within three sta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able shows the highway speed limits on interstate roads  .within three st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 1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oose a scale and interval for the vertical axi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oose a scale and interval for the vertical axi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raw a pair of bars for each state’s data. Use different colors to show urban and rur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aw a pair of bars for each state’s data. Use different colors to show urban and rur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FE9C0-697A-4C1E-804A-2C780B0F5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F1E0E-D478-4257-A028-44C1529E7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659D0-37D4-4180-931C-C811091C3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9DF49-D0B2-4764-A78F-F0F2E4029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81749-8F50-46B5-97B2-0E8C297FE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E20A2-F6D4-4D63-AB7A-B8B2A4D17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704E1-B7E9-4145-ABD0-75346763A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C02E9-0099-4861-A223-A74037868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336D0-45D8-4D18-A920-7ABDE5BC9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0D9E3-F718-48D2-91BD-A4BEF52B1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F5590-3248-423E-8154-B7795D0B2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92C14-8B05-4F5C-9816-D534B20C3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DF979-F9A1-471B-B39E-72EAC19DC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4CB2E-F614-4F65-AB85-78D944B73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247E0-DFE4-4AD2-A526-4B255065B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787FB-536F-4EB5-B952-4B77CD327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4CD41-66B5-486A-B2B2-15BB1832B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B64E6-6D92-4DA1-87FF-035181648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3C9BF-9AED-4887-82A5-A56ED20A4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A190A-F1AC-4952-A419-4897224AC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CA770-5665-44B1-956B-11D09715F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718EF-E92E-47DB-9B66-1489D8C63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488A7-E026-4A57-9029-A8A6EE889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C81E3-0BAD-467E-A23B-FACB39BF7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r" rtl="1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 algn="r" rtl="1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 algn="r" rtl="1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 algn="r" rtl="1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 algn="r" rtl="1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 algn="r" rtl="1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 algn="r" rtl="1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E6579-7BCE-4462-A168-E9F44D7FEF52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titlemaster_med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r" rtl="1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 algn="r" rtl="1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 algn="r" rtl="1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 algn="r" rtl="1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 algn="r" rtl="1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 algn="r" rtl="1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 algn="r" rtl="1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F695C-4DC0-4999-966E-8CD1C2ECD0A1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worldofteaching.com/" TargetMode="Externa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Bar Graphs and Histograms</a:t>
            </a:r>
            <a:endParaRPr b="0" lang="en-US" sz="54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324000" y="3860640"/>
            <a:ext cx="42494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4005c"/>
                </a:solidFill>
                <a:latin typeface="Arial"/>
              </a:rPr>
              <a:t>PRINCESS C. BARCE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4005c"/>
                </a:solidFill>
                <a:latin typeface="Arial"/>
              </a:rPr>
              <a:t>APG SCHOOL, MANAMA, BAHR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5"/>
          <p:cNvSpPr/>
          <p:nvPr/>
        </p:nvSpPr>
        <p:spPr>
          <a:xfrm>
            <a:off x="5400" y="6324480"/>
            <a:ext cx="3211920" cy="459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owerpoint hosted on </a:t>
            </a:r>
            <a:r>
              <a:rPr b="0" lang="en-US" sz="1200" spc="-1" strike="noStrike" u="sng">
                <a:solidFill>
                  <a:srgbClr val="e4005c"/>
                </a:solidFill>
                <a:uFillTx/>
                <a:latin typeface="Times New Roman"/>
                <a:hlinkClick r:id="rId1"/>
              </a:rPr>
              <a:t>www.worldofteaching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lease visit for 100’s more free power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Step 3 and 4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78920" y="2133720"/>
            <a:ext cx="3124440" cy="2620800"/>
          </a:xfrm>
          <a:prstGeom prst="rect">
            <a:avLst/>
          </a:prstGeom>
          <a:solidFill>
            <a:srgbClr val="33993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bel the axes and give the graph a tit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ke a key to show what each bar repres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Object 7"/>
          <p:cNvGraphicFramePr/>
          <p:nvPr/>
        </p:nvGraphicFramePr>
        <p:xfrm>
          <a:off x="3780000" y="1844640"/>
          <a:ext cx="4706640" cy="4206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80000" y="1844640"/>
                    <a:ext cx="4706640" cy="420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" name="Text Box 8"/>
          <p:cNvSpPr/>
          <p:nvPr/>
        </p:nvSpPr>
        <p:spPr>
          <a:xfrm rot="16200000">
            <a:off x="2595240" y="353196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ed Limit (mi/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0"/>
          <p:cNvSpPr/>
          <p:nvPr/>
        </p:nvSpPr>
        <p:spPr>
          <a:xfrm>
            <a:off x="7380360" y="2133720"/>
            <a:ext cx="1512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rb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11"/>
          <p:cNvSpPr/>
          <p:nvPr/>
        </p:nvSpPr>
        <p:spPr>
          <a:xfrm>
            <a:off x="7596360" y="2565360"/>
            <a:ext cx="287280" cy="216000"/>
          </a:xfrm>
          <a:prstGeom prst="rect">
            <a:avLst/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13"/>
          <p:cNvSpPr/>
          <p:nvPr/>
        </p:nvSpPr>
        <p:spPr>
          <a:xfrm>
            <a:off x="7596360" y="2205000"/>
            <a:ext cx="287280" cy="216000"/>
          </a:xfrm>
          <a:prstGeom prst="rect">
            <a:avLst/>
          </a:prstGeom>
          <a:solidFill>
            <a:srgbClr val="c58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4"/>
          <p:cNvSpPr/>
          <p:nvPr/>
        </p:nvSpPr>
        <p:spPr>
          <a:xfrm>
            <a:off x="4427640" y="1341360"/>
            <a:ext cx="38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ed Limit on Interstate Roa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Histogram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stogram is a bar graph that shows the frequency of data within equal interva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is no space in between the bar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11280" y="2133720"/>
            <a:ext cx="64008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How to make a histogram</a:t>
            </a: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979280" y="333360"/>
            <a:ext cx="6931080" cy="103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c0039"/>
                </a:solidFill>
                <a:latin typeface="Arial"/>
              </a:rPr>
              <a:t>The table below shows the number of hours students watch TV in one week Make a histogram of all the data</a:t>
            </a:r>
            <a:r>
              <a:rPr b="0" lang="en-US" sz="2800" spc="-1" strike="noStrike">
                <a:solidFill>
                  <a:srgbClr val="8c0039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8c0039"/>
              </a:solidFill>
              <a:latin typeface="Arial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2771640" y="1557360"/>
          <a:ext cx="5805720" cy="5133960"/>
        </p:xfrm>
        <a:graphic>
          <a:graphicData uri="http://schemas.openxmlformats.org/drawingml/2006/table">
            <a:tbl>
              <a:tblPr/>
              <a:tblGrid>
                <a:gridCol w="693720"/>
                <a:gridCol w="2210040"/>
                <a:gridCol w="795240"/>
                <a:gridCol w="2106720"/>
              </a:tblGrid>
              <a:tr h="820080">
                <a:tc gridSpan="4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ber of hours of T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0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0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I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II - III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0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II - III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0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II - 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I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3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II - II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9" name="Line 55"/>
          <p:cNvSpPr/>
          <p:nvPr/>
        </p:nvSpPr>
        <p:spPr>
          <a:xfrm>
            <a:off x="3564000" y="4149720"/>
            <a:ext cx="36036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56"/>
          <p:cNvSpPr/>
          <p:nvPr/>
        </p:nvSpPr>
        <p:spPr>
          <a:xfrm>
            <a:off x="3708360" y="5013360"/>
            <a:ext cx="36036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57"/>
          <p:cNvSpPr/>
          <p:nvPr/>
        </p:nvSpPr>
        <p:spPr>
          <a:xfrm>
            <a:off x="3708360" y="5805360"/>
            <a:ext cx="36036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59"/>
          <p:cNvSpPr/>
          <p:nvPr/>
        </p:nvSpPr>
        <p:spPr>
          <a:xfrm>
            <a:off x="6588000" y="3357720"/>
            <a:ext cx="360360" cy="215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60"/>
          <p:cNvSpPr/>
          <p:nvPr/>
        </p:nvSpPr>
        <p:spPr>
          <a:xfrm>
            <a:off x="6588000" y="5013360"/>
            <a:ext cx="36036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Step 1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26560" y="404640"/>
            <a:ext cx="3124440" cy="1828800"/>
          </a:xfrm>
          <a:prstGeom prst="rect">
            <a:avLst/>
          </a:prstGeom>
          <a:solidFill>
            <a:srgbClr val="33993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ke a frequency table of the data. Be sure to use equal interv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250920" y="2852640"/>
          <a:ext cx="4680000" cy="3108600"/>
        </p:xfrm>
        <a:graphic>
          <a:graphicData uri="http://schemas.openxmlformats.org/drawingml/2006/table">
            <a:tbl>
              <a:tblPr/>
              <a:tblGrid>
                <a:gridCol w="504720"/>
                <a:gridCol w="1835280"/>
                <a:gridCol w="641160"/>
                <a:gridCol w="1698840"/>
              </a:tblGrid>
              <a:tr h="518400">
                <a:tc gridSpan="4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umber of hours of T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8bf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8b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8b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8b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I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8bf9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8b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II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8b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8b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III - III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8bf9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8b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III - III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8b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8b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I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8bf9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8b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III - 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8b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8b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II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8bf9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58b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III - II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58b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58b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58bf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47" name=""/>
          <p:cNvGraphicFramePr/>
          <p:nvPr/>
        </p:nvGraphicFramePr>
        <p:xfrm>
          <a:off x="5076720" y="1844640"/>
          <a:ext cx="3780000" cy="2816280"/>
        </p:xfrm>
        <a:graphic>
          <a:graphicData uri="http://schemas.openxmlformats.org/drawingml/2006/table">
            <a:tbl>
              <a:tblPr/>
              <a:tblGrid>
                <a:gridCol w="1890720"/>
                <a:gridCol w="1889280"/>
              </a:tblGrid>
              <a:tr h="1265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ber of hours of T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-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-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-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8" name="Line 77"/>
          <p:cNvSpPr/>
          <p:nvPr/>
        </p:nvSpPr>
        <p:spPr>
          <a:xfrm>
            <a:off x="900000" y="4508640"/>
            <a:ext cx="358920" cy="2887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78"/>
          <p:cNvSpPr/>
          <p:nvPr/>
        </p:nvSpPr>
        <p:spPr>
          <a:xfrm>
            <a:off x="971640" y="5013360"/>
            <a:ext cx="358560" cy="2887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79"/>
          <p:cNvSpPr/>
          <p:nvPr/>
        </p:nvSpPr>
        <p:spPr>
          <a:xfrm>
            <a:off x="971640" y="5516640"/>
            <a:ext cx="358560" cy="2887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80"/>
          <p:cNvSpPr/>
          <p:nvPr/>
        </p:nvSpPr>
        <p:spPr>
          <a:xfrm>
            <a:off x="3348000" y="4005360"/>
            <a:ext cx="358920" cy="2887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835280" y="-24336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Step 2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179280" y="2997360"/>
          <a:ext cx="3743280" cy="2815920"/>
        </p:xfrm>
        <a:graphic>
          <a:graphicData uri="http://schemas.openxmlformats.org/drawingml/2006/table">
            <a:tbl>
              <a:tblPr/>
              <a:tblGrid>
                <a:gridCol w="1873440"/>
                <a:gridCol w="1869840"/>
              </a:tblGrid>
              <a:tr h="1265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umber of hours of T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8b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8bf9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-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8b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8bf9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-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8b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8bf9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-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58b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58bf9"/>
                    </a:solidFill>
                  </a:tcPr>
                </a:tc>
              </a:tr>
            </a:tbl>
          </a:graphicData>
        </a:graphic>
      </p:graphicFrame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23640" y="620640"/>
            <a:ext cx="8659800" cy="1224000"/>
          </a:xfrm>
          <a:prstGeom prst="rect">
            <a:avLst/>
          </a:prstGeom>
          <a:solidFill>
            <a:srgbClr val="33993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oose an appropriate scale and interval for the vertical axis. The greatest value on the scale should be at least as great as the greatest frequenc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5" name="Object 37"/>
          <p:cNvGraphicFramePr/>
          <p:nvPr/>
        </p:nvGraphicFramePr>
        <p:xfrm>
          <a:off x="4133880" y="2049480"/>
          <a:ext cx="4583160" cy="4325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" name="Object 3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33880" y="2049480"/>
                    <a:ext cx="4583160" cy="432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5392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Step 3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-360" y="907920"/>
            <a:ext cx="4716360" cy="2665440"/>
          </a:xfrm>
          <a:prstGeom prst="rect">
            <a:avLst/>
          </a:prstGeom>
          <a:solidFill>
            <a:srgbClr val="33993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raw a bar for each interval. The height of the bar is the frequency for that interval. Bars must touch but not overla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BH" sz="2400" spc="-1" strike="noStrike">
                <a:solidFill>
                  <a:srgbClr val="ffffff"/>
                </a:solidFill>
                <a:latin typeface="Arial"/>
              </a:rPr>
              <a:t>Label the axes and give the graph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9" name="Object 6"/>
          <p:cNvGraphicFramePr/>
          <p:nvPr/>
        </p:nvGraphicFramePr>
        <p:xfrm>
          <a:off x="4643280" y="404640"/>
          <a:ext cx="4500720" cy="608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0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3280" y="404640"/>
                    <a:ext cx="4500720" cy="608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1" name=""/>
          <p:cNvGraphicFramePr/>
          <p:nvPr/>
        </p:nvGraphicFramePr>
        <p:xfrm>
          <a:off x="250920" y="3860640"/>
          <a:ext cx="4103640" cy="2816280"/>
        </p:xfrm>
        <a:graphic>
          <a:graphicData uri="http://schemas.openxmlformats.org/drawingml/2006/table">
            <a:tbl>
              <a:tblPr/>
              <a:tblGrid>
                <a:gridCol w="2054160"/>
                <a:gridCol w="2049480"/>
              </a:tblGrid>
              <a:tr h="1265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umber of hours of T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8b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8bf9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-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8b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8bf9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-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8b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8bf9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-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58b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58bf9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2" name="Object 6"/>
          <p:cNvGraphicFramePr/>
          <p:nvPr/>
        </p:nvGraphicFramePr>
        <p:xfrm>
          <a:off x="2685960" y="404640"/>
          <a:ext cx="6112080" cy="6453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5960" y="404640"/>
                    <a:ext cx="6112080" cy="645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an you now make a bar graph, double bar Graph and a histogram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800" spc="-1" strike="noStrike">
              <a:solidFill>
                <a:srgbClr val="8c0039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2411280" y="907560"/>
            <a:ext cx="64008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list below shows the results of a typing test in words per minute. Make a histogram of the dat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2, 55, 68, 47, 50, 41, 62, 39, 54, 70, 56, 70, 56, 47, 71, 55, 60, 42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0039"/>
                </a:solidFill>
                <a:latin typeface="Arial"/>
              </a:rPr>
              <a:t>What do you know about</a:t>
            </a:r>
            <a:endParaRPr b="0" lang="en-US" sz="44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ar grap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ouble bar grap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istogra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The end</a:t>
            </a:r>
            <a:endParaRPr b="0" lang="en-US" sz="5400" spc="-1" strike="noStrike">
              <a:solidFill>
                <a:srgbClr val="8c0039"/>
              </a:solidFill>
              <a:latin typeface="Arial"/>
            </a:endParaRPr>
          </a:p>
        </p:txBody>
      </p:sp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Bar Graph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graphicFrame>
        <p:nvGraphicFramePr>
          <p:cNvPr id="99" name="Object 8"/>
          <p:cNvGraphicFramePr/>
          <p:nvPr/>
        </p:nvGraphicFramePr>
        <p:xfrm>
          <a:off x="836640" y="1596960"/>
          <a:ext cx="4702320" cy="448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6640" y="1596960"/>
                    <a:ext cx="4702320" cy="448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715000" y="1600200"/>
            <a:ext cx="31240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bar graph can be used to display and compare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cale should include all the data values and be easily divided into equal interva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horz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" dur="8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" dur="8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" dur="8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" dur="8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" dur="8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" dur="8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340000" y="-360"/>
            <a:ext cx="6400800" cy="107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c0039"/>
                </a:solidFill>
                <a:latin typeface="Arial"/>
              </a:rPr>
              <a:t>How to interpret a Bar Graph</a:t>
            </a:r>
            <a:r>
              <a:rPr b="0" lang="en-US" sz="3200" spc="-1" strike="noStrike">
                <a:solidFill>
                  <a:srgbClr val="8c0039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58920" y="2565360"/>
            <a:ext cx="3340080" cy="4105440"/>
          </a:xfrm>
          <a:prstGeom prst="rect">
            <a:avLst/>
          </a:prstGeom>
          <a:solidFill>
            <a:srgbClr val="33993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many of Mr. Snowden’s students are band membe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many of Mr. Snowden’s students are not band membe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Object 6"/>
          <p:cNvGraphicFramePr/>
          <p:nvPr/>
        </p:nvGraphicFramePr>
        <p:xfrm>
          <a:off x="4716360" y="2349360"/>
          <a:ext cx="4114800" cy="4181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16360" y="2349360"/>
                    <a:ext cx="4114800" cy="418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Text Box 7"/>
          <p:cNvSpPr/>
          <p:nvPr/>
        </p:nvSpPr>
        <p:spPr>
          <a:xfrm>
            <a:off x="2340000" y="1125360"/>
            <a:ext cx="6335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ar graph shows Mr. Snowden’s students by gender and band membershi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7" dur="2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Double Bar Graph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graphicFrame>
        <p:nvGraphicFramePr>
          <p:cNvPr id="108" name="Object 4"/>
          <p:cNvGraphicFramePr/>
          <p:nvPr/>
        </p:nvGraphicFramePr>
        <p:xfrm>
          <a:off x="2438280" y="1600200"/>
          <a:ext cx="3124440" cy="4495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1600200"/>
                    <a:ext cx="3124440" cy="449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715000" y="1600200"/>
            <a:ext cx="31240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be used to compare two related sets of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0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8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How to make a Double-Bar Graph</a:t>
            </a: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987640" y="1773360"/>
            <a:ext cx="5329440" cy="4464000"/>
          </a:xfrm>
          <a:prstGeom prst="rect">
            <a:avLst/>
          </a:prstGeom>
          <a:solidFill>
            <a:srgbClr val="33993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oose a scale and interval for the vertical ax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aw a pair of bars for each country’s data. Use different colors to show males and fema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BH" sz="2800" spc="-1" strike="noStrike">
                <a:solidFill>
                  <a:srgbClr val="ffffff"/>
                </a:solidFill>
                <a:latin typeface="Arial"/>
              </a:rPr>
              <a:t>Label the axes and   give the graph a titl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ke a key to show what each bar repres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11280" y="33300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BH" sz="3200" spc="-1" strike="noStrike">
                <a:solidFill>
                  <a:srgbClr val="8c0039"/>
                </a:solidFill>
                <a:latin typeface="Arial"/>
              </a:rPr>
              <a:t>The table shows the highway speed limits on interstate roads </a:t>
            </a:r>
            <a:r>
              <a:rPr b="0" lang="en-US" sz="3200" spc="-1" strike="noStrike">
                <a:solidFill>
                  <a:srgbClr val="8c0039"/>
                </a:solidFill>
                <a:latin typeface="Arial"/>
              </a:rPr>
              <a:t> .</a:t>
            </a:r>
            <a:r>
              <a:rPr b="0" lang="ar-BH" sz="3200" spc="-1" strike="noStrike">
                <a:solidFill>
                  <a:srgbClr val="8c0039"/>
                </a:solidFill>
                <a:latin typeface="Arial"/>
              </a:rPr>
              <a:t>within three states</a:t>
            </a: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2484360" y="1916280"/>
          <a:ext cx="6400800" cy="4495680"/>
        </p:xfrm>
        <a:graphic>
          <a:graphicData uri="http://schemas.openxmlformats.org/drawingml/2006/table">
            <a:tbl>
              <a:tblPr/>
              <a:tblGrid>
                <a:gridCol w="2394000"/>
                <a:gridCol w="2001960"/>
                <a:gridCol w="2004840"/>
              </a:tblGrid>
              <a:tr h="121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rb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BH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ur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lorid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mi/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 mi/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 mi/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 mi/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mo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mi/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 mi/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Step 1</a:t>
            </a: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76360" y="1557360"/>
            <a:ext cx="3124080" cy="1900080"/>
          </a:xfrm>
          <a:prstGeom prst="rect">
            <a:avLst/>
          </a:prstGeom>
          <a:solidFill>
            <a:srgbClr val="33993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oose a scale and interval for the vertical ax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Object 6"/>
          <p:cNvGraphicFramePr/>
          <p:nvPr/>
        </p:nvGraphicFramePr>
        <p:xfrm>
          <a:off x="4869000" y="1413000"/>
          <a:ext cx="4275000" cy="492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69000" y="1413000"/>
                    <a:ext cx="4275000" cy="492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9" name=""/>
          <p:cNvGraphicFramePr/>
          <p:nvPr/>
        </p:nvGraphicFramePr>
        <p:xfrm>
          <a:off x="539640" y="4076640"/>
          <a:ext cx="4276800" cy="2443320"/>
        </p:xfrm>
        <a:graphic>
          <a:graphicData uri="http://schemas.openxmlformats.org/drawingml/2006/table">
            <a:tbl>
              <a:tblPr/>
              <a:tblGrid>
                <a:gridCol w="1600200"/>
                <a:gridCol w="1338480"/>
                <a:gridCol w="1338120"/>
              </a:tblGrid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8b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rb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8b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BH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ur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8bf9"/>
                    </a:solidFill>
                  </a:tcPr>
                </a:tc>
              </a:tr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lorid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8b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mi/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8b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 mi/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8bf9"/>
                    </a:solidFill>
                  </a:tcPr>
                </a:tc>
              </a:tr>
              <a:tr h="52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8b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 mi/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8b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 mi/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8bf9"/>
                    </a:solidFill>
                  </a:tcPr>
                </a:tc>
              </a:tr>
              <a:tr h="79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ermo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f8b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mi/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f8b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 mi/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f8bf9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Step 2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066920" y="404640"/>
            <a:ext cx="4824360" cy="1368720"/>
          </a:xfrm>
          <a:prstGeom prst="rect">
            <a:avLst/>
          </a:prstGeom>
          <a:solidFill>
            <a:srgbClr val="33993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raw a pair of bars for each state’s data. Use different colors to show urban and rur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Object 6"/>
          <p:cNvGraphicFramePr/>
          <p:nvPr/>
        </p:nvGraphicFramePr>
        <p:xfrm>
          <a:off x="4356000" y="1916280"/>
          <a:ext cx="4591080" cy="4566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56000" y="1916280"/>
                    <a:ext cx="4591080" cy="456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4" name=""/>
          <p:cNvGraphicFramePr/>
          <p:nvPr/>
        </p:nvGraphicFramePr>
        <p:xfrm>
          <a:off x="179280" y="2492280"/>
          <a:ext cx="4033800" cy="2171880"/>
        </p:xfrm>
        <a:graphic>
          <a:graphicData uri="http://schemas.openxmlformats.org/drawingml/2006/table">
            <a:tbl>
              <a:tblPr/>
              <a:tblGrid>
                <a:gridCol w="1508400"/>
                <a:gridCol w="1263600"/>
                <a:gridCol w="1261800"/>
              </a:tblGrid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8b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rb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8b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BH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ur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8bf9"/>
                    </a:solidFill>
                  </a:tcPr>
                </a:tc>
              </a:tr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lorid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8b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mi/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8b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 mi/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8bf9"/>
                    </a:solidFill>
                  </a:tcPr>
                </a:tc>
              </a:tr>
              <a:tr h="470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8b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 mi/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8b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 mi/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8bf9"/>
                    </a:solidFill>
                  </a:tcPr>
                </a:tc>
              </a:tr>
              <a:tr h="70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ermo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f8b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mi/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f8b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 mi/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f8bf9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31T13:29:24Z</dcterms:created>
  <dc:creator>Princess</dc:creator>
  <dc:description/>
  <dc:language>en-US</dc:language>
  <cp:lastModifiedBy>RomaK</cp:lastModifiedBy>
  <dcterms:modified xsi:type="dcterms:W3CDTF">2015-09-04T07:38:01Z</dcterms:modified>
  <cp:revision>14</cp:revision>
  <dc:subject/>
  <dc:title>Bar Graphs and Histograms</dc:title>
</cp:coreProperties>
</file>