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30D2-C50D-4134-924F-CE4A3E3062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266-65BB-4EB0-9B2B-937834BC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676-B36A-4237-9704-B934B2B2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4CB-D9CC-49BD-9EB0-A61775EF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73F-BB62-47E5-9BCA-3BDE49F2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195-D0E0-4A5D-992A-C17EE8B3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B01-3D17-480C-9C11-C4155E25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367-779A-496F-B9F7-BC750D20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022-56B1-4E7D-AE31-0813C8BD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08D-6EE7-45F4-BB78-96B48AD0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8DA-38F2-459E-AC9C-B5A03DEE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160-6166-48BB-9AA8-121087AD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3F4-99CA-4348-B92E-6BB639B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5FCF-D06E-4F6C-90F3-B89CC3784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28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9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0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1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3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4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6fdb5d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dc54ad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038480" y="4648320"/>
            <a:ext cx="1295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590920" y="3429000"/>
            <a:ext cx="1295280" cy="1295280"/>
          </a:xfrm>
          <a:prstGeom prst="ellipse">
            <a:avLst/>
          </a:prstGeom>
          <a:solidFill>
            <a:srgbClr val="078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914400" y="45720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562720" y="3505320"/>
            <a:ext cx="1295280" cy="1295280"/>
          </a:xfrm>
          <a:prstGeom prst="ellipse">
            <a:avLst/>
          </a:prstGeom>
          <a:solidFill>
            <a:srgbClr val="6fdb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010280" y="4572000"/>
            <a:ext cx="129564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scribed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ea1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c2c6"/>
                </a:solidFill>
                <a:latin typeface="Times New Roman"/>
              </a:rPr>
              <a:t>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2c2c6"/>
                </a:solidFill>
                <a:latin typeface="Times New Roman"/>
              </a:rPr>
              <a:t>arc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648320" y="2220840"/>
            <a:ext cx="3809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9218"/>
                </a:solidFill>
                <a:latin typeface="Times New Roman"/>
              </a:rPr>
              <a:t>arc 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85800" y="242712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adius (or Radii for pl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4a0c59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3809880" cy="37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sses through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822cd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5800" y="226224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5160960" y="198108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an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888888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3809880" cy="39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entral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99552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8320" y="209376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30:45Z</dcterms:created>
  <dc:creator>Academic Computing</dc:creator>
  <dc:description/>
  <dc:language>en-US</dc:language>
  <cp:lastModifiedBy>RomaK</cp:lastModifiedBy>
  <cp:lastPrinted>2002-10-23T17:55:57Z</cp:lastPrinted>
  <dcterms:modified xsi:type="dcterms:W3CDTF">2015-09-04T07:38:27Z</dcterms:modified>
  <cp:revision>47</cp:revision>
  <dc:subject/>
  <dc:title>GEOMETRY</dc:title>
</cp:coreProperties>
</file>