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097E-5C5D-47BC-8CF6-2B88734B4D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x subtended at the centre of a circle by an arc is twice the size of the angle on the circumference subtended by the same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x subtended at the centre of a circle by an arc is twice the size of the angle on the circumference subtended by the same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subtended at the Centre is twice the angle at the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subtended at the Centre is twice the angle at the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 Subtended in the sam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 circle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p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 Subtended in the sam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 circle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p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ic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which lie on the circumferenc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ircle are called cyclic (or concycl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. A cyclic quadrilateral is a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its four corners (vertices)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the sam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ic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which lie on the circumferenc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ircle are called cyclic (or concycl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. A cyclic quadrilateral is a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its four corners (vertices)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the sam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=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B Triang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T and O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CONGRU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=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B Triang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T and O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CONGRU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ded Segment BED is called the alternate segment to the angl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between a tangent to a circle and a chord drawn through th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contact is equal to any angle subtended by the chord at the circumferenc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ded Segment BED is called the alternate segment to the angl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between a tangent to a circle and a chord drawn through th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contact is equal to any angle subtended by the chord at the circumferenc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in a semi circle is 90 degre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in a semi circle is 90 degre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578-A24E-4441-8282-BBC2B239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9BD3-A6BA-47FF-91D7-64FD82A4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C949-E9F7-4340-B507-976F0B4F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847-FBC9-4DE3-A2EB-501CFDC7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8005-AB29-4093-B4CB-AC1DE9D5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CED-9F81-4EE3-8869-E5DBF9A3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8C4-904F-46D3-935F-904D5DE9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6DC8-7E02-4A31-8336-DCE0A78A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779C-995F-48C9-9673-B79D7006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3B6-EE1E-4622-B360-75740E5C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89C-C906-4C09-92EB-93EC3E45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F18D-46BC-4A10-B09C-F32F708C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757A-9D33-4191-A592-C2C6268D6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4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6"/>
          <p:cNvSpPr/>
          <p:nvPr/>
        </p:nvSpPr>
        <p:spPr>
          <a:xfrm>
            <a:off x="1371600" y="1238400"/>
            <a:ext cx="2590920" cy="1719000"/>
          </a:xfrm>
          <a:custGeom>
            <a:avLst/>
            <a:gdLst/>
            <a:ahLst/>
            <a:rect l="l" t="t" r="r" b="b"/>
            <a:pathLst>
              <a:path w="1632" h="1104">
                <a:moveTo>
                  <a:pt x="0" y="1104"/>
                </a:moveTo>
                <a:lnTo>
                  <a:pt x="1008" y="0"/>
                </a:lnTo>
                <a:lnTo>
                  <a:pt x="1632" y="1104"/>
                </a:lnTo>
                <a:lnTo>
                  <a:pt x="816" y="816"/>
                </a:lnTo>
                <a:lnTo>
                  <a:pt x="0" y="1104"/>
                </a:lnTo>
                <a:close/>
              </a:path>
            </a:pathLst>
          </a:custGeom>
          <a:solidFill>
            <a:srgbClr val="ffff00">
              <a:alpha val="5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509920" y="2500200"/>
            <a:ext cx="42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rush Script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6"/>
          <p:cNvGrpSpPr/>
          <p:nvPr/>
        </p:nvGrpSpPr>
        <p:grpSpPr>
          <a:xfrm>
            <a:off x="2309760" y="1428480"/>
            <a:ext cx="819360" cy="1643760"/>
            <a:chOff x="2309760" y="1428480"/>
            <a:chExt cx="819360" cy="1643760"/>
          </a:xfrm>
        </p:grpSpPr>
        <p:sp>
          <p:nvSpPr>
            <p:cNvPr id="52" name="Arc 7"/>
            <p:cNvSpPr/>
            <p:nvPr/>
          </p:nvSpPr>
          <p:spPr>
            <a:xfrm flipV="1" rot="3585000">
              <a:off x="2440080" y="2400840"/>
              <a:ext cx="514080" cy="597240"/>
            </a:xfrm>
            <a:custGeom>
              <a:avLst/>
              <a:gdLst/>
              <a:ahLst/>
              <a:rect l="l" t="t" r="r" b="b"/>
              <a:pathLst>
                <a:path fill="none" w="23459" h="38383">
                  <a:moveTo>
                    <a:pt x="0" y="80"/>
                  </a:moveTo>
                  <a:cubicBezTo>
                    <a:pt x="618" y="26"/>
                    <a:pt x="1238" y="-1"/>
                    <a:pt x="1859" y="0"/>
                  </a:cubicBezTo>
                  <a:cubicBezTo>
                    <a:pt x="13788" y="0"/>
                    <a:pt x="23459" y="9670"/>
                    <a:pt x="23459" y="21600"/>
                  </a:cubicBezTo>
                  <a:cubicBezTo>
                    <a:pt x="23459" y="28115"/>
                    <a:pt x="20518" y="34282"/>
                    <a:pt x="15456" y="38383"/>
                  </a:cubicBezTo>
                </a:path>
                <a:path stroke="0" w="23459" h="38383">
                  <a:moveTo>
                    <a:pt x="0" y="80"/>
                  </a:moveTo>
                  <a:cubicBezTo>
                    <a:pt x="618" y="26"/>
                    <a:pt x="1238" y="-1"/>
                    <a:pt x="1859" y="0"/>
                  </a:cubicBezTo>
                  <a:cubicBezTo>
                    <a:pt x="13788" y="0"/>
                    <a:pt x="23459" y="9670"/>
                    <a:pt x="23459" y="21600"/>
                  </a:cubicBezTo>
                  <a:cubicBezTo>
                    <a:pt x="23459" y="28115"/>
                    <a:pt x="20518" y="34282"/>
                    <a:pt x="15456" y="38383"/>
                  </a:cubicBezTo>
                  <a:lnTo>
                    <a:pt x="1859" y="21600"/>
                  </a:lnTo>
                  <a:lnTo>
                    <a:pt x="0" y="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rc 10"/>
            <p:cNvSpPr/>
            <p:nvPr/>
          </p:nvSpPr>
          <p:spPr>
            <a:xfrm flipH="1" flipV="1">
              <a:off x="2790720" y="1428120"/>
              <a:ext cx="338400" cy="90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1"/>
          <p:cNvSpPr/>
          <p:nvPr/>
        </p:nvSpPr>
        <p:spPr>
          <a:xfrm>
            <a:off x="2790720" y="1193760"/>
            <a:ext cx="3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rush Scrip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5"/>
          <p:cNvGrpSpPr/>
          <p:nvPr/>
        </p:nvGrpSpPr>
        <p:grpSpPr>
          <a:xfrm>
            <a:off x="1371600" y="2188800"/>
            <a:ext cx="5481720" cy="2516400"/>
            <a:chOff x="1371600" y="2188800"/>
            <a:chExt cx="5481720" cy="2516400"/>
          </a:xfrm>
        </p:grpSpPr>
        <p:sp>
          <p:nvSpPr>
            <p:cNvPr id="56" name="Arc 12"/>
            <p:cNvSpPr/>
            <p:nvPr/>
          </p:nvSpPr>
          <p:spPr>
            <a:xfrm flipV="1">
              <a:off x="1371600" y="2188440"/>
              <a:ext cx="2590920" cy="1671480"/>
            </a:xfrm>
            <a:custGeom>
              <a:avLst/>
              <a:gdLst/>
              <a:ahLst/>
              <a:rect l="l" t="t" r="r" b="b"/>
              <a:pathLst>
                <a:path fill="none" w="38182" h="21600">
                  <a:moveTo>
                    <a:pt x="0" y="11533"/>
                  </a:moveTo>
                  <a:cubicBezTo>
                    <a:pt x="3736" y="4440"/>
                    <a:pt x="11094" y="-1"/>
                    <a:pt x="19111" y="0"/>
                  </a:cubicBezTo>
                  <a:cubicBezTo>
                    <a:pt x="27097" y="0"/>
                    <a:pt x="34432" y="4406"/>
                    <a:pt x="38181" y="11458"/>
                  </a:cubicBezTo>
                </a:path>
                <a:path stroke="0" w="38182" h="21600">
                  <a:moveTo>
                    <a:pt x="0" y="11533"/>
                  </a:moveTo>
                  <a:cubicBezTo>
                    <a:pt x="3736" y="4440"/>
                    <a:pt x="11094" y="-1"/>
                    <a:pt x="19111" y="0"/>
                  </a:cubicBezTo>
                  <a:cubicBezTo>
                    <a:pt x="27097" y="0"/>
                    <a:pt x="34432" y="4406"/>
                    <a:pt x="38181" y="11458"/>
                  </a:cubicBezTo>
                  <a:lnTo>
                    <a:pt x="19111" y="21600"/>
                  </a:lnTo>
                  <a:lnTo>
                    <a:pt x="0" y="11533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4038480" y="4336920"/>
              <a:ext cx="281484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the 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 flipH="1" flipV="1">
              <a:off x="3390480" y="3670200"/>
              <a:ext cx="647640" cy="66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3"/>
          <p:cNvGrpSpPr/>
          <p:nvPr/>
        </p:nvGrpSpPr>
        <p:grpSpPr>
          <a:xfrm>
            <a:off x="2509920" y="1193760"/>
            <a:ext cx="3344760" cy="1363680"/>
            <a:chOff x="2509920" y="1193760"/>
            <a:chExt cx="3344760" cy="1363680"/>
          </a:xfrm>
        </p:grpSpPr>
        <p:sp>
          <p:nvSpPr>
            <p:cNvPr id="60" name="Text Box 17"/>
            <p:cNvSpPr/>
            <p:nvPr/>
          </p:nvSpPr>
          <p:spPr>
            <a:xfrm>
              <a:off x="2509920" y="21891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0"/>
            <p:cNvGrpSpPr/>
            <p:nvPr/>
          </p:nvGrpSpPr>
          <p:grpSpPr>
            <a:xfrm>
              <a:off x="2714760" y="1193760"/>
              <a:ext cx="3139920" cy="1265400"/>
              <a:chOff x="2714760" y="1193760"/>
              <a:chExt cx="3139920" cy="1265400"/>
            </a:xfrm>
          </p:grpSpPr>
          <p:sp>
            <p:nvSpPr>
              <p:cNvPr id="62" name="Text Box 18"/>
              <p:cNvSpPr/>
              <p:nvPr/>
            </p:nvSpPr>
            <p:spPr>
              <a:xfrm>
                <a:off x="4038480" y="1193760"/>
                <a:ext cx="181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entre of Circ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9"/>
              <p:cNvSpPr/>
              <p:nvPr/>
            </p:nvSpPr>
            <p:spPr>
              <a:xfrm flipH="1">
                <a:off x="2714760" y="1519200"/>
                <a:ext cx="124776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 Box 22"/>
          <p:cNvSpPr/>
          <p:nvPr/>
        </p:nvSpPr>
        <p:spPr>
          <a:xfrm>
            <a:off x="1015920" y="5346720"/>
            <a:ext cx="7023240" cy="916920"/>
          </a:xfrm>
          <a:prstGeom prst="rect">
            <a:avLst/>
          </a:prstGeom>
          <a:gradFill rotWithShape="0">
            <a:gsLst>
              <a:gs pos="0">
                <a:srgbClr val="ffffd9"/>
              </a:gs>
              <a:gs pos="100000">
                <a:srgbClr val="ffff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g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btended at the centre of a circle by an arc is twice the size of the angle on the circumference subtended by the same ar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4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1400040" y="1190520"/>
            <a:ext cx="2324160" cy="1319400"/>
          </a:xfrm>
          <a:custGeom>
            <a:avLst/>
            <a:gdLst/>
            <a:ahLst/>
            <a:rect l="l" t="t" r="r" b="b"/>
            <a:pathLst>
              <a:path w="1464" h="831">
                <a:moveTo>
                  <a:pt x="0" y="522"/>
                </a:moveTo>
                <a:lnTo>
                  <a:pt x="789" y="831"/>
                </a:lnTo>
                <a:lnTo>
                  <a:pt x="1464" y="309"/>
                </a:lnTo>
                <a:lnTo>
                  <a:pt x="786" y="0"/>
                </a:lnTo>
                <a:lnTo>
                  <a:pt x="0" y="522"/>
                </a:lnTo>
                <a:close/>
              </a:path>
            </a:pathLst>
          </a:custGeom>
          <a:solidFill>
            <a:srgbClr val="ffff00">
              <a:alpha val="5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rc 8"/>
          <p:cNvSpPr/>
          <p:nvPr/>
        </p:nvSpPr>
        <p:spPr>
          <a:xfrm>
            <a:off x="2168640" y="2157480"/>
            <a:ext cx="966600" cy="588960"/>
          </a:xfrm>
          <a:custGeom>
            <a:avLst/>
            <a:gdLst/>
            <a:ahLst/>
            <a:rect l="l" t="t" r="r" b="b"/>
            <a:pathLst>
              <a:path fill="none" w="43110" h="26968">
                <a:moveTo>
                  <a:pt x="42432" y="-1"/>
                </a:moveTo>
                <a:cubicBezTo>
                  <a:pt x="42882" y="1753"/>
                  <a:pt x="43110" y="3557"/>
                  <a:pt x="43110" y="5368"/>
                </a:cubicBezTo>
                <a:cubicBezTo>
                  <a:pt x="43110" y="17297"/>
                  <a:pt x="33439" y="26968"/>
                  <a:pt x="21510" y="26968"/>
                </a:cubicBezTo>
                <a:cubicBezTo>
                  <a:pt x="10343" y="26968"/>
                  <a:pt x="1017" y="18456"/>
                  <a:pt x="-1" y="7337"/>
                </a:cubicBezTo>
              </a:path>
              <a:path stroke="0" w="43110" h="26968">
                <a:moveTo>
                  <a:pt x="42432" y="-1"/>
                </a:moveTo>
                <a:cubicBezTo>
                  <a:pt x="42882" y="1753"/>
                  <a:pt x="43110" y="3557"/>
                  <a:pt x="43110" y="5368"/>
                </a:cubicBezTo>
                <a:cubicBezTo>
                  <a:pt x="43110" y="17297"/>
                  <a:pt x="33439" y="26968"/>
                  <a:pt x="21510" y="26968"/>
                </a:cubicBezTo>
                <a:cubicBezTo>
                  <a:pt x="10343" y="26968"/>
                  <a:pt x="1017" y="18456"/>
                  <a:pt x="-1" y="7337"/>
                </a:cubicBezTo>
                <a:lnTo>
                  <a:pt x="21510" y="5368"/>
                </a:lnTo>
                <a:lnTo>
                  <a:pt x="42432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rc 11"/>
          <p:cNvSpPr/>
          <p:nvPr/>
        </p:nvSpPr>
        <p:spPr>
          <a:xfrm flipH="1" flipV="1">
            <a:off x="2359080" y="1376280"/>
            <a:ext cx="776160" cy="114480"/>
          </a:xfrm>
          <a:custGeom>
            <a:avLst/>
            <a:gdLst/>
            <a:ahLst/>
            <a:rect l="l" t="t" r="r" b="b"/>
            <a:pathLst>
              <a:path fill="none" w="42111" h="21600">
                <a:moveTo>
                  <a:pt x="0" y="14827"/>
                </a:moveTo>
                <a:cubicBezTo>
                  <a:pt x="2922" y="5977"/>
                  <a:pt x="11191" y="-1"/>
                  <a:pt x="20511" y="0"/>
                </a:cubicBezTo>
                <a:cubicBezTo>
                  <a:pt x="32440" y="0"/>
                  <a:pt x="42111" y="9670"/>
                  <a:pt x="42111" y="21600"/>
                </a:cubicBezTo>
              </a:path>
              <a:path stroke="0" w="42111" h="21600">
                <a:moveTo>
                  <a:pt x="0" y="14827"/>
                </a:moveTo>
                <a:cubicBezTo>
                  <a:pt x="2922" y="5977"/>
                  <a:pt x="11191" y="-1"/>
                  <a:pt x="20511" y="0"/>
                </a:cubicBezTo>
                <a:cubicBezTo>
                  <a:pt x="32440" y="0"/>
                  <a:pt x="42111" y="9670"/>
                  <a:pt x="42111" y="21600"/>
                </a:cubicBezTo>
                <a:lnTo>
                  <a:pt x="20511" y="21600"/>
                </a:lnTo>
                <a:lnTo>
                  <a:pt x="0" y="1482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2422440" y="2430360"/>
            <a:ext cx="7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rush Script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2557440" y="119052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ush Scrip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rc 14"/>
          <p:cNvSpPr/>
          <p:nvPr/>
        </p:nvSpPr>
        <p:spPr>
          <a:xfrm flipV="1">
            <a:off x="1295280" y="1688760"/>
            <a:ext cx="2743200" cy="2170080"/>
          </a:xfrm>
          <a:custGeom>
            <a:avLst/>
            <a:gdLst/>
            <a:ahLst/>
            <a:rect l="l" t="t" r="r" b="b"/>
            <a:pathLst>
              <a:path fill="none" w="43200" h="35638">
                <a:moveTo>
                  <a:pt x="1634" y="29841"/>
                </a:moveTo>
                <a:cubicBezTo>
                  <a:pt x="555" y="27228"/>
                  <a:pt x="0" y="2442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747"/>
                  <a:pt x="-24175" y="31725"/>
                  <a:pt x="-27520" y="-29898"/>
                </a:cubicBezTo>
              </a:path>
              <a:path stroke="0" w="43200" h="35638">
                <a:moveTo>
                  <a:pt x="1634" y="29841"/>
                </a:moveTo>
                <a:cubicBezTo>
                  <a:pt x="555" y="27228"/>
                  <a:pt x="0" y="2442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747"/>
                  <a:pt x="-24175" y="31725"/>
                  <a:pt x="-27520" y="-29898"/>
                </a:cubicBezTo>
                <a:lnTo>
                  <a:pt x="21600" y="21600"/>
                </a:lnTo>
                <a:lnTo>
                  <a:pt x="1634" y="29841"/>
                </a:lnTo>
                <a:close/>
              </a:path>
            </a:pathLst>
          </a:custGeom>
          <a:noFill/>
          <a:ln w="3168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2422440" y="214308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3"/>
          <p:cNvGrpSpPr/>
          <p:nvPr/>
        </p:nvGrpSpPr>
        <p:grpSpPr>
          <a:xfrm>
            <a:off x="2793600" y="3858840"/>
            <a:ext cx="3097440" cy="898920"/>
            <a:chOff x="2793600" y="3858840"/>
            <a:chExt cx="3097440" cy="898920"/>
          </a:xfrm>
        </p:grpSpPr>
        <p:sp>
          <p:nvSpPr>
            <p:cNvPr id="74" name="Text Box 16"/>
            <p:cNvSpPr/>
            <p:nvPr/>
          </p:nvSpPr>
          <p:spPr>
            <a:xfrm>
              <a:off x="3565440" y="4389480"/>
              <a:ext cx="23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the 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 flipH="1" flipV="1">
              <a:off x="2793600" y="3858840"/>
              <a:ext cx="77148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2"/>
          <p:cNvGrpSpPr/>
          <p:nvPr/>
        </p:nvGrpSpPr>
        <p:grpSpPr>
          <a:xfrm>
            <a:off x="2690640" y="927000"/>
            <a:ext cx="5356440" cy="1582920"/>
            <a:chOff x="2690640" y="927000"/>
            <a:chExt cx="5356440" cy="1582920"/>
          </a:xfrm>
        </p:grpSpPr>
        <p:sp>
          <p:nvSpPr>
            <p:cNvPr id="77" name="Line 18"/>
            <p:cNvSpPr/>
            <p:nvPr/>
          </p:nvSpPr>
          <p:spPr>
            <a:xfrm flipH="1">
              <a:off x="2690640" y="1193760"/>
              <a:ext cx="2695680" cy="13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9"/>
            <p:cNvSpPr/>
            <p:nvPr/>
          </p:nvSpPr>
          <p:spPr>
            <a:xfrm>
              <a:off x="5386320" y="927000"/>
              <a:ext cx="266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ntre of Cir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20"/>
          <p:cNvSpPr/>
          <p:nvPr/>
        </p:nvSpPr>
        <p:spPr>
          <a:xfrm>
            <a:off x="992160" y="5342040"/>
            <a:ext cx="60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subtended at the Centre is twice the angle at the circum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21"/>
          <p:cNvSpPr txBox="1"/>
          <p:nvPr/>
        </p:nvSpPr>
        <p:spPr>
          <a:xfrm>
            <a:off x="447840" y="542880"/>
            <a:ext cx="16952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se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5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7"/>
          <p:cNvSpPr/>
          <p:nvPr/>
        </p:nvSpPr>
        <p:spPr>
          <a:xfrm>
            <a:off x="1308240" y="2355840"/>
            <a:ext cx="2076480" cy="1308240"/>
          </a:xfrm>
          <a:custGeom>
            <a:avLst/>
            <a:gdLst/>
            <a:ahLst/>
            <a:rect l="l" t="t" r="r" b="b"/>
            <a:pathLst>
              <a:path w="1308" h="824">
                <a:moveTo>
                  <a:pt x="212" y="672"/>
                </a:moveTo>
                <a:lnTo>
                  <a:pt x="0" y="0"/>
                </a:lnTo>
                <a:lnTo>
                  <a:pt x="1308" y="8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8"/>
          <p:cNvSpPr/>
          <p:nvPr/>
        </p:nvSpPr>
        <p:spPr>
          <a:xfrm>
            <a:off x="1638360" y="1231920"/>
            <a:ext cx="1752480" cy="2425680"/>
          </a:xfrm>
          <a:custGeom>
            <a:avLst/>
            <a:gdLst/>
            <a:ahLst/>
            <a:rect l="l" t="t" r="r" b="b"/>
            <a:pathLst>
              <a:path w="1104" h="1528">
                <a:moveTo>
                  <a:pt x="0" y="1384"/>
                </a:moveTo>
                <a:lnTo>
                  <a:pt x="424" y="0"/>
                </a:lnTo>
                <a:lnTo>
                  <a:pt x="1104" y="1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9"/>
          <p:cNvSpPr/>
          <p:nvPr/>
        </p:nvSpPr>
        <p:spPr>
          <a:xfrm>
            <a:off x="1650960" y="1720800"/>
            <a:ext cx="2114640" cy="1943280"/>
          </a:xfrm>
          <a:custGeom>
            <a:avLst/>
            <a:gdLst/>
            <a:ahLst/>
            <a:rect l="l" t="t" r="r" b="b"/>
            <a:pathLst>
              <a:path w="1332" h="1224">
                <a:moveTo>
                  <a:pt x="0" y="1076"/>
                </a:moveTo>
                <a:lnTo>
                  <a:pt x="1332" y="0"/>
                </a:lnTo>
                <a:lnTo>
                  <a:pt x="1100" y="12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3"/>
          <p:cNvGrpSpPr/>
          <p:nvPr/>
        </p:nvGrpSpPr>
        <p:grpSpPr>
          <a:xfrm>
            <a:off x="1346040" y="1295280"/>
            <a:ext cx="2470320" cy="1479600"/>
            <a:chOff x="1346040" y="1295280"/>
            <a:chExt cx="2470320" cy="1479600"/>
          </a:xfrm>
        </p:grpSpPr>
        <p:sp>
          <p:nvSpPr>
            <p:cNvPr id="86" name="Text Box 10"/>
            <p:cNvSpPr/>
            <p:nvPr/>
          </p:nvSpPr>
          <p:spPr>
            <a:xfrm>
              <a:off x="1346040" y="240660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2171880" y="129528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3473280" y="180972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5"/>
          <p:cNvGrpSpPr/>
          <p:nvPr/>
        </p:nvGrpSpPr>
        <p:grpSpPr>
          <a:xfrm>
            <a:off x="1397160" y="509760"/>
            <a:ext cx="5735520" cy="1976400"/>
            <a:chOff x="1397160" y="509760"/>
            <a:chExt cx="5735520" cy="1976400"/>
          </a:xfrm>
        </p:grpSpPr>
        <p:sp>
          <p:nvSpPr>
            <p:cNvPr id="90" name="Text Box 14"/>
            <p:cNvSpPr/>
            <p:nvPr/>
          </p:nvSpPr>
          <p:spPr>
            <a:xfrm>
              <a:off x="4089240" y="509760"/>
              <a:ext cx="304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 are ALL EQ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5"/>
            <p:cNvSpPr/>
            <p:nvPr/>
          </p:nvSpPr>
          <p:spPr>
            <a:xfrm flipH="1">
              <a:off x="3765240" y="876240"/>
              <a:ext cx="32364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6"/>
            <p:cNvSpPr/>
            <p:nvPr/>
          </p:nvSpPr>
          <p:spPr>
            <a:xfrm flipH="1">
              <a:off x="2350800" y="876240"/>
              <a:ext cx="168732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7"/>
            <p:cNvSpPr/>
            <p:nvPr/>
          </p:nvSpPr>
          <p:spPr>
            <a:xfrm flipH="1">
              <a:off x="1397160" y="955800"/>
              <a:ext cx="2692080" cy="15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Arc 19"/>
          <p:cNvSpPr/>
          <p:nvPr/>
        </p:nvSpPr>
        <p:spPr>
          <a:xfrm rot="8088600">
            <a:off x="1919160" y="2663640"/>
            <a:ext cx="1606680" cy="1393920"/>
          </a:xfrm>
          <a:custGeom>
            <a:avLst/>
            <a:gdLst/>
            <a:ahLst/>
            <a:rect l="l" t="t" r="r" b="b"/>
            <a:pathLst>
              <a:path fill="none" w="21600" h="22172">
                <a:moveTo>
                  <a:pt x="6924" y="0"/>
                </a:moveTo>
                <a:cubicBezTo>
                  <a:pt x="15696" y="2969"/>
                  <a:pt x="21600" y="11199"/>
                  <a:pt x="21600" y="20460"/>
                </a:cubicBezTo>
                <a:cubicBezTo>
                  <a:pt x="21600" y="21031"/>
                  <a:pt x="21577" y="21602"/>
                  <a:pt x="21532" y="22172"/>
                </a:cubicBezTo>
              </a:path>
              <a:path stroke="0" w="21600" h="22172">
                <a:moveTo>
                  <a:pt x="6924" y="0"/>
                </a:moveTo>
                <a:cubicBezTo>
                  <a:pt x="15696" y="2969"/>
                  <a:pt x="21600" y="11199"/>
                  <a:pt x="21600" y="20460"/>
                </a:cubicBezTo>
                <a:cubicBezTo>
                  <a:pt x="21600" y="21031"/>
                  <a:pt x="21577" y="21602"/>
                  <a:pt x="21532" y="22172"/>
                </a:cubicBezTo>
                <a:lnTo>
                  <a:pt x="0" y="20460"/>
                </a:lnTo>
                <a:lnTo>
                  <a:pt x="6924" y="0"/>
                </a:lnTo>
                <a:close/>
              </a:path>
            </a:pathLst>
          </a:custGeom>
          <a:noFill/>
          <a:ln w="3168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2"/>
          <p:cNvGrpSpPr/>
          <p:nvPr/>
        </p:nvGrpSpPr>
        <p:grpSpPr>
          <a:xfrm>
            <a:off x="2171880" y="3860280"/>
            <a:ext cx="2504880" cy="1067400"/>
            <a:chOff x="2171880" y="3860280"/>
            <a:chExt cx="2504880" cy="1067400"/>
          </a:xfrm>
        </p:grpSpPr>
        <p:sp>
          <p:nvSpPr>
            <p:cNvPr id="96" name="Text Box 20"/>
            <p:cNvSpPr/>
            <p:nvPr/>
          </p:nvSpPr>
          <p:spPr>
            <a:xfrm>
              <a:off x="2171880" y="4559400"/>
              <a:ext cx="25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the 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1"/>
            <p:cNvSpPr/>
            <p:nvPr/>
          </p:nvSpPr>
          <p:spPr>
            <a:xfrm flipH="1" flipV="1">
              <a:off x="2514600" y="3860280"/>
              <a:ext cx="24120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WordArt 23"/>
          <p:cNvSpPr txBox="1"/>
          <p:nvPr/>
        </p:nvSpPr>
        <p:spPr>
          <a:xfrm>
            <a:off x="781200" y="5667480"/>
            <a:ext cx="7791480" cy="1485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gles Subtended in the same segment 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 a circle are equal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" name="WordArt 24"/>
          <p:cNvSpPr txBox="1"/>
          <p:nvPr/>
        </p:nvSpPr>
        <p:spPr>
          <a:xfrm rot="5400000">
            <a:off x="6529320" y="2626920"/>
            <a:ext cx="343836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hop Stick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Freeform 29"/>
          <p:cNvSpPr/>
          <p:nvPr/>
        </p:nvSpPr>
        <p:spPr>
          <a:xfrm>
            <a:off x="1650960" y="3416400"/>
            <a:ext cx="1727280" cy="438120"/>
          </a:xfrm>
          <a:custGeom>
            <a:avLst/>
            <a:gdLst/>
            <a:ahLst/>
            <a:rect l="l" t="t" r="r" b="b"/>
            <a:pathLst>
              <a:path w="1088" h="276">
                <a:moveTo>
                  <a:pt x="0" y="0"/>
                </a:moveTo>
                <a:lnTo>
                  <a:pt x="1088" y="136"/>
                </a:lnTo>
                <a:lnTo>
                  <a:pt x="1064" y="156"/>
                </a:lnTo>
                <a:lnTo>
                  <a:pt x="1028" y="176"/>
                </a:lnTo>
                <a:lnTo>
                  <a:pt x="976" y="200"/>
                </a:lnTo>
                <a:lnTo>
                  <a:pt x="916" y="224"/>
                </a:lnTo>
                <a:lnTo>
                  <a:pt x="864" y="244"/>
                </a:lnTo>
                <a:lnTo>
                  <a:pt x="812" y="248"/>
                </a:lnTo>
                <a:lnTo>
                  <a:pt x="752" y="264"/>
                </a:lnTo>
                <a:lnTo>
                  <a:pt x="672" y="272"/>
                </a:lnTo>
                <a:lnTo>
                  <a:pt x="604" y="276"/>
                </a:lnTo>
                <a:lnTo>
                  <a:pt x="536" y="272"/>
                </a:lnTo>
                <a:lnTo>
                  <a:pt x="480" y="264"/>
                </a:lnTo>
                <a:lnTo>
                  <a:pt x="428" y="256"/>
                </a:lnTo>
                <a:lnTo>
                  <a:pt x="372" y="244"/>
                </a:lnTo>
                <a:lnTo>
                  <a:pt x="316" y="236"/>
                </a:lnTo>
                <a:lnTo>
                  <a:pt x="268" y="212"/>
                </a:lnTo>
                <a:lnTo>
                  <a:pt x="208" y="184"/>
                </a:lnTo>
                <a:lnTo>
                  <a:pt x="148" y="156"/>
                </a:lnTo>
                <a:lnTo>
                  <a:pt x="116" y="128"/>
                </a:lnTo>
                <a:lnTo>
                  <a:pt x="76" y="96"/>
                </a:lnTo>
                <a:lnTo>
                  <a:pt x="40" y="68"/>
                </a:lnTo>
                <a:lnTo>
                  <a:pt x="16" y="36"/>
                </a:lnTo>
                <a:lnTo>
                  <a:pt x="0" y="0"/>
                </a:lnTo>
                <a:close/>
              </a:path>
            </a:pathLst>
          </a:custGeom>
          <a:solidFill>
            <a:srgbClr val="ff5050">
              <a:alpha val="23000"/>
            </a:srgbClr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4"/>
          <p:cNvGrpSpPr/>
          <p:nvPr/>
        </p:nvGrpSpPr>
        <p:grpSpPr>
          <a:xfrm>
            <a:off x="2514600" y="3663720"/>
            <a:ext cx="4614840" cy="657360"/>
            <a:chOff x="2514600" y="3663720"/>
            <a:chExt cx="4614840" cy="657360"/>
          </a:xfrm>
        </p:grpSpPr>
        <p:sp>
          <p:nvSpPr>
            <p:cNvPr id="102" name="Line 30"/>
            <p:cNvSpPr/>
            <p:nvPr/>
          </p:nvSpPr>
          <p:spPr>
            <a:xfrm flipH="1" flipV="1">
              <a:off x="2514600" y="3663720"/>
              <a:ext cx="29527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1"/>
            <p:cNvSpPr/>
            <p:nvPr/>
          </p:nvSpPr>
          <p:spPr>
            <a:xfrm>
              <a:off x="5401800" y="395280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Freeform 33"/>
          <p:cNvSpPr/>
          <p:nvPr/>
        </p:nvSpPr>
        <p:spPr>
          <a:xfrm>
            <a:off x="1285920" y="1181160"/>
            <a:ext cx="2752560" cy="2457360"/>
          </a:xfrm>
          <a:custGeom>
            <a:avLst/>
            <a:gdLst/>
            <a:ahLst/>
            <a:rect l="l" t="t" r="r" b="b"/>
            <a:pathLst>
              <a:path w="1734" h="1548">
                <a:moveTo>
                  <a:pt x="222" y="1404"/>
                </a:moveTo>
                <a:lnTo>
                  <a:pt x="186" y="1356"/>
                </a:lnTo>
                <a:lnTo>
                  <a:pt x="156" y="1326"/>
                </a:lnTo>
                <a:lnTo>
                  <a:pt x="132" y="1290"/>
                </a:lnTo>
                <a:lnTo>
                  <a:pt x="108" y="1236"/>
                </a:lnTo>
                <a:lnTo>
                  <a:pt x="78" y="1188"/>
                </a:lnTo>
                <a:lnTo>
                  <a:pt x="54" y="1140"/>
                </a:lnTo>
                <a:lnTo>
                  <a:pt x="36" y="1080"/>
                </a:lnTo>
                <a:lnTo>
                  <a:pt x="24" y="1026"/>
                </a:lnTo>
                <a:lnTo>
                  <a:pt x="12" y="954"/>
                </a:lnTo>
                <a:lnTo>
                  <a:pt x="6" y="900"/>
                </a:lnTo>
                <a:lnTo>
                  <a:pt x="0" y="846"/>
                </a:lnTo>
                <a:lnTo>
                  <a:pt x="0" y="792"/>
                </a:lnTo>
                <a:lnTo>
                  <a:pt x="12" y="750"/>
                </a:lnTo>
                <a:lnTo>
                  <a:pt x="18" y="696"/>
                </a:lnTo>
                <a:lnTo>
                  <a:pt x="24" y="642"/>
                </a:lnTo>
                <a:lnTo>
                  <a:pt x="36" y="600"/>
                </a:lnTo>
                <a:lnTo>
                  <a:pt x="54" y="558"/>
                </a:lnTo>
                <a:lnTo>
                  <a:pt x="72" y="522"/>
                </a:lnTo>
                <a:lnTo>
                  <a:pt x="84" y="480"/>
                </a:lnTo>
                <a:lnTo>
                  <a:pt x="120" y="414"/>
                </a:lnTo>
                <a:lnTo>
                  <a:pt x="144" y="384"/>
                </a:lnTo>
                <a:lnTo>
                  <a:pt x="180" y="324"/>
                </a:lnTo>
                <a:lnTo>
                  <a:pt x="222" y="282"/>
                </a:lnTo>
                <a:lnTo>
                  <a:pt x="270" y="234"/>
                </a:lnTo>
                <a:lnTo>
                  <a:pt x="336" y="174"/>
                </a:lnTo>
                <a:lnTo>
                  <a:pt x="378" y="144"/>
                </a:lnTo>
                <a:lnTo>
                  <a:pt x="450" y="102"/>
                </a:lnTo>
                <a:lnTo>
                  <a:pt x="486" y="78"/>
                </a:lnTo>
                <a:lnTo>
                  <a:pt x="552" y="60"/>
                </a:lnTo>
                <a:lnTo>
                  <a:pt x="606" y="42"/>
                </a:lnTo>
                <a:lnTo>
                  <a:pt x="654" y="30"/>
                </a:lnTo>
                <a:lnTo>
                  <a:pt x="714" y="18"/>
                </a:lnTo>
                <a:lnTo>
                  <a:pt x="762" y="12"/>
                </a:lnTo>
                <a:lnTo>
                  <a:pt x="834" y="12"/>
                </a:lnTo>
                <a:lnTo>
                  <a:pt x="906" y="0"/>
                </a:lnTo>
                <a:lnTo>
                  <a:pt x="954" y="12"/>
                </a:lnTo>
                <a:lnTo>
                  <a:pt x="1020" y="18"/>
                </a:lnTo>
                <a:lnTo>
                  <a:pt x="1062" y="24"/>
                </a:lnTo>
                <a:lnTo>
                  <a:pt x="1122" y="42"/>
                </a:lnTo>
                <a:lnTo>
                  <a:pt x="1176" y="60"/>
                </a:lnTo>
                <a:lnTo>
                  <a:pt x="1218" y="72"/>
                </a:lnTo>
                <a:lnTo>
                  <a:pt x="1254" y="90"/>
                </a:lnTo>
                <a:lnTo>
                  <a:pt x="1302" y="120"/>
                </a:lnTo>
                <a:lnTo>
                  <a:pt x="1350" y="150"/>
                </a:lnTo>
                <a:lnTo>
                  <a:pt x="1410" y="186"/>
                </a:lnTo>
                <a:lnTo>
                  <a:pt x="1452" y="228"/>
                </a:lnTo>
                <a:lnTo>
                  <a:pt x="1488" y="252"/>
                </a:lnTo>
                <a:lnTo>
                  <a:pt x="1518" y="288"/>
                </a:lnTo>
                <a:lnTo>
                  <a:pt x="1584" y="360"/>
                </a:lnTo>
                <a:lnTo>
                  <a:pt x="1602" y="396"/>
                </a:lnTo>
                <a:lnTo>
                  <a:pt x="1632" y="438"/>
                </a:lnTo>
                <a:lnTo>
                  <a:pt x="1656" y="492"/>
                </a:lnTo>
                <a:lnTo>
                  <a:pt x="1674" y="546"/>
                </a:lnTo>
                <a:lnTo>
                  <a:pt x="1692" y="588"/>
                </a:lnTo>
                <a:lnTo>
                  <a:pt x="1710" y="654"/>
                </a:lnTo>
                <a:lnTo>
                  <a:pt x="1728" y="720"/>
                </a:lnTo>
                <a:lnTo>
                  <a:pt x="1734" y="798"/>
                </a:lnTo>
                <a:lnTo>
                  <a:pt x="1734" y="852"/>
                </a:lnTo>
                <a:lnTo>
                  <a:pt x="1734" y="906"/>
                </a:lnTo>
                <a:lnTo>
                  <a:pt x="1728" y="954"/>
                </a:lnTo>
                <a:lnTo>
                  <a:pt x="1722" y="1008"/>
                </a:lnTo>
                <a:lnTo>
                  <a:pt x="1710" y="1062"/>
                </a:lnTo>
                <a:lnTo>
                  <a:pt x="1692" y="1104"/>
                </a:lnTo>
                <a:lnTo>
                  <a:pt x="1668" y="1158"/>
                </a:lnTo>
                <a:lnTo>
                  <a:pt x="1650" y="1206"/>
                </a:lnTo>
                <a:lnTo>
                  <a:pt x="1602" y="1290"/>
                </a:lnTo>
                <a:lnTo>
                  <a:pt x="1566" y="1344"/>
                </a:lnTo>
                <a:lnTo>
                  <a:pt x="1542" y="1374"/>
                </a:lnTo>
                <a:lnTo>
                  <a:pt x="1512" y="1404"/>
                </a:lnTo>
                <a:lnTo>
                  <a:pt x="1470" y="1458"/>
                </a:lnTo>
                <a:lnTo>
                  <a:pt x="1428" y="1482"/>
                </a:lnTo>
                <a:lnTo>
                  <a:pt x="1398" y="1518"/>
                </a:lnTo>
                <a:lnTo>
                  <a:pt x="1332" y="1548"/>
                </a:lnTo>
                <a:lnTo>
                  <a:pt x="222" y="1404"/>
                </a:lnTo>
                <a:close/>
              </a:path>
            </a:pathLst>
          </a:custGeom>
          <a:solidFill>
            <a:srgbClr val="cc99ff">
              <a:alpha val="28000"/>
            </a:srgbClr>
          </a:solidFill>
          <a:ln w="284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7"/>
          <p:cNvGrpSpPr/>
          <p:nvPr/>
        </p:nvGrpSpPr>
        <p:grpSpPr>
          <a:xfrm>
            <a:off x="3257640" y="2119320"/>
            <a:ext cx="3471840" cy="438120"/>
            <a:chOff x="3257640" y="2119320"/>
            <a:chExt cx="3471840" cy="438120"/>
          </a:xfrm>
        </p:grpSpPr>
        <p:sp>
          <p:nvSpPr>
            <p:cNvPr id="106" name="Line 35"/>
            <p:cNvSpPr/>
            <p:nvPr/>
          </p:nvSpPr>
          <p:spPr>
            <a:xfrm flipH="1">
              <a:off x="3257640" y="2486160"/>
              <a:ext cx="19238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36"/>
            <p:cNvSpPr/>
            <p:nvPr/>
          </p:nvSpPr>
          <p:spPr>
            <a:xfrm>
              <a:off x="5001840" y="211932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j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4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5"/>
          <p:cNvSpPr/>
          <p:nvPr/>
        </p:nvSpPr>
        <p:spPr>
          <a:xfrm>
            <a:off x="1428840" y="1206360"/>
            <a:ext cx="2590560" cy="2013120"/>
          </a:xfrm>
          <a:custGeom>
            <a:avLst/>
            <a:gdLst/>
            <a:ahLst/>
            <a:rect l="l" t="t" r="r" b="b"/>
            <a:pathLst>
              <a:path w="1632" h="1268">
                <a:moveTo>
                  <a:pt x="0" y="1204"/>
                </a:moveTo>
                <a:lnTo>
                  <a:pt x="916" y="0"/>
                </a:lnTo>
                <a:lnTo>
                  <a:pt x="1632" y="696"/>
                </a:lnTo>
                <a:lnTo>
                  <a:pt x="1516" y="1268"/>
                </a:lnTo>
                <a:lnTo>
                  <a:pt x="0" y="1204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1"/>
          <p:cNvGrpSpPr/>
          <p:nvPr/>
        </p:nvGrpSpPr>
        <p:grpSpPr>
          <a:xfrm>
            <a:off x="2610000" y="2198520"/>
            <a:ext cx="308880" cy="368280"/>
            <a:chOff x="2610000" y="2198520"/>
            <a:chExt cx="308880" cy="368280"/>
          </a:xfrm>
        </p:grpSpPr>
        <p:sp>
          <p:nvSpPr>
            <p:cNvPr id="111" name="Oval 6"/>
            <p:cNvSpPr/>
            <p:nvPr/>
          </p:nvSpPr>
          <p:spPr>
            <a:xfrm>
              <a:off x="2610000" y="2476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7"/>
            <p:cNvSpPr/>
            <p:nvPr/>
          </p:nvSpPr>
          <p:spPr>
            <a:xfrm>
              <a:off x="2611800" y="2198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8"/>
          <p:cNvSpPr/>
          <p:nvPr/>
        </p:nvSpPr>
        <p:spPr>
          <a:xfrm>
            <a:off x="2830680" y="849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948120" y="1930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3856320" y="295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081440" y="295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9"/>
          <p:cNvGrpSpPr/>
          <p:nvPr/>
        </p:nvGrpSpPr>
        <p:grpSpPr>
          <a:xfrm>
            <a:off x="1650960" y="1873800"/>
            <a:ext cx="2813040" cy="1891440"/>
            <a:chOff x="1650960" y="1873800"/>
            <a:chExt cx="2813040" cy="1891440"/>
          </a:xfrm>
        </p:grpSpPr>
        <p:sp>
          <p:nvSpPr>
            <p:cNvPr id="118" name="Arc 12"/>
            <p:cNvSpPr/>
            <p:nvPr/>
          </p:nvSpPr>
          <p:spPr>
            <a:xfrm>
              <a:off x="1650960" y="2850840"/>
              <a:ext cx="297000" cy="914400"/>
            </a:xfrm>
            <a:custGeom>
              <a:avLst/>
              <a:gdLst/>
              <a:ahLst/>
              <a:rect l="l" t="t" r="r" b="b"/>
              <a:pathLst>
                <a:path fill="none" w="16181" h="21599">
                  <a:moveTo>
                    <a:pt x="150" y="-1"/>
                  </a:moveTo>
                  <a:cubicBezTo>
                    <a:pt x="6286" y="42"/>
                    <a:pt x="12115" y="2693"/>
                    <a:pt x="16180" y="7290"/>
                  </a:cubicBezTo>
                </a:path>
                <a:path stroke="0" w="16181" h="21599">
                  <a:moveTo>
                    <a:pt x="150" y="-1"/>
                  </a:moveTo>
                  <a:cubicBezTo>
                    <a:pt x="6286" y="42"/>
                    <a:pt x="12115" y="2693"/>
                    <a:pt x="16180" y="7290"/>
                  </a:cubicBezTo>
                  <a:lnTo>
                    <a:pt x="0" y="21599"/>
                  </a:lnTo>
                  <a:lnTo>
                    <a:pt x="150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rc 16"/>
            <p:cNvSpPr/>
            <p:nvPr/>
          </p:nvSpPr>
          <p:spPr>
            <a:xfrm flipH="1" rot="19624800">
              <a:off x="3617640" y="1984320"/>
              <a:ext cx="663480" cy="868320"/>
            </a:xfrm>
            <a:custGeom>
              <a:avLst/>
              <a:gdLst/>
              <a:ahLst/>
              <a:rect l="l" t="t" r="r" b="b"/>
              <a:pathLst>
                <a:path fill="none" w="21599" h="18693">
                  <a:moveTo>
                    <a:pt x="10822" y="0"/>
                  </a:moveTo>
                  <a:cubicBezTo>
                    <a:pt x="17420" y="3820"/>
                    <a:pt x="21515" y="10834"/>
                    <a:pt x="21598" y="18458"/>
                  </a:cubicBezTo>
                </a:path>
                <a:path stroke="0" w="21599" h="18693">
                  <a:moveTo>
                    <a:pt x="10822" y="0"/>
                  </a:moveTo>
                  <a:cubicBezTo>
                    <a:pt x="17420" y="3820"/>
                    <a:pt x="21515" y="10834"/>
                    <a:pt x="21598" y="18458"/>
                  </a:cubicBezTo>
                  <a:lnTo>
                    <a:pt x="0" y="18693"/>
                  </a:lnTo>
                  <a:lnTo>
                    <a:pt x="10822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30"/>
          <p:cNvGrpSpPr/>
          <p:nvPr/>
        </p:nvGrpSpPr>
        <p:grpSpPr>
          <a:xfrm>
            <a:off x="1500480" y="2292480"/>
            <a:ext cx="2543400" cy="842760"/>
            <a:chOff x="1500480" y="2292480"/>
            <a:chExt cx="2543400" cy="842760"/>
          </a:xfrm>
        </p:grpSpPr>
        <p:sp>
          <p:nvSpPr>
            <p:cNvPr id="121" name="Text Box 17"/>
            <p:cNvSpPr/>
            <p:nvPr/>
          </p:nvSpPr>
          <p:spPr>
            <a:xfrm>
              <a:off x="1500480" y="27669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3287160" y="2292480"/>
              <a:ext cx="75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-</a:t>
              </a: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19"/>
          <p:cNvSpPr/>
          <p:nvPr/>
        </p:nvSpPr>
        <p:spPr>
          <a:xfrm flipV="1">
            <a:off x="1776240" y="2565360"/>
            <a:ext cx="2001960" cy="38592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5"/>
          <p:cNvGrpSpPr/>
          <p:nvPr/>
        </p:nvGrpSpPr>
        <p:grpSpPr>
          <a:xfrm>
            <a:off x="2921040" y="947880"/>
            <a:ext cx="5780160" cy="642600"/>
            <a:chOff x="2921040" y="947880"/>
            <a:chExt cx="5780160" cy="642600"/>
          </a:xfrm>
        </p:grpSpPr>
        <p:sp>
          <p:nvSpPr>
            <p:cNvPr id="125" name="Line 20"/>
            <p:cNvSpPr/>
            <p:nvPr/>
          </p:nvSpPr>
          <p:spPr>
            <a:xfrm flipV="1">
              <a:off x="2921040" y="1216080"/>
              <a:ext cx="231120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1"/>
            <p:cNvSpPr/>
            <p:nvPr/>
          </p:nvSpPr>
          <p:spPr>
            <a:xfrm>
              <a:off x="5302080" y="947880"/>
              <a:ext cx="339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 this angle was 6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hen ang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CD would be 18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1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22"/>
          <p:cNvSpPr/>
          <p:nvPr/>
        </p:nvSpPr>
        <p:spPr>
          <a:xfrm>
            <a:off x="2921040" y="1473120"/>
            <a:ext cx="857160" cy="1660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6"/>
          <p:cNvGrpSpPr/>
          <p:nvPr/>
        </p:nvGrpSpPr>
        <p:grpSpPr>
          <a:xfrm>
            <a:off x="3618000" y="3133800"/>
            <a:ext cx="2223720" cy="1068120"/>
            <a:chOff x="3618000" y="3133800"/>
            <a:chExt cx="2223720" cy="1068120"/>
          </a:xfrm>
        </p:grpSpPr>
        <p:sp>
          <p:nvSpPr>
            <p:cNvPr id="129" name="Arc 23"/>
            <p:cNvSpPr/>
            <p:nvPr/>
          </p:nvSpPr>
          <p:spPr>
            <a:xfrm flipH="1" flipV="1">
              <a:off x="3618000" y="3133800"/>
              <a:ext cx="1614240" cy="968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4"/>
            <p:cNvSpPr/>
            <p:nvPr/>
          </p:nvSpPr>
          <p:spPr>
            <a:xfrm>
              <a:off x="5208480" y="383364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WordArt 27"/>
          <p:cNvSpPr txBox="1"/>
          <p:nvPr/>
        </p:nvSpPr>
        <p:spPr>
          <a:xfrm>
            <a:off x="549360" y="4803840"/>
            <a:ext cx="2762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yclic Quadrilateral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4117680" y="4316400"/>
            <a:ext cx="474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 which lie on the circumferenc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circle are called cyclic (or concycl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.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ycl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ilateral is a 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ll its four corners (vertices) o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mference of the same 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2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2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662040" y="5011560"/>
            <a:ext cx="2333520" cy="14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ng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2502000" y="984240"/>
            <a:ext cx="4279680" cy="18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 flipH="1">
            <a:off x="1676160" y="2832120"/>
            <a:ext cx="5105160" cy="13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 flipH="1">
            <a:off x="2698560" y="1282680"/>
            <a:ext cx="495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2698920" y="2502000"/>
            <a:ext cx="380880" cy="12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3022560" y="1282680"/>
            <a:ext cx="399960" cy="2521080"/>
            <a:chOff x="3022560" y="1282680"/>
            <a:chExt cx="399960" cy="2521080"/>
          </a:xfrm>
        </p:grpSpPr>
        <p:sp>
          <p:nvSpPr>
            <p:cNvPr id="140" name="Freeform 12"/>
            <p:cNvSpPr/>
            <p:nvPr/>
          </p:nvSpPr>
          <p:spPr>
            <a:xfrm>
              <a:off x="3111480" y="1282680"/>
              <a:ext cx="311040" cy="291960"/>
            </a:xfrm>
            <a:custGeom>
              <a:avLst/>
              <a:gdLst/>
              <a:ahLst/>
              <a:rect l="l" t="t" r="r" b="b"/>
              <a:pathLst>
                <a:path w="196" h="184">
                  <a:moveTo>
                    <a:pt x="196" y="68"/>
                  </a:moveTo>
                  <a:lnTo>
                    <a:pt x="152" y="184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196" y="6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3022560" y="3549600"/>
              <a:ext cx="260280" cy="254160"/>
            </a:xfrm>
            <a:custGeom>
              <a:avLst/>
              <a:gdLst/>
              <a:ahLst/>
              <a:rect l="l" t="t" r="r" b="b"/>
              <a:pathLst>
                <a:path w="164" h="160">
                  <a:moveTo>
                    <a:pt x="36" y="160"/>
                  </a:moveTo>
                  <a:lnTo>
                    <a:pt x="164" y="128"/>
                  </a:lnTo>
                  <a:lnTo>
                    <a:pt x="132" y="0"/>
                  </a:lnTo>
                  <a:lnTo>
                    <a:pt x="0" y="36"/>
                  </a:lnTo>
                  <a:lnTo>
                    <a:pt x="36" y="16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Line 15"/>
          <p:cNvSpPr/>
          <p:nvPr/>
        </p:nvSpPr>
        <p:spPr>
          <a:xfrm>
            <a:off x="2698920" y="250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2698920" y="2502000"/>
            <a:ext cx="4082760" cy="330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8"/>
          <p:cNvSpPr/>
          <p:nvPr/>
        </p:nvSpPr>
        <p:spPr>
          <a:xfrm>
            <a:off x="2793960" y="2247840"/>
            <a:ext cx="198360" cy="577800"/>
          </a:xfrm>
          <a:custGeom>
            <a:avLst/>
            <a:gdLst/>
            <a:ahLst/>
            <a:rect l="l" t="t" r="r" b="b"/>
            <a:pathLst>
              <a:path w="125" h="364">
                <a:moveTo>
                  <a:pt x="8" y="0"/>
                </a:moveTo>
                <a:cubicBezTo>
                  <a:pt x="33" y="11"/>
                  <a:pt x="59" y="22"/>
                  <a:pt x="76" y="40"/>
                </a:cubicBezTo>
                <a:cubicBezTo>
                  <a:pt x="93" y="58"/>
                  <a:pt x="100" y="84"/>
                  <a:pt x="108" y="108"/>
                </a:cubicBezTo>
                <a:cubicBezTo>
                  <a:pt x="116" y="132"/>
                  <a:pt x="123" y="160"/>
                  <a:pt x="124" y="184"/>
                </a:cubicBezTo>
                <a:cubicBezTo>
                  <a:pt x="125" y="208"/>
                  <a:pt x="118" y="233"/>
                  <a:pt x="112" y="252"/>
                </a:cubicBezTo>
                <a:cubicBezTo>
                  <a:pt x="106" y="271"/>
                  <a:pt x="98" y="286"/>
                  <a:pt x="88" y="300"/>
                </a:cubicBezTo>
                <a:cubicBezTo>
                  <a:pt x="78" y="314"/>
                  <a:pt x="62" y="327"/>
                  <a:pt x="52" y="336"/>
                </a:cubicBezTo>
                <a:cubicBezTo>
                  <a:pt x="42" y="345"/>
                  <a:pt x="37" y="347"/>
                  <a:pt x="28" y="352"/>
                </a:cubicBezTo>
                <a:cubicBezTo>
                  <a:pt x="19" y="357"/>
                  <a:pt x="5" y="362"/>
                  <a:pt x="0" y="3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6949800" y="2563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2932200" y="3909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3192480" y="925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7"/>
          <p:cNvGrpSpPr/>
          <p:nvPr/>
        </p:nvGrpSpPr>
        <p:grpSpPr>
          <a:xfrm>
            <a:off x="5011560" y="2063880"/>
            <a:ext cx="555840" cy="1461960"/>
            <a:chOff x="5011560" y="2063880"/>
            <a:chExt cx="555840" cy="1461960"/>
          </a:xfrm>
        </p:grpSpPr>
        <p:sp>
          <p:nvSpPr>
            <p:cNvPr id="149" name="Line 22"/>
            <p:cNvSpPr/>
            <p:nvPr/>
          </p:nvSpPr>
          <p:spPr>
            <a:xfrm flipH="1">
              <a:off x="5383080" y="2063880"/>
              <a:ext cx="18432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3"/>
            <p:cNvSpPr/>
            <p:nvPr/>
          </p:nvSpPr>
          <p:spPr>
            <a:xfrm>
              <a:off x="5011560" y="3111480"/>
              <a:ext cx="24768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26"/>
          <p:cNvSpPr/>
          <p:nvPr/>
        </p:nvSpPr>
        <p:spPr>
          <a:xfrm>
            <a:off x="2338200" y="2317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6034680" y="39099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=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29"/>
          <p:cNvSpPr txBox="1"/>
          <p:nvPr/>
        </p:nvSpPr>
        <p:spPr>
          <a:xfrm>
            <a:off x="5011560" y="5011560"/>
            <a:ext cx="2943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B Triangle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BT and OAT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e CONGRUEN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154" name="Group 32"/>
          <p:cNvGrpSpPr/>
          <p:nvPr/>
        </p:nvGrpSpPr>
        <p:grpSpPr>
          <a:xfrm>
            <a:off x="3962160" y="1395720"/>
            <a:ext cx="1450080" cy="2531160"/>
            <a:chOff x="3962160" y="1395720"/>
            <a:chExt cx="1450080" cy="2531160"/>
          </a:xfrm>
        </p:grpSpPr>
        <p:sp>
          <p:nvSpPr>
            <p:cNvPr id="155" name="Text Box 30"/>
            <p:cNvSpPr/>
            <p:nvPr/>
          </p:nvSpPr>
          <p:spPr>
            <a:xfrm rot="20727000">
              <a:off x="3992040" y="34365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n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31"/>
            <p:cNvSpPr/>
            <p:nvPr/>
          </p:nvSpPr>
          <p:spPr>
            <a:xfrm rot="1321200">
              <a:off x="4362840" y="157284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n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val 5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"/>
          <p:cNvSpPr/>
          <p:nvPr/>
        </p:nvSpPr>
        <p:spPr>
          <a:xfrm rot="18487200">
            <a:off x="1236240" y="1209240"/>
            <a:ext cx="2665440" cy="2509920"/>
          </a:xfrm>
          <a:custGeom>
            <a:avLst/>
            <a:gdLst/>
            <a:ahLst/>
            <a:rect l="l" t="t" r="r" b="b"/>
            <a:pathLst>
              <a:path w="1734" h="1548">
                <a:moveTo>
                  <a:pt x="222" y="1404"/>
                </a:moveTo>
                <a:lnTo>
                  <a:pt x="186" y="1356"/>
                </a:lnTo>
                <a:lnTo>
                  <a:pt x="156" y="1326"/>
                </a:lnTo>
                <a:lnTo>
                  <a:pt x="132" y="1290"/>
                </a:lnTo>
                <a:lnTo>
                  <a:pt x="108" y="1236"/>
                </a:lnTo>
                <a:lnTo>
                  <a:pt x="78" y="1188"/>
                </a:lnTo>
                <a:lnTo>
                  <a:pt x="54" y="1140"/>
                </a:lnTo>
                <a:lnTo>
                  <a:pt x="36" y="1080"/>
                </a:lnTo>
                <a:lnTo>
                  <a:pt x="24" y="1026"/>
                </a:lnTo>
                <a:lnTo>
                  <a:pt x="12" y="954"/>
                </a:lnTo>
                <a:lnTo>
                  <a:pt x="6" y="900"/>
                </a:lnTo>
                <a:lnTo>
                  <a:pt x="0" y="846"/>
                </a:lnTo>
                <a:lnTo>
                  <a:pt x="0" y="792"/>
                </a:lnTo>
                <a:lnTo>
                  <a:pt x="12" y="750"/>
                </a:lnTo>
                <a:lnTo>
                  <a:pt x="18" y="696"/>
                </a:lnTo>
                <a:lnTo>
                  <a:pt x="24" y="642"/>
                </a:lnTo>
                <a:lnTo>
                  <a:pt x="36" y="600"/>
                </a:lnTo>
                <a:lnTo>
                  <a:pt x="54" y="558"/>
                </a:lnTo>
                <a:lnTo>
                  <a:pt x="72" y="522"/>
                </a:lnTo>
                <a:lnTo>
                  <a:pt x="84" y="480"/>
                </a:lnTo>
                <a:lnTo>
                  <a:pt x="120" y="414"/>
                </a:lnTo>
                <a:lnTo>
                  <a:pt x="144" y="384"/>
                </a:lnTo>
                <a:lnTo>
                  <a:pt x="180" y="324"/>
                </a:lnTo>
                <a:lnTo>
                  <a:pt x="222" y="282"/>
                </a:lnTo>
                <a:lnTo>
                  <a:pt x="270" y="234"/>
                </a:lnTo>
                <a:lnTo>
                  <a:pt x="336" y="174"/>
                </a:lnTo>
                <a:lnTo>
                  <a:pt x="378" y="144"/>
                </a:lnTo>
                <a:lnTo>
                  <a:pt x="450" y="102"/>
                </a:lnTo>
                <a:lnTo>
                  <a:pt x="486" y="78"/>
                </a:lnTo>
                <a:lnTo>
                  <a:pt x="552" y="60"/>
                </a:lnTo>
                <a:lnTo>
                  <a:pt x="606" y="42"/>
                </a:lnTo>
                <a:lnTo>
                  <a:pt x="654" y="30"/>
                </a:lnTo>
                <a:lnTo>
                  <a:pt x="714" y="18"/>
                </a:lnTo>
                <a:lnTo>
                  <a:pt x="762" y="12"/>
                </a:lnTo>
                <a:lnTo>
                  <a:pt x="834" y="12"/>
                </a:lnTo>
                <a:lnTo>
                  <a:pt x="906" y="0"/>
                </a:lnTo>
                <a:lnTo>
                  <a:pt x="954" y="12"/>
                </a:lnTo>
                <a:lnTo>
                  <a:pt x="1020" y="18"/>
                </a:lnTo>
                <a:lnTo>
                  <a:pt x="1062" y="24"/>
                </a:lnTo>
                <a:lnTo>
                  <a:pt x="1122" y="42"/>
                </a:lnTo>
                <a:lnTo>
                  <a:pt x="1176" y="60"/>
                </a:lnTo>
                <a:lnTo>
                  <a:pt x="1218" y="72"/>
                </a:lnTo>
                <a:lnTo>
                  <a:pt x="1254" y="90"/>
                </a:lnTo>
                <a:lnTo>
                  <a:pt x="1302" y="120"/>
                </a:lnTo>
                <a:lnTo>
                  <a:pt x="1350" y="150"/>
                </a:lnTo>
                <a:lnTo>
                  <a:pt x="1410" y="186"/>
                </a:lnTo>
                <a:lnTo>
                  <a:pt x="1452" y="228"/>
                </a:lnTo>
                <a:lnTo>
                  <a:pt x="1488" y="252"/>
                </a:lnTo>
                <a:lnTo>
                  <a:pt x="1518" y="288"/>
                </a:lnTo>
                <a:lnTo>
                  <a:pt x="1584" y="360"/>
                </a:lnTo>
                <a:lnTo>
                  <a:pt x="1602" y="396"/>
                </a:lnTo>
                <a:lnTo>
                  <a:pt x="1632" y="438"/>
                </a:lnTo>
                <a:lnTo>
                  <a:pt x="1656" y="492"/>
                </a:lnTo>
                <a:lnTo>
                  <a:pt x="1674" y="546"/>
                </a:lnTo>
                <a:lnTo>
                  <a:pt x="1692" y="588"/>
                </a:lnTo>
                <a:lnTo>
                  <a:pt x="1710" y="654"/>
                </a:lnTo>
                <a:lnTo>
                  <a:pt x="1728" y="720"/>
                </a:lnTo>
                <a:lnTo>
                  <a:pt x="1734" y="798"/>
                </a:lnTo>
                <a:lnTo>
                  <a:pt x="1734" y="852"/>
                </a:lnTo>
                <a:lnTo>
                  <a:pt x="1734" y="906"/>
                </a:lnTo>
                <a:lnTo>
                  <a:pt x="1728" y="954"/>
                </a:lnTo>
                <a:lnTo>
                  <a:pt x="1722" y="1008"/>
                </a:lnTo>
                <a:lnTo>
                  <a:pt x="1710" y="1062"/>
                </a:lnTo>
                <a:lnTo>
                  <a:pt x="1692" y="1104"/>
                </a:lnTo>
                <a:lnTo>
                  <a:pt x="1668" y="1158"/>
                </a:lnTo>
                <a:lnTo>
                  <a:pt x="1650" y="1206"/>
                </a:lnTo>
                <a:lnTo>
                  <a:pt x="1602" y="1290"/>
                </a:lnTo>
                <a:lnTo>
                  <a:pt x="1566" y="1344"/>
                </a:lnTo>
                <a:lnTo>
                  <a:pt x="1542" y="1374"/>
                </a:lnTo>
                <a:lnTo>
                  <a:pt x="1512" y="1404"/>
                </a:lnTo>
                <a:lnTo>
                  <a:pt x="1470" y="1458"/>
                </a:lnTo>
                <a:lnTo>
                  <a:pt x="1428" y="1482"/>
                </a:lnTo>
                <a:lnTo>
                  <a:pt x="1398" y="1518"/>
                </a:lnTo>
                <a:lnTo>
                  <a:pt x="1332" y="1548"/>
                </a:lnTo>
                <a:lnTo>
                  <a:pt x="222" y="1404"/>
                </a:lnTo>
                <a:close/>
              </a:path>
            </a:pathLst>
          </a:custGeom>
          <a:blipFill rotWithShape="0">
            <a:blip r:embed="rId1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847800" y="3867120"/>
            <a:ext cx="4429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1762200" y="1514520"/>
            <a:ext cx="2266920" cy="2333520"/>
          </a:xfrm>
          <a:custGeom>
            <a:avLst/>
            <a:gdLst/>
            <a:ahLst/>
            <a:rect l="l" t="t" r="r" b="b"/>
            <a:pathLst>
              <a:path w="1428" h="1470">
                <a:moveTo>
                  <a:pt x="642" y="1470"/>
                </a:moveTo>
                <a:lnTo>
                  <a:pt x="0" y="0"/>
                </a:lnTo>
                <a:lnTo>
                  <a:pt x="1428" y="7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9"/>
          <p:cNvGrpSpPr/>
          <p:nvPr/>
        </p:nvGrpSpPr>
        <p:grpSpPr>
          <a:xfrm>
            <a:off x="1699560" y="1349280"/>
            <a:ext cx="1769760" cy="2679840"/>
            <a:chOff x="1699560" y="1349280"/>
            <a:chExt cx="1769760" cy="2679840"/>
          </a:xfrm>
        </p:grpSpPr>
        <p:grpSp>
          <p:nvGrpSpPr>
            <p:cNvPr id="162" name="Group 17"/>
            <p:cNvGrpSpPr/>
            <p:nvPr/>
          </p:nvGrpSpPr>
          <p:grpSpPr>
            <a:xfrm>
              <a:off x="2704320" y="3355920"/>
              <a:ext cx="765000" cy="673200"/>
              <a:chOff x="2704320" y="3355920"/>
              <a:chExt cx="765000" cy="673200"/>
            </a:xfrm>
          </p:grpSpPr>
          <p:sp>
            <p:nvSpPr>
              <p:cNvPr id="163" name="Arc 9"/>
              <p:cNvSpPr/>
              <p:nvPr/>
            </p:nvSpPr>
            <p:spPr>
              <a:xfrm flipV="1" rot="18332400">
                <a:off x="2764080" y="3540240"/>
                <a:ext cx="457200" cy="382680"/>
              </a:xfrm>
              <a:custGeom>
                <a:avLst/>
                <a:gdLst/>
                <a:ahLst/>
                <a:rect l="l" t="t" r="r" b="b"/>
                <a:pathLst>
                  <a:path fill="none" w="19466" h="20044">
                    <a:moveTo>
                      <a:pt x="8049" y="0"/>
                    </a:moveTo>
                    <a:cubicBezTo>
                      <a:pt x="13055" y="2010"/>
                      <a:pt x="17128" y="5821"/>
                      <a:pt x="19466" y="10682"/>
                    </a:cubicBezTo>
                  </a:path>
                  <a:path stroke="0" w="19466" h="20044">
                    <a:moveTo>
                      <a:pt x="8049" y="0"/>
                    </a:moveTo>
                    <a:cubicBezTo>
                      <a:pt x="13055" y="2010"/>
                      <a:pt x="17128" y="5821"/>
                      <a:pt x="19466" y="10682"/>
                    </a:cubicBezTo>
                    <a:lnTo>
                      <a:pt x="0" y="20044"/>
                    </a:lnTo>
                    <a:lnTo>
                      <a:pt x="8049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rc 11"/>
              <p:cNvSpPr/>
              <p:nvPr/>
            </p:nvSpPr>
            <p:spPr>
              <a:xfrm flipV="1" rot="18332400">
                <a:off x="2918520" y="3474000"/>
                <a:ext cx="493560" cy="393840"/>
              </a:xfrm>
              <a:custGeom>
                <a:avLst/>
                <a:gdLst/>
                <a:ahLst/>
                <a:rect l="l" t="t" r="r" b="b"/>
                <a:pathLst>
                  <a:path fill="none" w="20893" h="20632">
                    <a:moveTo>
                      <a:pt x="6394" y="0"/>
                    </a:moveTo>
                    <a:cubicBezTo>
                      <a:pt x="13519" y="2208"/>
                      <a:pt x="18999" y="7935"/>
                      <a:pt x="20892" y="15150"/>
                    </a:cubicBezTo>
                  </a:path>
                  <a:path stroke="0" w="20893" h="20632">
                    <a:moveTo>
                      <a:pt x="6394" y="0"/>
                    </a:moveTo>
                    <a:cubicBezTo>
                      <a:pt x="13519" y="2208"/>
                      <a:pt x="18999" y="7935"/>
                      <a:pt x="20892" y="15150"/>
                    </a:cubicBezTo>
                    <a:lnTo>
                      <a:pt x="0" y="20632"/>
                    </a:lnTo>
                    <a:lnTo>
                      <a:pt x="639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18"/>
            <p:cNvGrpSpPr/>
            <p:nvPr/>
          </p:nvGrpSpPr>
          <p:grpSpPr>
            <a:xfrm>
              <a:off x="1699560" y="1349280"/>
              <a:ext cx="515520" cy="652680"/>
              <a:chOff x="1699560" y="1349280"/>
              <a:chExt cx="515520" cy="652680"/>
            </a:xfrm>
          </p:grpSpPr>
          <p:sp>
            <p:nvSpPr>
              <p:cNvPr id="166" name="Arc 14"/>
              <p:cNvSpPr/>
              <p:nvPr/>
            </p:nvSpPr>
            <p:spPr>
              <a:xfrm flipV="1" rot="738000">
                <a:off x="1742760" y="1377720"/>
                <a:ext cx="317520" cy="442800"/>
              </a:xfrm>
              <a:custGeom>
                <a:avLst/>
                <a:gdLst/>
                <a:ahLst/>
                <a:rect l="l" t="t" r="r" b="b"/>
                <a:pathLst>
                  <a:path fill="none" w="19208" h="18292">
                    <a:moveTo>
                      <a:pt x="11487" y="0"/>
                    </a:moveTo>
                    <a:cubicBezTo>
                      <a:pt x="14769" y="2060"/>
                      <a:pt x="17435" y="4966"/>
                      <a:pt x="19207" y="8412"/>
                    </a:cubicBezTo>
                  </a:path>
                  <a:path stroke="0" w="19208" h="18292">
                    <a:moveTo>
                      <a:pt x="11487" y="0"/>
                    </a:moveTo>
                    <a:cubicBezTo>
                      <a:pt x="14769" y="2060"/>
                      <a:pt x="17435" y="4966"/>
                      <a:pt x="19207" y="8412"/>
                    </a:cubicBezTo>
                    <a:lnTo>
                      <a:pt x="0" y="18292"/>
                    </a:lnTo>
                    <a:lnTo>
                      <a:pt x="11487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5"/>
              <p:cNvSpPr/>
              <p:nvPr/>
            </p:nvSpPr>
            <p:spPr>
              <a:xfrm flipV="1" rot="738000">
                <a:off x="1833120" y="1511640"/>
                <a:ext cx="336600" cy="459000"/>
              </a:xfrm>
              <a:custGeom>
                <a:avLst/>
                <a:gdLst/>
                <a:ahLst/>
                <a:rect l="l" t="t" r="r" b="b"/>
                <a:pathLst>
                  <a:path fill="none" w="20314" h="18982">
                    <a:moveTo>
                      <a:pt x="10307" y="-1"/>
                    </a:moveTo>
                    <a:cubicBezTo>
                      <a:pt x="14955" y="2523"/>
                      <a:pt x="18516" y="6665"/>
                      <a:pt x="20313" y="11640"/>
                    </a:cubicBezTo>
                  </a:path>
                  <a:path stroke="0" w="20314" h="18982">
                    <a:moveTo>
                      <a:pt x="10307" y="-1"/>
                    </a:moveTo>
                    <a:cubicBezTo>
                      <a:pt x="14955" y="2523"/>
                      <a:pt x="18516" y="6665"/>
                      <a:pt x="20313" y="11640"/>
                    </a:cubicBezTo>
                    <a:lnTo>
                      <a:pt x="0" y="18982"/>
                    </a:lnTo>
                    <a:lnTo>
                      <a:pt x="10307" y="-1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20"/>
          <p:cNvGrpSpPr/>
          <p:nvPr/>
        </p:nvGrpSpPr>
        <p:grpSpPr>
          <a:xfrm>
            <a:off x="3260520" y="1382760"/>
            <a:ext cx="3471840" cy="438120"/>
            <a:chOff x="3260520" y="1382760"/>
            <a:chExt cx="3471840" cy="438120"/>
          </a:xfrm>
        </p:grpSpPr>
        <p:sp>
          <p:nvSpPr>
            <p:cNvPr id="169" name="Line 21"/>
            <p:cNvSpPr/>
            <p:nvPr/>
          </p:nvSpPr>
          <p:spPr>
            <a:xfrm flipH="1">
              <a:off x="3260520" y="1749600"/>
              <a:ext cx="19234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2"/>
            <p:cNvSpPr/>
            <p:nvPr/>
          </p:nvSpPr>
          <p:spPr>
            <a:xfrm>
              <a:off x="5004720" y="138276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j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3362400" y="3423960"/>
            <a:ext cx="4614840" cy="657360"/>
            <a:chOff x="3362400" y="3423960"/>
            <a:chExt cx="4614840" cy="657360"/>
          </a:xfrm>
        </p:grpSpPr>
        <p:sp>
          <p:nvSpPr>
            <p:cNvPr id="172" name="Line 24"/>
            <p:cNvSpPr/>
            <p:nvPr/>
          </p:nvSpPr>
          <p:spPr>
            <a:xfrm flipH="1" flipV="1">
              <a:off x="3362400" y="3423960"/>
              <a:ext cx="29527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5"/>
            <p:cNvSpPr/>
            <p:nvPr/>
          </p:nvSpPr>
          <p:spPr>
            <a:xfrm>
              <a:off x="6249600" y="371304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26"/>
          <p:cNvSpPr/>
          <p:nvPr/>
        </p:nvSpPr>
        <p:spPr>
          <a:xfrm>
            <a:off x="649080" y="38116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2432160" y="381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011920" y="3811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1576440" y="925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4030920" y="2503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58720" y="473868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aded Segment B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alled th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lternate seg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angle C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gle between a tangent to a circle and a chord drawn through th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ntact is equal to any angle subtended by the chord at the circumferenc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lternate se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Oval 4"/>
          <p:cNvSpPr/>
          <p:nvPr/>
        </p:nvSpPr>
        <p:spPr>
          <a:xfrm>
            <a:off x="1357200" y="2509920"/>
            <a:ext cx="2743200" cy="2666880"/>
          </a:xfrm>
          <a:prstGeom prst="ellipse">
            <a:avLst/>
          </a:prstGeom>
          <a:solidFill>
            <a:srgbClr val="00ff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1"/>
          <p:cNvGrpSpPr/>
          <p:nvPr/>
        </p:nvGrpSpPr>
        <p:grpSpPr>
          <a:xfrm>
            <a:off x="1372680" y="2680560"/>
            <a:ext cx="2742480" cy="2395440"/>
            <a:chOff x="1372680" y="2680560"/>
            <a:chExt cx="2742480" cy="2395440"/>
          </a:xfrm>
        </p:grpSpPr>
        <p:sp>
          <p:nvSpPr>
            <p:cNvPr id="182" name="AutoShape 5"/>
            <p:cNvSpPr/>
            <p:nvPr/>
          </p:nvSpPr>
          <p:spPr>
            <a:xfrm rot="7321200">
              <a:off x="2064600" y="2690640"/>
              <a:ext cx="1339920" cy="237492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7"/>
            <p:cNvSpPr/>
            <p:nvPr/>
          </p:nvSpPr>
          <p:spPr>
            <a:xfrm flipH="1" rot="14610000">
              <a:off x="2082960" y="2690640"/>
              <a:ext cx="1339920" cy="2374920"/>
            </a:xfrm>
            <a:prstGeom prst="rtTriangle">
              <a:avLst/>
            </a:prstGeom>
            <a:solidFill>
              <a:srgbClr val="fffff7">
                <a:alpha val="9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 flipH="1" flipV="1">
              <a:off x="2733480" y="3090960"/>
              <a:ext cx="137160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0"/>
            <p:cNvSpPr/>
            <p:nvPr/>
          </p:nvSpPr>
          <p:spPr>
            <a:xfrm>
              <a:off x="2733480" y="3834000"/>
              <a:ext cx="88920" cy="108000"/>
            </a:xfrm>
            <a:prstGeom prst="ellipse">
              <a:avLst/>
            </a:prstGeom>
            <a:solidFill>
              <a:srgbClr val="000000">
                <a:alpha val="9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2784240" y="2236680"/>
            <a:ext cx="5356080" cy="1582920"/>
            <a:chOff x="2784240" y="2236680"/>
            <a:chExt cx="5356080" cy="1582920"/>
          </a:xfrm>
        </p:grpSpPr>
        <p:sp>
          <p:nvSpPr>
            <p:cNvPr id="187" name="Line 13"/>
            <p:cNvSpPr/>
            <p:nvPr/>
          </p:nvSpPr>
          <p:spPr>
            <a:xfrm flipH="1">
              <a:off x="2784240" y="2503440"/>
              <a:ext cx="2695320" cy="13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5479920" y="2236680"/>
              <a:ext cx="26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ntre of Cir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0"/>
          <p:cNvGrpSpPr/>
          <p:nvPr/>
        </p:nvGrpSpPr>
        <p:grpSpPr>
          <a:xfrm>
            <a:off x="2008080" y="2679840"/>
            <a:ext cx="1542960" cy="210960"/>
            <a:chOff x="2008080" y="2679840"/>
            <a:chExt cx="1542960" cy="210960"/>
          </a:xfrm>
        </p:grpSpPr>
        <p:sp>
          <p:nvSpPr>
            <p:cNvPr id="190" name="Freeform 18"/>
            <p:cNvSpPr/>
            <p:nvPr/>
          </p:nvSpPr>
          <p:spPr>
            <a:xfrm>
              <a:off x="2008080" y="2679840"/>
              <a:ext cx="181080" cy="187200"/>
            </a:xfrm>
            <a:custGeom>
              <a:avLst/>
              <a:gdLst/>
              <a:ahLst/>
              <a:rect l="l" t="t" r="r" b="b"/>
              <a:pathLst>
                <a:path w="114" h="118">
                  <a:moveTo>
                    <a:pt x="42" y="1"/>
                  </a:moveTo>
                  <a:cubicBezTo>
                    <a:pt x="59" y="7"/>
                    <a:pt x="43" y="0"/>
                    <a:pt x="60" y="13"/>
                  </a:cubicBezTo>
                  <a:cubicBezTo>
                    <a:pt x="66" y="17"/>
                    <a:pt x="78" y="25"/>
                    <a:pt x="78" y="25"/>
                  </a:cubicBezTo>
                  <a:cubicBezTo>
                    <a:pt x="88" y="40"/>
                    <a:pt x="102" y="37"/>
                    <a:pt x="114" y="49"/>
                  </a:cubicBezTo>
                  <a:lnTo>
                    <a:pt x="72" y="118"/>
                  </a:lnTo>
                  <a:lnTo>
                    <a:pt x="0" y="79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000000">
                <a:alpha val="9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3427200" y="2747880"/>
              <a:ext cx="123840" cy="1429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57" y="0"/>
                  </a:moveTo>
                  <a:lnTo>
                    <a:pt x="0" y="33"/>
                  </a:lnTo>
                  <a:lnTo>
                    <a:pt x="21" y="90"/>
                  </a:lnTo>
                  <a:lnTo>
                    <a:pt x="78" y="63"/>
                  </a:lnTo>
                </a:path>
              </a:pathLst>
            </a:custGeom>
            <a:solidFill>
              <a:srgbClr val="000000">
                <a:alpha val="9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22"/>
          <p:cNvSpPr/>
          <p:nvPr/>
        </p:nvSpPr>
        <p:spPr>
          <a:xfrm rot="236400">
            <a:off x="2180520" y="3833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23"/>
          <p:cNvSpPr txBox="1"/>
          <p:nvPr/>
        </p:nvSpPr>
        <p:spPr>
          <a:xfrm>
            <a:off x="622440" y="368280"/>
            <a:ext cx="5338800" cy="231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angle in a semi circle is 90 degre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5:55:16Z</dcterms:created>
  <dc:creator>Jim Randle</dc:creator>
  <dc:description/>
  <dc:language>en-US</dc:language>
  <cp:lastModifiedBy>RomaK</cp:lastModifiedBy>
  <dcterms:modified xsi:type="dcterms:W3CDTF">2015-09-04T07:38:39Z</dcterms:modified>
  <cp:revision>31</cp:revision>
  <dc:subject/>
  <dc:title>Slide 1</dc:title>
</cp:coreProperties>
</file>