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E96E-D364-4666-87E9-342AFCC423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diameter of the circle is 10 cm then find its radius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Radius =diameter 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=10 cm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 =5 cm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radius of the circle is 6 cm,then find the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Diameter = 2 x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2 x 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2 cm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BETWEEN CIRCUMFERENCE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Find the circumference (approx) of the circle whose diameter is 10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=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hat is the relation between radius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hat is the relation between circumference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n this fig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 .Radius=diameter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=3X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is 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or OB is 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ball,bangle,lemon.co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 :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: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lane,each point of the circle is at equal distance from a fixed point.The fixed point is called the centr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 =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from centre to any point on the circle is called radius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 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passing through the centre of the circle and whose end points lie on the circle is called the diameter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gth of the circle or the distance around it is called 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whose both the ends touches the circumference and passes through the centre is called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 A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lation between radius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=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B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680-B822-4820-A128-E333852C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91F-F83E-4580-AC74-F05B0C53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377-3E2F-40F3-813F-DDE22F93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A84-09DB-4FE3-8979-95C7A725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EA5F-CDA7-4648-8EC9-954C0815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56AB-07FC-4536-BF8F-ED679790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70DA-DC30-4FD6-B758-0A538B83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4C82-A62A-4822-8AB4-E9E69502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CAC6-B867-43B3-92F0-6AD55465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6E86-5F28-4015-A07D-8D0C0156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7E57-3076-454B-8232-D5FB4DF2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EBF-38F4-485D-9E78-A0E85EC0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AC40-0754-4A60-A126-115095A0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D5C3-69EF-47D7-B1F0-F5D6228F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7A58-D3F3-4BC3-AE5D-B14A9249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FA63-7900-471E-A894-1AC6935B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BA66-EBEE-40FF-B421-5CB223E5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C6F-1708-49BB-B379-A5C6B3DC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CAA-5C67-4094-9655-83310201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FAB-39A6-44AC-B6C8-83C38FFB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791-76FF-4B29-A846-DB9CC76D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071-C14B-4318-9CBF-248CC453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002-CB8B-467F-BAA2-F370CB7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912-CE75-4D05-93A0-E1921FB5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96F0-9066-46F9-95E1-564CC2054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EA20-0EAC-4CD8-96A9-0D4324F0164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3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RomaK</cp:lastModifiedBy>
  <dcterms:modified xsi:type="dcterms:W3CDTF">2015-09-04T07:38:45Z</dcterms:modified>
  <cp:revision>56</cp:revision>
  <dc:subject/>
  <dc:title>the Circle</dc:title>
</cp:coreProperties>
</file>