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7413-C867-4AFC-947D-137FE86829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y Ranja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. If diameter of the circle is 10 cm then find its radius?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= 10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. Radius =diameter /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radius=10 cm/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radius =5 cm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. If radius of the circle is 6 cm,then find the diameter of the circ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 = 6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. Diameter = 2 x 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= 2 x  6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= 12 cm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ION BETWEEN CIRCUMFERENCE AND 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 = 3 x DIAMETER(APPROX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. Find the circumference (approx) of the circle whose diameter is 10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=1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. Circumference = 3 x diameter(approx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 = 3 x 1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 = 3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what is the relation between radius and diameter of the circ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What is the relation between circumference and diameter of the circ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In this fig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 .Radius=diameter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. Circumference=3Xdiameter(approx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is 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is _________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 or OB is 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. ball,bangle,lemon.co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ENTRE : 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ADIUS : O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ENT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plane,each point of the circle is at equal distance from a fixed point.The fixed point is called the centre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E = 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tance from centre to any point on the circle is called radius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 = O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 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ne segment passing through the centre of the circle and whose end points lie on the circle is called the diameter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= 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ngth of the circle or the distance around it is called  circumference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ne segment whose both the ends touches the circumference and passes through the centre is called diame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: AB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lation between radius and 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ADIUS = 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B = 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F772-4097-4FB0-A466-E4885242C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B801-0558-4BB1-9AA9-1785F363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C4E2-AAB2-415C-8B2E-5C9227328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F845-1F7A-4610-BBD6-085521883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4511-3BB1-41AD-802B-A770E8432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8BCB-A7FC-44BF-8FBB-37BF9079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4C8A-865E-446C-A660-E3A0F625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F9B9-60EE-48EC-AF6A-3BD30707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4AE4-6409-4FFC-BBEC-5A76DF65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B348-115D-42F7-8BB3-AB2CC91B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AEF8-7CDD-4ED0-9E9B-84961344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EF40-91C2-4989-A15B-9B733E85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CCB9-6045-4307-B862-8D50FEA9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D879-8EEE-40E5-88C8-C89BD537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C6DE-2D3F-4BEB-A78D-2DDFF3B6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BE9F-F70D-4333-A26A-5FDE94408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9CE9-BEFA-4874-875A-F44423CF3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1EB2-4DCF-4867-ACFB-928F0099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805A-3D85-4D0D-8F87-2E07232F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18F1-20A8-4DB2-8D88-E783EC85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BF4D-2A84-46A6-B5A6-39629FCD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4220-3A5F-4582-9F1D-D3C6C4A6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DEC9-DCD3-4356-8CF2-4534AAA1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7B20-2B59-432E-BD4F-724E8C59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F2EC-47F4-4297-AE10-7BF7663E3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67B5-4DA4-47FF-9F50-8AAABE603AC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447920" y="0"/>
            <a:ext cx="6781680" cy="68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 u="sng">
                <a:solidFill>
                  <a:srgbClr val="eaeaea"/>
                </a:solidFill>
                <a:uFillTx/>
                <a:latin typeface="Monotype Corsiva"/>
              </a:rPr>
              <a:t>The Circle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 u="sng">
                <a:solidFill>
                  <a:srgbClr val="eaeaea"/>
                </a:solidFill>
                <a:uFillTx/>
                <a:latin typeface="Monotype Corsiva"/>
              </a:rPr>
              <a:t>By Ranjana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8" name="Picture 3" descr="C:\Program Files\Common Files\Microsoft Shared\Clipart\cagcat50\BS00559_.wmf"/>
          <p:cNvPicPr/>
          <p:nvPr/>
        </p:nvPicPr>
        <p:blipFill>
          <a:blip r:embed="rId1"/>
          <a:stretch/>
        </p:blipFill>
        <p:spPr>
          <a:xfrm>
            <a:off x="1143000" y="3124080"/>
            <a:ext cx="8001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Eg. If diameter of the circle is 10 cm then find its radiu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Oval 3"/>
          <p:cNvSpPr/>
          <p:nvPr/>
        </p:nvSpPr>
        <p:spPr>
          <a:xfrm>
            <a:off x="4495680" y="1676520"/>
            <a:ext cx="4114800" cy="396216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6400800" y="274320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64008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Line 10"/>
          <p:cNvSpPr/>
          <p:nvPr/>
        </p:nvSpPr>
        <p:spPr>
          <a:xfrm>
            <a:off x="4495680" y="3733920"/>
            <a:ext cx="41148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5257800" y="3657600"/>
            <a:ext cx="2743200" cy="94716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Diameter =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10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839160" y="1066680"/>
            <a:ext cx="551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Sol. Radius =diameter / 2</a:t>
            </a:r>
            <a:br>
              <a:rPr sz="3600"/>
            </a:b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        radius=10 cm/ 2</a:t>
            </a:r>
            <a:br>
              <a:rPr sz="3600"/>
            </a:b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        radius =5 cm  </a:t>
            </a:r>
            <a:br>
              <a:rPr sz="3600"/>
            </a:b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3962520" y="3505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876312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Oval 2"/>
          <p:cNvSpPr/>
          <p:nvPr/>
        </p:nvSpPr>
        <p:spPr>
          <a:xfrm>
            <a:off x="5029200" y="2362320"/>
            <a:ext cx="4114800" cy="396216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6858000" y="342900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708660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1676520" y="45720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Eg. If radius of the circle is 6 cm,then find the diameter of the circ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Line 8"/>
          <p:cNvSpPr/>
          <p:nvPr/>
        </p:nvSpPr>
        <p:spPr>
          <a:xfrm flipH="1">
            <a:off x="5028840" y="4419720"/>
            <a:ext cx="198108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5105520" y="38862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Radius = 6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464832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1676520" y="1523880"/>
            <a:ext cx="4572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Sol. Diameter = 2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x Radi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Diameter = 2 x  6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Diameter = 12 cm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7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7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295280" y="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Monotype Corsiva"/>
              </a:rPr>
              <a:t>RELATION BETWEEN CIRCUMFERENCE AND DIAME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600200" y="19810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Oval 4"/>
          <p:cNvSpPr/>
          <p:nvPr/>
        </p:nvSpPr>
        <p:spPr>
          <a:xfrm>
            <a:off x="3124080" y="2590920"/>
            <a:ext cx="4114800" cy="396216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4952880" y="3657600"/>
            <a:ext cx="152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495288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WordArt 7"/>
          <p:cNvSpPr txBox="1"/>
          <p:nvPr/>
        </p:nvSpPr>
        <p:spPr>
          <a:xfrm>
            <a:off x="3657600" y="2286000"/>
            <a:ext cx="3124080" cy="676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30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eeb00b"/>
                  </a:solidFill>
                  <a:miter/>
                </a:ln>
                <a:solidFill>
                  <a:srgbClr val="eeb00b"/>
                </a:solidFill>
                <a:latin typeface="Monotype Corsiva"/>
              </a:rPr>
              <a:t>CIRCUMFERENCE</a:t>
            </a:r>
            <a:endParaRPr b="0" lang="en-US" sz="2400" spc="1" strike="noStrike">
              <a:ln cap="sq" w="9360">
                <a:solidFill>
                  <a:srgbClr val="eeb00b"/>
                </a:solidFill>
                <a:miter/>
              </a:ln>
              <a:solidFill>
                <a:srgbClr val="eeb00b"/>
              </a:solidFill>
              <a:latin typeface="Monotype Corsiva"/>
              <a:ea typeface="Monotype Corsiva"/>
            </a:endParaRPr>
          </a:p>
        </p:txBody>
      </p:sp>
      <p:sp>
        <p:nvSpPr>
          <p:cNvPr id="188" name="Line 8"/>
          <p:cNvSpPr/>
          <p:nvPr/>
        </p:nvSpPr>
        <p:spPr>
          <a:xfrm>
            <a:off x="3124080" y="4648320"/>
            <a:ext cx="41148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4038480" y="4724280"/>
            <a:ext cx="2895840" cy="58140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Monotype Corsiva"/>
              </a:rPr>
              <a:t>DIAMET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1600200" y="13716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CIRCUMFERENCE = 3 x DIAMETER(APPROX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2666880" y="4419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73152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1371600" y="4572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Eg. Find the circumference (approx) of the circle whose diameter is 10cm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Oval 3"/>
          <p:cNvSpPr/>
          <p:nvPr/>
        </p:nvSpPr>
        <p:spPr>
          <a:xfrm>
            <a:off x="4648320" y="251460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6477120" y="358128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47712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WordArt 6"/>
          <p:cNvSpPr txBox="1"/>
          <p:nvPr/>
        </p:nvSpPr>
        <p:spPr>
          <a:xfrm>
            <a:off x="5181480" y="2209680"/>
            <a:ext cx="3124440" cy="676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30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eeb00b"/>
                  </a:solidFill>
                  <a:miter/>
                </a:ln>
                <a:solidFill>
                  <a:srgbClr val="eeb00b"/>
                </a:solidFill>
                <a:latin typeface="Monotype Corsiva"/>
              </a:rPr>
              <a:t>CIRCUMFERENCE</a:t>
            </a:r>
            <a:endParaRPr b="0" lang="en-US" sz="2400" spc="1" strike="noStrike">
              <a:ln cap="sq" w="9360">
                <a:solidFill>
                  <a:srgbClr val="eeb00b"/>
                </a:solidFill>
                <a:miter/>
              </a:ln>
              <a:solidFill>
                <a:srgbClr val="eeb00b"/>
              </a:solidFill>
              <a:latin typeface="Monotype Corsiva"/>
              <a:ea typeface="Monotype Corsiva"/>
            </a:endParaRPr>
          </a:p>
        </p:txBody>
      </p:sp>
      <p:sp>
        <p:nvSpPr>
          <p:cNvPr id="198" name="Line 7"/>
          <p:cNvSpPr/>
          <p:nvPr/>
        </p:nvSpPr>
        <p:spPr>
          <a:xfrm>
            <a:off x="4648320" y="4572000"/>
            <a:ext cx="41148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4952880" y="4724280"/>
            <a:ext cx="3505320" cy="106884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Monotype Corsiva"/>
              </a:rPr>
              <a:t>DIAMETER=10 C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1371600" y="1447920"/>
            <a:ext cx="45720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Sol. Circumference = 3 x diameter(approx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Circumference = 3 x 10 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Circumference = 30 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411480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876312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75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75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2362320" y="14479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133720" y="0"/>
            <a:ext cx="6019560" cy="581400"/>
          </a:xfrm>
          <a:prstGeom prst="rect">
            <a:avLst/>
          </a:prstGeom>
          <a:noFill/>
          <a:ln cap="sq"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Monotype Corsiva"/>
              </a:rPr>
              <a:t>EVALU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295280" y="5335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1. what is the relation between radius and diameter of the circ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Oval 5"/>
          <p:cNvSpPr/>
          <p:nvPr/>
        </p:nvSpPr>
        <p:spPr>
          <a:xfrm>
            <a:off x="4648320" y="2895480"/>
            <a:ext cx="4114800" cy="3962520"/>
          </a:xfrm>
          <a:prstGeom prst="ellipse">
            <a:avLst/>
          </a:prstGeom>
          <a:solidFill>
            <a:srgbClr val="ff33cc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6629400" y="373392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655308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6705720" y="4724280"/>
            <a:ext cx="2057400" cy="4608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Line 9"/>
          <p:cNvSpPr/>
          <p:nvPr/>
        </p:nvSpPr>
        <p:spPr>
          <a:xfrm flipH="1">
            <a:off x="4648320" y="4724280"/>
            <a:ext cx="213336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4267080" y="4495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8839080" y="4495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1295280" y="19051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2. What is the relation between circumference and diameter of the circ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1066680" y="3886200"/>
            <a:ext cx="457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3. In this figu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371600" y="137160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Sol .Radius=diameter/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1143000" y="2895480"/>
            <a:ext cx="548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Sol. Circumference=3Xdiameter(approx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3048120" y="4419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radi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2209680" y="50292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diame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Text Box 18"/>
          <p:cNvSpPr/>
          <p:nvPr/>
        </p:nvSpPr>
        <p:spPr>
          <a:xfrm>
            <a:off x="2209680" y="5715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cent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Rectangle 19"/>
          <p:cNvSpPr/>
          <p:nvPr/>
        </p:nvSpPr>
        <p:spPr>
          <a:xfrm>
            <a:off x="1314000" y="5181480"/>
            <a:ext cx="24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AB is ________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Rectangle 20"/>
          <p:cNvSpPr/>
          <p:nvPr/>
        </p:nvSpPr>
        <p:spPr>
          <a:xfrm>
            <a:off x="1372320" y="586728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O is _________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Rectangle 21"/>
          <p:cNvSpPr/>
          <p:nvPr/>
        </p:nvSpPr>
        <p:spPr>
          <a:xfrm>
            <a:off x="1157400" y="4495680"/>
            <a:ext cx="32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OA or OB is ______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21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Oval 3"/>
          <p:cNvSpPr/>
          <p:nvPr/>
        </p:nvSpPr>
        <p:spPr>
          <a:xfrm>
            <a:off x="2895480" y="762120"/>
            <a:ext cx="4114800" cy="3962160"/>
          </a:xfrm>
          <a:prstGeom prst="ellipse">
            <a:avLst/>
          </a:prstGeom>
          <a:solidFill>
            <a:srgbClr val="eeb00b"/>
          </a:solidFill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5105520" y="2743200"/>
            <a:ext cx="190476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4724280" y="2514600"/>
            <a:ext cx="457200" cy="45972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7010280" y="2514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505320" y="518148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eaeaea"/>
                </a:solidFill>
                <a:uFillTx/>
                <a:latin typeface="Monotype Corsiva"/>
              </a:rPr>
              <a:t>CIRCL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1676520" y="59436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Monotype Corsiva"/>
              </a:rPr>
              <a:t>Eg. ball,bangle,lemon.coi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Oval 7"/>
          <p:cNvSpPr/>
          <p:nvPr/>
        </p:nvSpPr>
        <p:spPr>
          <a:xfrm>
            <a:off x="2666880" y="0"/>
            <a:ext cx="4114800" cy="3962520"/>
          </a:xfrm>
          <a:prstGeom prst="ellipse">
            <a:avLst/>
          </a:prstGeom>
          <a:solidFill>
            <a:srgbClr val="eeb00b"/>
          </a:solidFill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4572000" y="1600200"/>
            <a:ext cx="457200" cy="45972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6781680" y="1752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1828800" y="4419720"/>
            <a:ext cx="6172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CENTRE : O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RADIUS : O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Line 12"/>
          <p:cNvSpPr/>
          <p:nvPr/>
        </p:nvSpPr>
        <p:spPr>
          <a:xfrm flipH="1">
            <a:off x="2666520" y="2057400"/>
            <a:ext cx="213372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4800600" y="2057400"/>
            <a:ext cx="198108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286000" y="1828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3962520" y="12952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b5b"/>
                </a:solidFill>
                <a:latin typeface="Monotype Corsiva"/>
              </a:rPr>
              <a:t>CENT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4952880" y="20574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Monotype Corsiva"/>
              </a:rPr>
              <a:t>RADIU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Oval 2"/>
          <p:cNvSpPr/>
          <p:nvPr/>
        </p:nvSpPr>
        <p:spPr>
          <a:xfrm>
            <a:off x="2438280" y="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495680" y="1523880"/>
            <a:ext cx="457200" cy="47016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286000" y="1828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267080" y="914400"/>
            <a:ext cx="83844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4267080" y="990720"/>
            <a:ext cx="533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4267080" y="1523880"/>
            <a:ext cx="457200" cy="45972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1295280" y="3962520"/>
            <a:ext cx="78487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aeaea"/>
                </a:solidFill>
                <a:uFillTx/>
                <a:latin typeface="Monotype Corsiva"/>
              </a:rPr>
              <a:t>In a plane,each point of the circle is at equal distance from a fixed point.The fixed point is called the centre of the circle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1676520" y="601992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Monotype Corsiva"/>
              </a:rPr>
              <a:t>CENTRE = 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Oval 2"/>
          <p:cNvSpPr/>
          <p:nvPr/>
        </p:nvSpPr>
        <p:spPr>
          <a:xfrm>
            <a:off x="2438280" y="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4114800" y="1828800"/>
            <a:ext cx="457200" cy="45972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4495680" y="2057400"/>
            <a:ext cx="20574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828800" y="426708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1752480" y="441972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The distance from centre to any point on the circle is called radius of the circ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6553080" y="1828800"/>
            <a:ext cx="457200" cy="459720"/>
          </a:xfrm>
          <a:prstGeom prst="rect">
            <a:avLst/>
          </a:prstGeom>
          <a:noFill/>
          <a:ln cap="sq"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048120" y="579132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RADIUS = O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47242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Radi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75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75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Oval 2"/>
          <p:cNvSpPr/>
          <p:nvPr/>
        </p:nvSpPr>
        <p:spPr>
          <a:xfrm>
            <a:off x="2666880" y="38088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724280" y="1905120"/>
            <a:ext cx="457200" cy="46980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419720" y="1371600"/>
            <a:ext cx="533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267080" y="1905120"/>
            <a:ext cx="457200" cy="45972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4648320" y="380880"/>
            <a:ext cx="0" cy="3962520"/>
          </a:xfrm>
          <a:prstGeom prst="line">
            <a:avLst/>
          </a:prstGeom>
          <a:ln cap="sq" w="1260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4800600" y="685800"/>
            <a:ext cx="5112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Monotype Corsiva"/>
              </a:rPr>
              <a:t>DI </a:t>
            </a: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AME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523880" y="4648320"/>
            <a:ext cx="6934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A Line segment passing through the centre of the circle and whose end points lie on the circle is called the diameter of the circ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4495680" y="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449568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1981080" y="63244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DIAMETER = AB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7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7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Oval 7"/>
          <p:cNvSpPr/>
          <p:nvPr/>
        </p:nvSpPr>
        <p:spPr>
          <a:xfrm>
            <a:off x="2819520" y="60948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4648320" y="167652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464832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1143000" y="4572000"/>
            <a:ext cx="8534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aeaea"/>
                </a:solidFill>
                <a:uFillTx/>
                <a:latin typeface="Monotype Corsiva"/>
              </a:rPr>
              <a:t>The length of the circle or the distance around it is called  circumference of the circle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WordArt 12"/>
          <p:cNvSpPr txBox="1"/>
          <p:nvPr/>
        </p:nvSpPr>
        <p:spPr>
          <a:xfrm>
            <a:off x="3352680" y="304920"/>
            <a:ext cx="3124440" cy="676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30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eeb00b"/>
                  </a:solidFill>
                  <a:miter/>
                </a:ln>
                <a:solidFill>
                  <a:srgbClr val="eeb00b"/>
                </a:solidFill>
                <a:latin typeface="Monotype Corsiva"/>
              </a:rPr>
              <a:t>CIRCUMFERENCE</a:t>
            </a:r>
            <a:endParaRPr b="0" lang="en-US" sz="2400" spc="1" strike="noStrike">
              <a:ln cap="sq" w="9360">
                <a:solidFill>
                  <a:srgbClr val="eeb00b"/>
                </a:solidFill>
                <a:miter/>
              </a:ln>
              <a:solidFill>
                <a:srgbClr val="eeb00b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Oval 2"/>
          <p:cNvSpPr/>
          <p:nvPr/>
        </p:nvSpPr>
        <p:spPr>
          <a:xfrm>
            <a:off x="2590920" y="22860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4419720" y="129528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419720" y="1752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Line 6"/>
          <p:cNvSpPr/>
          <p:nvPr/>
        </p:nvSpPr>
        <p:spPr>
          <a:xfrm flipH="1">
            <a:off x="2590920" y="2286000"/>
            <a:ext cx="41148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133720" y="2057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6781680" y="2057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1143000" y="4113360"/>
            <a:ext cx="8305920" cy="33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Monotype Corsiva"/>
              </a:rPr>
              <a:t>A Line segment whose both the ends touches the circumference and passes through the centre is called diameter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DIAMETER : AB</a:t>
            </a: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	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914400" y="60948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aeaea"/>
                </a:solidFill>
                <a:uFillTx/>
                <a:latin typeface="Monotype Corsiva"/>
              </a:rPr>
              <a:t>Relation between radius and diameter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495680" y="1676520"/>
            <a:ext cx="4114800" cy="396216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6400800" y="274320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4008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6629400" y="3733920"/>
            <a:ext cx="198108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Line 8"/>
          <p:cNvSpPr/>
          <p:nvPr/>
        </p:nvSpPr>
        <p:spPr>
          <a:xfrm flipH="1">
            <a:off x="4495320" y="3733920"/>
            <a:ext cx="20574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4038480" y="3429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8534520" y="3505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1295280" y="1676520"/>
            <a:ext cx="472464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RADIUS =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DIAMET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                          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                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380988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1371600" y="457200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B =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A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  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22860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1:59:43Z</dcterms:created>
  <dc:creator>army1</dc:creator>
  <dc:description/>
  <dc:language>en-US</dc:language>
  <cp:lastModifiedBy>RomaK</cp:lastModifiedBy>
  <dcterms:modified xsi:type="dcterms:W3CDTF">2015-09-04T07:38:45Z</dcterms:modified>
  <cp:revision>56</cp:revision>
  <dc:subject/>
  <dc:title>the Circle</dc:title>
</cp:coreProperties>
</file>