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9CEC-6F3B-46D9-8156-BE6544CF67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y Ranj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If diameter of the circle is 10 cm then find its radius?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= 10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. Radius =diameter /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radius=10 cm/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radius =5 cm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If radius of the circle is 6 cm,then find the diameter of the circ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 = 6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. Diameter = 2 x 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= 2 x  6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= 12 cm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ON BETWEEN CIRCUMFERENCE AND 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 = 3 x DIAMETER(APPROX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Find the circumference (approx) of the circle whose diameter is 10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=1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. Circumference = 3 x diameter(approx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 = 3 x 1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 = 3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what is the relation between radius and diameter of the circ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What is the relation between circumference and diameter of the circ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In this fig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 .Radius=diameter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. Circumference=3Xdiameter(approx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is 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is _________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 or OB is 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ball,bangle,lemon.co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ENTRE : 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 : O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ENT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plane,each point of the circle is at equal distance from a fixed point.The fixed point is called the centre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E = 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ance from centre to any point on the circle is called radius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 = O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 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segment passing through the centre of the circle and whose end points lie on the circle is called the diameter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= 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ngth of the circle or the distance around it is called  circumference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segment whose both the ends touches the circumference and passes through the centre is called diame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: AB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lation between radius and 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 = 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B = 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D3D9-9BEF-4C4A-A9EB-6F162305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B140-BEE5-49BC-A39A-32C77752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06D5-CA89-4378-A996-49D66C10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B95A-A4F7-4003-A5C9-1E29651B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F815-4A48-468C-8E30-D4F08E67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1B92-12ED-4128-AAE1-766BBA49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890E-C1F1-4B6E-BB38-4609AA3B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2B41-490B-4244-9B58-9DF312D2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DD9A-C38B-4AEF-BC58-B9CBB124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D72E-9251-4C02-B9EF-5AD65B57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C501-1E84-48D6-8AB3-7B935973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EF20-3B88-4181-B153-4F30D92B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251E-C9D5-4FC8-88CE-1317009B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6B8D-F2E9-4B41-B3A0-4EAD2711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297E-C59D-4E96-8569-98D0CA52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EF0C-1383-4939-91FC-2C673AFC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91BA-E4FC-4B2E-B4A8-A5997F246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3B28-90C4-4663-B9F5-3B648B5D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4F8A-626E-4185-9ED8-62FB8C07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3900-320F-4F55-9F51-F089363E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91EE-CDB3-4C8B-9557-2D322D58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1127-38B1-4D18-9571-B0D8054F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5F71-F900-4F97-B3A7-32AEF31F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F02F-4B81-4C3E-8C6D-1C0EDE50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BAA9-EEB0-4EFE-8314-0F986815C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D509-AA5A-4426-8BE2-8B8C6298A5E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447920" y="0"/>
            <a:ext cx="6781680" cy="68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eaeaea"/>
                </a:solidFill>
                <a:uFillTx/>
                <a:latin typeface="Monotype Corsiva"/>
              </a:rPr>
              <a:t>The Circle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eaeaea"/>
                </a:solidFill>
                <a:uFillTx/>
                <a:latin typeface="Monotype Corsiva"/>
              </a:rPr>
              <a:t>By Ranjana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8" name="Picture 3" descr="C:\Program Files\Common Files\Microsoft Shared\Clipart\cagcat50\BS00559_.wmf"/>
          <p:cNvPicPr/>
          <p:nvPr/>
        </p:nvPicPr>
        <p:blipFill>
          <a:blip r:embed="rId1"/>
          <a:stretch/>
        </p:blipFill>
        <p:spPr>
          <a:xfrm>
            <a:off x="1143000" y="3124080"/>
            <a:ext cx="8001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Eg. If diameter of the circle is 10 cm then find its radiu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Oval 3"/>
          <p:cNvSpPr/>
          <p:nvPr/>
        </p:nvSpPr>
        <p:spPr>
          <a:xfrm>
            <a:off x="4495680" y="16765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400800" y="27432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6400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Line 10"/>
          <p:cNvSpPr/>
          <p:nvPr/>
        </p:nvSpPr>
        <p:spPr>
          <a:xfrm>
            <a:off x="4495680" y="373392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5257800" y="3657600"/>
            <a:ext cx="2743200" cy="94716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Diameter =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10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839160" y="1066680"/>
            <a:ext cx="551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Sol. Radius =diameter / 2</a:t>
            </a: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        radius=10 cm/ 2</a:t>
            </a: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        radius =5 cm  </a:t>
            </a:r>
            <a:br>
              <a:rPr sz="3600"/>
            </a:b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3962520" y="3505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876312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Oval 2"/>
          <p:cNvSpPr/>
          <p:nvPr/>
        </p:nvSpPr>
        <p:spPr>
          <a:xfrm>
            <a:off x="5029200" y="23623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6858000" y="34290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708660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676520" y="45720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Eg. If radius of the circle is 6 cm,then find the diameter of the circ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Line 8"/>
          <p:cNvSpPr/>
          <p:nvPr/>
        </p:nvSpPr>
        <p:spPr>
          <a:xfrm flipH="1">
            <a:off x="5028840" y="4419720"/>
            <a:ext cx="198108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5105520" y="38862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Radius = 6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464832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1676520" y="1523880"/>
            <a:ext cx="4572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. Diameter = 2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x Radi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Diameter = 2 x  6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Diameter = 12 cm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7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7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295280" y="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Monotype Corsiva"/>
              </a:rPr>
              <a:t>RELATION BETWEEN CIRCUMFERENCE AND DIAME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600200" y="19810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Oval 4"/>
          <p:cNvSpPr/>
          <p:nvPr/>
        </p:nvSpPr>
        <p:spPr>
          <a:xfrm>
            <a:off x="3124080" y="25909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4952880" y="3657600"/>
            <a:ext cx="152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49528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WordArt 7"/>
          <p:cNvSpPr txBox="1"/>
          <p:nvPr/>
        </p:nvSpPr>
        <p:spPr>
          <a:xfrm>
            <a:off x="3657600" y="2286000"/>
            <a:ext cx="3124080" cy="676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3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eeb00b"/>
                  </a:solidFill>
                  <a:miter/>
                </a:ln>
                <a:solidFill>
                  <a:srgbClr val="eeb00b"/>
                </a:solidFill>
                <a:latin typeface="Monotype Corsiva"/>
              </a:rPr>
              <a:t>CIRCUMFERENCE</a:t>
            </a:r>
            <a:endParaRPr b="0" lang="en-US" sz="2400" spc="1" strike="noStrike">
              <a:ln cap="sq" w="9360">
                <a:solidFill>
                  <a:srgbClr val="eeb00b"/>
                </a:solidFill>
                <a:miter/>
              </a:ln>
              <a:solidFill>
                <a:srgbClr val="eeb00b"/>
              </a:solidFill>
              <a:latin typeface="Monotype Corsiva"/>
              <a:ea typeface="Monotype Corsiva"/>
            </a:endParaRPr>
          </a:p>
        </p:txBody>
      </p:sp>
      <p:sp>
        <p:nvSpPr>
          <p:cNvPr id="188" name="Line 8"/>
          <p:cNvSpPr/>
          <p:nvPr/>
        </p:nvSpPr>
        <p:spPr>
          <a:xfrm>
            <a:off x="3124080" y="464832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4038480" y="4724280"/>
            <a:ext cx="2895840" cy="58140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Monotype Corsiva"/>
              </a:rPr>
              <a:t>DIAMET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1600200" y="13716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IRCUMFERENCE = 3 x DIAMETER(APPROX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2666880" y="4419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73152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371600" y="4572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Eg. Find the circumference (approx) of the circle whose diameter is 10cm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Oval 3"/>
          <p:cNvSpPr/>
          <p:nvPr/>
        </p:nvSpPr>
        <p:spPr>
          <a:xfrm>
            <a:off x="4648320" y="251460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6477120" y="358128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47712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WordArt 6"/>
          <p:cNvSpPr txBox="1"/>
          <p:nvPr/>
        </p:nvSpPr>
        <p:spPr>
          <a:xfrm>
            <a:off x="5181480" y="2209680"/>
            <a:ext cx="3124440" cy="676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3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eeb00b"/>
                  </a:solidFill>
                  <a:miter/>
                </a:ln>
                <a:solidFill>
                  <a:srgbClr val="eeb00b"/>
                </a:solidFill>
                <a:latin typeface="Monotype Corsiva"/>
              </a:rPr>
              <a:t>CIRCUMFERENCE</a:t>
            </a:r>
            <a:endParaRPr b="0" lang="en-US" sz="2400" spc="1" strike="noStrike">
              <a:ln cap="sq" w="9360">
                <a:solidFill>
                  <a:srgbClr val="eeb00b"/>
                </a:solidFill>
                <a:miter/>
              </a:ln>
              <a:solidFill>
                <a:srgbClr val="eeb00b"/>
              </a:solidFill>
              <a:latin typeface="Monotype Corsiva"/>
              <a:ea typeface="Monotype Corsiva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4648320" y="457200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4952880" y="4724280"/>
            <a:ext cx="3505320" cy="106884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Monotype Corsiva"/>
              </a:rPr>
              <a:t>DIAMETER=10 C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1371600" y="1447920"/>
            <a:ext cx="45720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. Circumference = 3 x diameter(approx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ircumference = 3 x 10 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ircumference = 30 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41148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876312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7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7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2362320" y="14479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133720" y="0"/>
            <a:ext cx="6019560" cy="581400"/>
          </a:xfrm>
          <a:prstGeom prst="rect">
            <a:avLst/>
          </a:prstGeom>
          <a:noFill/>
          <a:ln cap="sq"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Monotype Corsiva"/>
              </a:rPr>
              <a:t>EVALU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295280" y="5335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1. what is the relation between radius and diameter of the circ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4648320" y="2895480"/>
            <a:ext cx="4114800" cy="3962520"/>
          </a:xfrm>
          <a:prstGeom prst="ellipse">
            <a:avLst/>
          </a:prstGeom>
          <a:solidFill>
            <a:srgbClr val="ff33cc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6629400" y="373392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655308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6705720" y="4724280"/>
            <a:ext cx="2057400" cy="4608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Line 9"/>
          <p:cNvSpPr/>
          <p:nvPr/>
        </p:nvSpPr>
        <p:spPr>
          <a:xfrm flipH="1">
            <a:off x="4648320" y="4724280"/>
            <a:ext cx="213336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4267080" y="4495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8839080" y="4495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1295280" y="19051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2. What is the relation between circumference and diameter of the circ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1066680" y="3886200"/>
            <a:ext cx="45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3. In this fig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371600" y="13716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 .Radius=diameter/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1143000" y="2895480"/>
            <a:ext cx="54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. Circumference=3Xdiameter(approx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3048120" y="4419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radi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2209680" y="50292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diame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2209680" y="5715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ent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Rectangle 19"/>
          <p:cNvSpPr/>
          <p:nvPr/>
        </p:nvSpPr>
        <p:spPr>
          <a:xfrm>
            <a:off x="1314000" y="518148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AB is ________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Rectangle 20"/>
          <p:cNvSpPr/>
          <p:nvPr/>
        </p:nvSpPr>
        <p:spPr>
          <a:xfrm>
            <a:off x="1372320" y="586728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O is _________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Rectangle 21"/>
          <p:cNvSpPr/>
          <p:nvPr/>
        </p:nvSpPr>
        <p:spPr>
          <a:xfrm>
            <a:off x="1157400" y="4495680"/>
            <a:ext cx="32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OA or OB is ______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21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2895480" y="762120"/>
            <a:ext cx="4114800" cy="3962160"/>
          </a:xfrm>
          <a:prstGeom prst="ellipse">
            <a:avLst/>
          </a:prstGeom>
          <a:solidFill>
            <a:srgbClr val="eeb00b"/>
          </a:solidFill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5105520" y="2743200"/>
            <a:ext cx="190476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4724280" y="2514600"/>
            <a:ext cx="457200" cy="45972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7010280" y="2514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505320" y="51814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eaeaea"/>
                </a:solidFill>
                <a:uFillTx/>
                <a:latin typeface="Monotype Corsiva"/>
              </a:rPr>
              <a:t>CIRCL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1676520" y="59436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Monotype Corsiva"/>
              </a:rPr>
              <a:t>Eg. ball,bangle,lemon.coi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val 7"/>
          <p:cNvSpPr/>
          <p:nvPr/>
        </p:nvSpPr>
        <p:spPr>
          <a:xfrm>
            <a:off x="2666880" y="0"/>
            <a:ext cx="4114800" cy="3962520"/>
          </a:xfrm>
          <a:prstGeom prst="ellipse">
            <a:avLst/>
          </a:prstGeom>
          <a:solidFill>
            <a:srgbClr val="eeb00b"/>
          </a:solidFill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4572000" y="1600200"/>
            <a:ext cx="457200" cy="45972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6781680" y="1752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828800" y="4419720"/>
            <a:ext cx="6172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CENTRE : O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RADIUS : O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Line 12"/>
          <p:cNvSpPr/>
          <p:nvPr/>
        </p:nvSpPr>
        <p:spPr>
          <a:xfrm flipH="1">
            <a:off x="2666520" y="2057400"/>
            <a:ext cx="213372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4800600" y="2057400"/>
            <a:ext cx="198108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28600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3962520" y="12952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Monotype Corsiva"/>
              </a:rPr>
              <a:t>CENT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4952880" y="20574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Monotype Corsiva"/>
              </a:rPr>
              <a:t>RADIU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Oval 2"/>
          <p:cNvSpPr/>
          <p:nvPr/>
        </p:nvSpPr>
        <p:spPr>
          <a:xfrm>
            <a:off x="2438280" y="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495680" y="1523880"/>
            <a:ext cx="457200" cy="47016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28600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267080" y="914400"/>
            <a:ext cx="83844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4267080" y="990720"/>
            <a:ext cx="533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267080" y="1523880"/>
            <a:ext cx="457200" cy="4597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1295280" y="3962520"/>
            <a:ext cx="7848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Monotype Corsiva"/>
              </a:rPr>
              <a:t>In a plane,each point of the circle is at equal distance from a fixed point.The fixed point is called the centre of the circle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676520" y="601992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Monotype Corsiva"/>
              </a:rPr>
              <a:t>CENTRE = 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Oval 2"/>
          <p:cNvSpPr/>
          <p:nvPr/>
        </p:nvSpPr>
        <p:spPr>
          <a:xfrm>
            <a:off x="2438280" y="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4114800" y="1828800"/>
            <a:ext cx="457200" cy="4597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4495680" y="2057400"/>
            <a:ext cx="20574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828800" y="426708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1752480" y="441972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The distance from centre to any point on the circle is called radius of the circ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6553080" y="1828800"/>
            <a:ext cx="457200" cy="459720"/>
          </a:xfrm>
          <a:prstGeom prst="rect">
            <a:avLst/>
          </a:prstGeom>
          <a:noFill/>
          <a:ln cap="sq"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048120" y="57913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RADIUS = O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7242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Radi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75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75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Oval 2"/>
          <p:cNvSpPr/>
          <p:nvPr/>
        </p:nvSpPr>
        <p:spPr>
          <a:xfrm>
            <a:off x="2666880" y="38088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724280" y="1905120"/>
            <a:ext cx="457200" cy="46980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419720" y="1371600"/>
            <a:ext cx="533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267080" y="1905120"/>
            <a:ext cx="457200" cy="4597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4648320" y="380880"/>
            <a:ext cx="0" cy="3962520"/>
          </a:xfrm>
          <a:prstGeom prst="line">
            <a:avLst/>
          </a:prstGeom>
          <a:ln cap="sq" w="1260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4800600" y="685800"/>
            <a:ext cx="5112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Monotype Corsiva"/>
              </a:rPr>
              <a:t>DI </a:t>
            </a: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AME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523880" y="4648320"/>
            <a:ext cx="6934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A Line segment passing through the centre of the circle and whose end points lie on the circle is called the diameter of the circ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4495680" y="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449568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1981080" y="63244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DIAMETER = A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7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7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val 7"/>
          <p:cNvSpPr/>
          <p:nvPr/>
        </p:nvSpPr>
        <p:spPr>
          <a:xfrm>
            <a:off x="2819520" y="60948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4648320" y="167652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464832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1143000" y="4572000"/>
            <a:ext cx="8534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aeaea"/>
                </a:solidFill>
                <a:uFillTx/>
                <a:latin typeface="Monotype Corsiva"/>
              </a:rPr>
              <a:t>The length of the circle or the distance around it is called  circumference of the circle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WordArt 12"/>
          <p:cNvSpPr txBox="1"/>
          <p:nvPr/>
        </p:nvSpPr>
        <p:spPr>
          <a:xfrm>
            <a:off x="3352680" y="304920"/>
            <a:ext cx="3124440" cy="676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3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eeb00b"/>
                  </a:solidFill>
                  <a:miter/>
                </a:ln>
                <a:solidFill>
                  <a:srgbClr val="eeb00b"/>
                </a:solidFill>
                <a:latin typeface="Monotype Corsiva"/>
              </a:rPr>
              <a:t>CIRCUMFERENCE</a:t>
            </a:r>
            <a:endParaRPr b="0" lang="en-US" sz="2400" spc="1" strike="noStrike">
              <a:ln cap="sq" w="9360">
                <a:solidFill>
                  <a:srgbClr val="eeb00b"/>
                </a:solidFill>
                <a:miter/>
              </a:ln>
              <a:solidFill>
                <a:srgbClr val="eeb00b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Oval 2"/>
          <p:cNvSpPr/>
          <p:nvPr/>
        </p:nvSpPr>
        <p:spPr>
          <a:xfrm>
            <a:off x="2590920" y="22860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4419720" y="129528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41972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Line 6"/>
          <p:cNvSpPr/>
          <p:nvPr/>
        </p:nvSpPr>
        <p:spPr>
          <a:xfrm flipH="1">
            <a:off x="2590920" y="228600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133720" y="2057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6781680" y="2057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1143000" y="4113360"/>
            <a:ext cx="8305920" cy="33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Monotype Corsiva"/>
              </a:rPr>
              <a:t>A Line segment whose both the ends touches the circumference and passes through the centre is called diameter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DIAMETER : AB</a:t>
            </a: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	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914400" y="60948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aeaea"/>
                </a:solidFill>
                <a:uFillTx/>
                <a:latin typeface="Monotype Corsiva"/>
              </a:rPr>
              <a:t>Relation between radius and diameter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16765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6400800" y="27432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400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6629400" y="3733920"/>
            <a:ext cx="198108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Line 8"/>
          <p:cNvSpPr/>
          <p:nvPr/>
        </p:nvSpPr>
        <p:spPr>
          <a:xfrm flipH="1">
            <a:off x="4495320" y="3733920"/>
            <a:ext cx="20574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403848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8534520" y="3505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1295280" y="1676520"/>
            <a:ext cx="472464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RADIUS =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DIAMET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                          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  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380988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1371600" y="45720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B =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A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22860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1:59:43Z</dcterms:created>
  <dc:creator>army1</dc:creator>
  <dc:description/>
  <dc:language>en-US</dc:language>
  <cp:lastModifiedBy>RomaK</cp:lastModifiedBy>
  <dcterms:modified xsi:type="dcterms:W3CDTF">2015-09-04T07:38:45Z</dcterms:modified>
  <cp:revision>56</cp:revision>
  <dc:subject/>
  <dc:title>the Circle</dc:title>
</cp:coreProperties>
</file>