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move the slide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2031-5BFF-4125-A119-F9752F748B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Value with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decimal that has the sam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53.8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I know what kind of decimal it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e of a decimal is determined by the number of places to the right of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mixed decim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decimals are numbers with both whole numbers and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e of a whole number is determined by the number of places to the left of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number 128.765, 1 is in the hundreds place, 2 is in the tens place, 8 is in the ones place, 7 is in the tenths place, 6 is in the hundredths place, and 5 is in the thousandth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read decim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ad a decimal correctly, first find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are to the left of the decimal point; any numbers to the right of a decimal point form a decimal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“and” for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imal 2164.511 is read as “two thousand, one hundred sixty-four and five hundred eleven thousandth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s after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extra zeros after the decimal point does not change the valu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imals 0.2, 0.20, and 0.200 are equivalent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practice problems in which I will work through with you to make sure that you understand the main concepts cover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decim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thousan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nety-four thousan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undred thirty-six and sixty-nine hundre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each decimal in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84.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92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12.2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at place (on the place value chart) is the underlined digit? Write the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4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7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80.2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2.4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2.1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23C-0F18-414D-9CEE-ABA921EF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A8D-7F07-4191-B1DD-8626B60D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815B0-E574-422C-BC17-C3D24F56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EDAB4-04C1-4936-8060-BE3DC3E7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A730E5-EE84-4E8D-9D1C-24F688F8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17505-620C-4A4C-9257-7E32966E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985E29-C0BB-440F-9F46-DF633070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E1A94B-209F-4591-B7C9-728E501B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51F4FD-A1D3-460D-A71D-13B28B01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C6AEDC-D1B0-42C7-9F96-56C4B7D2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33076-C061-49B2-B41B-68E686DD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6A659F-B935-4051-B511-C08A6ADB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E70E-93ED-48C9-9746-AD8AD37F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01536-BFB5-4E58-BF82-656210BF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860FF-078F-433E-B55F-5D2927C1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F6B525-3EE0-467D-ADCE-E5B3F69C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EDB25-68CE-4B22-B160-07D7C507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B5E5C-7A3E-4572-8139-7E3AA984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60497-4560-4ADC-93E4-E263615C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EC994-0DDF-4C5B-AA88-3503EDB9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8EC058-C93A-4812-A044-BBEBB7B2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BCAD3-22B7-48A7-9592-B49135B7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C3FE3-194D-4CEC-B013-5BD53EE9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DC4-14C3-4B68-98D9-C466D93C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36C39-96AB-4DAD-8911-88B066C5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235C9-B12F-42E0-9C56-66AA0315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766B4-FDDC-4C22-A625-1C6BEF79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2C40A-4D72-4EA6-8290-6DAD170B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3559F-8661-4BEC-A132-29AA35BB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5B0F2-B6CB-4DCC-AD60-2D116EB6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CA054-C798-4F76-BD26-9FF1E9A2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4CE44-3249-49BA-A70A-7EB4A410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778A9-09B3-4C02-BCD8-A40E13B2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573C8-3576-499A-B508-3097E748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1856-DC26-4140-859B-A5414B29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CD008-A5D7-42B5-83C9-2933A806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5BFB7-2024-4561-98D3-3C16CBEF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0358F-5FA2-470F-B50F-BA34D74D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D53CDC-CB05-42AD-8C9A-D3BBE9E8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B3226-98EA-414D-8E00-76A8B563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7307C-B01B-45D5-BDA0-4FC6F0F2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D9B487-AF4A-4832-9CAE-BC00F241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6866F-3CB9-469A-B0F9-EA62E7B7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5F12AC-BA23-4793-9EDD-49DFC46F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768584-DBFC-41DD-8392-094E6B1D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827D-6DAE-4663-AB39-D044C0D8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376BB9-8524-466A-BC92-84BD6A47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963F79-0FD2-4BB9-AECE-F8B63454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249AE0-CF1E-482C-AB25-DCE0E83B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590382-EE60-4247-B55A-876E8DAA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3FCA40-9E7A-49C1-BC6F-50A46062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3678-93F5-4240-A1B2-2DDD33EC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C3D5-BF3E-4641-86CE-9B313AFF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B8FB-C54C-448D-A0AA-7FB5AE62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E713-0ED8-4A6F-86FE-3E3448A5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19A9-A862-47D9-B6EF-13FB009D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C00-09DF-478F-8976-18F9FB0F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73BD-18B0-4214-8131-EE3847ED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4D3A-FF0F-4CA2-9A35-7438DE84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ABF0-0904-4319-AEDC-561A4850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5B40-46E6-4BE6-B546-F2615A8D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8853-F2A9-4CBA-B07F-10C9C81E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2B441-919D-47F7-8E34-132A112B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7F187-6BB3-4714-980F-DFB17A4B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8EEFB-4DFB-4ABC-B762-53EC52D7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5AE2D-7CC3-4823-A4E7-BC11BE64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FF52B-CEB1-49D5-9FC9-CB21AFD7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564-F09D-435B-9129-DBD1C309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0E5D8-9D0F-4394-9B72-2EA7683B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94E66-CC59-4BB1-BBE0-A2C5A80B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DBECF-8DF9-4B7A-BFD1-1CE434A2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FD455-BFEE-4EC5-B005-1FF36127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36CAF-3FEC-441D-9705-6E51B457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6DABC-0917-4E2B-AEFB-79319A9A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46EEA-C3F0-441F-B2C2-2A2D94F3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8C8BC-11A7-4F15-B018-3D16FF0C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C317B-2337-4096-8DC4-64DE7761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AC03A-3547-4B8A-97B7-56A44C32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0AC9-05C7-4E9B-9A33-3F1095C9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86277-FA9A-4761-B7B2-F71EF152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81589-8E45-4E85-BCC2-21E7F12C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B14D0-05A8-4CB6-BA97-55A1176E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3ED43-500D-48AF-B600-F229FF7E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39712-34FE-4432-A445-FACCAE9E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25813-A33C-46DE-BEB2-52A268C6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02A54-49B5-4564-8BB1-9E5EDFA9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831CE-A68F-4B8D-BBAC-30B551D9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18EA5-31AD-476D-AE11-EF62AF00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5BEBD-0BF3-44A7-B62D-D2634F3F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AF8-5FD2-426A-8912-CA168373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5AD38-8051-4648-B753-69BF343B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5CA85-41DA-45EA-8A3E-C741FD36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848DA-F5BE-4635-B1E5-3D5A363C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61967-11F7-4F73-B79E-CD7F1D4B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EFDE7-D80E-4305-8F18-F5536F8F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AB70C-63DD-4CE3-8749-0953BE1F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B8D8E-F3C4-4B27-9B3C-5206B18D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9A104-9F1F-45E0-8AEA-E8C92701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F5E99-77BD-4DCF-BBC1-F838E777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267FF-AF7C-490D-AC38-A6B47B6D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AEA-B859-4D28-BA4F-15229894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861D8-F3D9-4F8F-BA8D-AF21B5F2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D5D3D-AC56-4750-B395-2B8A5A78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CE157-8423-43E3-A720-4F2DEC20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93B1B-1B47-40A6-B3F9-09A9841F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C17F6-D83E-4BAE-AA1A-7109FFE9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9B825-F7DC-42BE-9E71-BA586127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6A1C3-EE73-4FC5-B8A3-E67A045F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E666C-E58B-4EB9-8701-912B3DF8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0615F-33C3-4CC8-9FB3-49591F64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2C09C-27D6-48CF-871A-727D9453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8B1-1DB7-4816-8065-388A17EA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21C23-76FE-4088-A5AF-FC1A4FD6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9E389-D301-4681-B08E-3F7C2D1A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F350A-19DA-4BEB-8592-8666A95F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F6967-75E1-4158-8E53-B5AFBAE9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51BE7-D301-4F00-BE1C-77C5F542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19ACD-463D-4581-BF83-03FFDE0A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DB116-5936-4071-A30F-357C30E2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E8351-4EB3-4725-919F-FDA5893B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4A6E5-6CCE-4C2B-9B80-C1510EB0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FA169-F12A-46AE-98EB-EB353377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4F6-0FDE-4FF5-8972-5AA62E6F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668DD-5116-4101-A97E-7628E641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9D09B-6652-4A05-A6C2-D769E5B9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AC68F-D128-4627-9715-177F334F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4D9C9-2B5E-47FE-9CF3-F02E2214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2E43D-DF1F-4CEF-8002-008C42DD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0F898-0C84-4F1D-88D3-4E11DA47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63532-6D33-4A78-B831-CE238E59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1E174-1212-4FFF-A87B-A21E076B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30F16-604B-4AE6-A893-73C9F4B4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94236-0820-4FBA-AB76-CE4CB9B7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9BDE-1D51-40A1-8F17-40C97723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7FB2C-0921-43EF-82A9-39C192B1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B0D1E-16AB-4F5C-B894-B3985A4B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A910B-50B6-45B2-8380-F12CFEAA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4CC6B-099A-49A1-84C1-376221C0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16CEF-406A-41FC-A085-58AD3D23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FB29D-AF0C-42F3-81F5-646C3BBE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50ECB-6753-4EAD-AB45-CD0535D8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A9760-350C-4720-B2FE-B769CA79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A332F-B06C-4F5E-82CE-4F8288CB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7A5FE-099F-41B6-9D27-B482A8F7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CDC7-C6CE-4674-8B7E-E18A209D26DC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2273-6F64-4C92-9821-42ABC2242A38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8305-7F0F-4948-A493-F2C7439E6C9E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8F8C-9CA1-4BC1-BEA7-DCF35B415AB4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528B-6A1C-4E5B-AFF8-79EDB82614B2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91BA-8F66-4722-BF68-7DFD0B32E7D8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EE4E-FDE8-480C-AF6B-68341AAAFD07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9A2E-B977-40D5-A208-A13C4474402D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F112-31EB-4834-B7F7-B323770F637A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E27B-3159-4D69-8B4E-69225376D319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7F2D-D4A0-4357-AD99-2B1344EE232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913A-B0A1-4DB2-B219-9CF1C6F89239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PLACE VALUE WITH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f6fc6"/>
                </a:solidFill>
                <a:latin typeface="Mistral"/>
              </a:rPr>
              <a:t>Chapter 1.2</a:t>
            </a:r>
            <a:endParaRPr b="0" lang="en-US" sz="11500" spc="-1" strike="noStrike">
              <a:solidFill>
                <a:srgbClr val="08b7bf"/>
              </a:solidFill>
              <a:latin typeface="Mistral"/>
            </a:endParaRPr>
          </a:p>
        </p:txBody>
      </p:sp>
    </p:spTree>
  </p:cSld>
  <p:transition advTm="6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Exercise 4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a decimal that has the same numb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.5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10.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53.8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How do I know what kind of decimal it is?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ame of a decimal is determined by the number of places to th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righ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609480" y="2895480"/>
          <a:ext cx="7925040" cy="289584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l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dred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sand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advTm="27000">
    <p:cover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What are mixed decimals?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ixed decimal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re numbers with both whole numbers and decim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ame of a whole number is determined by the number of places to th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lef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In the number 128.765, 1 is in the hundreds place, 2 is in the tens place, 8 is in the ones place, 7 is in the tenths place, 6 is in the hundredths place, and 5 is in the thousandths place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28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How do you read decimals?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read a decimal correctly, first find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ole numbers are to the left of the decimal point; any numbers to the right of a decimal point form a decimal fra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y “and” for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The decimal 2164.511 is read as “two thousand, one hundred sixty-four </a:t>
            </a:r>
            <a:r>
              <a:rPr b="0" i="1" lang="en-US" sz="2200" spc="-1" strike="noStrike" u="sng">
                <a:solidFill>
                  <a:srgbClr val="04617b"/>
                </a:solidFill>
                <a:uFillTx/>
                <a:latin typeface="Arial"/>
              </a:rPr>
              <a:t>and</a:t>
            </a: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 five hundred eleven thousandths”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29000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Zeros after the decimal point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ing extra zeros after the decimal poin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es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 change the valu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The decimals 0.2, 0.20, and 0.200 are 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equivalent decimals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17000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Arial"/>
              </a:rPr>
              <a:t>HERE ARE SOME PRACTICE PROBLEMS IN WHICH I WILL WORK THROUGH WITH YOU TO MAKE SURE THAT YOU UNDERSTAND THE MAIN CONCEPTS COVE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istral"/>
              </a:rPr>
              <a:t>Practice</a:t>
            </a:r>
            <a:endParaRPr b="0" lang="en-US" sz="9600" spc="-1" strike="noStrike">
              <a:solidFill>
                <a:srgbClr val="08b7bf"/>
              </a:solidFill>
              <a:latin typeface="Mistral"/>
            </a:endParaRPr>
          </a:p>
        </p:txBody>
      </p:sp>
    </p:spTree>
  </p:cSld>
  <p:transition advTm="2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Exercise 1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the decim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ve thousan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inety-four thousan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ree hundred thirty-six and sixty-nine hundre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Exercise 2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each decimal in w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884.01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592.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.2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12.25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0.4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Exercise 3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what place (on the place value chart) is the underlined digit? Write the answ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76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780.21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12.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21:11:29Z</dcterms:created>
  <dc:creator>Natasha Khimji</dc:creator>
  <dc:description>Decimals</dc:description>
  <cp:keywords>Decimals</cp:keywords>
  <dc:language>en-US</dc:language>
  <cp:lastModifiedBy>RomaK</cp:lastModifiedBy>
  <dcterms:modified xsi:type="dcterms:W3CDTF">2015-09-04T07:39:21Z</dcterms:modified>
  <cp:revision>17</cp:revision>
  <dc:subject>Decimals</dc:subject>
  <dc:title>Decimals</dc:title>
</cp:coreProperties>
</file>