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move the slide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A0A1-D28F-4204-94B9-7DFEA6DBDA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Value with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decimal that has the sam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3.8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know what kind of decimal it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decimal is determined by the number of places to the righ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xe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decimals are numbers with both whole numbers and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whole number is determined by the number of places to the lef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rea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ad a decimal correctly, first find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to the left of the decimal point; any numbers to the right of a decimal point form a decimal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“and” fo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 2164.511 is read as “two thousand, one hundred sixty-four and five hundred eleven thousandth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afte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extra zeros after the decimal point does not change the valu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s 0.2, 0.20, and 0.200 are equivalent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practice problems in which I will work through with you to make sure that you understand the main concepts cov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decim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nety-four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undred thirty-six and sixty-nine hundre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decimal in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4.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92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12.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at place (on the place value chart) is the underlined digit? Write the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7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80.2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2.4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2.1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937-31A1-4F6A-AA8F-F31011F0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30C-1EC8-49E7-9A05-652D386E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013C9-5AB4-4A9A-95DF-EC767B90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847B0-E3DD-430A-992F-823EA617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28633-E961-4AFF-AC8B-0566B11B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9269F-6128-45DE-AF37-FB9CFDA3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6CCB2-9BFB-45F6-9B6C-4A0E130B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D31B5-76F7-40AE-8479-364BD22B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05341-0272-4143-B24C-E40DC5B4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B5B01-3CE5-4C08-8ED2-0D170903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419D0-48AF-4F22-BD0C-322F6A19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C5830-BC32-42B8-8D6A-EA0D7B7F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911-F28B-42CF-91AB-C3B353C9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26706-A3C9-491C-97DC-E804F272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0BFA6-953B-4CD8-9A8F-0D9DDF28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2BB70-0D7C-45CA-990C-F667A719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56518-4EB9-404C-9514-F2DF9ECE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0412A-A826-4B0F-AD25-D54625F0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12E2C-1DCA-43ED-B8DF-6A140055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AB53C-BCEF-4329-B2FB-A9DD39F5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34271-AB75-4809-981A-C70F824A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C5EA4-ECB7-4E3D-AA6B-524A841B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51221-E987-4BB2-A07D-C39CF8A8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6BA-E3BD-4F70-BE61-2D0F2F42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4950D-AD9B-4241-B86B-398F3DA6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2E046-9C10-4429-8971-24F168F7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3B93D-7E62-4FB7-A2A4-4C55FF02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8B5AB-6BBF-45B2-BDC4-AA0EDA2D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A7F27-60AE-44E7-82B9-711D93C2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93D45-B355-4474-802D-5A713EF3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FEB77-61BB-480D-86D3-0211DB5D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901D1-4D51-491F-B054-333D228A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D4B65-7FCD-4EB5-BF2A-EC1149B0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4D692-585B-4E54-9659-35FE99A5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F8F1-74B3-45EF-B7BD-D9940277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2732F-11A4-4677-A2E9-46F6CA8A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95763-B4DC-4B80-96E0-65070856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1FE14-028A-42D9-B1F0-51787E24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5D8DD-55B0-47D2-9FE6-6BD64C69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E5E01-D068-4F79-9068-4AB8DE36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61F32-05F0-4A9F-B142-5138DB60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7E2AB-DDAA-4E50-9CA4-CEA5D1DF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ED872-B9D6-4404-BD7E-EFDB1158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15A38-84F1-4079-AE3F-77975FBB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FD332-D045-4764-BD54-4FF277D8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FA01-5525-4291-9636-DFAAFFA2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D36F5-0ECC-46A6-8B05-170D580B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83172-2F50-438E-B761-11E81AC8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483D1-4BCD-4B8D-AF9F-246182D5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E7FC4-3EF5-40D5-B6D0-B6D47B62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E859F-ABA5-4BF6-8DB4-B0F48D85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1854-2E2A-47FF-BABD-2C818D0F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1AE0-2833-4400-8556-A070454E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83B7-1BC3-4AE3-9B9D-B4666ED2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C2E8-886C-4FA0-8791-1985CF76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2830-4CB8-49EA-ABCA-CBCF8511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ABE-698E-43D0-9716-F821DD6C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1B01-830C-462C-90C1-49324AE5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1546-1F0E-424F-9DEB-5E059D14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B664-2FED-4342-9306-54F2A0B7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413A-0F16-42FF-8590-A1090677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AA07-CCE3-4D3B-80A5-CA6B1694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571AC-82E1-43D0-8FD7-BDFD1FA8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A4507-E643-4903-84B9-B0CE3054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410F6-4DC6-4C4E-A964-A61E05F0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6308-DF3E-4CEF-900D-3BD6B6D4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3C829-4293-463E-A28F-91588618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0F8-F470-4875-ACFE-CF08C8E9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37C5-5F5B-4832-9A9D-7A5D6E28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9CB0-6EF4-4935-A9D3-F9CC829B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C6646-65DB-4CB8-912D-491EDCE4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F638-3AA2-4AED-B909-40DACBDB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FAB4-B13F-46D1-AF2A-B1347788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1C7A-CD88-4B72-833E-88DF8F43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E13D2-09C2-4B72-95DE-E3BBFD30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00C3E-3CD0-444D-BBBC-8B215376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05BB0-BF27-47B3-849C-F8FB2D8C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F8F7-02C9-4B0B-A290-98A34C95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6E3-76C9-412F-9B6E-F637130E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B774B-833F-43E0-AAC7-512F92E2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BCF91-59A2-4A15-B208-085976EE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F157-2091-4E80-8F4E-DA709C4C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D2408-7707-4B9B-AF85-90ED56C5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E915-DB26-4C9E-B4A1-7B0447FE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76F53-9B0D-466C-82B1-A346C196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A3835-A7F2-4BBB-A2B3-39153910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31240-85C8-4DEF-A250-7D24E3A6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E7C69-5E72-4187-9A86-8531948B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26FC0-7354-42AA-BC81-86070807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1AC-1CF3-40E3-82D2-080048CB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9E8CE-B09C-4D25-AE5B-6AA23970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92774-6B85-42C5-A26E-0CE549F0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4BBAC-D675-4D05-BC11-481DAF26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80B1A-4BE3-4AD3-8833-FE1FB0D6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ECDDC-A404-4D4D-A12E-D2ADFC74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A89AD-D28F-4D2E-AD43-A22F1799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B1AC0-4C1E-4516-8565-3AE4104B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7C3D5-FEC9-4D16-9C31-4F05ABCE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CC184-EAEF-4E7B-AA90-0C525EBB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2A6B8-141E-4CF8-9F1B-9CD644AB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375-A00C-450D-848C-0EA4393F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728D1-BC04-414A-A30E-98A13B1E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17704-312B-4AB2-A520-69922A61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AB41A-5615-45FC-AB70-AA5A8573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55003-5740-4D0F-8893-FC86536B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736B1-A1C6-4322-9FC7-8F36A703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FD0C4-3298-4284-833E-C98B969A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638D6-982B-47D4-A8DB-1ADCD2F9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F8698-9541-45C6-9353-35E0490E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1325E-464B-47B6-8998-03D51302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C626C-E45C-4B93-85CB-7BF6A4FE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98A-D790-4127-8ADB-A64E0C05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0DF4F-88B7-4745-820F-D9B97D74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65CD6-0F3C-4940-B9DE-D4594F21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132D2-A232-4C3E-ABBA-75B63153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23EBF-76F9-4971-99DA-A84E308D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AFF90-C533-4F3D-B4B0-60EB7D4B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1D0EA-CEAB-47A8-A5A9-BDAE874F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FBF06-C170-41B1-8F8B-4704CA17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A5C25-4894-476E-B4F2-635DF185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5827D-69F0-4DE8-99BD-B769D7DA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DE604-7356-4DB1-9DC9-0F68D62F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DF9-5344-430E-8905-4BAA74C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06D11-2B2E-4ECA-913E-56A2769D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0CE95-C767-4703-A6DC-D8A58F97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D6EFF-32CE-445D-B119-D15E3E82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C26CF-AAEF-4DA7-ABAD-219FCA47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FAF4D-4DE4-473F-93D9-83C4F672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87298-6B5B-4AFF-B2C0-4669F1D5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93ED6-1176-4F87-A822-9CADF89A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F5DC9-B139-4975-9750-605BCADD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2D07A-7EE8-480C-AF98-FEBAB2FC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8BC2F-A7AA-4D33-BD86-4D102E73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14C-1428-4978-9982-B2A7E698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78B41-E935-4437-8EEA-7130F3FC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7C327-DB50-4480-8665-06C685C1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B7E88-F204-4A2F-A339-F7EEBAF8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ED609-DCC4-426D-8802-6710C569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BABD6-D479-451C-B7B1-405AB3D8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2B847-C029-4187-B932-777DB737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A264D-B088-4C34-9AC7-5DBA5BE1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8FD32-B915-4027-A7BD-6F09FD20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3CDD8-CB00-488C-8C8A-9FCA1ECC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EACCC-83DF-4F2A-A107-9C2D7BFD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8B7B-8ECA-4878-B607-D0459796B4E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D1C5-CD21-4AC2-B064-D50BE63C46F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BC2B-CAFA-457E-926C-9EABA7205E59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A5B1-1839-4E57-AC18-B3D0DE290785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79E0-B20A-462E-8DCE-25A1BB2234EB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76E6-D0B3-4192-B3AA-831CE433CCB3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DBD7-AA61-4F7C-8CA1-98C615686B41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D6D9-6957-46F2-BAE8-FA81AE6E13D8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A900-D179-44D8-B958-D717D843913D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5090-1C40-4ED7-B2EA-9981E51C5880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DFE3-81BE-45E1-BDDA-D1477813D9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2562-66B3-4DAD-B40C-A8535A8CA41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PLACE VALUE WITH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f6fc6"/>
                </a:solidFill>
                <a:latin typeface="Mistral"/>
              </a:rPr>
              <a:t>Chapter 1.2</a:t>
            </a:r>
            <a:endParaRPr b="0" lang="en-US" sz="115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4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a decimal that has the same numb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5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0.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53.8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How do I know what kind of decimal it is?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decimal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09480" y="2895480"/>
          <a:ext cx="7925040" cy="28958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dre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advTm="27000">
    <p:cover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What are mixe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ixed decimal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e numbers with both whole numbers and decim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whole number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8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How do you rea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read a decimal correctly, first find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le numbers are to the left of the decimal point; any numbers to the right of a decimal point form a decimal f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y “and” for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 2164.511 is read as “two thousand, one hundred sixty-four </a:t>
            </a:r>
            <a:r>
              <a:rPr b="0" i="1" lang="en-US" sz="2200" spc="-1" strike="noStrike" u="sng">
                <a:solidFill>
                  <a:srgbClr val="04617b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 five hundred eleven thousandths”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9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Zeros after the decimal point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ing extra zeros after the decimal poin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es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 change the val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s 0.2, 0.20, and 0.200 are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equivalent decimals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17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Arial"/>
              </a:rPr>
              <a:t>HERE ARE SOME PRACTICE PROBLEMS IN WHICH I WILL WORK THROUGH WITH YOU TO MAKE SURE THAT YOU UNDERSTAND THE MAIN CONCEPTS CO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stral"/>
              </a:rPr>
              <a:t>Practice</a:t>
            </a:r>
            <a:endParaRPr b="0" lang="en-US" sz="96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2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1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the decim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inety-four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ee hundred thirty-six and sixty-nine hundre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2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each decimal in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884.01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592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2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12.2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0.4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3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what place (on the place value chart) is the underlined digit? Write the answ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76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780.21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2.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1:11:29Z</dcterms:created>
  <dc:creator>Natasha Khimji</dc:creator>
  <dc:description>Decimals</dc:description>
  <cp:keywords>Decimals</cp:keywords>
  <dc:language>en-US</dc:language>
  <cp:lastModifiedBy>RomaK</cp:lastModifiedBy>
  <dcterms:modified xsi:type="dcterms:W3CDTF">2015-09-04T07:39:21Z</dcterms:modified>
  <cp:revision>17</cp:revision>
  <dc:subject>Decimals</dc:subject>
  <dc:title>Decimals</dc:title>
</cp:coreProperties>
</file>