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move the slide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5CA6-B35C-400A-B22F-27183D54D7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Value with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pter 1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 decimal that has the same nu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5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53.8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I know what kind of decimal it i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e of a decimal is determined by the number of places to the right of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mixed decim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decimals are numbers with both whole numbers and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me of a whole number is determined by the number of places to the left of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number 128.765, 1 is in the hundreds place, 2 is in the tens place, 8 is in the ones place, 7 is in the tenths place, 6 is in the hundredths place, and 5 is in the thousandth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you read decimal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ad a decimal correctly, first find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are to the left of the decimal point; any numbers to the right of a decimal point form a decimal 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“and” for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cimal 2164.511 is read as “two thousand, one hundred sixty-four and five hundred eleven thousandth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s after the decim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ing extra zeros after the decimal point does not change the valu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cimals 0.2, 0.20, and 0.200 are equivalent dec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are some practice problems in which I will work through with you to make sure that you understand the main concepts cover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 decim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ve thousan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nety-four thousan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ee hundred thirty-six and sixty-nine hundredt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each decimal in wo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884.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592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2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12.2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4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hat place (on the place value chart) is the underlined digit? Write the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4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76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780.2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12.4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2.1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778A-A3B4-49C3-9E70-A1BD948C4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A905-79F5-4A4D-B00F-76F50C62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06413-7EB8-4606-9175-965C4A8C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E5CBD0-7E43-4EE8-8697-57B51D29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1C01B7-CD3A-4DCA-800E-0043C386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B863E-CE15-4703-8B78-6696ED1F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1FF5E4-473A-4292-BF56-148996D1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5DE675-520A-4695-AF1C-B3BDE942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CAD872-624B-4CF2-BAA4-0659B697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DC8FD8-9C8B-4CD8-961E-369FB7A51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56A7CB-B0B2-43B4-B2F0-BC6246B4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9920C1-1D89-4B10-804C-334AA544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F008-D656-42A4-8B2E-CAFF5918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36BFB1-F7E9-4664-B634-F86FB5A2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27C1B2-F770-4643-9C54-D1967D0E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358453-825B-4E82-84C3-0CFBD552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C089F5-DFD0-42DE-901E-59FB32A6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481C38-9B19-45D5-A2F9-97A534E9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8A5973-6ECE-4C96-9631-91F70B51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8DD868-10F7-4A63-B205-4FC050B7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BA5172-4BAB-4AD3-AED4-E221C51E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F903A5-B8E4-48A5-BCDB-B22C0ED7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6AD140-C99D-4F44-A673-3DC703FC2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AE5A-849B-4082-A6DC-6FE0E20C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AE1FFA-2093-4F83-84D5-DB84A5E40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E0518-C1B6-404B-8C7A-C00B5C4D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442F1-F0EC-4472-A946-63B92AA3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096F5-C4D4-4270-A22A-BB6754D8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1AB3A-EAAD-4B14-BD4C-47419338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EDBA5-BA1F-481D-A35F-770834A3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C7436-B1B2-4C6F-8AC3-C69D5D5A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7D04F5-A6F9-4BE5-9BA8-026873AF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762309-30BB-4B09-985D-ACA7DC5D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EC0DE-E98D-46B9-9D88-57C240F0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E956-32BA-4844-985F-8E1E88B3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3950C-E1CB-4FC5-A6D9-171BF563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38D00-F3A7-432E-9A62-EDD1952D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3C2E02-02C7-46DE-A3BC-7FC92F18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D30518-DB6A-46C7-AA45-7749CCAFD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478F5A-819B-49AD-BC96-0002AFAB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7478A7-7949-446C-9225-60A30136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F4628D-39D4-4378-A494-CF23F218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AA9854-7664-4DCA-886E-F846DC626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6C11F9-30B6-4E09-8656-675EC6DA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09012C-92BF-4F7C-AF44-ECBDD3F6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C134-536F-4DA7-B184-8CF419810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48595F-C1F3-49CA-BDF8-35728B4D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9639C7-C9D5-4FEB-A441-314A3657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A4CD55-C2D7-4C31-8A25-7FFB39D73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93EAC5-605C-4963-9EF3-3ED01A63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92C27D-3508-4EB0-A405-5193C350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DA37-C559-4612-9D81-666A895D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ADDC-4E02-4236-92DD-1E6C2A8F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563D-2BE5-4C86-8D5B-821ACA09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1592C-C8B1-472D-B70E-1FA0DB25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C749-90B2-4279-B004-7CCFE9E5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4517-B5F0-4ED6-9ED9-369E5959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8F58-7C00-4027-993B-9930C4D5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AF324-279A-4447-B2E8-6D18237B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975A-5DF2-4C13-A0DF-F9402BAC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D9DF9-0970-437E-95F2-E580B2A11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CB5C-3D0C-4C25-8F02-785C814D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F2357-4DAB-496A-8FB3-28DCD2DF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1401D-DDBD-4786-97BD-D685E1699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B6D41-730C-447C-BADD-23B7BA43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28E11-6724-4433-9821-D4028EEA9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9931D-9815-4BAB-840C-2AD791BF9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1F3-9AE5-4C60-A1B4-62DF0445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3F0C1-F9AE-4E63-842D-7FEF0CD6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5CAA5-74E5-475F-BF3F-78396998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3C2EA-1736-4D4F-9092-B82DF683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E7E9B-2EC7-4810-8852-6ED53302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0E2DB-E4BC-4A89-960E-BBB90633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4CA4E-1F81-47AF-A0D2-67185F07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5EC67-EDCB-4934-90E3-215936176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27770-849A-412C-8114-D883EAF8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FA313-EA61-48E3-92E9-45257D24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146A0-7DF1-443F-AD4F-F2964362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5385-4E0B-43CE-8E11-CD74E54F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2855D-25F1-4245-B41A-2719F814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D8B8E-6243-4D9F-8B44-57E529F3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A40CC-AE5E-48B6-8AEC-60651408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8A0F2-DD97-4C29-B579-FC93639F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D21E3-619D-4905-BDD4-5AD85CAB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D9394-0C69-478D-BB6D-3F887854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F2B4F-4E76-4976-995E-D917EB7B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7E89C-DF5A-4F86-B90C-5AE79100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35E79-69EF-4AF4-AE00-24AEEFC3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05A83-60DB-41EB-A56D-CF7C42D1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AEA2-D591-4F4A-AE1C-5913F499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25A7E-6EF9-4709-90A7-169925BF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3030F-98B3-4AD3-99DF-9AEAAD3E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5BC70-F6ED-48B2-8A7A-988E7B3A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12DB5-7DB1-4178-A718-58A98E26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79AD1-8A1A-4026-ABE8-F7B5108C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44ABE-74A8-432E-8424-74188B1C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0D698-627F-43F6-AE40-87BEE58F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423D3-EB30-4367-A846-EB7B0546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45DE7-9240-4112-9F2D-9D674A42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FFBD1-FA96-4ED5-B044-DC747564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D956-9481-4AC9-861A-0754C1B2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27183-B876-49F4-9E49-39BB2C958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FF390-0DDA-46F3-9384-D16448E3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5B4A2-9E5E-4703-AD08-C436BEC8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655CA-1409-47D0-813B-94795422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3DB9E-0BF1-4EBE-A9F3-67B14A93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FD9D9-0764-416A-872D-4685B6F7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C32C5-7EBC-44D9-8C0B-C7E9BF3F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3FAB9-2C7B-4058-AFC6-78017467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555BC-ACF0-4AFB-BA4B-707D3200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FF0C1-74BE-4181-88CA-A6C2B159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8FCC-D53B-43BA-B907-1BB1B335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16467-DC03-4B9E-A236-AB205803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A50BB-911D-494B-BEBE-EAC25773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3EEAD-9EC1-4560-BF0D-7BC6239E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A875A-20DC-43F9-8901-101ACE80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B45AB-0284-4891-A56B-C28C2275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A8EB5-A8D3-4EAE-863E-C22A4191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972D4-83AE-414C-8378-F5C1BE24A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CB63F-2EE7-47E5-BAD4-8027CF17D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BE06F-7BE6-475E-A9D7-E8163C14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CD04E-A978-40AB-9A2A-E87980CC5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2B71-B2E7-44A2-8F06-A5AE190F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68A652-244C-434C-8319-302A0960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A66CC-86EF-4189-89A0-476CC9AA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3B30F-E648-4F51-8A6B-E94C96B9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919D7-55DD-4CB6-A8F4-0DA86168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7D43F-4DF2-449B-89C7-29A0DF753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46151-18FA-406C-98DD-3D63392D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680ED-90E4-4D70-BF57-0C65FD79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74FE4-5F4E-46EF-804A-1CB794E5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73321-6AF9-4065-B7BF-5847F4AE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9169A3-ABBB-4E10-B661-B72F2194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C1DF-7DB9-4797-B6C4-7890140F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80D71-2600-4CE6-91ED-093CE97C5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B206A-C7E1-4227-8B20-F0BFD04D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E398E-5E08-4629-A3A5-36F59375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BE8FF-54C9-4A76-882A-8390217B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094B3-6717-4DB5-AEAB-E0381E16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8D7EB-A9D1-4D76-A2B4-928EB83AC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A6351-C005-4932-9EEB-9492C764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EB040E-8DFB-4545-833A-CA9E2D1B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5D78D7-817A-4C2F-BD7B-18A35303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2B79D8-C3A0-46B6-89B8-DAB416F3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8499-5AEA-4208-9F74-15F083F8D941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D533-A3EC-4B17-AA06-E735EF1D4AD4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D85B-0B0A-4EE4-8DB8-EA4FCB9DB9CC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873B-2875-43AD-B9F4-2AED32F45173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6B8A-41A0-462E-AF7B-B1089D76B30F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9D42-4976-4D47-A7BB-F084673039A3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E6F7-F11C-4F25-BAC0-9B331729DB09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F536-2734-401A-A53F-5DA484F8E9AF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75E4-ECA0-4C3F-BBA1-76B8DF8C205E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EE0F-A34F-4C80-82F1-6A9DD199A6A7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2CDC-4126-419F-B283-9C8AA7E49E8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Mistral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0F3C-3CEB-4F25-887E-AB32150EEBE2}" type="slidenum">
              <a:rPr b="0" lang="en-US" sz="1600" spc="-1" strike="noStrike">
                <a:solidFill>
                  <a:srgbClr val="08b7b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Arial"/>
              </a:rPr>
              <a:t>PLACE VALUE WITH DEC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0f6fc6"/>
                </a:solidFill>
                <a:latin typeface="Mistral"/>
              </a:rPr>
              <a:t>Chapter 1.2</a:t>
            </a:r>
            <a:endParaRPr b="0" lang="en-US" sz="11500" spc="-1" strike="noStrike">
              <a:solidFill>
                <a:srgbClr val="08b7bf"/>
              </a:solidFill>
              <a:latin typeface="Mistral"/>
            </a:endParaRPr>
          </a:p>
        </p:txBody>
      </p:sp>
    </p:spTree>
  </p:cSld>
  <p:transition advTm="6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Exercise 4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a decimal that has the same numb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.5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10.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53.809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6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6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6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6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How do I know what kind of decimal it is?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ame of a decimal is determined by the number of places to the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righ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609480" y="2895480"/>
          <a:ext cx="7925040" cy="2895840"/>
        </p:xfrm>
        <a:graphic>
          <a:graphicData uri="http://schemas.openxmlformats.org/drawingml/2006/table">
            <a:tbl>
              <a:tblPr/>
              <a:tblGrid>
                <a:gridCol w="2641680"/>
                <a:gridCol w="2641680"/>
                <a:gridCol w="264168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la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mal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dred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ousandt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advTm="27000">
    <p:cover dir="lu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What are mixed decimals?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ixed decimals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re numbers with both whole numbers and decim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ame of a whole number is determined by the number of places to the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lef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In the number 128.765, 1 is in the hundreds place, 2 is in the tens place, 8 is in the ones place, 7 is in the tenths place, 6 is in the hundredths place, and 5 is in the thousandths place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28000">
    <p:wheel spokes="3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How do you read decimals?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read a decimal correctly, first find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ole numbers are to the left of the decimal point; any numbers to the right of a decimal point form a decimal fra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ay “and” for the decimal poi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The decimal 2164.511 is read as “two thousand, one hundred sixty-four </a:t>
            </a:r>
            <a:r>
              <a:rPr b="0" i="1" lang="en-US" sz="2200" spc="-1" strike="noStrike" u="sng">
                <a:solidFill>
                  <a:srgbClr val="04617b"/>
                </a:solidFill>
                <a:uFillTx/>
                <a:latin typeface="Arial"/>
              </a:rPr>
              <a:t>and</a:t>
            </a: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 five hundred eleven thousandths”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29000">
    <p:circl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Zeros after the decimal point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ing extra zeros after the decimal point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es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 change the value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550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The decimals 0.2, 0.20, and 0.200 are </a:t>
            </a:r>
            <a:r>
              <a:rPr b="1" lang="en-US" sz="2200" spc="-1" strike="noStrike">
                <a:solidFill>
                  <a:srgbClr val="04617b"/>
                </a:solidFill>
                <a:latin typeface="Arial"/>
              </a:rPr>
              <a:t>equivalent decimals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</p:spTree>
  </p:cSld>
  <p:transition advTm="17000"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Arial"/>
              </a:rPr>
              <a:t>HERE ARE SOME PRACTICE PROBLEMS IN WHICH I WILL WORK THROUGH WITH YOU TO MAKE SURE THAT YOU UNDERSTAND THE MAIN CONCEPTS COVER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Mistral"/>
              </a:rPr>
              <a:t>Practice</a:t>
            </a:r>
            <a:endParaRPr b="0" lang="en-US" sz="9600" spc="-1" strike="noStrike">
              <a:solidFill>
                <a:srgbClr val="08b7bf"/>
              </a:solidFill>
              <a:latin typeface="Mistral"/>
            </a:endParaRPr>
          </a:p>
        </p:txBody>
      </p:sp>
    </p:spTree>
  </p:cSld>
  <p:transition advTm="2000">
    <p:comb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8b7bf"/>
                </a:solidFill>
                <a:latin typeface="Mistral"/>
              </a:rPr>
              <a:t>Exercise 1</a:t>
            </a:r>
            <a:endParaRPr b="0" lang="en-US" sz="44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the decimal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ve thousan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inety-four thousan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ree hundred thirty-six and sixty-nine hundredth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Exercise 2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rite each decimal in word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884.01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592.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.20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612.25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0.4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8b7bf"/>
                </a:solidFill>
                <a:latin typeface="Mistral"/>
              </a:rPr>
              <a:t>Exercise 3</a:t>
            </a:r>
            <a:endParaRPr b="0" lang="en-US" sz="4800" spc="-1" strike="noStrike">
              <a:solidFill>
                <a:srgbClr val="08b7bf"/>
              </a:solidFill>
              <a:latin typeface="Mistr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what place (on the place value chart) is the underlined digit? Write the answ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76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7780.21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412.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10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6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6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6T21:11:29Z</dcterms:created>
  <dc:creator>Natasha Khimji</dc:creator>
  <dc:description>Decimals</dc:description>
  <cp:keywords>Decimals</cp:keywords>
  <dc:language>en-US</dc:language>
  <cp:lastModifiedBy>RomaK</cp:lastModifiedBy>
  <dcterms:modified xsi:type="dcterms:W3CDTF">2015-09-04T07:39:21Z</dcterms:modified>
  <cp:revision>17</cp:revision>
  <dc:subject>Decimals</dc:subject>
  <dc:title>Decimals</dc:title>
</cp:coreProperties>
</file>