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move the slide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F018-39CD-400B-B794-4F974B3819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Value with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decimal that has the sam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53.8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I know what kind of decimal it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e of a decimal is determined by the number of places to the right of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mixed decim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decimals are numbers with both whole numbers and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e of a whole number is determined by the number of places to the left of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number 128.765, 1 is in the hundreds place, 2 is in the tens place, 8 is in the ones place, 7 is in the tenths place, 6 is in the hundredths place, and 5 is in the thousandth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read decim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ad a decimal correctly, first find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are to the left of the decimal point; any numbers to the right of a decimal point form a decimal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“and” for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imal 2164.511 is read as “two thousand, one hundred sixty-four and five hundred eleven thousandth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s after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extra zeros after the decimal point does not change the valu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imals 0.2, 0.20, and 0.200 are equivalent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practice problems in which I will work through with you to make sure that you understand the main concepts cover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decim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thousan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nety-four thousan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undred thirty-six and sixty-nine hundre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each decimal in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84.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92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12.2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at place (on the place value chart) is the underlined digit? Write the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4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7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80.2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2.4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2.1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6BF6-F610-470D-8211-72CF2067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157-7BEF-44EF-A5CA-C87DC441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32586-D336-4EFE-B048-FF41EE5B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7AA23-C2AA-448A-BBAC-5B095969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053240-4E21-4DD2-B0AF-FA87BFE8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530EB-8AC3-41B1-8F58-6D096AE2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41434-14AC-4035-A984-F61A7CF0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B58B0-9C13-4960-9CFB-20BD58A4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EECCD9-F64D-4F1C-844E-A4052B57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47EC8-14F7-4F63-9940-CBA8F476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022574-C653-4362-A7C6-CDD1CE51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2DDA0F-DFA6-4632-B453-845BC884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28B-BAB9-4AEE-A382-C12F868B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72048B-7859-455D-8F3F-38A0F80F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5DFB82-27A4-4D3A-A044-C63C28FF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508107-8B32-4BD2-9896-BB47EC66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FD506F-F6F5-4AEF-9B1F-B6EF70E9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1AFA87-F3CA-4A5A-BF0E-A279E71A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45642-59B3-4A36-B0AF-606F6953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00F32-8F21-456C-9FFB-24BEA0C8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80721-81D0-473A-9548-54B21D34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C26EB6-656E-4406-818A-3A2C771A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21266F-DBD8-4A58-93AE-3AF9019C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A95-9580-44FA-842F-FBD5E6A3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D0CB7-9CF2-468F-94C1-5C41DE55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8104C-A9B7-4080-92B9-90BD9C28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6AA5B-EEBA-47B2-8623-17A083CB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98D02-4682-470B-B0AA-7D02F0E5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B4B66-CC3A-49FF-B44F-5CE7538D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5CCFA-11FF-45A3-AEBB-F6CB09B8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74BFF-DEEC-4341-94DF-E1B88BA5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1A28A9-8E9B-47F9-9424-6AA1726C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C56E3-21FD-425D-AD96-1F16018F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04AED-83D6-446C-88AB-BDB70889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DA75-E4F9-4B42-9B9B-10B954D3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D3A06-BFB1-4DF6-9B8E-5FC86324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F10C5-C90F-4027-8C66-4BC8F352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06B22-2B51-47B8-BF10-4F786126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E76B3C-D49F-4608-8935-89BA2689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D23628-E42E-4960-BEC8-B30434C5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E8531-645E-43E5-A65E-743E4B3D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CCDCAB-7CA4-49D1-B00B-BDF8FFDB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A36C9-8DB0-4C49-8450-46F18A68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A6017-C865-4867-AE2A-D52113D7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1F4736-770C-4187-9FE9-E1E22CDC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5F53-4DAE-455B-80D6-DAA83E33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8751EA-29D6-43DE-A234-A41D1564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0CEDD-861E-4D58-BC4B-734BF335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AD06C8-C418-4895-A5E7-BD52EB06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16892E-1E3F-47AF-B594-514E3B43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420510-F7C0-4041-9277-E2919FEB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38AD-8EBC-45CD-B656-DAB60E17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37E1-8667-49AC-9F5E-CB156D42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8043-510A-410A-84D4-8A94A284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30A8-8193-439E-A491-297B2703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1A02-A702-4908-A22E-4AD73F82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337A-0E0B-45DA-BF1A-60F7CF68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7649-FE80-4569-9488-6DB7B154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7A82-BE76-4E4B-B5DC-D8D99471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9D9F-27E2-4509-9358-4F12C3BF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AEB6-8A53-48E0-9F99-0CF83D5C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05D0-B09B-4E93-BCAC-13D4AE11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B0FF3-5EFE-42B5-8172-F960800B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07C31-547A-43E5-AB8E-755534E7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904E4-42BB-4628-9D30-16E49642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5B8FB-5B68-4A7C-A24C-23B8118B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57BB6-D814-48AE-BB39-DB7FC64E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BC06-5E2A-4F71-99F7-F53C9EA8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2B21C-ED31-44E6-BA25-C27D6FA4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3A19D-FFEC-4160-8587-DA7A2DEF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96FCA-9FD5-4CE4-84EF-923F5A35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E0AD8-9C23-42F7-83BF-9A9BE17D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8749F-8A9B-4441-8201-9FA9C106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0FE09-3A98-4A64-823E-000B2AFB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E1E60-540C-429C-8429-712CBD8B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005E4-D2CB-4E3C-A21C-AAA08DD2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C65E4-52BD-458C-AD51-8FEE4C3A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89414-95EF-44A7-B12B-B30603AC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09F9-350D-4D46-BA60-3D44745F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5B415-AF5C-4952-8FDF-A07395ED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4584C-2C83-4A87-9289-57386D1B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57A00-3449-4DF1-B80C-4A4A9B3D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2F10D-080D-477F-9DDC-FF100EF3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1DA02-0683-4D19-A4CA-4627657D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C9A38-0A70-4512-BA86-03DF19BB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8DCCA-6415-4C6B-9DAC-8606CB65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DF540-3E00-4025-BA93-07352DFA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090F9-18C3-4F2F-9963-916A1FE7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38E73-5EFD-4F00-AB59-94949CFA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859E-8AAD-4416-8A0D-BDABF806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3F4D0-F667-45B4-825D-FF54FB3D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7AA19-C6F1-4076-8FA3-C6AB61BA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55F89-0562-4D6B-8A35-E6FCB941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A9C1F-8C1B-4A3F-ABFD-9B356A8A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96C09-016A-4452-B4F7-415EB582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8E5F7-3345-41A3-8EA1-B159D902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8CF33-EC81-4B5B-9C37-AF02289E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F4CF9-6C6E-4546-B092-C1283DAE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36906-2930-40F1-B501-0EFAFEE1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4AFA8-C9C9-48C9-9692-7F0D8261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8D9E-2AD0-495E-8397-DC2A82D3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3B9E8-1F13-46A4-8873-69AEE9C9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21157-0288-4D79-849B-16C138C9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9729F-D44E-41FA-8A98-A066CCC0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2E090-8795-4E04-B30A-E363F51C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A2073-A7BC-4AFB-980D-E17C80B1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3E36F-EE4B-4F2C-A77B-814127E0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0BF57-2D30-47DB-8E74-4B8F16E0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0E2BB-55F4-4746-B784-14066DE3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B2985-D6ED-481E-9B67-255FF4EB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8C2A4-979F-4BD8-95DE-9686BACA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0B6-8A95-4318-9FD7-9E3A6B5A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212B6-0BD0-4E5B-B556-9E4D2F0A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EE54C-FDD9-4E0E-882B-DE75A358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7AE23-F723-4A91-9454-6E067ABF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873D9-0C13-48CD-B34A-250FCF6E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99285-556A-46E0-B0E7-9DFA193C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F70F2-5174-429A-83D1-FFA06B16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23014-B6D6-4B49-928B-BAD62A87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B5B1F-7353-45EF-B669-2EF200DE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A62DC-E517-49ED-B3DA-F6CA4080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E5861-01ED-4F73-A72C-09931004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B5AC-2917-4693-9194-408514EA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50524-1CD9-47A1-A4C8-B8852849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07CFE-9B10-446C-8D99-477A9521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B7954-210C-480B-9F29-3B15723F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AB5B4-6464-4801-9790-ACF849E1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FDA65-72AC-479E-9A73-27DBDD4A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02A98-0DF3-4EF3-903F-9E782C31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721AD-C418-4AC1-B5A7-01FDE145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AB5AD-3A86-477B-88E4-F3F4F9D1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8B0B3-2E2D-4BCA-9EE6-1D6B4CBC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242AF-F620-42A1-A2CE-5E5FD164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1C50-5A86-4088-8A98-B1D93700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49864-3424-4BE6-9128-5F648676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1C3EA-08A7-4B7E-872D-BB851DF7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0607B-A061-4AEA-8146-8A008E5B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F6E80-620C-4768-94AE-2247728C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B51F1-15C3-4493-B198-6193EEE9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71DC7-BA14-4FD5-B65C-C2CD528F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11E2D-BF83-47AE-A9A5-10BA2A56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10263-65E7-4403-8D53-2556D4D6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5506D0-9BB4-4ECC-8560-0F4CCFBD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C1C5EE-E2D1-47A4-B747-9687DCEA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DB67-7220-411F-8876-F536F469B639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884B-DC1C-42A6-B81E-810369936C24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FF64-C79E-486C-BD02-21A2AA5D4B77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13B2-9A22-4D87-ADF7-DF5AAA5707A0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C4C0-4B48-4CF2-A771-2699E3131F41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A402-402B-4E60-B778-2B36B8BD4956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1C90-188F-4E5D-BE90-A8053094DBB2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E4C3-026C-43EA-8F82-0A75DC927020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CCC9-6BF6-413B-9514-FFBD149D99AC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59E8-6537-484A-AC79-66F167910810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71C0-1EEC-4F69-871A-BB0FE5AA71A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56C5-49A2-451B-9CD3-12357C755A61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PLACE VALUE WITH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f6fc6"/>
                </a:solidFill>
                <a:latin typeface="Mistral"/>
              </a:rPr>
              <a:t>Chapter 1.2</a:t>
            </a:r>
            <a:endParaRPr b="0" lang="en-US" sz="11500" spc="-1" strike="noStrike">
              <a:solidFill>
                <a:srgbClr val="08b7bf"/>
              </a:solidFill>
              <a:latin typeface="Mistral"/>
            </a:endParaRPr>
          </a:p>
        </p:txBody>
      </p:sp>
    </p:spTree>
  </p:cSld>
  <p:transition advTm="6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Exercise 4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a decimal that has the same numb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.5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10.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53.8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How do I know what kind of decimal it is?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ame of a decimal is determined by the number of places to th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righ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609480" y="2895480"/>
          <a:ext cx="7925040" cy="289584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l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dred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sand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advTm="27000">
    <p:cover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What are mixed decimals?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ixed decimal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re numbers with both whole numbers and decim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ame of a whole number is determined by the number of places to th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lef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In the number 128.765, 1 is in the hundreds place, 2 is in the tens place, 8 is in the ones place, 7 is in the tenths place, 6 is in the hundredths place, and 5 is in the thousandths place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28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How do you read decimals?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read a decimal correctly, first find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ole numbers are to the left of the decimal point; any numbers to the right of a decimal point form a decimal fra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y “and” for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The decimal 2164.511 is read as “two thousand, one hundred sixty-four </a:t>
            </a:r>
            <a:r>
              <a:rPr b="0" i="1" lang="en-US" sz="2200" spc="-1" strike="noStrike" u="sng">
                <a:solidFill>
                  <a:srgbClr val="04617b"/>
                </a:solidFill>
                <a:uFillTx/>
                <a:latin typeface="Arial"/>
              </a:rPr>
              <a:t>and</a:t>
            </a: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 five hundred eleven thousandths”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29000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Zeros after the decimal point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ing extra zeros after the decimal poin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es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 change the valu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The decimals 0.2, 0.20, and 0.200 are 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equivalent decimals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17000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Arial"/>
              </a:rPr>
              <a:t>HERE ARE SOME PRACTICE PROBLEMS IN WHICH I WILL WORK THROUGH WITH YOU TO MAKE SURE THAT YOU UNDERSTAND THE MAIN CONCEPTS COVE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istral"/>
              </a:rPr>
              <a:t>Practice</a:t>
            </a:r>
            <a:endParaRPr b="0" lang="en-US" sz="9600" spc="-1" strike="noStrike">
              <a:solidFill>
                <a:srgbClr val="08b7bf"/>
              </a:solidFill>
              <a:latin typeface="Mistral"/>
            </a:endParaRPr>
          </a:p>
        </p:txBody>
      </p:sp>
    </p:spTree>
  </p:cSld>
  <p:transition advTm="2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Exercise 1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the decim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ve thousan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inety-four thousan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ree hundred thirty-six and sixty-nine hundre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Exercise 2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each decimal in w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884.01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592.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.2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12.25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0.4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Exercise 3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what place (on the place value chart) is the underlined digit? Write the answ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76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780.21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12.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21:11:29Z</dcterms:created>
  <dc:creator>Natasha Khimji</dc:creator>
  <dc:description>Decimals</dc:description>
  <cp:keywords>Decimals</cp:keywords>
  <dc:language>en-US</dc:language>
  <cp:lastModifiedBy>RomaK</cp:lastModifiedBy>
  <dcterms:modified xsi:type="dcterms:W3CDTF">2015-09-04T07:39:21Z</dcterms:modified>
  <cp:revision>17</cp:revision>
  <dc:subject>Decimals</dc:subject>
  <dc:title>Decimals</dc:title>
</cp:coreProperties>
</file>