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32ED-CE42-4943-8766-A3D92161C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9BB-4D8C-4BE4-939F-654D94CF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948-8041-4D47-B508-155F1112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755-30AA-40C1-8FC9-72CCCEDE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F2B-0A85-48D1-8B33-809402EB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851-327F-42BD-ACD1-75B2A7A3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A3D-C514-46EC-9BCF-0F2B462D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690-2A49-415F-9F4F-307218DA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FB1-991C-459F-B0EC-6C14944C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660-87EE-4161-92F2-0C70E73A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288-A750-4EF3-A4AA-646B513A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B18-C454-4DE2-8724-3DA9174F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181-F43A-4E03-8B64-3C7A7191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38F5-7C9E-4264-9705-0F1AF8BD3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0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RomaK</cp:lastModifiedBy>
  <dcterms:modified xsi:type="dcterms:W3CDTF">2015-09-04T07:39:27Z</dcterms:modified>
  <cp:revision>10</cp:revision>
  <dc:subject/>
  <dc:title>Directly and inversely proportional</dc:title>
</cp:coreProperties>
</file>