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DE4B6-2EAA-4905-829D-B549467E6AC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=m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F/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=1/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=F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s directly proportional to the , X directly proportional to the L and inversely proportional to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 = (XL)/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direct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is inveresly proportional to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A06D-0DFB-4A79-9B60-0536F0056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ABA7-9AD8-4F52-BBB5-DF30B1D13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052-3FDE-43F0-B75D-F69D3CF75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49D6-6471-41BB-BBBD-CFD060E6E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FFF1-B0A3-4B6B-997D-DA280A0FD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7F0-8E17-4F1F-A972-CE4DFA60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76FE-872E-4FE4-A16B-0FD18E35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029A-CC84-4334-8D53-D7CA6B5FE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E52-571E-4351-802C-8D63AECE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1D13-FD81-4E25-BF98-1B270E13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B54A-9864-4F82-AC0C-17F49FA4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DE57-E048-4F81-B9A3-BA5D9045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01C8-E843-43C6-B1CF-6A08C6A68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rectly and inversely proport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th student whiteboards, or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- a mini lesson on writing equations based on definitions that use the words directly and inversely propor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weight(w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directly proportional to acceleration due to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w=mg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Pressure(P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direct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nd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3048120" y="495288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P=F/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2ccf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Frequency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is inversely proportional to the </a:t>
            </a:r>
            <a:r>
              <a:rPr b="0" lang="en-US" sz="4800" spc="-1" strike="noStrike">
                <a:solidFill>
                  <a:srgbClr val="ff3300"/>
                </a:solidFill>
                <a:latin typeface="Arial"/>
              </a:rPr>
              <a:t>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124080" y="3962520"/>
            <a:ext cx="335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f=1/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Acceleration(a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is direct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Force(F)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and inversely proportional to the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3048120" y="480060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a=F/m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solidFill>
            <a:srgbClr val="f5d4a9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is directly proportional to the ,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directly proportional to the 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and inversely proportional to the</a:t>
            </a:r>
            <a:r>
              <a:rPr b="0" lang="en-US" sz="6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06668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3048120" y="4952880"/>
            <a:ext cx="4647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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= (</a:t>
            </a:r>
            <a:r>
              <a:rPr b="0" lang="en-US" sz="5400" spc="-1" strike="noStrike">
                <a:solidFill>
                  <a:srgbClr val="ff3300"/>
                </a:solidFill>
                <a:latin typeface="Wingdings"/>
                <a:ea typeface="Wingdings"/>
              </a:rPr>
              <a:t>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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/</a:t>
            </a:r>
            <a:r>
              <a:rPr b="0" lang="en-US" sz="40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en-US" sz="8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2514600" y="831960"/>
                <a:ext cx="3962520" cy="36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00ff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0"/>
          <p:cNvSpPr/>
          <p:nvPr/>
        </p:nvSpPr>
        <p:spPr>
          <a:xfrm flipV="1">
            <a:off x="3505320" y="1600200"/>
            <a:ext cx="1828800" cy="53352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1"/>
          <p:cNvSpPr/>
          <p:nvPr/>
        </p:nvSpPr>
        <p:spPr>
          <a:xfrm>
            <a:off x="3505320" y="3124080"/>
            <a:ext cx="1600200" cy="533520"/>
          </a:xfrm>
          <a:prstGeom prst="line">
            <a:avLst/>
          </a:prstGeom>
          <a:ln w="7632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1523880" y="1828800"/>
                <a:ext cx="6019920" cy="24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B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6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80008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directly proportional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8"/>
          <p:cNvSpPr/>
          <p:nvPr/>
        </p:nvSpPr>
        <p:spPr>
          <a:xfrm flipV="1">
            <a:off x="2819520" y="2514600"/>
            <a:ext cx="2361960" cy="76320"/>
          </a:xfrm>
          <a:prstGeom prst="line">
            <a:avLst/>
          </a:prstGeom>
          <a:ln w="572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1"/>
          <p:cNvGrpSpPr/>
          <p:nvPr/>
        </p:nvGrpSpPr>
        <p:grpSpPr>
          <a:xfrm>
            <a:off x="2971800" y="1752480"/>
            <a:ext cx="3352680" cy="533520"/>
            <a:chOff x="2971800" y="1752480"/>
            <a:chExt cx="3352680" cy="533520"/>
          </a:xfrm>
        </p:grpSpPr>
        <p:sp>
          <p:nvSpPr>
            <p:cNvPr id="60" name="Line 9"/>
            <p:cNvSpPr/>
            <p:nvPr/>
          </p:nvSpPr>
          <p:spPr>
            <a:xfrm flipV="1">
              <a:off x="2971800" y="1752480"/>
              <a:ext cx="2666880" cy="5335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>
              <a:off x="5562720" y="1828800"/>
              <a:ext cx="761760" cy="4572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equ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286000" y="1295280"/>
                <a:ext cx="4495680" cy="331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5"/>
          <p:cNvSpPr/>
          <p:nvPr/>
        </p:nvSpPr>
        <p:spPr>
          <a:xfrm>
            <a:off x="685800" y="5029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to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33520" y="59436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A is </a:t>
            </a:r>
            <a:r>
              <a:rPr b="1" lang="en-US" sz="3200" spc="-1" strike="noStrike" u="sng">
                <a:solidFill>
                  <a:srgbClr val="00cc00"/>
                </a:solidFill>
                <a:uFillTx/>
                <a:latin typeface="Arial"/>
              </a:rPr>
              <a:t>inveresly proportional</a:t>
            </a:r>
            <a:r>
              <a:rPr b="0" lang="en-US" sz="3200" spc="-1" strike="noStrike">
                <a:solidFill>
                  <a:srgbClr val="00cc00"/>
                </a:solidFill>
                <a:latin typeface="Arial"/>
              </a:rPr>
              <a:t> t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7"/>
          <p:cNvSpPr/>
          <p:nvPr/>
        </p:nvSpPr>
        <p:spPr>
          <a:xfrm>
            <a:off x="3200400" y="2666880"/>
            <a:ext cx="2819520" cy="53352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8"/>
          <p:cNvSpPr/>
          <p:nvPr/>
        </p:nvSpPr>
        <p:spPr>
          <a:xfrm>
            <a:off x="3200400" y="2819520"/>
            <a:ext cx="1905120" cy="8380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your whiteboards- practice writing the equations according to the definitions provid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weight(w) is directly proportional to mass(m) and directly proportional to acceleration due to gravity(g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af0a4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ressure(P) is directly proportional to the Force(F)and inversely proportional to the area(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f4d4f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requency(f) is inversely proportional to the time(t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solidFill>
            <a:srgbClr val="aafda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Acceleration(a)  is directly proportional to the Force(F) and inversely proportional to the mass(m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143000" y="304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15:42:34Z</dcterms:created>
  <dc:creator>administrator</dc:creator>
  <dc:description/>
  <dc:language>en-US</dc:language>
  <cp:lastModifiedBy>RomaK</cp:lastModifiedBy>
  <dcterms:modified xsi:type="dcterms:W3CDTF">2015-09-04T07:39:27Z</dcterms:modified>
  <cp:revision>10</cp:revision>
  <dc:subject/>
  <dc:title>Directly and inversely proportional</dc:title>
</cp:coreProperties>
</file>