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00BC-0B1C-406D-9E79-15380F85C8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7AC-CD28-4117-B852-A4428B0E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3B9-7FF8-490E-BE87-0FD000F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1E8-8C93-4EBE-A506-E837A535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59A-FF87-475C-9E75-FF215049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14E9F-0DD0-4FAD-80C0-1FC6B9F3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42523-088F-4632-B3DE-DD1CF919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6D491-7DF6-483B-9889-C9088C5D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E90A4-ACB6-4CAF-86CD-7B5B6DD5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760ED-A987-4042-8F6B-8C5F55F6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13588-AA6D-4D9E-BF14-A354DCE0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0AE7D-6582-4635-AE06-2F045E39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8A0-05DC-4E75-B3E4-FC131DB1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C1993-6E81-460A-AFF7-ECFDC60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D78E3-ABD4-40DB-9A7D-A06F788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A7715-B175-4BC7-B6D6-953F82E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5B60F-5A4F-4CA1-9BAD-12B81B9F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B3D20-4CFF-48EA-B60D-BFA8372D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A91-83BC-41A8-A67A-C0BC0B6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9D9-9C0D-4E56-ACAB-29013083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114-8771-469C-A2DD-0E28C0CD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BC8-67C4-4AD1-A05D-C1EA771D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B03-86C0-412C-85B7-68F7A557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C72-C751-46D9-A080-72B58DBD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772-A6AB-4224-A8CE-532ED236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96E-3F86-4708-B669-048BF461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77E6-EEFA-4FD5-8482-9BC174B72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viding F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. Emerlina C. Binu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6400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t the di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ivision sig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 multiplication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ancel if you c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numerato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denom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08260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divide fractions and whole number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Write the whole number as a fraction. Use 1 as the denomin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 3 ÷2/3 =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  Write the whole number as a Fraction.  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 Invert the divisor. Change the division sign to a multiplication sign. 3/1 x 3/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067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 Multiply the numerators and denominator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x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9/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1x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4. Write the improper fraction as a mixed number.   9/2 = 4  and 1/2.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inder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ange an improper fraction to a mixed number, divide the numerator by the denominator. Put the remainder ove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89548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54:18Z</dcterms:created>
  <dc:creator>emerlina binuya</dc:creator>
  <dc:description/>
  <dc:language>en-US</dc:language>
  <cp:lastModifiedBy>RomaK</cp:lastModifiedBy>
  <dcterms:modified xsi:type="dcterms:W3CDTF">2015-09-04T07:39:34Z</dcterms:modified>
  <cp:revision>11</cp:revision>
  <dc:subject/>
  <dc:title>Dividing Fractions</dc:title>
</cp:coreProperties>
</file>