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explode.wav" ContentType="audio/x-wav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24A5-F467-4337-9E14-E1F2320EE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written in the for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a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 const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Functions are written in the for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a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 const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orking with exponential equations, the Laws of Exponents still hold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orking with exponential equations, the Laws of Exponents still hold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= 4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= e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= 3-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= 2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plot (exp(x),x=-5..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plot (exp(x),x=-5..5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5C1-B360-4E5B-8A79-1186EC04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7AA1-A417-49C2-A074-B3071E56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D40-D441-40B2-8340-94BA75C9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E6D-158A-47A1-AFF0-27AE9EF8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0868-7446-4015-BC9B-40297F69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DE3-4690-4B11-8D80-5B84A2E5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C024-DB62-48C5-904A-4D5821A9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54D2-0B19-4F48-924B-E7396F88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348-7968-4666-BF78-48F8A2F0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7FFF-F013-4E6F-9D9B-A14F913F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507-39A5-43D0-AA80-9E348291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AC11-71C9-40E9-9423-DCFCACB8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F4DB-4222-457F-84F0-525442EB6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laws%20of%20exponents.ppt" TargetMode="External"/><Relationship Id="rId2" Type="http://schemas.openxmlformats.org/officeDocument/2006/relationships/hyperlink" Target="file:///laws%20of%20exponents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E&amp;D"/>
          <p:cNvPicPr/>
          <p:nvPr/>
        </p:nvPicPr>
        <p:blipFill>
          <a:blip r:embed="rId1"/>
          <a:stretch/>
        </p:blipFill>
        <p:spPr>
          <a:xfrm>
            <a:off x="304920" y="225360"/>
            <a:ext cx="8610480" cy="64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8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5715000" cy="43974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27"/>
          <p:cNvSpPr/>
          <p:nvPr/>
        </p:nvSpPr>
        <p:spPr>
          <a:xfrm>
            <a:off x="228600" y="685800"/>
            <a:ext cx="3733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Exponential Functions are functions which can be represented by graphs similar to the graph on the 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68580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base exponential functions are similar because they all go through the point (0,1), regardless of the size of their bas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-95400" y="2590920"/>
            <a:ext cx="93348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Exponential Functions are written in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y = ab</a:t>
            </a:r>
            <a:r>
              <a:rPr b="1" lang="en-US" sz="60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= consta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 = bas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 =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2558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solving exponential equations, it is important to have both sides of the equation set to the same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working with exponential equations, th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Laws of Exponents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ill hold tr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81000" y="1295280"/>
                <a:ext cx="35910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3657600" y="1295280"/>
                <a:ext cx="3068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6553080" y="1295280"/>
                <a:ext cx="15670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7"/>
              <p:cNvSpPr txBox="1"/>
              <p:nvPr/>
            </p:nvSpPr>
            <p:spPr>
              <a:xfrm>
                <a:off x="8153280" y="1447920"/>
                <a:ext cx="587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3"/>
              <p:cNvSpPr txBox="1"/>
              <p:nvPr/>
            </p:nvSpPr>
            <p:spPr>
              <a:xfrm>
                <a:off x="1089000" y="4343400"/>
                <a:ext cx="3483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4"/>
              <p:cNvSpPr txBox="1"/>
              <p:nvPr/>
            </p:nvSpPr>
            <p:spPr>
              <a:xfrm>
                <a:off x="4572000" y="4191120"/>
                <a:ext cx="342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5"/>
              <p:cNvSpPr txBox="1"/>
              <p:nvPr/>
            </p:nvSpPr>
            <p:spPr>
              <a:xfrm>
                <a:off x="609480" y="5410080"/>
                <a:ext cx="29941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6"/>
              <p:cNvSpPr txBox="1"/>
              <p:nvPr/>
            </p:nvSpPr>
            <p:spPr>
              <a:xfrm>
                <a:off x="3657600" y="5486400"/>
                <a:ext cx="2612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7"/>
              <p:cNvSpPr txBox="1"/>
              <p:nvPr/>
            </p:nvSpPr>
            <p:spPr>
              <a:xfrm>
                <a:off x="6248520" y="5410080"/>
                <a:ext cx="1904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18"/>
          <p:cNvSpPr/>
          <p:nvPr/>
        </p:nvSpPr>
        <p:spPr>
          <a:xfrm>
            <a:off x="8077320" y="1371600"/>
            <a:ext cx="76176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6248520" y="5410080"/>
            <a:ext cx="1904760" cy="762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523880" y="0"/>
            <a:ext cx="609624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914400" y="502920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ellow = 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Green = e</a:t>
            </a:r>
            <a:r>
              <a:rPr b="1" lang="en-US" sz="3600" spc="-1" strike="noStrike" baseline="30000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lack = 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d = 2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0" y="1371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As you could see in the graph, the larger the base, the faster the function increa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3505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place a negative sign in front of the x, the graphs will be reflected(flipped) across the 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447920" y="0"/>
            <a:ext cx="6248160" cy="5168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952560" y="5105520"/>
            <a:ext cx="7238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ellow = 4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Green = e</a:t>
            </a:r>
            <a:r>
              <a:rPr b="1" lang="en-US" sz="3600" spc="-1" strike="noStrike" baseline="30000">
                <a:solidFill>
                  <a:srgbClr val="339933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lack = 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d = 2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-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3"/>
          <p:cNvGraphicFramePr/>
          <p:nvPr/>
        </p:nvGraphicFramePr>
        <p:xfrm>
          <a:off x="457200" y="1752480"/>
          <a:ext cx="2533680" cy="458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2533680" cy="45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4"/>
          <p:cNvGraphicFramePr/>
          <p:nvPr/>
        </p:nvGraphicFramePr>
        <p:xfrm>
          <a:off x="2971800" y="1828800"/>
          <a:ext cx="5867280" cy="444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828800"/>
                    <a:ext cx="5867280" cy="44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 Box 30"/>
          <p:cNvSpPr/>
          <p:nvPr/>
        </p:nvSpPr>
        <p:spPr>
          <a:xfrm>
            <a:off x="647640" y="304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using Microsoft Excel, we can make a table of values and a graph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4800600" y="1295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 = 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04920" y="228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also use Maple 7 to plot exponenti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28600" y="91440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lot (exp(x),x=-5..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3:16:48Z</dcterms:created>
  <dc:creator>Chester Area School</dc:creator>
  <dc:description/>
  <dc:language>en-US</dc:language>
  <cp:lastModifiedBy>RomaK</cp:lastModifiedBy>
  <dcterms:modified xsi:type="dcterms:W3CDTF">2015-09-04T07:39:39Z</dcterms:modified>
  <cp:revision>38</cp:revision>
  <dc:subject/>
  <dc:title>PowerPoint Presentation</dc:title>
</cp:coreProperties>
</file>