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wmf" ContentType="image/x-wmf"/>
  <Override PartName="/ppt/media/image4.png" ContentType="image/png"/>
  <Override PartName="/ppt/media/image11.jpeg" ContentType="image/jpeg"/>
  <Override PartName="/ppt/media/image9.gif" ContentType="image/gif"/>
  <Override PartName="/ppt/media/image10.wmf" ContentType="image/x-wmf"/>
  <Override PartName="/ppt/media/image7.jpeg" ContentType="image/jpeg"/>
  <Override PartName="/ppt/media/image20.jpeg" ContentType="image/jpeg"/>
  <Override PartName="/ppt/media/image19.gif" ContentType="image/gif"/>
  <Override PartName="/ppt/media/image18.gif" ContentType="image/gif"/>
  <Override PartName="/ppt/media/image5.png" ContentType="image/png"/>
  <Override PartName="/ppt/media/image8.jpeg" ContentType="image/jpeg"/>
  <Override PartName="/ppt/media/image1.jpeg" ContentType="image/jpeg"/>
  <Override PartName="/ppt/media/image15.wmf" ContentType="image/x-wmf"/>
  <Override PartName="/ppt/media/image2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6.png" ContentType="image/png"/>
  <Override PartName="/ppt/media/image14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9725-360A-4F6D-861F-FB3DCCBF8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divides 28 exactly and gives  Quotient  7 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= 7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divides 28 exactly and gives  Quotient  7  and Remainder 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8 ÷ 4 = 7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divides 28 exactly and gives Quotient 1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divides 28 exactly and gives Quotient 1 and Remainder 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÷ 28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1  =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 =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1  =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4  =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7  =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28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FACTORS OF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   =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2   = 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4   = 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8   =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6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   =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2   = 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4   = 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8   =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6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CTORS OF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AF9-8B60-44DF-99B4-67198C4D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13E-2778-44BA-9043-91D4731A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D873D-EE36-40D2-B174-E95C7CDE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62A16-6D45-4131-9E8A-7E2CF49F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6FC44-4C14-4811-9739-3A5A8C3B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7E8B0-CD64-4FBD-860C-6B679313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99DC3-7780-4477-BE29-84377168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37673-9E29-4F8B-9F63-57AA9E9C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EB732-7AF4-42F2-8C84-9AD508F5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86F67-4694-4B54-ADB1-BC002853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57285-56AF-49DD-8BAA-C2EF381E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253-DB4D-4E7C-B582-BC344486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92A-57B7-4C57-B727-4FD699DD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BC40-02DB-4B34-955F-FFF9B35C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650A-CC1E-40F0-9E45-A07364C2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7E24-FC05-4CB5-92DF-7EC60D0E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9D30-CBC5-4DCC-B61A-6AE13E10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58B6-86BC-45C2-AB6D-811F0B31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3315-ABAB-4AB3-972D-3F594AB5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8655-D50C-4E82-8938-39C0C54E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B2B-FB7C-442D-BF81-A35808E3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4306-DB2D-4900-933A-62E777A3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EBFB-E2D2-4DC4-9647-F2142777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544C-9B8F-4261-9DF9-D43161CA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BFF1-5AAE-43C2-9611-A5EAFA70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F5B0-37B0-494C-B890-6AF0EE3F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F5CE7-09EB-42BE-81AC-4E4AA85B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4C53-04E7-42D7-A37C-449C49B3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EF4C2-B242-4573-969F-AFFD86A4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1CB19-56A7-4766-8060-5287A46C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C922F-FC04-44BE-BF74-7B942326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8EA-1EAA-4808-AB09-EDCA0D73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E12F-23B1-4302-9242-69F09F96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D5811-5DFD-4841-BEC9-8D4C5C54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88C97-66AA-4069-8CFE-91FC58CA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4210-5EA5-4484-A083-867EE050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4894B-F3CF-4A5E-BE94-97E3F2CB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A6655-B517-4A9E-9711-9FAEEFDE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55D49-72A5-4C93-B98D-43FE8593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BE2AB-125F-4C62-B462-421FD170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522DD-79BA-4D94-AEA8-80FAA1DB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24F09-D977-408F-891D-760E16A1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961-A00A-4E95-8035-BA0B12F0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845D7-440A-44D6-90DD-98B5D83D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416FD-C912-47B8-AC21-E0AA5170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7BCE2-C164-4C81-AE5F-3D5504AE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53716-98CD-48FB-833C-A683D2BD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6F4AA-4F15-4C03-BC22-A158CC9B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918B9-41C3-4F49-B1D6-BDB81B8C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3C6E5-9E0B-4AD9-9EF0-4CC192BC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F349C-CD0F-496F-B58F-28A2E5D7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E3FE9-571D-4AE3-8828-7A881A94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71D26-4C45-44A7-91E5-75DC5EA2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004-2D7A-4D67-B896-78C96CED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218F2-0D03-4AA7-BBAA-0656F35F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AD099-E718-4287-BC2E-A298AAD5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CCC1D-25C9-4F70-8C80-A51A839F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2AD1C-975F-4426-80A3-989E7905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85F0B-EE20-4723-8542-ABEDF35D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04F58-1EC4-4B8C-AFA6-2898D743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B311A-A2D4-417D-8A22-CEE5690F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408E6-8674-49CA-9806-801C9BD9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A44F3-1072-454A-8A5C-B3CC2313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C0EB6-F76C-4268-9421-556C8DD3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3863-C327-421B-B643-0653F50F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FF96B-A42D-46B1-8CA5-9126E56C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7FE51-B74F-4294-B520-6B9782FC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10613-2412-41B2-98D3-3F29007B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B7520-947A-4695-90D2-5F7845D5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9881C-0201-4EFC-8641-87C573A2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B0B93-FDCA-47A4-9F3C-307C629D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C6BEF-8BC8-47B9-BAC2-7F25E327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9A1F6-E945-4E2F-8CA4-E9F47C4F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498CB-0EEB-46B8-8BD7-F9A55666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B3ACB-3B8D-4BE2-A2E7-2EB2BFE6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097-CDC2-40EA-8C50-8AEBCE14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53684-0A14-4B65-B821-139C35F7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C47D0-95EF-4585-A25B-6598F251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B38EA-CE92-43F5-9F05-C55A1DF3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85BA7-9A52-42DB-812B-AD370D1D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49886-AEEF-4C0D-9935-B0F319C7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396E9-A48F-4FFA-9E4B-91B9C6FE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AB8AA-9721-4714-801C-8A61C59C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49C8A-F229-4599-AAA7-71ED3873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075A0-04FE-41BA-8675-BEE6566C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1F5B6-56D1-455C-A05F-9B106211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BB6-209E-4D86-AD34-4D27300C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01C79-8648-4788-A1D0-4A832CF5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E3DA3-B75F-4475-97D7-CC3BC5FF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FE46A-11B1-4AB2-AAD9-A3CF0ED8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DADB5-E84D-4519-BEC0-73735820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41B1A-7456-464A-82F8-93F32987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67782-B9BB-4BEF-BCB2-579E7896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95F66-2B0A-4E19-BDA0-276BE99C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00A2F-7348-4FC6-9A48-B0623D59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BEA36-865C-4F00-83E2-80E5F3BA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22FBB-A078-4D72-8AFD-EF1CC84D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D368-78C9-4041-9434-6ABD5674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639E9-1FA7-4AD4-BBD9-BF23E1FF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DA580-D73A-4ED9-9D06-0AE318AA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57622-EA96-46DF-8F80-ADD67B1F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EE9BE-F657-412C-8980-685F26E3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9C4A8-497C-44A4-96EF-5A1317AB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5C6B0-EDB6-47EC-9B93-1B90D9AF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395FF-43B4-4AFA-A912-040D49C1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3403D-BC2B-4F6E-A4C8-6A9E3C47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DB290-0A79-48F6-8467-5A655398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8E519-391C-493B-88B6-5285DABF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CE94-F8C6-4B8D-BF96-80FE9D9B8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727E-A9D2-467F-B7ED-53B680958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1AFD-B429-49FF-8324-B4D98FA50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2EEA-0E71-47DA-B318-DB27A481E73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6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CAEC-4830-4D74-8F73-FA2655989C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BAD8-3B5D-4399-9116-F6A9B46B0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5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5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6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8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0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1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E64F-AB62-417B-8227-4324BF2D6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5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7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55AD-8A41-4DE5-AD9F-AD0ED7588A4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25D7-6B1C-451F-808B-71DBAA6236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" Target="slide30.xml"/><Relationship Id="rId12" Type="http://schemas.openxmlformats.org/officeDocument/2006/relationships/slide" Target="slide29.xml"/><Relationship Id="rId13" Type="http://schemas.openxmlformats.org/officeDocument/2006/relationships/slide" Target="slide29.xml"/><Relationship Id="rId14" Type="http://schemas.openxmlformats.org/officeDocument/2006/relationships/slide" Target="slide30.xml"/><Relationship Id="rId15" Type="http://schemas.openxmlformats.org/officeDocument/2006/relationships/slide" Target="slide29.xml"/><Relationship Id="rId16" Type="http://schemas.openxmlformats.org/officeDocument/2006/relationships/slide" Target="slide30.xml"/><Relationship Id="rId17" Type="http://schemas.openxmlformats.org/officeDocument/2006/relationships/slide" Target="slide30.xml"/><Relationship Id="rId18" Type="http://schemas.openxmlformats.org/officeDocument/2006/relationships/slide" Target="slide29.xml"/><Relationship Id="rId19" Type="http://schemas.openxmlformats.org/officeDocument/2006/relationships/slide" Target="slide29.xml"/><Relationship Id="rId20" Type="http://schemas.openxmlformats.org/officeDocument/2006/relationships/slide" Target="slide30.xml"/><Relationship Id="rId21" Type="http://schemas.openxmlformats.org/officeDocument/2006/relationships/slide" Target="slide29.xml"/><Relationship Id="rId22" Type="http://schemas.openxmlformats.org/officeDocument/2006/relationships/slide" Target="slide30.xml"/><Relationship Id="rId23" Type="http://schemas.openxmlformats.org/officeDocument/2006/relationships/slide" Target="slide30.xml"/><Relationship Id="rId24" Type="http://schemas.openxmlformats.org/officeDocument/2006/relationships/slide" Target="slide29.xml"/><Relationship Id="rId25" Type="http://schemas.openxmlformats.org/officeDocument/2006/relationships/slide" Target="slide29.xml"/><Relationship Id="rId26" Type="http://schemas.openxmlformats.org/officeDocument/2006/relationships/slide" Target="slide30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0.xml"/><Relationship Id="rId30" Type="http://schemas.openxmlformats.org/officeDocument/2006/relationships/slide" Target="slide29.xml"/><Relationship Id="rId31" Type="http://schemas.openxmlformats.org/officeDocument/2006/relationships/slideLayout" Target="../slideLayouts/slideLayout13.xml"/><Relationship Id="rId3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CECD-5DCF-470B-96D3-F8A9789743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CTORS                &amp;                          MULTIPLE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.US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GT ( MATHEMATIC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V,GILL NA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ENNA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0" name="Picture 4" descr=""/>
          <p:cNvPicPr/>
          <p:nvPr/>
        </p:nvPicPr>
        <p:blipFill>
          <a:blip r:embed="rId1"/>
          <a:stretch/>
        </p:blipFill>
        <p:spPr>
          <a:xfrm>
            <a:off x="6477120" y="3048120"/>
            <a:ext cx="2361960" cy="3581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MCj02320550000[1]"/>
          <p:cNvPicPr/>
          <p:nvPr/>
        </p:nvPicPr>
        <p:blipFill>
          <a:blip r:embed="rId2"/>
          <a:stretch/>
        </p:blipFill>
        <p:spPr>
          <a:xfrm>
            <a:off x="76320" y="2616120"/>
            <a:ext cx="1992240" cy="1422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MPj03993470000[1]"/>
          <p:cNvPicPr/>
          <p:nvPr/>
        </p:nvPicPr>
        <p:blipFill>
          <a:blip r:embed="rId3"/>
          <a:stretch/>
        </p:blipFill>
        <p:spPr>
          <a:xfrm>
            <a:off x="228600" y="4979880"/>
            <a:ext cx="2362320" cy="1573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0" descr="MCj03552490000[1]"/>
          <p:cNvPicPr/>
          <p:nvPr/>
        </p:nvPicPr>
        <p:blipFill>
          <a:blip r:embed="rId4"/>
          <a:stretch/>
        </p:blipFill>
        <p:spPr>
          <a:xfrm>
            <a:off x="6934320" y="762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"/>
          <p:cNvPicPr/>
          <p:nvPr/>
        </p:nvPicPr>
        <p:blipFill>
          <a:blip r:embed="rId5"/>
          <a:stretch/>
        </p:blipFill>
        <p:spPr>
          <a:xfrm>
            <a:off x="76320" y="-763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6426-E119-4BF7-8576-8079C538229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Picture 4" descr="j0299763"/>
          <p:cNvPicPr/>
          <p:nvPr/>
        </p:nvPicPr>
        <p:blipFill>
          <a:blip r:embed="rId1"/>
          <a:stretch/>
        </p:blipFill>
        <p:spPr>
          <a:xfrm>
            <a:off x="914400" y="1523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j0299763"/>
          <p:cNvPicPr/>
          <p:nvPr/>
        </p:nvPicPr>
        <p:blipFill>
          <a:blip r:embed="rId2"/>
          <a:stretch/>
        </p:blipFill>
        <p:spPr>
          <a:xfrm>
            <a:off x="2895480" y="14922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j0299763"/>
          <p:cNvPicPr/>
          <p:nvPr/>
        </p:nvPicPr>
        <p:blipFill>
          <a:blip r:embed="rId3"/>
          <a:stretch/>
        </p:blipFill>
        <p:spPr>
          <a:xfrm>
            <a:off x="4648320" y="1415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7" descr="j0299763"/>
          <p:cNvPicPr/>
          <p:nvPr/>
        </p:nvPicPr>
        <p:blipFill>
          <a:blip r:embed="rId4"/>
          <a:stretch/>
        </p:blipFill>
        <p:spPr>
          <a:xfrm>
            <a:off x="6324480" y="13716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8" descr="j0299763"/>
          <p:cNvPicPr/>
          <p:nvPr/>
        </p:nvPicPr>
        <p:blipFill>
          <a:blip r:embed="rId5"/>
          <a:stretch/>
        </p:blipFill>
        <p:spPr>
          <a:xfrm>
            <a:off x="83808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9" descr="j0299763"/>
          <p:cNvPicPr/>
          <p:nvPr/>
        </p:nvPicPr>
        <p:blipFill>
          <a:blip r:embed="rId6"/>
          <a:stretch/>
        </p:blipFill>
        <p:spPr>
          <a:xfrm>
            <a:off x="297180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j0299763"/>
          <p:cNvPicPr/>
          <p:nvPr/>
        </p:nvPicPr>
        <p:blipFill>
          <a:blip r:embed="rId7"/>
          <a:stretch/>
        </p:blipFill>
        <p:spPr>
          <a:xfrm>
            <a:off x="48006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j0299763"/>
          <p:cNvPicPr/>
          <p:nvPr/>
        </p:nvPicPr>
        <p:blipFill>
          <a:blip r:embed="rId8"/>
          <a:stretch/>
        </p:blipFill>
        <p:spPr>
          <a:xfrm>
            <a:off x="6553080" y="31240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13"/>
          <p:cNvSpPr/>
          <p:nvPr/>
        </p:nvSpPr>
        <p:spPr>
          <a:xfrm>
            <a:off x="152280" y="4952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6D1B-EF25-4529-BA5C-838791F396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4" descr="j0299763"/>
          <p:cNvPicPr/>
          <p:nvPr/>
        </p:nvPicPr>
        <p:blipFill>
          <a:blip r:embed="rId1"/>
          <a:stretch/>
        </p:blipFill>
        <p:spPr>
          <a:xfrm>
            <a:off x="83808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j0299763"/>
          <p:cNvPicPr/>
          <p:nvPr/>
        </p:nvPicPr>
        <p:blipFill>
          <a:blip r:embed="rId2"/>
          <a:stretch/>
        </p:blipFill>
        <p:spPr>
          <a:xfrm>
            <a:off x="281952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j0299763"/>
          <p:cNvPicPr/>
          <p:nvPr/>
        </p:nvPicPr>
        <p:blipFill>
          <a:blip r:embed="rId3"/>
          <a:stretch/>
        </p:blipFill>
        <p:spPr>
          <a:xfrm>
            <a:off x="838080" y="3733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j0299763"/>
          <p:cNvPicPr/>
          <p:nvPr/>
        </p:nvPicPr>
        <p:blipFill>
          <a:blip r:embed="rId4"/>
          <a:stretch/>
        </p:blipFill>
        <p:spPr>
          <a:xfrm>
            <a:off x="2819520" y="3625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j0299763"/>
          <p:cNvPicPr/>
          <p:nvPr/>
        </p:nvPicPr>
        <p:blipFill>
          <a:blip r:embed="rId5"/>
          <a:stretch/>
        </p:blipFill>
        <p:spPr>
          <a:xfrm>
            <a:off x="838080" y="2133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j0299763"/>
          <p:cNvPicPr/>
          <p:nvPr/>
        </p:nvPicPr>
        <p:blipFill>
          <a:blip r:embed="rId6"/>
          <a:stretch/>
        </p:blipFill>
        <p:spPr>
          <a:xfrm>
            <a:off x="2819520" y="2057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0" descr="j0299763"/>
          <p:cNvPicPr/>
          <p:nvPr/>
        </p:nvPicPr>
        <p:blipFill>
          <a:blip r:embed="rId7"/>
          <a:stretch/>
        </p:blipFill>
        <p:spPr>
          <a:xfrm>
            <a:off x="838080" y="6094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1" descr="j0299763"/>
          <p:cNvPicPr/>
          <p:nvPr/>
        </p:nvPicPr>
        <p:blipFill>
          <a:blip r:embed="rId8"/>
          <a:stretch/>
        </p:blipFill>
        <p:spPr>
          <a:xfrm>
            <a:off x="2819520" y="6094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13"/>
          <p:cNvSpPr/>
          <p:nvPr/>
        </p:nvSpPr>
        <p:spPr>
          <a:xfrm>
            <a:off x="4648320" y="1295280"/>
            <a:ext cx="426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r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0207-1C48-40FC-8E5B-79277D6906E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8" descr="j0299763"/>
          <p:cNvPicPr/>
          <p:nvPr/>
        </p:nvPicPr>
        <p:blipFill>
          <a:blip r:embed="rId1"/>
          <a:stretch/>
        </p:blipFill>
        <p:spPr>
          <a:xfrm>
            <a:off x="762120" y="152280"/>
            <a:ext cx="838080" cy="69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0"/>
          <p:cNvSpPr/>
          <p:nvPr/>
        </p:nvSpPr>
        <p:spPr>
          <a:xfrm>
            <a:off x="2209680" y="150804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Rows × 1 Ball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11" descr="j0299763"/>
          <p:cNvPicPr/>
          <p:nvPr/>
        </p:nvPicPr>
        <p:blipFill>
          <a:blip r:embed="rId2"/>
          <a:stretch/>
        </p:blipFill>
        <p:spPr>
          <a:xfrm>
            <a:off x="762120" y="9907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2" descr="j0299763"/>
          <p:cNvPicPr/>
          <p:nvPr/>
        </p:nvPicPr>
        <p:blipFill>
          <a:blip r:embed="rId3"/>
          <a:stretch/>
        </p:blipFill>
        <p:spPr>
          <a:xfrm>
            <a:off x="762120" y="18288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3" descr="j0299763"/>
          <p:cNvPicPr/>
          <p:nvPr/>
        </p:nvPicPr>
        <p:blipFill>
          <a:blip r:embed="rId4"/>
          <a:stretch/>
        </p:blipFill>
        <p:spPr>
          <a:xfrm>
            <a:off x="762120" y="26668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4" descr="j0299763"/>
          <p:cNvPicPr/>
          <p:nvPr/>
        </p:nvPicPr>
        <p:blipFill>
          <a:blip r:embed="rId5"/>
          <a:stretch/>
        </p:blipFill>
        <p:spPr>
          <a:xfrm>
            <a:off x="762120" y="35053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5" descr="j0299763"/>
          <p:cNvPicPr/>
          <p:nvPr/>
        </p:nvPicPr>
        <p:blipFill>
          <a:blip r:embed="rId6"/>
          <a:stretch/>
        </p:blipFill>
        <p:spPr>
          <a:xfrm>
            <a:off x="762120" y="43434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6" descr="j0299763"/>
          <p:cNvPicPr/>
          <p:nvPr/>
        </p:nvPicPr>
        <p:blipFill>
          <a:blip r:embed="rId7"/>
          <a:stretch/>
        </p:blipFill>
        <p:spPr>
          <a:xfrm>
            <a:off x="762120" y="51814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7" descr="j0299763"/>
          <p:cNvPicPr/>
          <p:nvPr/>
        </p:nvPicPr>
        <p:blipFill>
          <a:blip r:embed="rId8"/>
          <a:stretch/>
        </p:blipFill>
        <p:spPr>
          <a:xfrm>
            <a:off x="762120" y="6019920"/>
            <a:ext cx="838080" cy="693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0650-EC28-402B-8F54-6CDA8E246F9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295280" y="214956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, 2, 4  and  8 ar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of 8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2B58-64F1-4F62-B48B-170CE7D00F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2"/>
          <p:cNvSpPr/>
          <p:nvPr/>
        </p:nvSpPr>
        <p:spPr>
          <a:xfrm>
            <a:off x="457200" y="849240"/>
            <a:ext cx="83818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7 divides 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4 and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amond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1830-0406-4531-877D-837AFFDFB1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533520" y="990720"/>
            <a:ext cx="815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 divides 28 exactly and gives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7 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4 = 7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3EC0-F272-40B6-8AF3-0612D7DED5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533520" y="838080"/>
            <a:ext cx="81532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8 divides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1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blinds dir="vert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0AD4-0E12-4972-B65E-344902DD3D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2"/>
          <p:cNvSpPr/>
          <p:nvPr/>
        </p:nvSpPr>
        <p:spPr>
          <a:xfrm>
            <a:off x="2362320" y="1295280"/>
            <a:ext cx="4572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1  = 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4  = 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7  =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 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÷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 28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4114800" y="1295280"/>
            <a:ext cx="1143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371600" y="3049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in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3" dur="20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20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3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3" dur="30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5" dur="30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7" dur="3000" fill="hold"/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E4C7-D187-4D3A-A802-846D64A3E2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2209680" y="933480"/>
            <a:ext cx="48006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   = 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2   =  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4   = 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8   =  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6 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4038480" y="933480"/>
            <a:ext cx="1143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1371600" y="2286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0" dur="3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3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3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30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30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7" dur="3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9564-53B0-4DF5-B38C-2F044D0362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factor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a number is an exact divisor of  that number i.e. the factor leaves remainder 0 when it divides the numb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43FC-D0A0-4B0A-A2DC-84402217D3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ST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6 star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E69C-5336-4DA7-B169-780C9C4DDF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533520" y="228600"/>
            <a:ext cx="830556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 and 5 are factors of 20. We can also say that 20 is multiple of 4 and 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 2 × 12 = 24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 and 12 are factors of 2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4 is the multiple of 2 and 1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, a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number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s a 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Arial"/>
              </a:rPr>
              <a:t>multip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of its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fact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9783-C137-44D5-B808-04AD0F8B68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685800" y="533520"/>
            <a:ext cx="754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914400" y="47242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number of multiples of a given number is infini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0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6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42" dur="3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6053-A445-4D24-A0F5-B63AC6117C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1371600" y="838080"/>
            <a:ext cx="678168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S  OF SOME  NUMB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mb dir="vert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0832-9A2D-4C1D-B131-F68681FD68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990720" y="236232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24"/>
          <p:cNvSpPr/>
          <p:nvPr/>
        </p:nvSpPr>
        <p:spPr>
          <a:xfrm rot="20400000">
            <a:off x="3733560" y="3048120"/>
            <a:ext cx="304560" cy="121896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25"/>
          <p:cNvSpPr/>
          <p:nvPr/>
        </p:nvSpPr>
        <p:spPr>
          <a:xfrm rot="1200000">
            <a:off x="4343400" y="304776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26"/>
          <p:cNvSpPr/>
          <p:nvPr/>
        </p:nvSpPr>
        <p:spPr>
          <a:xfrm>
            <a:off x="3200400" y="43434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27"/>
          <p:cNvSpPr/>
          <p:nvPr/>
        </p:nvSpPr>
        <p:spPr>
          <a:xfrm>
            <a:off x="6095880" y="43434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ulti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28"/>
          <p:cNvSpPr/>
          <p:nvPr/>
        </p:nvSpPr>
        <p:spPr>
          <a:xfrm rot="20400000">
            <a:off x="5943240" y="304812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8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5609-5613-4843-A349-0D8CCB1B48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r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7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D877-5169-4E77-8724-B822AD24DC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533520" y="1676520"/>
            <a:ext cx="7848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4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E0E4-00D0-4950-B0D5-D1B451B9E5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 OR MULTIPL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×     5    =   1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5    ×     4    =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    ×    10   =   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5    ×    6     =   2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7    ×    30   =   2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1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839C-758D-49CC-B68E-064EFEE505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ate whether the following statements ar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o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1 is a factor of every number.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Number of factors of a given number is infinite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The number of multiples of 5 is 10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The factors of 65 are 1, 5 and 13 only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8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8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8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8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8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8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8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Місце для номера слайда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BAD7-CACA-4E34-897A-2A08D7014AB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4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733920" cy="3886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6"/>
          <p:cNvSpPr/>
          <p:nvPr/>
        </p:nvSpPr>
        <p:spPr>
          <a:xfrm>
            <a:off x="5410080" y="11430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Picture 7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"/>
          <p:cNvPicPr/>
          <p:nvPr/>
        </p:nvPicPr>
        <p:blipFill>
          <a:blip r:embed="rId4"/>
          <a:stretch/>
        </p:blipFill>
        <p:spPr>
          <a:xfrm>
            <a:off x="66294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8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8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6cc4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2E12-1299-4AB4-8355-0EF9DE3DEF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CORR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AutoShape 5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6" descr="smiley%2520face"/>
          <p:cNvPicPr/>
          <p:nvPr/>
        </p:nvPicPr>
        <p:blipFill>
          <a:blip r:embed="rId1"/>
          <a:stretch/>
        </p:blipFill>
        <p:spPr>
          <a:xfrm>
            <a:off x="2971800" y="2819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85D9-FED1-4E87-B0B8-89A79E8BA0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j0097979[1]"/>
          <p:cNvPicPr/>
          <p:nvPr/>
        </p:nvPicPr>
        <p:blipFill>
          <a:blip r:embed="rId1"/>
          <a:stretch/>
        </p:blipFill>
        <p:spPr>
          <a:xfrm>
            <a:off x="15228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j0097979[1]"/>
          <p:cNvPicPr/>
          <p:nvPr/>
        </p:nvPicPr>
        <p:blipFill>
          <a:blip r:embed="rId2"/>
          <a:stretch/>
        </p:blipFill>
        <p:spPr>
          <a:xfrm>
            <a:off x="795816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j0097979[1]"/>
          <p:cNvPicPr/>
          <p:nvPr/>
        </p:nvPicPr>
        <p:blipFill>
          <a:blip r:embed="rId3"/>
          <a:stretch/>
        </p:blipFill>
        <p:spPr>
          <a:xfrm>
            <a:off x="502920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0" descr="j0097979[1]"/>
          <p:cNvPicPr/>
          <p:nvPr/>
        </p:nvPicPr>
        <p:blipFill>
          <a:blip r:embed="rId4"/>
          <a:stretch/>
        </p:blipFill>
        <p:spPr>
          <a:xfrm>
            <a:off x="33526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j0097979[1]"/>
          <p:cNvPicPr/>
          <p:nvPr/>
        </p:nvPicPr>
        <p:blipFill>
          <a:blip r:embed="rId5"/>
          <a:stretch/>
        </p:blipFill>
        <p:spPr>
          <a:xfrm>
            <a:off x="17524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j0097979[1]"/>
          <p:cNvPicPr/>
          <p:nvPr/>
        </p:nvPicPr>
        <p:blipFill>
          <a:blip r:embed="rId6"/>
          <a:stretch/>
        </p:blipFill>
        <p:spPr>
          <a:xfrm>
            <a:off x="6477120" y="2819520"/>
            <a:ext cx="1185840" cy="11286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13"/>
          <p:cNvSpPr/>
          <p:nvPr/>
        </p:nvSpPr>
        <p:spPr>
          <a:xfrm>
            <a:off x="609480" y="495288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9585"/>
            </a:gs>
            <a:gs pos="100000">
              <a:srgbClr val="dd24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8BC0-64E3-44F3-8BA5-743459CC4F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AutoShape 3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Picture 4" descr="SadFace"/>
          <p:cNvPicPr/>
          <p:nvPr/>
        </p:nvPicPr>
        <p:blipFill>
          <a:blip r:embed="rId1"/>
          <a:stretch/>
        </p:blipFill>
        <p:spPr>
          <a:xfrm>
            <a:off x="2971800" y="25146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E9D0-78D4-4289-9295-941C0EC48F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Picture 4" descr="j0097979[1]"/>
          <p:cNvPicPr/>
          <p:nvPr/>
        </p:nvPicPr>
        <p:blipFill>
          <a:blip r:embed="rId1"/>
          <a:stretch/>
        </p:blipFill>
        <p:spPr>
          <a:xfrm>
            <a:off x="2819520" y="60948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j0097979[1]"/>
          <p:cNvPicPr/>
          <p:nvPr/>
        </p:nvPicPr>
        <p:blipFill>
          <a:blip r:embed="rId2"/>
          <a:stretch/>
        </p:blipFill>
        <p:spPr>
          <a:xfrm>
            <a:off x="4800600" y="6094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j0097979[1]"/>
          <p:cNvPicPr/>
          <p:nvPr/>
        </p:nvPicPr>
        <p:blipFill>
          <a:blip r:embed="rId3"/>
          <a:stretch/>
        </p:blipFill>
        <p:spPr>
          <a:xfrm>
            <a:off x="2895480" y="2133720"/>
            <a:ext cx="1219320" cy="1160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7" descr="j0097979[1]"/>
          <p:cNvPicPr/>
          <p:nvPr/>
        </p:nvPicPr>
        <p:blipFill>
          <a:blip r:embed="rId4"/>
          <a:stretch/>
        </p:blipFill>
        <p:spPr>
          <a:xfrm>
            <a:off x="4876920" y="2057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j0097979[1]"/>
          <p:cNvPicPr/>
          <p:nvPr/>
        </p:nvPicPr>
        <p:blipFill>
          <a:blip r:embed="rId5"/>
          <a:stretch/>
        </p:blipFill>
        <p:spPr>
          <a:xfrm>
            <a:off x="2895480" y="36576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9" descr="j0097979[1]"/>
          <p:cNvPicPr/>
          <p:nvPr/>
        </p:nvPicPr>
        <p:blipFill>
          <a:blip r:embed="rId6"/>
          <a:stretch/>
        </p:blipFill>
        <p:spPr>
          <a:xfrm>
            <a:off x="4952880" y="3581280"/>
            <a:ext cx="1219320" cy="11606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0"/>
          <p:cNvSpPr/>
          <p:nvPr/>
        </p:nvSpPr>
        <p:spPr>
          <a:xfrm>
            <a:off x="228600" y="53341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5A64-195E-493D-BCE5-67CA940C4D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Picture 4" descr="j0097979[1]"/>
          <p:cNvPicPr/>
          <p:nvPr/>
        </p:nvPicPr>
        <p:blipFill>
          <a:blip r:embed="rId1"/>
          <a:stretch/>
        </p:blipFill>
        <p:spPr>
          <a:xfrm>
            <a:off x="1676520" y="914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j0097979[1]"/>
          <p:cNvPicPr/>
          <p:nvPr/>
        </p:nvPicPr>
        <p:blipFill>
          <a:blip r:embed="rId2"/>
          <a:stretch/>
        </p:blipFill>
        <p:spPr>
          <a:xfrm>
            <a:off x="182880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j0097979[1]"/>
          <p:cNvPicPr/>
          <p:nvPr/>
        </p:nvPicPr>
        <p:blipFill>
          <a:blip r:embed="rId3"/>
          <a:stretch/>
        </p:blipFill>
        <p:spPr>
          <a:xfrm>
            <a:off x="3809880" y="9144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j0097979[1]"/>
          <p:cNvPicPr/>
          <p:nvPr/>
        </p:nvPicPr>
        <p:blipFill>
          <a:blip r:embed="rId4"/>
          <a:stretch/>
        </p:blipFill>
        <p:spPr>
          <a:xfrm>
            <a:off x="5867280" y="89676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j0097979[1]"/>
          <p:cNvPicPr/>
          <p:nvPr/>
        </p:nvPicPr>
        <p:blipFill>
          <a:blip r:embed="rId5"/>
          <a:stretch/>
        </p:blipFill>
        <p:spPr>
          <a:xfrm>
            <a:off x="3809880" y="27432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j0097979[1]"/>
          <p:cNvPicPr/>
          <p:nvPr/>
        </p:nvPicPr>
        <p:blipFill>
          <a:blip r:embed="rId6"/>
          <a:stretch/>
        </p:blipFill>
        <p:spPr>
          <a:xfrm>
            <a:off x="5791320" y="2743200"/>
            <a:ext cx="1218960" cy="11606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0"/>
          <p:cNvSpPr/>
          <p:nvPr/>
        </p:nvSpPr>
        <p:spPr>
          <a:xfrm>
            <a:off x="228600" y="4684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F87F-0D53-4655-99B6-F40DF9A2AA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13" descr="j0097979[1]"/>
          <p:cNvPicPr/>
          <p:nvPr/>
        </p:nvPicPr>
        <p:blipFill>
          <a:blip r:embed="rId1"/>
          <a:stretch/>
        </p:blipFill>
        <p:spPr>
          <a:xfrm>
            <a:off x="1447920" y="54100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4" descr="j0097979[1]"/>
          <p:cNvPicPr/>
          <p:nvPr/>
        </p:nvPicPr>
        <p:blipFill>
          <a:blip r:embed="rId2"/>
          <a:stretch/>
        </p:blipFill>
        <p:spPr>
          <a:xfrm>
            <a:off x="1447920" y="4419720"/>
            <a:ext cx="1218960" cy="761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5" descr="j0097979[1]"/>
          <p:cNvPicPr/>
          <p:nvPr/>
        </p:nvPicPr>
        <p:blipFill>
          <a:blip r:embed="rId3"/>
          <a:stretch/>
        </p:blipFill>
        <p:spPr>
          <a:xfrm>
            <a:off x="1447920" y="34290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6" descr="j0097979[1]"/>
          <p:cNvPicPr/>
          <p:nvPr/>
        </p:nvPicPr>
        <p:blipFill>
          <a:blip r:embed="rId4"/>
          <a:stretch/>
        </p:blipFill>
        <p:spPr>
          <a:xfrm>
            <a:off x="1447920" y="25146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7" descr="j0097979[1]"/>
          <p:cNvPicPr/>
          <p:nvPr/>
        </p:nvPicPr>
        <p:blipFill>
          <a:blip r:embed="rId5"/>
          <a:stretch/>
        </p:blipFill>
        <p:spPr>
          <a:xfrm>
            <a:off x="1447920" y="15238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8" descr="j0097979[1]"/>
          <p:cNvPicPr/>
          <p:nvPr/>
        </p:nvPicPr>
        <p:blipFill>
          <a:blip r:embed="rId6"/>
          <a:stretch/>
        </p:blipFill>
        <p:spPr>
          <a:xfrm>
            <a:off x="1447920" y="457200"/>
            <a:ext cx="1218960" cy="76212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9"/>
          <p:cNvSpPr/>
          <p:nvPr/>
        </p:nvSpPr>
        <p:spPr>
          <a:xfrm>
            <a:off x="3733920" y="21337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85CC-5212-4FFC-A4B6-7D1BD3EAAE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228600" y="517680"/>
            <a:ext cx="86868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6 = 1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2 ×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6 ×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, 2, 3 and 6 ar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of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ver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3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d1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1B65-4018-45B6-BD5B-4FCCF86884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FOOTBA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8 football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D020-C168-4C2A-8D25-69633491627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371600" y="7621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rrangement of 8 in different w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5" descr="j0299763"/>
          <p:cNvPicPr/>
          <p:nvPr/>
        </p:nvPicPr>
        <p:blipFill>
          <a:blip r:embed="rId1"/>
          <a:stretch/>
        </p:blipFill>
        <p:spPr>
          <a:xfrm>
            <a:off x="0" y="33210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8" descr="j0299763"/>
          <p:cNvPicPr/>
          <p:nvPr/>
        </p:nvPicPr>
        <p:blipFill>
          <a:blip r:embed="rId2"/>
          <a:stretch/>
        </p:blipFill>
        <p:spPr>
          <a:xfrm>
            <a:off x="792468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9" descr="j0299763"/>
          <p:cNvPicPr/>
          <p:nvPr/>
        </p:nvPicPr>
        <p:blipFill>
          <a:blip r:embed="rId3"/>
          <a:stretch/>
        </p:blipFill>
        <p:spPr>
          <a:xfrm>
            <a:off x="6858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0" descr="j0299763"/>
          <p:cNvPicPr/>
          <p:nvPr/>
        </p:nvPicPr>
        <p:blipFill>
          <a:blip r:embed="rId4"/>
          <a:stretch/>
        </p:blipFill>
        <p:spPr>
          <a:xfrm>
            <a:off x="5715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1" descr="j0299763"/>
          <p:cNvPicPr/>
          <p:nvPr/>
        </p:nvPicPr>
        <p:blipFill>
          <a:blip r:embed="rId5"/>
          <a:stretch/>
        </p:blipFill>
        <p:spPr>
          <a:xfrm>
            <a:off x="3429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2" descr="j0299763"/>
          <p:cNvPicPr/>
          <p:nvPr/>
        </p:nvPicPr>
        <p:blipFill>
          <a:blip r:embed="rId6"/>
          <a:stretch/>
        </p:blipFill>
        <p:spPr>
          <a:xfrm>
            <a:off x="2286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3" descr="j0299763"/>
          <p:cNvPicPr/>
          <p:nvPr/>
        </p:nvPicPr>
        <p:blipFill>
          <a:blip r:embed="rId7"/>
          <a:stretch/>
        </p:blipFill>
        <p:spPr>
          <a:xfrm>
            <a:off x="4572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4" descr="j0299763"/>
          <p:cNvPicPr/>
          <p:nvPr/>
        </p:nvPicPr>
        <p:blipFill>
          <a:blip r:embed="rId8"/>
          <a:stretch/>
        </p:blipFill>
        <p:spPr>
          <a:xfrm>
            <a:off x="1143000" y="3276720"/>
            <a:ext cx="1143000" cy="9460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25"/>
          <p:cNvSpPr/>
          <p:nvPr/>
        </p:nvSpPr>
        <p:spPr>
          <a:xfrm>
            <a:off x="1828800" y="510552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6"/>
          <p:cNvSpPr/>
          <p:nvPr/>
        </p:nvSpPr>
        <p:spPr>
          <a:xfrm>
            <a:off x="380880" y="5257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l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38:20Z</dcterms:created>
  <dc:creator>Karthik Ramachandran</dc:creator>
  <dc:description/>
  <dc:language>en-US</dc:language>
  <cp:lastModifiedBy>RomaK</cp:lastModifiedBy>
  <dcterms:modified xsi:type="dcterms:W3CDTF">2015-09-04T07:40:24Z</dcterms:modified>
  <cp:revision>58</cp:revision>
  <dc:subject/>
  <dc:title>FACTORS &amp; MULTIPLES</dc:title>
</cp:coreProperties>
</file>