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A393-BBCE-469A-BB20-196000B648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2BB-8538-4359-88E1-0BC214E7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988-D93A-4EE9-83B2-99610DA9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613-EFEB-4C66-BCE2-B4C0B2C1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414-1B7F-46E1-A32B-9E7770B6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F8AB-7621-4853-A1C9-C7864FAD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7717-C38D-4C31-80E9-BE61ED24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B94E-AC0E-43A6-9477-CD6614F4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806D-2DA5-4A5B-844E-57D9F9C6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9733-36F4-44F6-98F3-399BBD3F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7B56-2D82-437B-8ED2-F39B6755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CE9C-10C8-496C-96CB-9A6D47E2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B6B-305B-43BD-9472-39FF6B3E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2087-29B6-4EE6-AE84-AB5BF6C3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9C01-BA30-4AA8-B5E2-AF40F405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0A73-2AEB-47C2-AE21-D506D796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7DAB-DCBF-42D6-964A-000CC2C3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1BD4-CBA9-402B-A390-D47094A3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82C-26E0-4295-B7FD-CB46A052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060-C3F6-4BAF-89F4-81EB1F1B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168-470F-43F1-A479-569C2A9B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42E-1B01-49D3-9B3F-F94E0F63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2AE-D2ED-4E37-8EBF-220F5F03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95E-9375-4F70-84E9-E458B712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52F-8137-4381-9E41-B0F22C35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4779-3741-46FA-B697-A8FE4FEDE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6517-728D-4127-88A2-35FE16847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1600200" y="2914560"/>
            <a:ext cx="344808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752480" cy="14256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914400" y="281952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9907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066680" y="4648320"/>
            <a:ext cx="533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2209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752480" y="4800600"/>
          <a:ext cx="594360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800600"/>
                    <a:ext cx="59436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838080" y="228600"/>
            <a:ext cx="7620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add or subtract radicals like monomials. You can also simplify radicals by using the FOIL method of multiplying binomi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3"/>
          <p:cNvGraphicFramePr/>
          <p:nvPr/>
        </p:nvGraphicFramePr>
        <p:xfrm>
          <a:off x="838080" y="5181480"/>
          <a:ext cx="7086600" cy="8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181480"/>
                    <a:ext cx="708660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4"/>
          <p:cNvSpPr/>
          <p:nvPr/>
        </p:nvSpPr>
        <p:spPr>
          <a:xfrm>
            <a:off x="1523880" y="40384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try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Object 2"/>
          <p:cNvGraphicFramePr/>
          <p:nvPr/>
        </p:nvGraphicFramePr>
        <p:xfrm>
          <a:off x="1447920" y="304920"/>
          <a:ext cx="5932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920"/>
                    <a:ext cx="5932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3"/>
          <p:cNvGraphicFramePr/>
          <p:nvPr/>
        </p:nvGraphicFramePr>
        <p:xfrm>
          <a:off x="228600" y="1752480"/>
          <a:ext cx="86868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8686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4"/>
          <p:cNvGraphicFramePr/>
          <p:nvPr/>
        </p:nvGraphicFramePr>
        <p:xfrm>
          <a:off x="1219320" y="3276720"/>
          <a:ext cx="665460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276720"/>
                    <a:ext cx="66546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5"/>
          <p:cNvGraphicFramePr/>
          <p:nvPr/>
        </p:nvGraphicFramePr>
        <p:xfrm>
          <a:off x="1600200" y="4267080"/>
          <a:ext cx="552456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267080"/>
                    <a:ext cx="55245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6"/>
          <p:cNvSpPr/>
          <p:nvPr/>
        </p:nvSpPr>
        <p:spPr>
          <a:xfrm>
            <a:off x="762120" y="5425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ce  there are no like terms, you can not comb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286000" y="4572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s do another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1905120" y="1828800"/>
          <a:ext cx="48639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4863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"/>
          <p:cNvGraphicFramePr/>
          <p:nvPr/>
        </p:nvGraphicFramePr>
        <p:xfrm>
          <a:off x="609480" y="2895480"/>
          <a:ext cx="81406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8140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5"/>
          <p:cNvGraphicFramePr/>
          <p:nvPr/>
        </p:nvGraphicFramePr>
        <p:xfrm>
          <a:off x="1371600" y="3809880"/>
          <a:ext cx="648972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809880"/>
                    <a:ext cx="6489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6"/>
          <p:cNvGraphicFramePr/>
          <p:nvPr/>
        </p:nvGraphicFramePr>
        <p:xfrm>
          <a:off x="3505320" y="4876920"/>
          <a:ext cx="185400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876920"/>
                    <a:ext cx="18540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7"/>
          <p:cNvGraphicFramePr/>
          <p:nvPr/>
        </p:nvGraphicFramePr>
        <p:xfrm>
          <a:off x="3733920" y="5715000"/>
          <a:ext cx="1104840" cy="57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5715000"/>
                    <a:ext cx="11048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22860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the prod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2133720" y="1066680"/>
          <a:ext cx="4419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419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4"/>
          <p:cNvGraphicFramePr/>
          <p:nvPr/>
        </p:nvGraphicFramePr>
        <p:xfrm>
          <a:off x="228600" y="2514600"/>
          <a:ext cx="129528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14600"/>
                    <a:ext cx="12952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28600" y="3505320"/>
          <a:ext cx="4462560" cy="80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505320"/>
                    <a:ext cx="44625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6"/>
          <p:cNvGraphicFramePr/>
          <p:nvPr/>
        </p:nvGraphicFramePr>
        <p:xfrm>
          <a:off x="228600" y="4495680"/>
          <a:ext cx="36576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495680"/>
                    <a:ext cx="36576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7"/>
          <p:cNvGraphicFramePr/>
          <p:nvPr/>
        </p:nvGraphicFramePr>
        <p:xfrm>
          <a:off x="1523880" y="2438280"/>
          <a:ext cx="1828800" cy="78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2438280"/>
                    <a:ext cx="182880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8"/>
          <p:cNvGraphicFramePr/>
          <p:nvPr/>
        </p:nvGraphicFramePr>
        <p:xfrm>
          <a:off x="3352680" y="2362320"/>
          <a:ext cx="2057400" cy="83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2362320"/>
                    <a:ext cx="20574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9"/>
          <p:cNvGraphicFramePr/>
          <p:nvPr/>
        </p:nvGraphicFramePr>
        <p:xfrm>
          <a:off x="5410080" y="2362320"/>
          <a:ext cx="3429000" cy="83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2362320"/>
                    <a:ext cx="34290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y on Your Ow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371600" y="1752480"/>
                <a:ext cx="3200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1295280" y="4038480"/>
                <a:ext cx="3048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55:22Z</dcterms:created>
  <dc:creator>esther</dc:creator>
  <dc:description/>
  <dc:language>en-US</dc:language>
  <cp:lastModifiedBy>RomaK</cp:lastModifiedBy>
  <dcterms:modified xsi:type="dcterms:W3CDTF">2015-09-04T07:40:34Z</dcterms:modified>
  <cp:revision>7</cp:revision>
  <dc:subject/>
  <dc:title>Slide 1</dc:title>
</cp:coreProperties>
</file>