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80CF-8010-4E32-A3D8-5618AFA1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378C-64F7-46CC-98A1-18CBF5D230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rface Exploration of Mars: Past &amp;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ian Surface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king Landers (early 8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finder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urface Explorers (three en rou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of Martian Exploration (“astrobiolog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35A-5613-4CC0-8804-487FF3ADD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s has a very thin atmosphere and no magnetosp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humans populated the Martian surface, what environme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lems will they be concerned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Solar flare particles and ultraviolet rad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Nitrogen poiso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Lead contamination from volcano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Magnetic anomalies in the interior causing brain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F397-819F-4CC9-8B46-DE2CD1019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Pathfinder Mission – landed on Mars 4 July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on miss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Better Cheap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man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lightweight airb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effici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x as many image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issions (compu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500 mile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– flood plai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lcanic rocks with silic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5988-A142-4B57-8599-4E682A2029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oramic View from Mars’ Pathfinder’s  Sojourner R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3376-FFF2-4F0B-BB2A-1BC2CC9A7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A: MARS EXPLORATION RO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rtunity &amp; Spirit (or MER A and MER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in June and July of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ival at Mars – January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over weighs 180 kg, is ~5 ft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face exploration: travels 100m per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9820-48D0-4980-BA31-222AD2278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700-604E-4832-9A58-352B61874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oon of the “airbag” landing of the Mars Exploration Rovers o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DFF0-A22B-4B5E-A643-1DF84D9C5E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ing a site to land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just land anywhere – need to consider the safety of the vesse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D7A-2CA1-43E3-8AE5-2A516D542F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Landing Consi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titude (impossible climbs, f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pes (use too muc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ckiness (protect airb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anel heating – keep rover 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lar panel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T tool works more in thick 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C40-8CDD-4A79-BD2E-3B2243C6D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Objectives of the MER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 a variety of rocks and soils that hold clues to past water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try to identify carbonates (indicate water-volcano cycle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and composition of minerals, rocks, and soils near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geologic processes have shaped the local ter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"ground truth"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 and valid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urface observations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Mars orbiter instru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874-50AE-4C59-9E66-B2EC29223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loration RoMars Exploration Ro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:  Science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anc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ereo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R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X-ray Spectro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oil and rock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rock abrasion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icroscopic ima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search for fossil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9367-C747-4590-9AC9-2B747BE28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tian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se “meteorite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rocks found in Antarc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y get to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act on Mars (crater size: 10-100 km) 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Martian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se meteorites are from M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 does not match usual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1.3 billion yrs old (most asteroid-type meteo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lder); Higher content of volatile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n’t they orange – the color of Mars sur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o do with how the rocks we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40C-B8B1-4EEE-8ABF-C810D47B9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1. Gusev Crater - morp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5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crater feature with several ‘channels’ leading int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may have pooled in crater during first 2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D614-611D-43DB-B07B-BB5F64E33F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ing Sites on Mars: 2. Meridiani Planum - minera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egre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Mars’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side of planet from Landing Si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lace where hematite has been found (rust-like mineral)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at it is a former dried lake 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F45D-3C9B-4CEE-8BBB-1DF452BEE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Express – European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AF09-6C44-4C23-9637-04552CA673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ed June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instrument (MARSIS) built at University of Iowa (Prof. D. Gurnett, P.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struments, including a small rover called “Beagle 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A890-929C-4DA6-9908-74352C140C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EXPRESS: Rada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reflection signal of water is very different from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hoes can differentiate between rock and ice o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transmitter operates at 1-2 MHz  and penetrates ground to several km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nnot distinguish between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135-B38A-44FE-9CB4-B41AED9CB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BE4-152C-4005-979F-0A2787A27A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F22-CE08-47BD-87E2-BBD4AA59C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s Surface Exploration – the Fu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8229-A1B9-41D5-94D2-2E55F8F10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Mars Exploration: “Scout Miss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weight/efficient ball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t of small aircraft to explore M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new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AMPLE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D349-0378-4C8A-B442-F611249EF8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Outpost: 20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0295-327D-458B-A825-773024DBB4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What DO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cesses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st/core developed early in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canism until &lt; 1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han normal asteroid (meteorite) com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 with 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atmosphere 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N’T they tell u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origin (on Mars – which part of surfac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about Mars’ water &amp;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tuall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CKS from Mar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: Martian Rock ALH84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.9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Antarctica (easier to find)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d on Mars 4.5 B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cted ~16 Million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d ~13,000 yr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B57-5A3D-45F8-A398-77E452F51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169-8EE3-480F-B51B-C36B9B5254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 – microbial presence in meteorit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robiolog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citing field of research – study of origin of life in the solar system,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UBIQUITOUS in the universe – we just haven’t fou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FE IS A SPECIAL quirk of nature and timing – very very ra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261-8CE4-4B7D-B4B1-5FD6DB93C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oons: Deimos, Phob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(~20km) irregularly sha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 Mars in 8hr, 30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captured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E6FC-F70C-4991-8BC2-064CA3032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s of Solar System 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3691-8691-4CD1-80A5-6E381CF7A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 1 and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1 launched in August of 1975, Viking 2 launched in Sept. 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s arrived at Mars in June, August of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er + Lander – Orbiters alone weighed close to a ½ ton eac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ry expensive launch/rocket equipment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se days NASA’s mantra: “Faster Better Cheaper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1E34-87C0-458C-B7C7-E457E50CFB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 Images of Mars’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 site chosen from Orbiter images – two different regions in Northern Low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aled that the surface of Mars was littered with jagged rocks and fine dus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were probably result of crater-forming impact (“eject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s resemble lava-rocks on Earth – lava flows broken up by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DF5-F98C-47F3-9590-417F9D3B4C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king Landers: Search for Life on 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ience Instrum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 l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explore reactions of Mars rock with water (none det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p arm with magnet 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und that the soil was IRON-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to study only one part of Martian surface – its la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ired NASA to propo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s with MOVING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hicles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thfinder 1997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81E-3AA4-44BF-90D8-91450761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F7A-EA00-47BA-9D62-F01C5A7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770-3409-4E26-A415-56BEBF4D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73F-FBB3-4FFB-B7E0-7BBF200EF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E8B-3B1E-4D4A-9463-E936B712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BA5-1249-4F52-8552-04114EE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780-D907-483F-BD7B-E526B44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4F4-5068-4E09-9B6C-E2E27E6C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84C-E3E7-4476-A591-C5AF0C0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8C6-3FB7-439B-B4D4-288B58C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1D2-F915-4859-AA21-DEC71F2C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86D-ADDC-4300-812D-453128A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9CD-13AA-4CA4-B73E-D360169DF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7EF1-2F84-4EF0-A353-8C37D9B598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</a:rPr>
              <a:t>Surface Exploration of Mars: Past &amp; Fu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64400" y="1143000"/>
            <a:ext cx="68634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eteor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Mo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rtian Surface Explo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king Landers (early 80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hfinder (199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Surface Explorers (three en route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of Martian Exploration (“astrobiology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73760" y="5105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view of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575-B967-401C-9403-7EF657A21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28600" y="531720"/>
            <a:ext cx="8763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s has a very thin atmosphere and no magnetosphe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umans populated the Martian surface, what environment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s will they be concerned about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990720" y="19810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Solar flare particles and ultraviolet radi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 Nitrogen poison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 Lead contamination from volcano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5) Magnetic anomalies in the interior causing brain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D89-6CEC-4857-BC00-9F47F97B7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5" descr="pathfinder"/>
          <p:cNvPicPr/>
          <p:nvPr/>
        </p:nvPicPr>
        <p:blipFill>
          <a:blip r:embed="rId1"/>
          <a:stretch/>
        </p:blipFill>
        <p:spPr>
          <a:xfrm>
            <a:off x="304920" y="114300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31360" y="380880"/>
            <a:ext cx="80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Pathfinder Mission – landed on Mars 4 Jul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934240" y="1347840"/>
            <a:ext cx="331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ion mission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er Better Cheaper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SA man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d lightweight airb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, efficient rob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x as many images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vious missions (compu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ed 500 miles fro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kings – flood plain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olcanic rocks with silic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88C-9D4B-4245-A5BA-5D6E40746B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3" descr="mars_pathfinder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93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137600" y="5334120"/>
            <a:ext cx="75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noramic View from Mars’ Pathfinder’s  Sojourner Rov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3071-4859-408A-B17D-BD7DE6C68E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A: MARS EXPLORATION ROV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&amp; Spirit (or MER A and MER B)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9" name="Picture 3" descr="Image 5"/>
          <p:cNvPicPr/>
          <p:nvPr/>
        </p:nvPicPr>
        <p:blipFill>
          <a:blip r:embed="rId1"/>
          <a:stretch/>
        </p:blipFill>
        <p:spPr>
          <a:xfrm>
            <a:off x="2895480" y="1447920"/>
            <a:ext cx="5715000" cy="427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0" name="Text Box 4"/>
          <p:cNvSpPr/>
          <p:nvPr/>
        </p:nvSpPr>
        <p:spPr>
          <a:xfrm>
            <a:off x="0" y="1523880"/>
            <a:ext cx="2971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in June and July of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ival at Mars – January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Rover weighs 180 kg, is ~5 ft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exploration: travels 100m p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Comment 5"/>
          <p:cNvSpPr/>
          <p:nvPr/>
        </p:nvSpPr>
        <p:spPr>
          <a:xfrm>
            <a:off x="3581280" y="1981080"/>
            <a:ext cx="89856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4572000" y="2438280"/>
            <a:ext cx="762120" cy="6858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64E8-01EB-4F31-B6FA-867E07F088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HENA: MARS EXPLORATION ROVE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7" name="Picture 3" descr="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594480"/>
          </a:xfrm>
          <a:prstGeom prst="rect">
            <a:avLst/>
          </a:prstGeom>
          <a:ln w="0">
            <a:noFill/>
          </a:ln>
        </p:spPr>
      </p:pic>
      <p:sp>
        <p:nvSpPr>
          <p:cNvPr id="158" name="Comment 4"/>
          <p:cNvSpPr/>
          <p:nvPr/>
        </p:nvSpPr>
        <p:spPr>
          <a:xfrm>
            <a:off x="457200" y="5943600"/>
            <a:ext cx="2362320" cy="703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s Rover Entry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5" descr="edl_06"/>
          <p:cNvPicPr/>
          <p:nvPr/>
        </p:nvPicPr>
        <p:blipFill>
          <a:blip r:embed="rId2"/>
          <a:stretch/>
        </p:blipFill>
        <p:spPr>
          <a:xfrm>
            <a:off x="5486400" y="457200"/>
            <a:ext cx="3657600" cy="27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11E-D50B-4198-986E-D9398F9C51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mer_airba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910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982800" y="68580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toon of the “airbag” landing of the Mars Exploration Rovers o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C4E-E0C8-4E2D-B0D7-4D1BB2EB30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28080" y="3049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ing a site to land on M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mola_landscape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3354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71520" y="548640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not just land anywhere – need to consider the safety of the vesse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735920" y="591984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previous missions have landed in the northern lowl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5C06-C02A-405F-AE47-5158D37049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12560" y="2541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Mars Landing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62120" y="1447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190880" y="1147680"/>
            <a:ext cx="749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titude (impossible climbs, fa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lopes (use too much ener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ckiness (protect airba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olar panel heating – keep rover op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olar panels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AT tool works more in thick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9215-56E7-46BE-B3C0-982FA6498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213560" y="304920"/>
            <a:ext cx="66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cience Objectives of the MER mi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803520" y="1081080"/>
            <a:ext cx="82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ze a variety of rocks and soils that hold clues to past water activ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.e. try to identify carbonates (indicate water-volcano cycle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818280" y="2056320"/>
            <a:ext cx="73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 and composition of minerals, rocks, and soils near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838080" y="2742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geologic processes have shaped the local ter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906840" y="3427920"/>
            <a:ext cx="322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 "ground truth"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libration and validation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surface observations ma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Mars orbiter instrume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rover1_400"/>
          <p:cNvPicPr/>
          <p:nvPr/>
        </p:nvPicPr>
        <p:blipFill>
          <a:blip r:embed="rId1"/>
          <a:stretch/>
        </p:blipFill>
        <p:spPr>
          <a:xfrm>
            <a:off x="4648320" y="3352680"/>
            <a:ext cx="396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D19-7609-4004-AD8B-A8D9990BA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s Exploration Rover:  Science Instrumen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9810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1828800"/>
            <a:ext cx="3124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anca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Stereo cam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IR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X-ray Spectromet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soil and rock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rock abrasion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icroscopic imag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search for fossils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rover_labelled"/>
          <p:cNvPicPr/>
          <p:nvPr/>
        </p:nvPicPr>
        <p:blipFill>
          <a:blip r:embed="rId1"/>
          <a:stretch/>
        </p:blipFill>
        <p:spPr>
          <a:xfrm>
            <a:off x="2971800" y="1012680"/>
            <a:ext cx="61722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2D92-60C2-4DB8-BA3A-CC96465171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2" descr="9904microbes05sml"/>
          <p:cNvPicPr/>
          <p:nvPr/>
        </p:nvPicPr>
        <p:blipFill>
          <a:blip r:embed="rId1"/>
          <a:stretch/>
        </p:blipFill>
        <p:spPr>
          <a:xfrm>
            <a:off x="762120" y="990720"/>
            <a:ext cx="281916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3200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at are these “meteorites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90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rtian Mete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5" descr="meteorite"/>
          <p:cNvPicPr/>
          <p:nvPr/>
        </p:nvPicPr>
        <p:blipFill>
          <a:blip r:embed="rId2"/>
          <a:stretch/>
        </p:blipFill>
        <p:spPr>
          <a:xfrm>
            <a:off x="5486400" y="990720"/>
            <a:ext cx="2533680" cy="1733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28600" y="57150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y aren’t they orange – the color of Mars surf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809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id they get to Ear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04920" y="4419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How do we know these meteorites are from Mar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870720" y="1220760"/>
            <a:ext cx="145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thout go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5654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579840" y="32781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usual rocks found in Antarc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9560" y="3886200"/>
            <a:ext cx="49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impact on Mars (crater size: 10-100 km) ejec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 of the Martian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499200" y="47242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 does not match usual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ly 1.3 billion yrs old (most asteroid-type meteor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CH older); Higher content of volatile sub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103000" y="609588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s to do with how the rocks weathe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B85-E095-44FB-8063-727014B706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304920"/>
            <a:ext cx="861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1. Gusev Crater - morpho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15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large crater feature with several ‘channels’ leading in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water may have pooled in crater during first 2 billion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3" descr="landing_spots"/>
          <p:cNvPicPr/>
          <p:nvPr/>
        </p:nvPicPr>
        <p:blipFill>
          <a:blip r:embed="rId1"/>
          <a:stretch/>
        </p:blipFill>
        <p:spPr>
          <a:xfrm>
            <a:off x="2057400" y="1905120"/>
            <a:ext cx="5486400" cy="43894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5409720" y="47242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hannel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8093-EF71-40B0-A627-FF4A33D1C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228600"/>
            <a:ext cx="8915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ding Sites on Mars: 2. Meridiani Planum - mineralog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2 degrees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uth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of Mars’ equ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other side of planet from Landing Sit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- place where hematite has been found (rust-like mineral) –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dicates that it is a former dried lake b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hematiteMap2"/>
          <p:cNvPicPr/>
          <p:nvPr/>
        </p:nvPicPr>
        <p:blipFill>
          <a:blip r:embed="rId1"/>
          <a:stretch/>
        </p:blipFill>
        <p:spPr>
          <a:xfrm>
            <a:off x="457200" y="2209680"/>
            <a:ext cx="4010040" cy="4267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landing_two"/>
          <p:cNvPicPr/>
          <p:nvPr/>
        </p:nvPicPr>
        <p:blipFill>
          <a:blip r:embed="rId2"/>
          <a:stretch/>
        </p:blipFill>
        <p:spPr>
          <a:xfrm>
            <a:off x="4572000" y="3048120"/>
            <a:ext cx="4419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0703-DBDC-4B55-A1BA-E332210D9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Express – European Eff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mars_express"/>
          <p:cNvPicPr/>
          <p:nvPr/>
        </p:nvPicPr>
        <p:blipFill>
          <a:blip r:embed="rId1"/>
          <a:stretch/>
        </p:blipFill>
        <p:spPr>
          <a:xfrm>
            <a:off x="685800" y="914400"/>
            <a:ext cx="784872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2AE-0ABF-4097-8E31-333A916448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Picture 4" descr="30815"/>
          <p:cNvPicPr/>
          <p:nvPr/>
        </p:nvPicPr>
        <p:blipFill>
          <a:blip r:embed="rId1"/>
          <a:stretch/>
        </p:blipFill>
        <p:spPr>
          <a:xfrm>
            <a:off x="3733920" y="1447920"/>
            <a:ext cx="5143320" cy="514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6" name="Text Box 5"/>
          <p:cNvSpPr/>
          <p:nvPr/>
        </p:nvSpPr>
        <p:spPr>
          <a:xfrm>
            <a:off x="0" y="144792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unched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ar instrument (MARSIS) built at University of Iowa (Prof. D. Gurnett, P.I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instruments, including a small rover called “Beagle 2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E888-8D96-4E01-9E3F-8065F3A54D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S EXPRESS: Radar Experiment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0" y="1600200"/>
            <a:ext cx="350532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reflection signal of water is very different from r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hoes can differentiate between rock and ice or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ar transmitter operates at 1-2 MHz  and penetrates ground to several km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nnot distinguish between 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30818"/>
          <p:cNvPicPr/>
          <p:nvPr/>
        </p:nvPicPr>
        <p:blipFill>
          <a:blip r:embed="rId1"/>
          <a:stretch/>
        </p:blipFill>
        <p:spPr>
          <a:xfrm>
            <a:off x="3733920" y="1295280"/>
            <a:ext cx="5143320" cy="5143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389-AACC-4A2F-94D3-0CCF0B9DB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3" descr="21915_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4B6-A760-4A50-AB1C-15339147B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2" descr="maccas"/>
          <p:cNvPicPr/>
          <p:nvPr/>
        </p:nvPicPr>
        <p:blipFill>
          <a:blip r:embed="rId1"/>
          <a:stretch/>
        </p:blipFill>
        <p:spPr>
          <a:xfrm>
            <a:off x="228600" y="228600"/>
            <a:ext cx="8474040" cy="6354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159228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88C1-9CF4-42A5-AD2C-40F24ACC90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martians2"/>
          <p:cNvPicPr/>
          <p:nvPr/>
        </p:nvPicPr>
        <p:blipFill>
          <a:blip r:embed="rId1"/>
          <a:stretch/>
        </p:blipFill>
        <p:spPr>
          <a:xfrm>
            <a:off x="1219320" y="1295280"/>
            <a:ext cx="7016760" cy="52768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40000" y="38088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rs Surface Exploration – the Futu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F098-3B8C-470F-BE36-01319B6BDF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79320" y="304920"/>
            <a:ext cx="72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Mars Exploration: “Scout Mi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balloons_mars"/>
          <p:cNvPicPr/>
          <p:nvPr/>
        </p:nvPicPr>
        <p:blipFill>
          <a:blip r:embed="rId1"/>
          <a:stretch/>
        </p:blipFill>
        <p:spPr>
          <a:xfrm>
            <a:off x="1066680" y="1219320"/>
            <a:ext cx="1764000" cy="5181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ars_airplanes"/>
          <p:cNvPicPr/>
          <p:nvPr/>
        </p:nvPicPr>
        <p:blipFill>
          <a:blip r:embed="rId2"/>
          <a:stretch/>
        </p:blipFill>
        <p:spPr>
          <a:xfrm>
            <a:off x="3657600" y="2743200"/>
            <a:ext cx="4857840" cy="33526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3"/>
          <p:cNvSpPr/>
          <p:nvPr/>
        </p:nvSpPr>
        <p:spPr>
          <a:xfrm>
            <a:off x="4029120" y="1042920"/>
            <a:ext cx="42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weight/efficient ball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et of small aircraft to explore Ma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new 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SAMPLE RETU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9273-809D-4076-BDF0-427900443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mars_outpost"/>
          <p:cNvPicPr/>
          <p:nvPr/>
        </p:nvPicPr>
        <p:blipFill>
          <a:blip r:embed="rId1"/>
          <a:stretch/>
        </p:blipFill>
        <p:spPr>
          <a:xfrm>
            <a:off x="1752480" y="304920"/>
            <a:ext cx="624852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057400" y="533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ian Outpost: 20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895A-BF8E-4124-BD15-C74A332734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Picture 2" descr="9904microbes05sml"/>
          <p:cNvPicPr/>
          <p:nvPr/>
        </p:nvPicPr>
        <p:blipFill>
          <a:blip r:embed="rId1"/>
          <a:stretch/>
        </p:blipFill>
        <p:spPr>
          <a:xfrm>
            <a:off x="533520" y="4343400"/>
            <a:ext cx="3276360" cy="2017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ase Study: Martian Rock ALH84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8560" y="4573440"/>
            <a:ext cx="439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ss = 1.9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gneous R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ed in Antarctica (easier to find) 19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ed on Mars 4.5 B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jected ~16 Million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ed ~13,000 yr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1720" y="30492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hat DO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79440" y="2362320"/>
            <a:ext cx="34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at DON’T they tell us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353400" y="458640"/>
            <a:ext cx="6037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processes on M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ust/core developed early in Solar Syst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olcanism until &lt; 1 Billion Years 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mical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than normal asteroid (meteorite) co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action with </a:t>
            </a:r>
            <a:r>
              <a:rPr b="0" i="1" lang="en-US" sz="1800" spc="-1" strike="noStrike">
                <a:solidFill>
                  <a:srgbClr val="00ffff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tian atmosphere com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925440" y="2514600"/>
            <a:ext cx="52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tion of origin (on Mars – which part of surface?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ough about Mars’ water &amp;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ed to actuall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OCKS from Mars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Місце для дати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Місце для номера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756A-5490-4D45-82D7-CF27E12A2A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mars_explore"/>
          <p:cNvPicPr/>
          <p:nvPr/>
        </p:nvPicPr>
        <p:blipFill>
          <a:blip r:embed="rId1"/>
          <a:stretch/>
        </p:blipFill>
        <p:spPr>
          <a:xfrm>
            <a:off x="0" y="45720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BAE-BEDD-4847-A027-3C51BAD627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9904microbes06sml"/>
          <p:cNvPicPr/>
          <p:nvPr/>
        </p:nvPicPr>
        <p:blipFill>
          <a:blip r:embed="rId1"/>
          <a:stretch/>
        </p:blipFill>
        <p:spPr>
          <a:xfrm>
            <a:off x="609480" y="1143000"/>
            <a:ext cx="3581640" cy="2468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4" name="Picture 3" descr="9904microbes07sml"/>
          <p:cNvPicPr/>
          <p:nvPr/>
        </p:nvPicPr>
        <p:blipFill>
          <a:blip r:embed="rId2"/>
          <a:stretch/>
        </p:blipFill>
        <p:spPr>
          <a:xfrm>
            <a:off x="4800600" y="1219320"/>
            <a:ext cx="3809880" cy="23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533520" y="38098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lobules of carbonate minerals (the yellow-orange grains) are scattered along cracks in this small chip of ALH 84001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343400" y="3809880"/>
            <a:ext cx="43434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rims contain iron oxides (including magnetite) and iron sulfides--incompatible minerals that on Earth would suggest microbial a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6782040" cy="4570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836640" y="228600"/>
            <a:ext cx="74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Controversial – microbial presence in meteorites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106668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Close up views reveal structure similar to Earth microbe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1160" y="5562720"/>
            <a:ext cx="865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trobiology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xciting field of research – study of origin of life in the solar system,uni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UBIQUITOUS in the universe – we just haven’t found 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 LIFE IS A SPECIAL quirk of nature and timing – very very ra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AA8-E299-4CCB-BE1D-E7B3A71845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854a81-3"/>
          <p:cNvPicPr/>
          <p:nvPr/>
        </p:nvPicPr>
        <p:blipFill>
          <a:blip r:embed="rId1"/>
          <a:stretch/>
        </p:blipFill>
        <p:spPr>
          <a:xfrm>
            <a:off x="609480" y="609480"/>
            <a:ext cx="4637160" cy="5181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bos (20 km x 27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715000" y="3276720"/>
            <a:ext cx="3200400" cy="3358800"/>
            <a:chOff x="5715000" y="3276720"/>
            <a:chExt cx="3200400" cy="3358800"/>
          </a:xfrm>
        </p:grpSpPr>
        <p:pic>
          <p:nvPicPr>
            <p:cNvPr id="97" name="Picture 5" descr="Eros Feb 25 2000"/>
            <p:cNvPicPr/>
            <p:nvPr/>
          </p:nvPicPr>
          <p:blipFill>
            <a:blip r:embed="rId2"/>
            <a:stretch/>
          </p:blipFill>
          <p:spPr>
            <a:xfrm>
              <a:off x="6248520" y="3276720"/>
              <a:ext cx="2230200" cy="2438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Text Box 6"/>
            <p:cNvSpPr/>
            <p:nvPr/>
          </p:nvSpPr>
          <p:spPr>
            <a:xfrm>
              <a:off x="5715000" y="5850000"/>
              <a:ext cx="3200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mparison: Asteroid Ero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33 km x 13 k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556272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an Mo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533520" y="1523880"/>
            <a:ext cx="4762440" cy="3324240"/>
            <a:chOff x="533520" y="1523880"/>
            <a:chExt cx="4762440" cy="3324240"/>
          </a:xfrm>
        </p:grpSpPr>
        <p:pic>
          <p:nvPicPr>
            <p:cNvPr id="101" name="Picture 9" descr="Deimos"/>
            <p:cNvPicPr/>
            <p:nvPr/>
          </p:nvPicPr>
          <p:blipFill>
            <a:blip r:embed="rId3"/>
            <a:stretch/>
          </p:blipFill>
          <p:spPr>
            <a:xfrm>
              <a:off x="533520" y="1523880"/>
              <a:ext cx="4762440" cy="3324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2" name="Text Box 10"/>
            <p:cNvSpPr/>
            <p:nvPr/>
          </p:nvSpPr>
          <p:spPr>
            <a:xfrm>
              <a:off x="4038480" y="4343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ei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Text Box 11"/>
          <p:cNvSpPr/>
          <p:nvPr/>
        </p:nvSpPr>
        <p:spPr>
          <a:xfrm>
            <a:off x="5486400" y="990720"/>
            <a:ext cx="3657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moons: Deimos, Phob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all (~20km) irregularly sha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bit Mars in 8hr, 30h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bably captured astero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дати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омера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605-87C0-4BB7-B67A-68D9B2EE5E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449000" y="228600"/>
            <a:ext cx="59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Risks of Solar System Mis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PRO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osest views of the pla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are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ss to wavelengths that are unavailable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ospheric effects gone – get clearer views than on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sophisticated tech. and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CONS for Space 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not fix/test equipment as eas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risk with rocket 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ch much more costly! (although more costly for manned than unman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fetime is usually sho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grades much mor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Unicode M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sks from UV radiation, cosmic r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4E9F-CFB6-4107-BE25-B7BD7A6F2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0512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 1 and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2" descr="viking_lander_model"/>
          <p:cNvPicPr/>
          <p:nvPr/>
        </p:nvPicPr>
        <p:blipFill>
          <a:blip r:embed="rId1"/>
          <a:stretch/>
        </p:blipFill>
        <p:spPr>
          <a:xfrm>
            <a:off x="990720" y="685800"/>
            <a:ext cx="6933960" cy="42908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1195920" y="5219640"/>
            <a:ext cx="681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 1 launched in August of 1975, Viking 2 launched in Sept. 19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kings arrived at Mars in June, August of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biter + Lander – Orbiters alone weighed close to a ½ ton each –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ery expensive launch/rocket equipment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these days NASA’s mantra: “Faster Better Cheaper”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1D8E-079F-42FA-B43E-87F1D20DD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4300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 Images of Mars’ Su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5" descr="viking_lander_image"/>
          <p:cNvPicPr/>
          <p:nvPr/>
        </p:nvPicPr>
        <p:blipFill>
          <a:blip r:embed="rId1"/>
          <a:stretch/>
        </p:blipFill>
        <p:spPr>
          <a:xfrm>
            <a:off x="152280" y="1066680"/>
            <a:ext cx="4572000" cy="32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80880" y="4876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ing site chosen from Orbiter images – two different regions in Northern Lowlan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vealed that the surface of Mars was littered with jagged rocks and fine dust every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were probably result of crater-forming impact (“ejecta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cks resemble lava-rocks on Earth – lava flows broken up by imp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viking_lander"/>
          <p:cNvPicPr/>
          <p:nvPr/>
        </p:nvPicPr>
        <p:blipFill>
          <a:blip r:embed="rId2"/>
          <a:stretch/>
        </p:blipFill>
        <p:spPr>
          <a:xfrm>
            <a:off x="4800600" y="762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дати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 Sept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ar System - C. C. L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3F80-E05F-4381-935F-CD8859175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king Landers: Search for Life on M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952880" y="1143000"/>
            <a:ext cx="38862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ience Instrument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m la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 explore reactions of Mars rock with water (none detect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coop arm with magnet –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und that the soil was IRON-r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fined to study only one part of Martian surface – its landing 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pired NASA to propose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ions with MOVING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hicles –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athfinder 1997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viking"/>
          <p:cNvPicPr/>
          <p:nvPr/>
        </p:nvPicPr>
        <p:blipFill>
          <a:blip r:embed="rId1"/>
          <a:stretch/>
        </p:blipFill>
        <p:spPr>
          <a:xfrm>
            <a:off x="838080" y="1752480"/>
            <a:ext cx="37339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4:35:25Z</dcterms:created>
  <dc:creator>clang</dc:creator>
  <dc:description/>
  <dc:language>en-US</dc:language>
  <cp:lastModifiedBy>LEGION</cp:lastModifiedBy>
  <dcterms:modified xsi:type="dcterms:W3CDTF">2015-09-04T07:51:13Z</dcterms:modified>
  <cp:revision>13</cp:revision>
  <dc:subject/>
  <dc:title>Slide 1</dc:title>
</cp:coreProperties>
</file>