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9.wmf" ContentType="image/x-wmf"/>
  <Override PartName="/ppt/media/image7.png" ContentType="image/png"/>
  <Override PartName="/ppt/media/image37.png" ContentType="image/png"/>
  <Override PartName="/ppt/media/image12.wmf" ContentType="image/x-wmf"/>
  <Override PartName="/ppt/media/image30.wmf" ContentType="image/x-wmf"/>
  <Override PartName="/ppt/media/image16.jpeg" ContentType="image/jpeg"/>
  <Override PartName="/ppt/media/image5.wmf" ContentType="image/x-wmf"/>
  <Override PartName="/ppt/media/image31.wmf" ContentType="image/x-wmf"/>
  <Override PartName="/ppt/media/image6.wmf" ContentType="image/x-wmf"/>
  <Override PartName="/ppt/media/image33.wmf" ContentType="image/x-wmf"/>
  <Override PartName="/ppt/media/image8.wmf" ContentType="image/x-wmf"/>
  <Override PartName="/ppt/media/image11.wmf" ContentType="image/x-wmf"/>
  <Override PartName="/ppt/media/image36.png" ContentType="image/png"/>
  <Override PartName="/ppt/media/image38.png" ContentType="image/png"/>
  <Override PartName="/ppt/media/image1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5.png" ContentType="image/png"/>
  <Override PartName="/ppt/media/notify.wav" ContentType="audio/x-wav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5FC3-C87E-4F78-B957-F2FE2F4776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is ‘ADD 4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(Compos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2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osite function, where g is performed first and then f is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sult of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g may be found using a flow 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(Compos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2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osite function, where g is performed first and then f is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sult of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g may be found using a flow 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Functions - Arr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Functions - Arr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rrows from each person and each place is related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. It is a MANY to MANY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rrows from each person and each place is related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. It is a MANY to MANY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. This is a 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. This is a 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to MAN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to MAN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- Domain and R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2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- Domain and R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2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-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f such that x is mapped onto x2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-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f such that x is mapped onto x2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364C-10C7-4639-8B63-7E91F98B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6FC8-DFCD-4EB6-B8B6-7A1AF3E3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45D4C-B513-4E0F-9BC8-C18796D2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09AA4-50E7-4E47-96F8-C611ECB1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CF590-1105-4F7B-B162-B0B84F82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8756E-A337-4C75-860C-677BF804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2C75C-586C-4145-B727-379E4E27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A1BE2-777F-43EB-947C-CA01C66D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7762B-4362-486E-B38A-350A8901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512A2-EB5E-4E50-B390-96C9200A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0DFF9-8662-49D7-9EFC-0AD0D00B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27AD6-E5D7-49C4-87AE-B9A4FF23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B342-5BA2-4759-A771-20C642DF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1EB17-10F9-439C-B39D-6123BF6A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8CDD3-8F8D-4DDB-87F3-0C92D8D8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602D3-37AE-4DCA-A668-162B0576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D9CC6-B272-47E6-923D-4035649D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6A221-EFB4-4503-97FF-A018423E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467D3-780D-4B13-9ABB-6B7B4909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A6C05-2E28-4C0B-A878-DCEA26A5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FDCA8-FB26-40EA-AC53-DE3A7581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D9394-8BC0-44E2-8568-DF9BBC20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88A5D-EB33-4AE9-9280-8437F98A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CB84-7DF3-48D7-AC7A-8DAAE671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BE3A7-1417-4D2A-AECB-9EF47B78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B651B-18CD-449A-83A5-40C46D2C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F69BF-7C54-4460-BBAA-45469B45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6C1A8-AE37-4FEA-9422-2AA699CD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17DB0-0FB7-450C-8562-DF76DCA9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DD744-8CF7-42C3-BAAA-BAABC19C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6342A-FAA3-4F3D-A86A-DD01CE14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E1B89-779E-4D2B-ABA5-B7059F01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A403A-DF27-43ED-8DF5-BA5C202B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D9B53-DF88-4015-B245-93AF26D2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D8B6-A098-468A-8C63-82CA5FEB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F857A-CFB7-4D83-860B-2B9284AC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CD181-015D-4139-82A6-1AE3DF41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7E43A-DCD4-4404-AD05-2C1D446D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0102D-C8A6-42B6-A05E-96AC53ED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CD37A-21A0-40B8-AF3A-2D09BF69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64116-24CC-41AC-A5DB-C81B58E9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3D728-DED9-46CC-8B21-DB382334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9E8E3-DBF8-45EA-8AE8-ECC92D01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E7ECD-4019-4474-B338-6946B1BC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EE5BF-F1CA-4196-B80D-F722FB38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5A72-6764-493C-B2B2-48798229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5B300-DA86-4BF4-8DB4-0F7C7BF3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6C54C-8307-4215-A6EB-5A4F5166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4E2B3-2247-4297-B4BC-6B062AA6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70D56-3B06-44EA-82D5-7C23E821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B62F1-D6BD-43CC-9FF0-7F72C4F1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898F-0628-4B1B-818D-E92FF9CA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4558-A3F7-423E-9D61-3339366E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20F7-887B-4DDB-A297-194E5FC1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6D62-CA05-443E-90BA-F2BD43E8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7C9B-1D20-41AA-AF4F-EE4A2608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F479-9443-4840-9D8D-ACE6EA79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12D7-9498-4C69-AE7A-BFC0818A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5EC8-0E46-4BA8-A643-4E55FFC9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5CFD-F262-4259-8228-B66B5FD0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50BC-0DB8-4980-8EED-C6769E6C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D85B-EC0F-4AB3-967E-0B55717D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8D559-2EBA-4521-A75E-77A6646E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D6438-32F2-4984-8301-EECBE7BF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8EEBA-DCFF-402F-867D-1D7624E1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CBC60-C424-4CD9-B920-1309AF0C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33DBF-E24C-489B-B2AF-57B93604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AE00-DD3A-43F8-8798-28E357FF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3FF9E-79CF-44DE-8427-7E8B3676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FA905-F605-4BA5-8B74-5FF437AF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1BCE5-5826-4D75-8292-96B93BFE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1D6FF-62C0-4B1E-B834-88EA20A9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81E9E-7593-455B-821C-1DBBCCD6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730E2-6F2D-41B0-BCD3-CAE37995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B184-2889-4952-B460-ACFADB2C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C1617-C5B6-48E9-AFE4-FB526201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3146B-348B-496A-AEE2-1F4B5BB5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B45A2-2A86-4DF8-9368-2BA98F40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AA1-AE5F-4552-8973-67E5FA5B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B0F02-04B1-4D31-BC37-7B61FAE8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0E70F-437C-4956-BC7F-85C3B435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7C815-D493-4AF9-9863-5191CD18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6E5B1-59B3-429B-9770-5D9C30B7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EFFDE-F706-4539-8ACC-0AEA7F0F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21D38-5A29-4955-A86D-7596B4DE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F7764-EC40-4AC6-8F34-D00EB8D1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31575-A843-492E-82AC-207713AC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AEAC7-703B-4A70-B834-5355E47E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BE23C-0F74-4702-BF17-D4FF3996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BDD-98CD-4ABF-90E6-3912CAEE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98A1E-C8A7-4721-A007-207AC4EA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0CED0-C6E1-4F78-81D8-BCFEB629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C3AED-5BFC-446A-B650-1BC6CDCE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7ED80-82AA-4198-80FC-49F0D2C0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7BE16-30AB-4B07-BE74-969D5D48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934AB-BB54-48B3-9B0C-092A685C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0F583-03B7-440E-9017-22385EDE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21CFB-EECE-4992-AF14-76C9EA9A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8E008-EFB5-4488-8178-2A796971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3AB84-257D-48A6-AAB4-BB99F005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FF8-61F5-4237-973D-6CFEEB52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238F5-7337-43C1-819D-653214C0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27EBD-8325-4476-8892-AF7F718C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14556-948B-4EF2-B7BE-AB557F16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6BF25-9B94-49DB-B69B-F281615B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A7509-18BF-412D-9376-DAD3F1CE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62326-9B84-49FA-899D-C04C9F0B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F422A-6F55-48AE-AAA8-C47AED4D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23551-E29A-4BDB-927F-E03E0A00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113EF-8502-4245-8755-67209684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09DBD-F8B1-45C8-8B42-81B85719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7E5A-9FE3-46F1-AB90-C9B82470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92233-8A08-48F9-A087-C9565CE0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F2B4B-09F0-491A-88CC-DFB53F58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C2A4D-1798-4C8E-8592-AD8E04B9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755B2-5C90-4E7D-8E05-4FA8F619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C4DFC-2440-4356-894E-CDDF6A5B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3BDA8-A42A-4DB3-A460-0597191D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E8A45-EAB3-4A66-8F67-D0B0C15B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75938-C73D-4BB5-8910-D6B8932E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21492-644B-4846-B92F-F4FF0055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7B1FE-E091-4BE6-9F46-5E4003FF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CDBC-F96D-49A5-AE11-822FFAF5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2D7E8-E009-464E-9DDB-FB9DD01E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DC5A2-8C93-47AE-BDB8-D9DD3024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DB992-9CDF-4204-9960-3863C042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290C5-6617-4968-8D80-CEDB9E78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404D3-2EF8-488A-B1E5-927BEF69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E4A05-4C83-49B2-947A-DF616F70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EFCDC-8295-4F2D-A510-FFC522F9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7F2D5-2D6B-46B8-A27A-ACD1A6CD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56F44-F87C-4E71-A762-7572C665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9498F-491B-4016-9851-11DD9579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DF5-FCD9-4E55-A287-C4652798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C66A3-804A-4A97-AABC-08213F23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E8D6B-80BE-48E9-9057-97299AAC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9C0A2-3878-4C35-9F06-8C413A11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761C6-AAE5-41EE-9D89-F1252719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A5D38-D79F-48CE-826B-D6D05F67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97394-127A-49F0-BC69-86744C6E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0EB63-E421-4FE6-B653-6695ABCD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03E04-BBF5-4653-9277-C2AA2BF1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E185E-D671-409E-AF3A-7AA63AEB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A208A-926A-4C53-B605-5EFBAACC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FC87-B15D-4059-AFA2-BE565FB06F0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0DD5-55F2-4917-917D-7B752106206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EAC0-43C8-445A-A498-75A74BA7A0C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9FA7-093C-48BE-BDFA-A0658523CF2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6AEA-8586-4EFE-AEFA-D31C83834B0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6CFC-BD69-4ADD-8626-36919C6A17C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3165-588B-46D9-922B-EC7B0286ECB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1EE3-FEC5-43D8-AAF9-2CA25C33836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B2C5-4743-4673-9564-3424DDE0E98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6726-CD84-47E3-B07F-659F7ABA0C7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6D58-4C0E-4029-B8B4-C0B9F6B9FC1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A362-52AD-4D3E-8AAE-1419230CBBD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1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2.wmf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image" Target="../media/image26.wmf"/><Relationship Id="rId17" Type="http://schemas.openxmlformats.org/officeDocument/2006/relationships/image" Target="../media/image21.wmf"/><Relationship Id="rId18" Type="http://schemas.openxmlformats.org/officeDocument/2006/relationships/slideLayout" Target="../slideLayouts/slideLayout85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19.wmf"/><Relationship Id="rId7" Type="http://schemas.openxmlformats.org/officeDocument/2006/relationships/image" Target="../media/image32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33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notify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1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Oval 4"/>
          <p:cNvSpPr/>
          <p:nvPr/>
        </p:nvSpPr>
        <p:spPr>
          <a:xfrm>
            <a:off x="1054080" y="1803240"/>
            <a:ext cx="1219320" cy="3009960"/>
          </a:xfrm>
          <a:prstGeom prst="ellipse">
            <a:avLst/>
          </a:prstGeom>
          <a:blipFill rotWithShape="0">
            <a:blip r:embed="rId1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5"/>
          <p:cNvSpPr/>
          <p:nvPr/>
        </p:nvSpPr>
        <p:spPr>
          <a:xfrm>
            <a:off x="5511960" y="1828800"/>
            <a:ext cx="1218960" cy="300996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2"/>
          <p:cNvSpPr/>
          <p:nvPr/>
        </p:nvSpPr>
        <p:spPr>
          <a:xfrm>
            <a:off x="5929560" y="208116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1459080" y="197964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1797120" y="1954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2"/>
          <p:cNvSpPr/>
          <p:nvPr/>
        </p:nvSpPr>
        <p:spPr>
          <a:xfrm>
            <a:off x="1924200" y="253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1873440" y="3046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4"/>
          <p:cNvSpPr/>
          <p:nvPr/>
        </p:nvSpPr>
        <p:spPr>
          <a:xfrm>
            <a:off x="1822680" y="3630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1771560" y="4138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2"/>
          <p:cNvSpPr/>
          <p:nvPr/>
        </p:nvSpPr>
        <p:spPr>
          <a:xfrm>
            <a:off x="2057400" y="2120760"/>
            <a:ext cx="36068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43"/>
          <p:cNvSpPr/>
          <p:nvPr/>
        </p:nvSpPr>
        <p:spPr>
          <a:xfrm>
            <a:off x="2185920" y="2719440"/>
            <a:ext cx="36068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4"/>
          <p:cNvSpPr/>
          <p:nvPr/>
        </p:nvSpPr>
        <p:spPr>
          <a:xfrm>
            <a:off x="2173320" y="3240000"/>
            <a:ext cx="36068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5"/>
          <p:cNvSpPr/>
          <p:nvPr/>
        </p:nvSpPr>
        <p:spPr>
          <a:xfrm>
            <a:off x="2109960" y="3811680"/>
            <a:ext cx="36064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6"/>
          <p:cNvSpPr/>
          <p:nvPr/>
        </p:nvSpPr>
        <p:spPr>
          <a:xfrm>
            <a:off x="2147760" y="4319640"/>
            <a:ext cx="36068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47"/>
          <p:cNvSpPr txBox="1"/>
          <p:nvPr/>
        </p:nvSpPr>
        <p:spPr>
          <a:xfrm rot="1137600">
            <a:off x="3009600" y="787320"/>
            <a:ext cx="1562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ne to On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1673280" y="5452920"/>
            <a:ext cx="21711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le is ‘ADD 4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1945 0.01481 E">
                                      <p:cBhvr>
                                        <p:cTn id="6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7.40741E-007 L 0.40556 0.01481 E">
                                      <p:cBhvr>
                                        <p:cTn id="10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0.00186 L 0.41111 0.01667 E">
                                      <p:cBhvr>
                                        <p:cTn id="14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0.4125 0.01667 E">
                                      <p:cBhvr>
                                        <p:cTn id="18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1945 0.01481 E">
                                      <p:cBhvr>
                                        <p:cTn id="22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WordArt 14"/>
          <p:cNvSpPr txBox="1"/>
          <p:nvPr/>
        </p:nvSpPr>
        <p:spPr>
          <a:xfrm>
            <a:off x="311040" y="484200"/>
            <a:ext cx="4248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ompound(Composite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unction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6" name="Picture 15" descr=""/>
          <p:cNvPicPr/>
          <p:nvPr/>
        </p:nvPicPr>
        <p:blipFill>
          <a:blip r:embed="rId5"/>
          <a:stretch/>
        </p:blipFill>
        <p:spPr>
          <a:xfrm>
            <a:off x="2654280" y="1776240"/>
            <a:ext cx="2760840" cy="27468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16"/>
          <p:cNvSpPr/>
          <p:nvPr/>
        </p:nvSpPr>
        <p:spPr>
          <a:xfrm>
            <a:off x="3662280" y="34606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7"/>
          <p:cNvSpPr/>
          <p:nvPr/>
        </p:nvSpPr>
        <p:spPr>
          <a:xfrm>
            <a:off x="193680" y="1769760"/>
            <a:ext cx="23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2 func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9" descr=""/>
          <p:cNvPicPr/>
          <p:nvPr/>
        </p:nvPicPr>
        <p:blipFill>
          <a:blip r:embed="rId6"/>
          <a:stretch/>
        </p:blipFill>
        <p:spPr>
          <a:xfrm>
            <a:off x="1116000" y="2370240"/>
            <a:ext cx="192240" cy="28080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20"/>
          <p:cNvSpPr/>
          <p:nvPr/>
        </p:nvSpPr>
        <p:spPr>
          <a:xfrm>
            <a:off x="0" y="333864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2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3"/>
          <p:cNvSpPr/>
          <p:nvPr/>
        </p:nvSpPr>
        <p:spPr>
          <a:xfrm>
            <a:off x="1338120" y="2340000"/>
            <a:ext cx="76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composite function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 first and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esul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found using a flow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5"/>
          <p:cNvSpPr/>
          <p:nvPr/>
        </p:nvSpPr>
        <p:spPr>
          <a:xfrm>
            <a:off x="460440" y="378000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26" descr=""/>
          <p:cNvPicPr/>
          <p:nvPr/>
        </p:nvPicPr>
        <p:blipFill>
          <a:blip r:embed="rId7"/>
          <a:stretch/>
        </p:blipFill>
        <p:spPr>
          <a:xfrm>
            <a:off x="887400" y="3459240"/>
            <a:ext cx="100080" cy="26964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27"/>
          <p:cNvSpPr/>
          <p:nvPr/>
        </p:nvSpPr>
        <p:spPr>
          <a:xfrm>
            <a:off x="1558440" y="3621960"/>
            <a:ext cx="877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8"/>
          <p:cNvSpPr/>
          <p:nvPr/>
        </p:nvSpPr>
        <p:spPr>
          <a:xfrm>
            <a:off x="2462040" y="38070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29" descr=""/>
          <p:cNvPicPr/>
          <p:nvPr/>
        </p:nvPicPr>
        <p:blipFill>
          <a:blip r:embed="rId8"/>
          <a:stretch/>
        </p:blipFill>
        <p:spPr>
          <a:xfrm>
            <a:off x="2917800" y="3527280"/>
            <a:ext cx="201600" cy="2746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31"/>
          <p:cNvSpPr/>
          <p:nvPr/>
        </p:nvSpPr>
        <p:spPr>
          <a:xfrm>
            <a:off x="3547440" y="363600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2"/>
          <p:cNvSpPr/>
          <p:nvPr/>
        </p:nvSpPr>
        <p:spPr>
          <a:xfrm>
            <a:off x="5030640" y="38052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33" descr=""/>
          <p:cNvPicPr/>
          <p:nvPr/>
        </p:nvPicPr>
        <p:blipFill>
          <a:blip r:embed="rId9"/>
          <a:stretch/>
        </p:blipFill>
        <p:spPr>
          <a:xfrm>
            <a:off x="5459400" y="3498840"/>
            <a:ext cx="320760" cy="2779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34"/>
          <p:cNvSpPr/>
          <p:nvPr/>
        </p:nvSpPr>
        <p:spPr>
          <a:xfrm>
            <a:off x="0" y="333864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37"/>
          <p:cNvSpPr/>
          <p:nvPr/>
        </p:nvSpPr>
        <p:spPr>
          <a:xfrm>
            <a:off x="6101280" y="3594960"/>
            <a:ext cx="7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0"/>
          <p:cNvSpPr/>
          <p:nvPr/>
        </p:nvSpPr>
        <p:spPr>
          <a:xfrm>
            <a:off x="6927840" y="379080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4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43" descr=""/>
          <p:cNvPicPr/>
          <p:nvPr/>
        </p:nvPicPr>
        <p:blipFill>
          <a:blip r:embed="rId10"/>
          <a:stretch/>
        </p:blipFill>
        <p:spPr>
          <a:xfrm>
            <a:off x="7221600" y="3446640"/>
            <a:ext cx="649080" cy="274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45" descr=""/>
          <p:cNvPicPr/>
          <p:nvPr/>
        </p:nvPicPr>
        <p:blipFill>
          <a:blip r:embed="rId11">
            <a:biLevel thresh="50000"/>
          </a:blip>
          <a:srcRect l="31242" t="0" r="0" b="0"/>
          <a:stretch/>
        </p:blipFill>
        <p:spPr>
          <a:xfrm rot="5400000">
            <a:off x="1724760" y="3909240"/>
            <a:ext cx="471600" cy="8128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4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47" descr=""/>
          <p:cNvPicPr/>
          <p:nvPr/>
        </p:nvPicPr>
        <p:blipFill>
          <a:blip r:embed="rId12"/>
          <a:stretch/>
        </p:blipFill>
        <p:spPr>
          <a:xfrm>
            <a:off x="1855800" y="4629240"/>
            <a:ext cx="119160" cy="2826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9" descr=""/>
          <p:cNvPicPr/>
          <p:nvPr/>
        </p:nvPicPr>
        <p:blipFill>
          <a:blip r:embed="rId13">
            <a:biLevel thresh="50000"/>
          </a:blip>
          <a:srcRect l="29935" t="0" r="0" b="0"/>
          <a:stretch/>
        </p:blipFill>
        <p:spPr>
          <a:xfrm rot="5400000">
            <a:off x="5093280" y="3413880"/>
            <a:ext cx="587160" cy="15829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0" descr=""/>
          <p:cNvPicPr/>
          <p:nvPr/>
        </p:nvPicPr>
        <p:blipFill>
          <a:blip r:embed="rId14"/>
          <a:stretch/>
        </p:blipFill>
        <p:spPr>
          <a:xfrm>
            <a:off x="5391000" y="4525920"/>
            <a:ext cx="146160" cy="274680"/>
          </a:xfrm>
          <a:prstGeom prst="rect">
            <a:avLst/>
          </a:prstGeom>
          <a:ln w="0">
            <a:noFill/>
          </a:ln>
        </p:spPr>
      </p:pic>
      <p:grpSp>
        <p:nvGrpSpPr>
          <p:cNvPr id="725" name="Group 57"/>
          <p:cNvGrpSpPr/>
          <p:nvPr/>
        </p:nvGrpSpPr>
        <p:grpSpPr>
          <a:xfrm>
            <a:off x="527760" y="5327640"/>
            <a:ext cx="2139120" cy="406440"/>
            <a:chOff x="527760" y="5327640"/>
            <a:chExt cx="2139120" cy="406440"/>
          </a:xfrm>
        </p:grpSpPr>
        <p:sp>
          <p:nvSpPr>
            <p:cNvPr id="726" name="Text Box 51"/>
            <p:cNvSpPr/>
            <p:nvPr/>
          </p:nvSpPr>
          <p:spPr>
            <a:xfrm>
              <a:off x="527760" y="532764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u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53" descr=""/>
            <p:cNvPicPr/>
            <p:nvPr/>
          </p:nvPicPr>
          <p:blipFill>
            <a:blip r:embed="rId15"/>
            <a:stretch/>
          </p:blipFill>
          <p:spPr>
            <a:xfrm>
              <a:off x="1228680" y="5392800"/>
              <a:ext cx="14616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54" descr=""/>
            <p:cNvPicPr/>
            <p:nvPr/>
          </p:nvPicPr>
          <p:blipFill>
            <a:blip r:embed="rId16"/>
            <a:stretch/>
          </p:blipFill>
          <p:spPr>
            <a:xfrm>
              <a:off x="1351080" y="5402160"/>
              <a:ext cx="11880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 Box 55"/>
            <p:cNvSpPr/>
            <p:nvPr/>
          </p:nvSpPr>
          <p:spPr>
            <a:xfrm>
              <a:off x="1602720" y="5365800"/>
              <a:ext cx="3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0" name="Picture 56" descr=""/>
            <p:cNvPicPr/>
            <p:nvPr/>
          </p:nvPicPr>
          <p:blipFill>
            <a:blip r:embed="rId17"/>
            <a:stretch/>
          </p:blipFill>
          <p:spPr>
            <a:xfrm>
              <a:off x="2017800" y="5423040"/>
              <a:ext cx="649080" cy="274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Oval 4"/>
          <p:cNvSpPr/>
          <p:nvPr/>
        </p:nvSpPr>
        <p:spPr>
          <a:xfrm>
            <a:off x="1182600" y="142560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5"/>
          <p:cNvSpPr/>
          <p:nvPr/>
        </p:nvSpPr>
        <p:spPr>
          <a:xfrm>
            <a:off x="3933720" y="143208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6688080" y="140508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"/>
          <p:cNvSpPr/>
          <p:nvPr/>
        </p:nvSpPr>
        <p:spPr>
          <a:xfrm>
            <a:off x="1841400" y="2462040"/>
            <a:ext cx="2772000" cy="979560"/>
          </a:xfrm>
          <a:custGeom>
            <a:avLst/>
            <a:gdLst/>
            <a:ahLst/>
            <a:rect l="l" t="t" r="r" b="b"/>
            <a:pathLst>
              <a:path w="1678" h="617">
                <a:moveTo>
                  <a:pt x="0" y="617"/>
                </a:moveTo>
                <a:cubicBezTo>
                  <a:pt x="52" y="571"/>
                  <a:pt x="217" y="421"/>
                  <a:pt x="314" y="338"/>
                </a:cubicBezTo>
                <a:cubicBezTo>
                  <a:pt x="411" y="255"/>
                  <a:pt x="499" y="172"/>
                  <a:pt x="585" y="118"/>
                </a:cubicBezTo>
                <a:cubicBezTo>
                  <a:pt x="671" y="64"/>
                  <a:pt x="759" y="32"/>
                  <a:pt x="831" y="16"/>
                </a:cubicBezTo>
                <a:cubicBezTo>
                  <a:pt x="903" y="0"/>
                  <a:pt x="961" y="14"/>
                  <a:pt x="1017" y="25"/>
                </a:cubicBezTo>
                <a:cubicBezTo>
                  <a:pt x="1073" y="36"/>
                  <a:pt x="1115" y="57"/>
                  <a:pt x="1169" y="84"/>
                </a:cubicBezTo>
                <a:cubicBezTo>
                  <a:pt x="1223" y="111"/>
                  <a:pt x="1284" y="142"/>
                  <a:pt x="1339" y="185"/>
                </a:cubicBezTo>
                <a:cubicBezTo>
                  <a:pt x="1394" y="228"/>
                  <a:pt x="1443" y="282"/>
                  <a:pt x="1499" y="340"/>
                </a:cubicBezTo>
                <a:cubicBezTo>
                  <a:pt x="1555" y="398"/>
                  <a:pt x="1641" y="493"/>
                  <a:pt x="1678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4616280" y="2347920"/>
            <a:ext cx="2759400" cy="979560"/>
          </a:xfrm>
          <a:custGeom>
            <a:avLst/>
            <a:gdLst/>
            <a:ahLst/>
            <a:rect l="l" t="t" r="r" b="b"/>
            <a:pathLst>
              <a:path w="1678" h="617">
                <a:moveTo>
                  <a:pt x="0" y="617"/>
                </a:moveTo>
                <a:cubicBezTo>
                  <a:pt x="52" y="571"/>
                  <a:pt x="217" y="421"/>
                  <a:pt x="314" y="338"/>
                </a:cubicBezTo>
                <a:cubicBezTo>
                  <a:pt x="411" y="255"/>
                  <a:pt x="499" y="172"/>
                  <a:pt x="585" y="118"/>
                </a:cubicBezTo>
                <a:cubicBezTo>
                  <a:pt x="671" y="64"/>
                  <a:pt x="759" y="32"/>
                  <a:pt x="831" y="16"/>
                </a:cubicBezTo>
                <a:cubicBezTo>
                  <a:pt x="903" y="0"/>
                  <a:pt x="961" y="14"/>
                  <a:pt x="1017" y="25"/>
                </a:cubicBezTo>
                <a:cubicBezTo>
                  <a:pt x="1073" y="36"/>
                  <a:pt x="1115" y="57"/>
                  <a:pt x="1169" y="84"/>
                </a:cubicBezTo>
                <a:cubicBezTo>
                  <a:pt x="1223" y="111"/>
                  <a:pt x="1284" y="142"/>
                  <a:pt x="1339" y="185"/>
                </a:cubicBezTo>
                <a:cubicBezTo>
                  <a:pt x="1394" y="228"/>
                  <a:pt x="1443" y="282"/>
                  <a:pt x="1499" y="340"/>
                </a:cubicBezTo>
                <a:cubicBezTo>
                  <a:pt x="1555" y="398"/>
                  <a:pt x="1641" y="493"/>
                  <a:pt x="1678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0" descr=""/>
          <p:cNvPicPr/>
          <p:nvPr/>
        </p:nvPicPr>
        <p:blipFill>
          <a:blip r:embed="rId1"/>
          <a:stretch/>
        </p:blipFill>
        <p:spPr>
          <a:xfrm>
            <a:off x="3013200" y="1252440"/>
            <a:ext cx="495000" cy="11746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>
            <a:off x="5794200" y="1204920"/>
            <a:ext cx="657360" cy="1236600"/>
          </a:xfrm>
          <a:prstGeom prst="rect">
            <a:avLst/>
          </a:prstGeom>
          <a:ln w="0">
            <a:noFill/>
          </a:ln>
        </p:spPr>
      </p:pic>
      <p:sp>
        <p:nvSpPr>
          <p:cNvPr id="738" name="Freeform 12"/>
          <p:cNvSpPr/>
          <p:nvPr/>
        </p:nvSpPr>
        <p:spPr>
          <a:xfrm>
            <a:off x="1882800" y="3294000"/>
            <a:ext cx="5459400" cy="1494000"/>
          </a:xfrm>
          <a:custGeom>
            <a:avLst/>
            <a:gdLst/>
            <a:ahLst/>
            <a:rect l="l" t="t" r="r" b="b"/>
            <a:pathLst>
              <a:path w="3439" h="941">
                <a:moveTo>
                  <a:pt x="0" y="187"/>
                </a:moveTo>
                <a:cubicBezTo>
                  <a:pt x="216" y="424"/>
                  <a:pt x="432" y="662"/>
                  <a:pt x="593" y="780"/>
                </a:cubicBezTo>
                <a:cubicBezTo>
                  <a:pt x="754" y="898"/>
                  <a:pt x="857" y="873"/>
                  <a:pt x="966" y="898"/>
                </a:cubicBezTo>
                <a:cubicBezTo>
                  <a:pt x="1075" y="923"/>
                  <a:pt x="1158" y="925"/>
                  <a:pt x="1245" y="932"/>
                </a:cubicBezTo>
                <a:cubicBezTo>
                  <a:pt x="1332" y="939"/>
                  <a:pt x="1419" y="941"/>
                  <a:pt x="1491" y="941"/>
                </a:cubicBezTo>
                <a:cubicBezTo>
                  <a:pt x="1563" y="941"/>
                  <a:pt x="1599" y="941"/>
                  <a:pt x="1677" y="932"/>
                </a:cubicBezTo>
                <a:cubicBezTo>
                  <a:pt x="1755" y="923"/>
                  <a:pt x="1877" y="908"/>
                  <a:pt x="1957" y="890"/>
                </a:cubicBezTo>
                <a:cubicBezTo>
                  <a:pt x="2037" y="872"/>
                  <a:pt x="2090" y="846"/>
                  <a:pt x="2160" y="822"/>
                </a:cubicBezTo>
                <a:cubicBezTo>
                  <a:pt x="2230" y="798"/>
                  <a:pt x="2316" y="769"/>
                  <a:pt x="2380" y="746"/>
                </a:cubicBezTo>
                <a:cubicBezTo>
                  <a:pt x="2444" y="723"/>
                  <a:pt x="2475" y="711"/>
                  <a:pt x="2541" y="686"/>
                </a:cubicBezTo>
                <a:cubicBezTo>
                  <a:pt x="2607" y="661"/>
                  <a:pt x="2717" y="628"/>
                  <a:pt x="2778" y="593"/>
                </a:cubicBezTo>
                <a:cubicBezTo>
                  <a:pt x="2839" y="558"/>
                  <a:pt x="2866" y="512"/>
                  <a:pt x="2905" y="475"/>
                </a:cubicBezTo>
                <a:cubicBezTo>
                  <a:pt x="2944" y="438"/>
                  <a:pt x="2980" y="405"/>
                  <a:pt x="3015" y="373"/>
                </a:cubicBezTo>
                <a:cubicBezTo>
                  <a:pt x="3050" y="341"/>
                  <a:pt x="3066" y="325"/>
                  <a:pt x="3117" y="280"/>
                </a:cubicBezTo>
                <a:cubicBezTo>
                  <a:pt x="3168" y="235"/>
                  <a:pt x="3266" y="149"/>
                  <a:pt x="3320" y="102"/>
                </a:cubicBezTo>
                <a:cubicBezTo>
                  <a:pt x="3374" y="55"/>
                  <a:pt x="3415" y="23"/>
                  <a:pt x="3439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1817640" y="3240000"/>
            <a:ext cx="5564160" cy="2105280"/>
          </a:xfrm>
          <a:custGeom>
            <a:avLst/>
            <a:gdLst/>
            <a:ahLst/>
            <a:rect l="l" t="t" r="r" b="b"/>
            <a:pathLst>
              <a:path w="3505" h="1326">
                <a:moveTo>
                  <a:pt x="0" y="129"/>
                </a:moveTo>
                <a:cubicBezTo>
                  <a:pt x="286" y="325"/>
                  <a:pt x="1134" y="1326"/>
                  <a:pt x="1718" y="1305"/>
                </a:cubicBezTo>
                <a:cubicBezTo>
                  <a:pt x="2302" y="1284"/>
                  <a:pt x="3207" y="217"/>
                  <a:pt x="3505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30"/>
          <p:cNvGrpSpPr/>
          <p:nvPr/>
        </p:nvGrpSpPr>
        <p:grpSpPr>
          <a:xfrm>
            <a:off x="3576600" y="5359320"/>
            <a:ext cx="1705680" cy="856080"/>
            <a:chOff x="3576600" y="5359320"/>
            <a:chExt cx="1705680" cy="856080"/>
          </a:xfrm>
        </p:grpSpPr>
        <p:pic>
          <p:nvPicPr>
            <p:cNvPr id="743" name="Picture 26" descr=""/>
            <p:cNvPicPr/>
            <p:nvPr/>
          </p:nvPicPr>
          <p:blipFill>
            <a:blip r:embed="rId3"/>
            <a:stretch/>
          </p:blipFill>
          <p:spPr>
            <a:xfrm>
              <a:off x="3576600" y="5359320"/>
              <a:ext cx="475920" cy="73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27" descr=""/>
            <p:cNvPicPr/>
            <p:nvPr/>
          </p:nvPicPr>
          <p:blipFill>
            <a:blip r:embed="rId4"/>
            <a:stretch/>
          </p:blipFill>
          <p:spPr>
            <a:xfrm>
              <a:off x="3975120" y="5452920"/>
              <a:ext cx="3866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28" descr=""/>
            <p:cNvPicPr/>
            <p:nvPr/>
          </p:nvPicPr>
          <p:blipFill>
            <a:blip r:embed="rId5"/>
            <a:stretch/>
          </p:blipFill>
          <p:spPr>
            <a:xfrm>
              <a:off x="4449960" y="5491440"/>
              <a:ext cx="83232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6" name="Rectangle 3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35"/>
          <p:cNvGrpSpPr/>
          <p:nvPr/>
        </p:nvGrpSpPr>
        <p:grpSpPr>
          <a:xfrm>
            <a:off x="2662200" y="1052640"/>
            <a:ext cx="4185720" cy="339120"/>
            <a:chOff x="2662200" y="1052640"/>
            <a:chExt cx="4185720" cy="339120"/>
          </a:xfrm>
        </p:grpSpPr>
        <p:pic>
          <p:nvPicPr>
            <p:cNvPr id="749" name="Picture 31" descr=""/>
            <p:cNvPicPr/>
            <p:nvPr/>
          </p:nvPicPr>
          <p:blipFill>
            <a:blip r:embed="rId6"/>
            <a:stretch/>
          </p:blipFill>
          <p:spPr>
            <a:xfrm>
              <a:off x="2662200" y="1052640"/>
              <a:ext cx="268200" cy="33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33" descr=""/>
            <p:cNvPicPr/>
            <p:nvPr/>
          </p:nvPicPr>
          <p:blipFill>
            <a:blip r:embed="rId7"/>
            <a:stretch/>
          </p:blipFill>
          <p:spPr>
            <a:xfrm>
              <a:off x="6118560" y="1052640"/>
              <a:ext cx="729360" cy="33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1" name="Picture 36" descr=""/>
          <p:cNvPicPr/>
          <p:nvPr/>
        </p:nvPicPr>
        <p:blipFill>
          <a:blip r:embed="rId8"/>
          <a:stretch/>
        </p:blipFill>
        <p:spPr>
          <a:xfrm>
            <a:off x="3994200" y="6283440"/>
            <a:ext cx="841320" cy="35532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37"/>
          <p:cNvSpPr/>
          <p:nvPr/>
        </p:nvSpPr>
        <p:spPr>
          <a:xfrm>
            <a:off x="1281600" y="31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8"/>
          <p:cNvSpPr/>
          <p:nvPr/>
        </p:nvSpPr>
        <p:spPr>
          <a:xfrm>
            <a:off x="4494600" y="340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0"/>
          <p:cNvSpPr/>
          <p:nvPr/>
        </p:nvSpPr>
        <p:spPr>
          <a:xfrm>
            <a:off x="7252200" y="3362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2"/>
          <p:cNvSpPr/>
          <p:nvPr/>
        </p:nvSpPr>
        <p:spPr>
          <a:xfrm>
            <a:off x="1510200" y="368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WordArt 43"/>
          <p:cNvSpPr txBox="1"/>
          <p:nvPr/>
        </p:nvSpPr>
        <p:spPr>
          <a:xfrm>
            <a:off x="264960" y="216000"/>
            <a:ext cx="46580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osite Functions - Arrow Diagra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1 0.01551 L 0.12987 -0.07361 C 0.14653 -0.09537 0.1658 -0.11713 0.19202 -0.11713 C 0.22171 -0.11713 0.25556 -0.11296 0.2724 -0.0912 L 0.3283 -0.02847 L 0.34254 0.01551 E">
                                      <p:cBhvr>
                                        <p:cTn id="688" dur="3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-0.0257 L 0.06528 -0.11482 C 0.0823 -0.13357 0.125 -0.17755 0.15191 -0.17755 C 0.18264 -0.17755 0.22587 -0.15116 0.24306 -0.13241 L 0.29601 -0.06181 L 0.29688 -0.0257 E">
                                      <p:cBhvr>
                                        <p:cTn id="698" dur="3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-0.04815 C 0.03855 -0.0257 0.10278 0.05278 0.13421 0.08704 C 0.16563 0.1213 0.18577 0.13842 0.20782 0.15764 C 0.22987 0.17685 0.25174 0.19421 0.26667 0.20278 C 0.2816 0.21134 0.28421 0.20856 0.2974 0.20856 C 0.31059 0.20856 0.32796 0.21042 0.34601 0.20278 C 0.36407 0.19514 0.36233 0.2088 0.40591 0.16273 C 0.44948 0.11667 0.5658 -0.02431 0.60782 -0.07361 E">
                                      <p:cBhvr>
                                        <p:cTn id="713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14" dur="1" fill="hold">
                                    <p:stCondLst>
                                      <p:cond evt="end">
                                        <p:tn val="712"/>
                                      </p:cond>
                                    </p:stCondLst>
                                  </p:cTn>
                                  <p:tgtEl>
                                    <p:spTgt spid="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WordArt 4"/>
          <p:cNvSpPr txBox="1"/>
          <p:nvPr/>
        </p:nvSpPr>
        <p:spPr>
          <a:xfrm>
            <a:off x="266760" y="297000"/>
            <a:ext cx="29620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verse Fun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758" name="Group 57"/>
          <p:cNvGrpSpPr/>
          <p:nvPr/>
        </p:nvGrpSpPr>
        <p:grpSpPr>
          <a:xfrm>
            <a:off x="395640" y="860400"/>
            <a:ext cx="3765240" cy="785880"/>
            <a:chOff x="395640" y="860400"/>
            <a:chExt cx="3765240" cy="785880"/>
          </a:xfrm>
        </p:grpSpPr>
        <p:sp>
          <p:nvSpPr>
            <p:cNvPr id="759" name="Text Box 5"/>
            <p:cNvSpPr/>
            <p:nvPr/>
          </p:nvSpPr>
          <p:spPr>
            <a:xfrm>
              <a:off x="408240" y="887400"/>
              <a:ext cx="23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ider the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Picture 6" descr=""/>
            <p:cNvPicPr/>
            <p:nvPr/>
          </p:nvPicPr>
          <p:blipFill>
            <a:blip r:embed="rId1"/>
            <a:stretch/>
          </p:blipFill>
          <p:spPr>
            <a:xfrm>
              <a:off x="2971800" y="860400"/>
              <a:ext cx="11890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Text Box 7"/>
            <p:cNvSpPr/>
            <p:nvPr/>
          </p:nvSpPr>
          <p:spPr>
            <a:xfrm>
              <a:off x="395640" y="1278000"/>
              <a:ext cx="255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its flow di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8" descr=""/>
          <p:cNvPicPr/>
          <p:nvPr/>
        </p:nvPicPr>
        <p:blipFill>
          <a:blip r:embed="rId2"/>
          <a:stretch/>
        </p:blipFill>
        <p:spPr>
          <a:xfrm>
            <a:off x="363600" y="2097000"/>
            <a:ext cx="92160" cy="255600"/>
          </a:xfrm>
          <a:prstGeom prst="rect">
            <a:avLst/>
          </a:prstGeom>
          <a:ln w="0">
            <a:noFill/>
          </a:ln>
        </p:spPr>
      </p:pic>
      <p:grpSp>
        <p:nvGrpSpPr>
          <p:cNvPr id="763" name="Group 20"/>
          <p:cNvGrpSpPr/>
          <p:nvPr/>
        </p:nvGrpSpPr>
        <p:grpSpPr>
          <a:xfrm>
            <a:off x="3131280" y="1795320"/>
            <a:ext cx="323280" cy="368280"/>
            <a:chOff x="3131280" y="1795320"/>
            <a:chExt cx="323280" cy="368280"/>
          </a:xfrm>
        </p:grpSpPr>
        <p:pic>
          <p:nvPicPr>
            <p:cNvPr id="764" name="Picture 21" descr=""/>
            <p:cNvPicPr/>
            <p:nvPr/>
          </p:nvPicPr>
          <p:blipFill>
            <a:blip r:embed="rId3"/>
            <a:stretch/>
          </p:blipFill>
          <p:spPr>
            <a:xfrm>
              <a:off x="3362400" y="1839960"/>
              <a:ext cx="9216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22"/>
            <p:cNvSpPr/>
            <p:nvPr/>
          </p:nvSpPr>
          <p:spPr>
            <a:xfrm>
              <a:off x="3131280" y="1795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24"/>
          <p:cNvGrpSpPr/>
          <p:nvPr/>
        </p:nvGrpSpPr>
        <p:grpSpPr>
          <a:xfrm>
            <a:off x="4885200" y="1668600"/>
            <a:ext cx="638640" cy="380880"/>
            <a:chOff x="4885200" y="1668600"/>
            <a:chExt cx="638640" cy="380880"/>
          </a:xfrm>
        </p:grpSpPr>
        <p:grpSp>
          <p:nvGrpSpPr>
            <p:cNvPr id="767" name="Group 19"/>
            <p:cNvGrpSpPr/>
            <p:nvPr/>
          </p:nvGrpSpPr>
          <p:grpSpPr>
            <a:xfrm>
              <a:off x="4885200" y="1681200"/>
              <a:ext cx="323280" cy="368280"/>
              <a:chOff x="4885200" y="1681200"/>
              <a:chExt cx="323280" cy="368280"/>
            </a:xfrm>
          </p:grpSpPr>
          <p:pic>
            <p:nvPicPr>
              <p:cNvPr id="768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5116320" y="1725840"/>
                <a:ext cx="92160" cy="2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9" name="Text Box 18"/>
              <p:cNvSpPr/>
              <p:nvPr/>
            </p:nvSpPr>
            <p:spPr>
              <a:xfrm>
                <a:off x="4885200" y="1681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Text Box 23"/>
            <p:cNvSpPr/>
            <p:nvPr/>
          </p:nvSpPr>
          <p:spPr>
            <a:xfrm>
              <a:off x="5140440" y="16686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1" name="Picture 31" descr=""/>
          <p:cNvPicPr/>
          <p:nvPr/>
        </p:nvPicPr>
        <p:blipFill>
          <a:blip r:embed="rId5"/>
          <a:srcRect l="44190" t="-6510" r="0" b="0"/>
          <a:stretch/>
        </p:blipFill>
        <p:spPr>
          <a:xfrm>
            <a:off x="7585200" y="1598760"/>
            <a:ext cx="663480" cy="43020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32"/>
          <p:cNvSpPr/>
          <p:nvPr/>
        </p:nvSpPr>
        <p:spPr>
          <a:xfrm>
            <a:off x="382320" y="2743200"/>
            <a:ext cx="72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58"/>
          <p:cNvGrpSpPr/>
          <p:nvPr/>
        </p:nvGrpSpPr>
        <p:grpSpPr>
          <a:xfrm>
            <a:off x="657360" y="2018520"/>
            <a:ext cx="7508880" cy="428760"/>
            <a:chOff x="657360" y="2018520"/>
            <a:chExt cx="7508880" cy="428760"/>
          </a:xfrm>
        </p:grpSpPr>
        <p:sp>
          <p:nvSpPr>
            <p:cNvPr id="774" name="Rectangle 9"/>
            <p:cNvSpPr/>
            <p:nvPr/>
          </p:nvSpPr>
          <p:spPr>
            <a:xfrm>
              <a:off x="1442520" y="2079000"/>
              <a:ext cx="14486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y by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"/>
            <p:cNvSpPr/>
            <p:nvPr/>
          </p:nvSpPr>
          <p:spPr>
            <a:xfrm flipV="1">
              <a:off x="657360" y="222048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2"/>
            <p:cNvSpPr/>
            <p:nvPr/>
          </p:nvSpPr>
          <p:spPr>
            <a:xfrm>
              <a:off x="3673800" y="2072520"/>
              <a:ext cx="1221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trac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3"/>
            <p:cNvSpPr/>
            <p:nvPr/>
          </p:nvSpPr>
          <p:spPr>
            <a:xfrm flipV="1">
              <a:off x="2895480" y="22125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4"/>
            <p:cNvSpPr/>
            <p:nvPr/>
          </p:nvSpPr>
          <p:spPr>
            <a:xfrm flipV="1">
              <a:off x="4911840" y="22125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5"/>
            <p:cNvSpPr/>
            <p:nvPr/>
          </p:nvSpPr>
          <p:spPr>
            <a:xfrm>
              <a:off x="5678640" y="2018520"/>
              <a:ext cx="1701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 by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30"/>
            <p:cNvSpPr/>
            <p:nvPr/>
          </p:nvSpPr>
          <p:spPr>
            <a:xfrm flipV="1">
              <a:off x="7399440" y="21729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60"/>
          <p:cNvGrpSpPr/>
          <p:nvPr/>
        </p:nvGrpSpPr>
        <p:grpSpPr>
          <a:xfrm>
            <a:off x="1058760" y="3980520"/>
            <a:ext cx="7229520" cy="382680"/>
            <a:chOff x="1058760" y="3980520"/>
            <a:chExt cx="7229520" cy="382680"/>
          </a:xfrm>
        </p:grpSpPr>
        <p:sp>
          <p:nvSpPr>
            <p:cNvPr id="782" name="Rectangle 33"/>
            <p:cNvSpPr/>
            <p:nvPr/>
          </p:nvSpPr>
          <p:spPr>
            <a:xfrm>
              <a:off x="5676480" y="3980520"/>
              <a:ext cx="184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y by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34"/>
            <p:cNvSpPr/>
            <p:nvPr/>
          </p:nvSpPr>
          <p:spPr>
            <a:xfrm flipH="1">
              <a:off x="7521480" y="413640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35"/>
            <p:cNvSpPr/>
            <p:nvPr/>
          </p:nvSpPr>
          <p:spPr>
            <a:xfrm flipH="1">
              <a:off x="4878360" y="4170240"/>
              <a:ext cx="766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36"/>
            <p:cNvSpPr/>
            <p:nvPr/>
          </p:nvSpPr>
          <p:spPr>
            <a:xfrm>
              <a:off x="3873960" y="3994920"/>
              <a:ext cx="1005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w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37"/>
            <p:cNvSpPr/>
            <p:nvPr/>
          </p:nvSpPr>
          <p:spPr>
            <a:xfrm flipH="1">
              <a:off x="3130560" y="412848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38"/>
            <p:cNvSpPr/>
            <p:nvPr/>
          </p:nvSpPr>
          <p:spPr>
            <a:xfrm>
              <a:off x="1827000" y="3980520"/>
              <a:ext cx="13086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 by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9"/>
            <p:cNvSpPr/>
            <p:nvPr/>
          </p:nvSpPr>
          <p:spPr>
            <a:xfrm flipH="1">
              <a:off x="1058760" y="4170240"/>
              <a:ext cx="766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9" name="Picture 40" descr=""/>
          <p:cNvPicPr/>
          <p:nvPr/>
        </p:nvPicPr>
        <p:blipFill>
          <a:blip r:embed="rId6"/>
          <a:stretch/>
        </p:blipFill>
        <p:spPr>
          <a:xfrm>
            <a:off x="7859880" y="3595680"/>
            <a:ext cx="91800" cy="255600"/>
          </a:xfrm>
          <a:prstGeom prst="rect">
            <a:avLst/>
          </a:prstGeom>
          <a:ln w="0">
            <a:noFill/>
          </a:ln>
        </p:spPr>
      </p:pic>
      <p:grpSp>
        <p:nvGrpSpPr>
          <p:cNvPr id="790" name="Group 43"/>
          <p:cNvGrpSpPr/>
          <p:nvPr/>
        </p:nvGrpSpPr>
        <p:grpSpPr>
          <a:xfrm>
            <a:off x="5032800" y="3456000"/>
            <a:ext cx="339480" cy="368280"/>
            <a:chOff x="5032800" y="3456000"/>
            <a:chExt cx="339480" cy="368280"/>
          </a:xfrm>
        </p:grpSpPr>
        <p:sp>
          <p:nvSpPr>
            <p:cNvPr id="791" name="Text Box 41"/>
            <p:cNvSpPr/>
            <p:nvPr/>
          </p:nvSpPr>
          <p:spPr>
            <a:xfrm>
              <a:off x="5032800" y="345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2" name="Picture 42" descr=""/>
            <p:cNvPicPr/>
            <p:nvPr/>
          </p:nvPicPr>
          <p:blipFill>
            <a:blip r:embed="rId7"/>
            <a:stretch/>
          </p:blipFill>
          <p:spPr>
            <a:xfrm>
              <a:off x="5280120" y="3502080"/>
              <a:ext cx="92160" cy="2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3" name="Group 48"/>
          <p:cNvGrpSpPr/>
          <p:nvPr/>
        </p:nvGrpSpPr>
        <p:grpSpPr>
          <a:xfrm>
            <a:off x="3143520" y="3470400"/>
            <a:ext cx="731520" cy="372960"/>
            <a:chOff x="3143520" y="3470400"/>
            <a:chExt cx="731520" cy="37296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43520" y="3475080"/>
              <a:ext cx="339120" cy="368280"/>
              <a:chOff x="3143520" y="3475080"/>
              <a:chExt cx="339120" cy="368280"/>
            </a:xfrm>
          </p:grpSpPr>
          <p:sp>
            <p:nvSpPr>
              <p:cNvPr id="795" name="Text Box 45"/>
              <p:cNvSpPr/>
              <p:nvPr/>
            </p:nvSpPr>
            <p:spPr>
              <a:xfrm>
                <a:off x="3143520" y="3475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3390840" y="3521160"/>
                <a:ext cx="91800" cy="255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7" name="Text Box 47"/>
            <p:cNvSpPr/>
            <p:nvPr/>
          </p:nvSpPr>
          <p:spPr>
            <a:xfrm>
              <a:off x="3433680" y="34704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56"/>
          <p:cNvGrpSpPr/>
          <p:nvPr/>
        </p:nvGrpSpPr>
        <p:grpSpPr>
          <a:xfrm>
            <a:off x="190800" y="3435480"/>
            <a:ext cx="731160" cy="644400"/>
            <a:chOff x="190800" y="3435480"/>
            <a:chExt cx="731160" cy="644400"/>
          </a:xfrm>
        </p:grpSpPr>
        <p:grpSp>
          <p:nvGrpSpPr>
            <p:cNvPr id="799" name="Group 49"/>
            <p:cNvGrpSpPr/>
            <p:nvPr/>
          </p:nvGrpSpPr>
          <p:grpSpPr>
            <a:xfrm>
              <a:off x="190800" y="3435480"/>
              <a:ext cx="731160" cy="372960"/>
              <a:chOff x="190800" y="3435480"/>
              <a:chExt cx="731160" cy="372960"/>
            </a:xfrm>
          </p:grpSpPr>
          <p:grpSp>
            <p:nvGrpSpPr>
              <p:cNvPr id="800" name="Group 50"/>
              <p:cNvGrpSpPr/>
              <p:nvPr/>
            </p:nvGrpSpPr>
            <p:grpSpPr>
              <a:xfrm>
                <a:off x="190800" y="3440160"/>
                <a:ext cx="338760" cy="368280"/>
                <a:chOff x="190800" y="3440160"/>
                <a:chExt cx="338760" cy="368280"/>
              </a:xfrm>
            </p:grpSpPr>
            <p:sp>
              <p:nvSpPr>
                <p:cNvPr id="801" name="Text Box 51"/>
                <p:cNvSpPr/>
                <p:nvPr/>
              </p:nvSpPr>
              <p:spPr>
                <a:xfrm>
                  <a:off x="190800" y="344016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02" name="Picture 5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37760" y="3486240"/>
                  <a:ext cx="91800" cy="255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03" name="Text Box 53"/>
              <p:cNvSpPr/>
              <p:nvPr/>
            </p:nvSpPr>
            <p:spPr>
              <a:xfrm>
                <a:off x="480600" y="343548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Line 54"/>
            <p:cNvSpPr/>
            <p:nvPr/>
          </p:nvSpPr>
          <p:spPr>
            <a:xfrm flipV="1">
              <a:off x="228600" y="3738240"/>
              <a:ext cx="631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55"/>
            <p:cNvSpPr/>
            <p:nvPr/>
          </p:nvSpPr>
          <p:spPr>
            <a:xfrm>
              <a:off x="354240" y="3711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Rectangle 62"/>
          <p:cNvSpPr/>
          <p:nvPr/>
        </p:nvSpPr>
        <p:spPr>
          <a:xfrm>
            <a:off x="0" y="33004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5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67"/>
          <p:cNvGrpSpPr/>
          <p:nvPr/>
        </p:nvGrpSpPr>
        <p:grpSpPr>
          <a:xfrm>
            <a:off x="770400" y="5311800"/>
            <a:ext cx="2420640" cy="401760"/>
            <a:chOff x="770400" y="5311800"/>
            <a:chExt cx="2420640" cy="401760"/>
          </a:xfrm>
        </p:grpSpPr>
        <p:pic>
          <p:nvPicPr>
            <p:cNvPr id="810" name="Picture 61" descr=""/>
            <p:cNvPicPr/>
            <p:nvPr/>
          </p:nvPicPr>
          <p:blipFill>
            <a:blip r:embed="rId10"/>
            <a:stretch/>
          </p:blipFill>
          <p:spPr>
            <a:xfrm>
              <a:off x="1828800" y="5330880"/>
              <a:ext cx="136224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66"/>
            <p:cNvSpPr/>
            <p:nvPr/>
          </p:nvSpPr>
          <p:spPr>
            <a:xfrm>
              <a:off x="770400" y="53118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WordArt 5"/>
          <p:cNvSpPr txBox="1"/>
          <p:nvPr/>
        </p:nvSpPr>
        <p:spPr>
          <a:xfrm>
            <a:off x="0" y="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ich Are Function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13" name="Group 10"/>
          <p:cNvGrpSpPr/>
          <p:nvPr/>
        </p:nvGrpSpPr>
        <p:grpSpPr>
          <a:xfrm>
            <a:off x="252360" y="1084320"/>
            <a:ext cx="2546280" cy="1701720"/>
            <a:chOff x="252360" y="1084320"/>
            <a:chExt cx="2546280" cy="1701720"/>
          </a:xfrm>
        </p:grpSpPr>
        <p:pic>
          <p:nvPicPr>
            <p:cNvPr id="814" name="Picture 6" descr=""/>
            <p:cNvPicPr/>
            <p:nvPr/>
          </p:nvPicPr>
          <p:blipFill>
            <a:blip r:embed="rId1">
              <a:biLevel thresh="50000"/>
            </a:blip>
            <a:srcRect l="11574" t="0" r="10730" b="13084"/>
            <a:stretch/>
          </p:blipFill>
          <p:spPr>
            <a:xfrm>
              <a:off x="252360" y="1084320"/>
              <a:ext cx="2546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Text Box 9"/>
            <p:cNvSpPr/>
            <p:nvPr/>
          </p:nvSpPr>
          <p:spPr>
            <a:xfrm>
              <a:off x="630360" y="1393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16"/>
          <p:cNvGrpSpPr/>
          <p:nvPr/>
        </p:nvGrpSpPr>
        <p:grpSpPr>
          <a:xfrm>
            <a:off x="5070600" y="716040"/>
            <a:ext cx="3214440" cy="1985760"/>
            <a:chOff x="5070600" y="716040"/>
            <a:chExt cx="3214440" cy="1985760"/>
          </a:xfrm>
        </p:grpSpPr>
        <p:pic>
          <p:nvPicPr>
            <p:cNvPr id="817" name="Picture 4" descr=""/>
            <p:cNvPicPr/>
            <p:nvPr/>
          </p:nvPicPr>
          <p:blipFill>
            <a:blip r:embed="rId2">
              <a:biLevel thresh="50000"/>
            </a:blip>
            <a:srcRect l="-548" t="0" r="7276" b="13910"/>
            <a:stretch/>
          </p:blipFill>
          <p:spPr>
            <a:xfrm>
              <a:off x="5070600" y="932040"/>
              <a:ext cx="321444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 Box 12"/>
            <p:cNvSpPr/>
            <p:nvPr/>
          </p:nvSpPr>
          <p:spPr>
            <a:xfrm>
              <a:off x="5534280" y="716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200160" y="3424320"/>
            <a:ext cx="3936960" cy="1851120"/>
            <a:chOff x="200160" y="3424320"/>
            <a:chExt cx="3936960" cy="1851120"/>
          </a:xfrm>
        </p:grpSpPr>
        <p:pic>
          <p:nvPicPr>
            <p:cNvPr id="820" name="Picture 8" descr=""/>
            <p:cNvPicPr/>
            <p:nvPr/>
          </p:nvPicPr>
          <p:blipFill>
            <a:blip r:embed="rId3">
              <a:biLevel thresh="50000"/>
            </a:blip>
            <a:srcRect l="0" t="0" r="0" b="16554"/>
            <a:stretch/>
          </p:blipFill>
          <p:spPr>
            <a:xfrm>
              <a:off x="422280" y="3424320"/>
              <a:ext cx="371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 Box 13"/>
            <p:cNvSpPr/>
            <p:nvPr/>
          </p:nvSpPr>
          <p:spPr>
            <a:xfrm>
              <a:off x="200160" y="381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18"/>
          <p:cNvGrpSpPr/>
          <p:nvPr/>
        </p:nvGrpSpPr>
        <p:grpSpPr>
          <a:xfrm>
            <a:off x="5418000" y="3479760"/>
            <a:ext cx="2864160" cy="2297160"/>
            <a:chOff x="5418000" y="3479760"/>
            <a:chExt cx="2864160" cy="2297160"/>
          </a:xfrm>
        </p:grpSpPr>
        <p:pic>
          <p:nvPicPr>
            <p:cNvPr id="823" name="Picture 11" descr=""/>
            <p:cNvPicPr/>
            <p:nvPr/>
          </p:nvPicPr>
          <p:blipFill>
            <a:blip r:embed="rId4"/>
            <a:srcRect l="2942" t="0" r="31503" b="11936"/>
            <a:stretch/>
          </p:blipFill>
          <p:spPr>
            <a:xfrm>
              <a:off x="5418000" y="3479760"/>
              <a:ext cx="2864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 Box 14"/>
            <p:cNvSpPr/>
            <p:nvPr/>
          </p:nvSpPr>
          <p:spPr>
            <a:xfrm>
              <a:off x="5826240" y="3776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Text Box 15"/>
          <p:cNvSpPr/>
          <p:nvPr/>
        </p:nvSpPr>
        <p:spPr>
          <a:xfrm>
            <a:off x="6296760" y="6062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WordArt 2"/>
          <p:cNvSpPr txBox="1"/>
          <p:nvPr/>
        </p:nvSpPr>
        <p:spPr>
          <a:xfrm>
            <a:off x="0" y="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ich Are Function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27" name="Group 3"/>
          <p:cNvGrpSpPr/>
          <p:nvPr/>
        </p:nvGrpSpPr>
        <p:grpSpPr>
          <a:xfrm>
            <a:off x="252360" y="1084320"/>
            <a:ext cx="2546280" cy="1701720"/>
            <a:chOff x="252360" y="1084320"/>
            <a:chExt cx="2546280" cy="1701720"/>
          </a:xfrm>
        </p:grpSpPr>
        <p:pic>
          <p:nvPicPr>
            <p:cNvPr id="828" name="Picture 4" descr=""/>
            <p:cNvPicPr/>
            <p:nvPr/>
          </p:nvPicPr>
          <p:blipFill>
            <a:blip r:embed="rId1">
              <a:biLevel thresh="50000"/>
            </a:blip>
            <a:srcRect l="11574" t="0" r="10730" b="13084"/>
            <a:stretch/>
          </p:blipFill>
          <p:spPr>
            <a:xfrm>
              <a:off x="252360" y="1084320"/>
              <a:ext cx="2546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Text Box 5"/>
            <p:cNvSpPr/>
            <p:nvPr/>
          </p:nvSpPr>
          <p:spPr>
            <a:xfrm>
              <a:off x="630360" y="1393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6"/>
          <p:cNvGrpSpPr/>
          <p:nvPr/>
        </p:nvGrpSpPr>
        <p:grpSpPr>
          <a:xfrm>
            <a:off x="5070600" y="716040"/>
            <a:ext cx="3214440" cy="1985760"/>
            <a:chOff x="5070600" y="716040"/>
            <a:chExt cx="3214440" cy="1985760"/>
          </a:xfrm>
        </p:grpSpPr>
        <p:pic>
          <p:nvPicPr>
            <p:cNvPr id="831" name="Picture 7" descr=""/>
            <p:cNvPicPr/>
            <p:nvPr/>
          </p:nvPicPr>
          <p:blipFill>
            <a:blip r:embed="rId2">
              <a:biLevel thresh="50000"/>
            </a:blip>
            <a:srcRect l="-548" t="0" r="7276" b="13910"/>
            <a:stretch/>
          </p:blipFill>
          <p:spPr>
            <a:xfrm>
              <a:off x="5070600" y="932040"/>
              <a:ext cx="321444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Text Box 8"/>
            <p:cNvSpPr/>
            <p:nvPr/>
          </p:nvSpPr>
          <p:spPr>
            <a:xfrm>
              <a:off x="5534280" y="716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9"/>
          <p:cNvGrpSpPr/>
          <p:nvPr/>
        </p:nvGrpSpPr>
        <p:grpSpPr>
          <a:xfrm>
            <a:off x="200160" y="3424320"/>
            <a:ext cx="3936960" cy="1851120"/>
            <a:chOff x="200160" y="3424320"/>
            <a:chExt cx="3936960" cy="1851120"/>
          </a:xfrm>
        </p:grpSpPr>
        <p:pic>
          <p:nvPicPr>
            <p:cNvPr id="834" name="Picture 10" descr=""/>
            <p:cNvPicPr/>
            <p:nvPr/>
          </p:nvPicPr>
          <p:blipFill>
            <a:blip r:embed="rId3">
              <a:biLevel thresh="50000"/>
            </a:blip>
            <a:srcRect l="0" t="0" r="0" b="16554"/>
            <a:stretch/>
          </p:blipFill>
          <p:spPr>
            <a:xfrm>
              <a:off x="422280" y="3424320"/>
              <a:ext cx="371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Text Box 11"/>
            <p:cNvSpPr/>
            <p:nvPr/>
          </p:nvSpPr>
          <p:spPr>
            <a:xfrm>
              <a:off x="200160" y="381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2"/>
          <p:cNvGrpSpPr/>
          <p:nvPr/>
        </p:nvGrpSpPr>
        <p:grpSpPr>
          <a:xfrm>
            <a:off x="5418000" y="3479760"/>
            <a:ext cx="2864160" cy="2297160"/>
            <a:chOff x="5418000" y="3479760"/>
            <a:chExt cx="2864160" cy="2297160"/>
          </a:xfrm>
        </p:grpSpPr>
        <p:pic>
          <p:nvPicPr>
            <p:cNvPr id="837" name="Picture 13" descr=""/>
            <p:cNvPicPr/>
            <p:nvPr/>
          </p:nvPicPr>
          <p:blipFill>
            <a:blip r:embed="rId4"/>
            <a:srcRect l="2942" t="0" r="31503" b="11936"/>
            <a:stretch/>
          </p:blipFill>
          <p:spPr>
            <a:xfrm>
              <a:off x="5418000" y="3479760"/>
              <a:ext cx="2864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Text Box 14"/>
            <p:cNvSpPr/>
            <p:nvPr/>
          </p:nvSpPr>
          <p:spPr>
            <a:xfrm>
              <a:off x="5826240" y="3776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15"/>
          <p:cNvSpPr/>
          <p:nvPr/>
        </p:nvSpPr>
        <p:spPr>
          <a:xfrm>
            <a:off x="6296760" y="6062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6"/>
          <p:cNvSpPr/>
          <p:nvPr/>
        </p:nvSpPr>
        <p:spPr>
          <a:xfrm>
            <a:off x="8623440" y="284040"/>
            <a:ext cx="0" cy="621216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0" dur="5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Oval 4"/>
          <p:cNvSpPr/>
          <p:nvPr/>
        </p:nvSpPr>
        <p:spPr>
          <a:xfrm>
            <a:off x="1143000" y="1627200"/>
            <a:ext cx="2124000" cy="36180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1672920" y="1951200"/>
            <a:ext cx="96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7"/>
          <p:cNvSpPr/>
          <p:nvPr/>
        </p:nvSpPr>
        <p:spPr>
          <a:xfrm>
            <a:off x="5451480" y="1627200"/>
            <a:ext cx="2124000" cy="36180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"/>
          <p:cNvSpPr/>
          <p:nvPr/>
        </p:nvSpPr>
        <p:spPr>
          <a:xfrm>
            <a:off x="5907960" y="1882800"/>
            <a:ext cx="116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9"/>
          <p:cNvSpPr/>
          <p:nvPr/>
        </p:nvSpPr>
        <p:spPr>
          <a:xfrm>
            <a:off x="2824200" y="2165400"/>
            <a:ext cx="30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2459880" y="19810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1"/>
          <p:cNvSpPr/>
          <p:nvPr/>
        </p:nvSpPr>
        <p:spPr>
          <a:xfrm>
            <a:off x="2641680" y="2165400"/>
            <a:ext cx="326376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2"/>
          <p:cNvSpPr/>
          <p:nvPr/>
        </p:nvSpPr>
        <p:spPr>
          <a:xfrm flipV="1">
            <a:off x="2641680" y="2634840"/>
            <a:ext cx="326376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3"/>
          <p:cNvSpPr/>
          <p:nvPr/>
        </p:nvSpPr>
        <p:spPr>
          <a:xfrm>
            <a:off x="2641680" y="2716200"/>
            <a:ext cx="3263760" cy="15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4"/>
          <p:cNvSpPr/>
          <p:nvPr/>
        </p:nvSpPr>
        <p:spPr>
          <a:xfrm>
            <a:off x="2641680" y="2716200"/>
            <a:ext cx="307332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6"/>
          <p:cNvSpPr/>
          <p:nvPr/>
        </p:nvSpPr>
        <p:spPr>
          <a:xfrm flipV="1">
            <a:off x="2914560" y="2165040"/>
            <a:ext cx="2990880" cy="14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7"/>
          <p:cNvSpPr/>
          <p:nvPr/>
        </p:nvSpPr>
        <p:spPr>
          <a:xfrm>
            <a:off x="2914560" y="3627360"/>
            <a:ext cx="29908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8"/>
          <p:cNvSpPr/>
          <p:nvPr/>
        </p:nvSpPr>
        <p:spPr>
          <a:xfrm flipV="1">
            <a:off x="2824200" y="3240000"/>
            <a:ext cx="2890800" cy="120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9"/>
          <p:cNvSpPr/>
          <p:nvPr/>
        </p:nvSpPr>
        <p:spPr>
          <a:xfrm flipV="1">
            <a:off x="2824200" y="4262400"/>
            <a:ext cx="30812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0"/>
          <p:cNvSpPr/>
          <p:nvPr/>
        </p:nvSpPr>
        <p:spPr>
          <a:xfrm>
            <a:off x="2367720" y="253224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1"/>
          <p:cNvSpPr/>
          <p:nvPr/>
        </p:nvSpPr>
        <p:spPr>
          <a:xfrm>
            <a:off x="2640600" y="34434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2"/>
          <p:cNvSpPr/>
          <p:nvPr/>
        </p:nvSpPr>
        <p:spPr>
          <a:xfrm>
            <a:off x="2550240" y="417816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3"/>
          <p:cNvSpPr/>
          <p:nvPr/>
        </p:nvSpPr>
        <p:spPr>
          <a:xfrm>
            <a:off x="3472920" y="47880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4"/>
          <p:cNvSpPr/>
          <p:nvPr/>
        </p:nvSpPr>
        <p:spPr>
          <a:xfrm>
            <a:off x="720360" y="5621400"/>
            <a:ext cx="80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rows from each person and each place is relate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. It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MANY to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L 0.33542 7.40741E-007 E">
                                      <p:cBhvr>
                                        <p:cTn id="33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532 0.15509 E">
                                      <p:cBhvr>
                                        <p:cTn id="37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evt="end">
                                        <p:tn val="36"/>
                                      </p:cond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44444E-006 5.18519E-006 L 0.34531 -0.01388 E">
                                      <p:cBhvr>
                                        <p:cTn id="42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0185 L 0.33524 0.15139 E">
                                      <p:cBhvr>
                                        <p:cTn id="46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185 L 0.34549 0.22385 E">
                                      <p:cBhvr>
                                        <p:cTn id="50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0.32552 -0.21319 E">
                                      <p:cBhvr>
                                        <p:cTn id="55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6 L 0.31337 0.09098 E">
                                      <p:cBhvr>
                                        <p:cTn id="59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otify.wav"/>
                                        </p:tgtEl>
                                      </p:cMediaNode>
                                    </p:audio>
                                    <p:animMotion origin="layout" path="M 0.00659 0.01319 L 0.33177 -0.16528 E">
                                      <p:cBhvr>
                                        <p:cTn id="64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1366 L 0.31337 -0.01389 E">
                                      <p:cBhvr>
                                        <p:cTn id="68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Oval 4"/>
          <p:cNvSpPr/>
          <p:nvPr/>
        </p:nvSpPr>
        <p:spPr>
          <a:xfrm>
            <a:off x="1425600" y="1506600"/>
            <a:ext cx="1868400" cy="40464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5"/>
          <p:cNvSpPr/>
          <p:nvPr/>
        </p:nvSpPr>
        <p:spPr>
          <a:xfrm>
            <a:off x="5748480" y="1506600"/>
            <a:ext cx="1868400" cy="404640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1766160" y="1909800"/>
            <a:ext cx="941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6298200" y="2071800"/>
            <a:ext cx="43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1665000" y="739800"/>
            <a:ext cx="50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2"/>
          <p:cNvSpPr/>
          <p:nvPr/>
        </p:nvSpPr>
        <p:spPr>
          <a:xfrm>
            <a:off x="2502000" y="1982880"/>
            <a:ext cx="379404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3"/>
          <p:cNvSpPr/>
          <p:nvPr/>
        </p:nvSpPr>
        <p:spPr>
          <a:xfrm flipV="1">
            <a:off x="2502000" y="2258640"/>
            <a:ext cx="379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4"/>
          <p:cNvSpPr/>
          <p:nvPr/>
        </p:nvSpPr>
        <p:spPr>
          <a:xfrm flipV="1">
            <a:off x="2709720" y="2259000"/>
            <a:ext cx="358632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5"/>
          <p:cNvSpPr/>
          <p:nvPr/>
        </p:nvSpPr>
        <p:spPr>
          <a:xfrm>
            <a:off x="2709720" y="3738600"/>
            <a:ext cx="3586320" cy="7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6"/>
          <p:cNvSpPr/>
          <p:nvPr/>
        </p:nvSpPr>
        <p:spPr>
          <a:xfrm flipV="1">
            <a:off x="2709720" y="3401640"/>
            <a:ext cx="35863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8"/>
          <p:cNvSpPr/>
          <p:nvPr/>
        </p:nvSpPr>
        <p:spPr>
          <a:xfrm flipV="1">
            <a:off x="2709720" y="3402000"/>
            <a:ext cx="35863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2409840" y="180324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2408400" y="24210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2502000" y="28782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2409840" y="35100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4"/>
          <p:cNvSpPr/>
          <p:nvPr/>
        </p:nvSpPr>
        <p:spPr>
          <a:xfrm>
            <a:off x="2563920" y="40608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2408400" y="45846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6"/>
          <p:cNvSpPr/>
          <p:nvPr/>
        </p:nvSpPr>
        <p:spPr>
          <a:xfrm>
            <a:off x="708120" y="5675400"/>
            <a:ext cx="82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. This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MANY to O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0.37656 0.03727 E">
                                      <p:cBhvr>
                                        <p:cTn id="96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59259E-006 L 0.37674 -0.05278 E">
                                      <p:cBhvr>
                                        <p:cTn id="101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0.37657 -0.11945 E">
                                      <p:cBhvr>
                                        <p:cTn id="106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0.38664 0.1 E">
                                      <p:cBhvr>
                                        <p:cTn id="111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10"/>
                                      </p:cond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3698 -0.12546 E">
                                      <p:cBhvr>
                                        <p:cTn id="116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evt="end">
                                        <p:tn val="115"/>
                                      </p:cond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5185E-006 L 0.38681 -0.20185 E">
                                      <p:cBhvr>
                                        <p:cTn id="121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Oval 4"/>
          <p:cNvSpPr/>
          <p:nvPr/>
        </p:nvSpPr>
        <p:spPr>
          <a:xfrm>
            <a:off x="1600200" y="1666800"/>
            <a:ext cx="2017800" cy="3402000"/>
          </a:xfrm>
          <a:prstGeom prst="ellipse">
            <a:avLst/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5479920" y="1666800"/>
            <a:ext cx="2017800" cy="3402000"/>
          </a:xfrm>
          <a:prstGeom prst="ellipse">
            <a:avLst/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3527640" y="7128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2223000" y="2286000"/>
            <a:ext cx="43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5962680" y="2017800"/>
            <a:ext cx="90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0480" y="1143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6069960" y="1143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5"/>
          <p:cNvSpPr/>
          <p:nvPr/>
        </p:nvSpPr>
        <p:spPr>
          <a:xfrm>
            <a:off x="2932200" y="2286000"/>
            <a:ext cx="302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6"/>
          <p:cNvSpPr/>
          <p:nvPr/>
        </p:nvSpPr>
        <p:spPr>
          <a:xfrm>
            <a:off x="2932200" y="2286000"/>
            <a:ext cx="302724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7"/>
          <p:cNvSpPr/>
          <p:nvPr/>
        </p:nvSpPr>
        <p:spPr>
          <a:xfrm flipV="1">
            <a:off x="2932200" y="3348000"/>
            <a:ext cx="3027240" cy="72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8"/>
          <p:cNvSpPr/>
          <p:nvPr/>
        </p:nvSpPr>
        <p:spPr>
          <a:xfrm flipV="1">
            <a:off x="2932200" y="3859200"/>
            <a:ext cx="30272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9"/>
          <p:cNvSpPr/>
          <p:nvPr/>
        </p:nvSpPr>
        <p:spPr>
          <a:xfrm>
            <a:off x="2932200" y="4075200"/>
            <a:ext cx="302724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0"/>
          <p:cNvSpPr/>
          <p:nvPr/>
        </p:nvSpPr>
        <p:spPr>
          <a:xfrm>
            <a:off x="2535120" y="201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2617920" y="3857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2"/>
          <p:cNvSpPr/>
          <p:nvPr/>
        </p:nvSpPr>
        <p:spPr>
          <a:xfrm>
            <a:off x="2689200" y="217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68920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5"/>
          <p:cNvSpPr/>
          <p:nvPr/>
        </p:nvSpPr>
        <p:spPr>
          <a:xfrm>
            <a:off x="268920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6"/>
          <p:cNvSpPr/>
          <p:nvPr/>
        </p:nvSpPr>
        <p:spPr>
          <a:xfrm>
            <a:off x="1310760" y="5097600"/>
            <a:ext cx="49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ONE to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69 0.0125 L 0.34011 0.0125 E">
                                      <p:cBhvr>
                                        <p:cTn id="133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2"/>
                                      </p:cond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037E-007 L 0.33004 -0.08912 E">
                                      <p:cBhvr>
                                        <p:cTn id="138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96296E-006 L 0.32327 0.04884 E">
                                      <p:cBhvr>
                                        <p:cTn id="143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evt="end">
                                        <p:tn val="142"/>
                                      </p:cond>
                                    </p:stCondLst>
                                  </p:cTn>
                                  <p:tgtEl>
                                    <p:spTgt spid="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0.32327 0.04884 E">
                                      <p:cBhvr>
                                        <p:cTn id="148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0.32327 -0.02824 E">
                                      <p:cBhvr>
                                        <p:cTn id="153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3"/>
          <p:cNvGrpSpPr/>
          <p:nvPr/>
        </p:nvGrpSpPr>
        <p:grpSpPr>
          <a:xfrm>
            <a:off x="2717640" y="2443320"/>
            <a:ext cx="1044720" cy="901080"/>
            <a:chOff x="2717640" y="2443320"/>
            <a:chExt cx="1044720" cy="901080"/>
          </a:xfrm>
        </p:grpSpPr>
        <p:sp>
          <p:nvSpPr>
            <p:cNvPr id="573" name="Line 4"/>
            <p:cNvSpPr/>
            <p:nvPr/>
          </p:nvSpPr>
          <p:spPr>
            <a:xfrm>
              <a:off x="2717640" y="2443320"/>
              <a:ext cx="104472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5"/>
            <p:cNvSpPr/>
            <p:nvPr/>
          </p:nvSpPr>
          <p:spPr>
            <a:xfrm>
              <a:off x="2717640" y="2873520"/>
              <a:ext cx="10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6"/>
            <p:cNvSpPr/>
            <p:nvPr/>
          </p:nvSpPr>
          <p:spPr>
            <a:xfrm flipV="1">
              <a:off x="2717640" y="2873160"/>
              <a:ext cx="10447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12"/>
          <p:cNvGrpSpPr/>
          <p:nvPr/>
        </p:nvGrpSpPr>
        <p:grpSpPr>
          <a:xfrm>
            <a:off x="2533680" y="5106960"/>
            <a:ext cx="1920960" cy="546120"/>
            <a:chOff x="2533680" y="5106960"/>
            <a:chExt cx="1920960" cy="546120"/>
          </a:xfrm>
        </p:grpSpPr>
        <p:sp>
          <p:nvSpPr>
            <p:cNvPr id="577" name="Line 7"/>
            <p:cNvSpPr/>
            <p:nvPr/>
          </p:nvSpPr>
          <p:spPr>
            <a:xfrm>
              <a:off x="2533680" y="51069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8"/>
            <p:cNvSpPr/>
            <p:nvPr/>
          </p:nvSpPr>
          <p:spPr>
            <a:xfrm>
              <a:off x="2533680" y="526104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9"/>
            <p:cNvSpPr/>
            <p:nvPr/>
          </p:nvSpPr>
          <p:spPr>
            <a:xfrm>
              <a:off x="2533680" y="54561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0"/>
            <p:cNvSpPr/>
            <p:nvPr/>
          </p:nvSpPr>
          <p:spPr>
            <a:xfrm>
              <a:off x="2533680" y="565308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4"/>
          <p:cNvSpPr txBox="1"/>
          <p:nvPr/>
        </p:nvSpPr>
        <p:spPr>
          <a:xfrm>
            <a:off x="266760" y="393840"/>
            <a:ext cx="662760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>
                    <a:alpha val="81000"/>
                  </a:srgbClr>
                </a:solidFill>
                <a:latin typeface="Times New Roman"/>
              </a:rPr>
              <a:t>Function - Domain and Range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>
                  <a:alpha val="81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968400" y="2219400"/>
            <a:ext cx="1022400" cy="2930400"/>
          </a:xfrm>
          <a:prstGeom prst="ellipse">
            <a:avLst/>
          </a:prstGeom>
          <a:gradFill rotWithShape="0">
            <a:gsLst>
              <a:gs pos="0">
                <a:srgbClr val="ffff99">
                  <a:alpha val="56078"/>
                </a:srgbClr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6"/>
          <p:cNvSpPr/>
          <p:nvPr/>
        </p:nvSpPr>
        <p:spPr>
          <a:xfrm>
            <a:off x="3381480" y="2219400"/>
            <a:ext cx="1022400" cy="2930400"/>
          </a:xfrm>
          <a:prstGeom prst="ellipse">
            <a:avLst/>
          </a:prstGeom>
          <a:gradFill rotWithShape="0">
            <a:gsLst>
              <a:gs pos="0">
                <a:srgbClr val="ffff99">
                  <a:alpha val="56078"/>
                </a:srgbClr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677880" y="532620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1343520" y="238140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3661200" y="238140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"/>
          <p:cNvSpPr/>
          <p:nvPr/>
        </p:nvSpPr>
        <p:spPr>
          <a:xfrm flipV="1">
            <a:off x="1652760" y="2552760"/>
            <a:ext cx="200628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"/>
          <p:cNvSpPr/>
          <p:nvPr/>
        </p:nvSpPr>
        <p:spPr>
          <a:xfrm>
            <a:off x="1652760" y="3095640"/>
            <a:ext cx="2006280" cy="1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5"/>
          <p:cNvSpPr/>
          <p:nvPr/>
        </p:nvSpPr>
        <p:spPr>
          <a:xfrm>
            <a:off x="1652760" y="3666960"/>
            <a:ext cx="200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6"/>
          <p:cNvSpPr/>
          <p:nvPr/>
        </p:nvSpPr>
        <p:spPr>
          <a:xfrm flipV="1">
            <a:off x="1652760" y="4219200"/>
            <a:ext cx="2006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7"/>
          <p:cNvSpPr/>
          <p:nvPr/>
        </p:nvSpPr>
        <p:spPr>
          <a:xfrm>
            <a:off x="1652760" y="4743360"/>
            <a:ext cx="2006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24"/>
          <p:cNvGrpSpPr/>
          <p:nvPr/>
        </p:nvGrpSpPr>
        <p:grpSpPr>
          <a:xfrm>
            <a:off x="3970440" y="2562120"/>
            <a:ext cx="1487520" cy="2190960"/>
            <a:chOff x="3970440" y="2562120"/>
            <a:chExt cx="1487520" cy="2190960"/>
          </a:xfrm>
        </p:grpSpPr>
        <p:sp>
          <p:nvSpPr>
            <p:cNvPr id="593" name="Line 18"/>
            <p:cNvSpPr/>
            <p:nvPr/>
          </p:nvSpPr>
          <p:spPr>
            <a:xfrm>
              <a:off x="3970440" y="2562120"/>
              <a:ext cx="148752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3970440" y="3114720"/>
              <a:ext cx="148752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 flipV="1">
              <a:off x="3970440" y="3543120"/>
              <a:ext cx="148752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 flipV="1">
              <a:off x="3970440" y="3543480"/>
              <a:ext cx="148752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 flipV="1">
              <a:off x="3970440" y="3543480"/>
              <a:ext cx="1487520" cy="12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23"/>
          <p:cNvSpPr/>
          <p:nvPr/>
        </p:nvSpPr>
        <p:spPr>
          <a:xfrm>
            <a:off x="5568480" y="31608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5"/>
          <p:cNvSpPr/>
          <p:nvPr/>
        </p:nvSpPr>
        <p:spPr>
          <a:xfrm>
            <a:off x="1897920" y="169380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6"/>
          <p:cNvSpPr/>
          <p:nvPr/>
        </p:nvSpPr>
        <p:spPr>
          <a:xfrm>
            <a:off x="709920" y="1951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7"/>
          <p:cNvSpPr/>
          <p:nvPr/>
        </p:nvSpPr>
        <p:spPr>
          <a:xfrm>
            <a:off x="4052880" y="1951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5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9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3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4"/>
          <p:cNvSpPr txBox="1"/>
          <p:nvPr/>
        </p:nvSpPr>
        <p:spPr>
          <a:xfrm>
            <a:off x="2724120" y="344520"/>
            <a:ext cx="369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unctions - Notati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603" name="Object 7"/>
          <p:cNvGraphicFramePr/>
          <p:nvPr/>
        </p:nvGraphicFramePr>
        <p:xfrm>
          <a:off x="291960" y="1257480"/>
          <a:ext cx="2331900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1257480"/>
                    <a:ext cx="2331900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Text Box 8"/>
          <p:cNvSpPr/>
          <p:nvPr/>
        </p:nvSpPr>
        <p:spPr>
          <a:xfrm>
            <a:off x="830520" y="3652920"/>
            <a:ext cx="636696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apped o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4" descr="j0297551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76120" y="1289160"/>
            <a:ext cx="1195560" cy="1823760"/>
          </a:xfrm>
          <a:prstGeom prst="rect">
            <a:avLst/>
          </a:prstGeom>
          <a:ln w="0">
            <a:noFill/>
          </a:ln>
        </p:spPr>
      </p:pic>
      <p:grpSp>
        <p:nvGrpSpPr>
          <p:cNvPr id="607" name="Group 9"/>
          <p:cNvGrpSpPr/>
          <p:nvPr/>
        </p:nvGrpSpPr>
        <p:grpSpPr>
          <a:xfrm>
            <a:off x="782640" y="149400"/>
            <a:ext cx="2952720" cy="1139760"/>
            <a:chOff x="782640" y="149400"/>
            <a:chExt cx="2952720" cy="1139760"/>
          </a:xfrm>
        </p:grpSpPr>
        <p:sp>
          <p:nvSpPr>
            <p:cNvPr id="608" name="AutoShape 6"/>
            <p:cNvSpPr/>
            <p:nvPr/>
          </p:nvSpPr>
          <p:spPr>
            <a:xfrm>
              <a:off x="782640" y="200160"/>
              <a:ext cx="2925720" cy="1089000"/>
            </a:xfrm>
            <a:prstGeom prst="wedgeRectCallout">
              <a:avLst>
                <a:gd name="adj1" fmla="val -49726"/>
                <a:gd name="adj2" fmla="val 8105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7"/>
            <p:cNvSpPr/>
            <p:nvPr/>
          </p:nvSpPr>
          <p:spPr>
            <a:xfrm>
              <a:off x="902880" y="149400"/>
              <a:ext cx="28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ts look at some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ques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 Box 8"/>
          <p:cNvSpPr/>
          <p:nvPr/>
        </p:nvSpPr>
        <p:spPr>
          <a:xfrm>
            <a:off x="2263680" y="1771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Brush Scrip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3"/>
          <p:cNvGrpSpPr/>
          <p:nvPr/>
        </p:nvGrpSpPr>
        <p:grpSpPr>
          <a:xfrm>
            <a:off x="2735280" y="1446120"/>
            <a:ext cx="3660480" cy="2138040"/>
            <a:chOff x="2735280" y="1446120"/>
            <a:chExt cx="3660480" cy="2138040"/>
          </a:xfrm>
        </p:grpSpPr>
        <p:sp>
          <p:nvSpPr>
            <p:cNvPr id="612" name="AutoShape 12"/>
            <p:cNvSpPr/>
            <p:nvPr/>
          </p:nvSpPr>
          <p:spPr>
            <a:xfrm>
              <a:off x="2735280" y="1446120"/>
              <a:ext cx="3660480" cy="21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4"/>
            <p:cNvSpPr/>
            <p:nvPr/>
          </p:nvSpPr>
          <p:spPr>
            <a:xfrm>
              <a:off x="2832840" y="156744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5"/>
            <p:cNvSpPr/>
            <p:nvPr/>
          </p:nvSpPr>
          <p:spPr>
            <a:xfrm>
              <a:off x="290844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6"/>
            <p:cNvSpPr/>
            <p:nvPr/>
          </p:nvSpPr>
          <p:spPr>
            <a:xfrm>
              <a:off x="301536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7"/>
            <p:cNvSpPr/>
            <p:nvPr/>
          </p:nvSpPr>
          <p:spPr>
            <a:xfrm>
              <a:off x="313812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8"/>
            <p:cNvSpPr/>
            <p:nvPr/>
          </p:nvSpPr>
          <p:spPr>
            <a:xfrm>
              <a:off x="3284280" y="15339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9"/>
            <p:cNvSpPr/>
            <p:nvPr/>
          </p:nvSpPr>
          <p:spPr>
            <a:xfrm>
              <a:off x="355104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0"/>
            <p:cNvSpPr/>
            <p:nvPr/>
          </p:nvSpPr>
          <p:spPr>
            <a:xfrm>
              <a:off x="3699000" y="1550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1"/>
            <p:cNvSpPr/>
            <p:nvPr/>
          </p:nvSpPr>
          <p:spPr>
            <a:xfrm>
              <a:off x="3867840" y="153396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2"/>
            <p:cNvSpPr/>
            <p:nvPr/>
          </p:nvSpPr>
          <p:spPr>
            <a:xfrm>
              <a:off x="409248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3"/>
            <p:cNvSpPr/>
            <p:nvPr/>
          </p:nvSpPr>
          <p:spPr>
            <a:xfrm>
              <a:off x="431136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4"/>
            <p:cNvSpPr/>
            <p:nvPr/>
          </p:nvSpPr>
          <p:spPr>
            <a:xfrm>
              <a:off x="445932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5"/>
            <p:cNvSpPr/>
            <p:nvPr/>
          </p:nvSpPr>
          <p:spPr>
            <a:xfrm>
              <a:off x="460656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6"/>
            <p:cNvSpPr/>
            <p:nvPr/>
          </p:nvSpPr>
          <p:spPr>
            <a:xfrm>
              <a:off x="482724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7"/>
            <p:cNvSpPr/>
            <p:nvPr/>
          </p:nvSpPr>
          <p:spPr>
            <a:xfrm>
              <a:off x="496764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8"/>
            <p:cNvSpPr/>
            <p:nvPr/>
          </p:nvSpPr>
          <p:spPr>
            <a:xfrm>
              <a:off x="507276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9"/>
            <p:cNvSpPr/>
            <p:nvPr/>
          </p:nvSpPr>
          <p:spPr>
            <a:xfrm>
              <a:off x="519588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30"/>
            <p:cNvSpPr/>
            <p:nvPr/>
          </p:nvSpPr>
          <p:spPr>
            <a:xfrm>
              <a:off x="5342040" y="15339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31"/>
            <p:cNvSpPr/>
            <p:nvPr/>
          </p:nvSpPr>
          <p:spPr>
            <a:xfrm>
              <a:off x="560844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2"/>
            <p:cNvSpPr/>
            <p:nvPr/>
          </p:nvSpPr>
          <p:spPr>
            <a:xfrm>
              <a:off x="5841360" y="15339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33"/>
            <p:cNvSpPr/>
            <p:nvPr/>
          </p:nvSpPr>
          <p:spPr>
            <a:xfrm>
              <a:off x="603360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34"/>
            <p:cNvSpPr/>
            <p:nvPr/>
          </p:nvSpPr>
          <p:spPr>
            <a:xfrm>
              <a:off x="6182280" y="1550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5"/>
            <p:cNvSpPr/>
            <p:nvPr/>
          </p:nvSpPr>
          <p:spPr>
            <a:xfrm>
              <a:off x="3551040" y="261252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36"/>
            <p:cNvSpPr/>
            <p:nvPr/>
          </p:nvSpPr>
          <p:spPr>
            <a:xfrm>
              <a:off x="3732840" y="2612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37"/>
            <p:cNvSpPr/>
            <p:nvPr/>
          </p:nvSpPr>
          <p:spPr>
            <a:xfrm>
              <a:off x="381420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38"/>
            <p:cNvSpPr/>
            <p:nvPr/>
          </p:nvSpPr>
          <p:spPr>
            <a:xfrm>
              <a:off x="396216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9"/>
            <p:cNvSpPr/>
            <p:nvPr/>
          </p:nvSpPr>
          <p:spPr>
            <a:xfrm>
              <a:off x="4182120" y="2612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40"/>
            <p:cNvSpPr/>
            <p:nvPr/>
          </p:nvSpPr>
          <p:spPr>
            <a:xfrm>
              <a:off x="4259520" y="257904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41"/>
            <p:cNvSpPr/>
            <p:nvPr/>
          </p:nvSpPr>
          <p:spPr>
            <a:xfrm>
              <a:off x="436392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2"/>
            <p:cNvSpPr/>
            <p:nvPr/>
          </p:nvSpPr>
          <p:spPr>
            <a:xfrm>
              <a:off x="4504680" y="257904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43"/>
            <p:cNvSpPr/>
            <p:nvPr/>
          </p:nvSpPr>
          <p:spPr>
            <a:xfrm>
              <a:off x="3551040" y="313380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44"/>
            <p:cNvSpPr/>
            <p:nvPr/>
          </p:nvSpPr>
          <p:spPr>
            <a:xfrm>
              <a:off x="3732840" y="31338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45"/>
            <p:cNvSpPr/>
            <p:nvPr/>
          </p:nvSpPr>
          <p:spPr>
            <a:xfrm>
              <a:off x="381420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46"/>
            <p:cNvSpPr/>
            <p:nvPr/>
          </p:nvSpPr>
          <p:spPr>
            <a:xfrm>
              <a:off x="396216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47"/>
            <p:cNvSpPr/>
            <p:nvPr/>
          </p:nvSpPr>
          <p:spPr>
            <a:xfrm>
              <a:off x="418248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48"/>
            <p:cNvSpPr/>
            <p:nvPr/>
          </p:nvSpPr>
          <p:spPr>
            <a:xfrm>
              <a:off x="4321080" y="310032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49"/>
            <p:cNvSpPr/>
            <p:nvPr/>
          </p:nvSpPr>
          <p:spPr>
            <a:xfrm>
              <a:off x="442728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50"/>
            <p:cNvSpPr/>
            <p:nvPr/>
          </p:nvSpPr>
          <p:spPr>
            <a:xfrm>
              <a:off x="4565880" y="310032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angle 5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1" descr=""/>
          <p:cNvPicPr/>
          <p:nvPr/>
        </p:nvPicPr>
        <p:blipFill>
          <a:blip r:embed="rId2"/>
          <a:stretch/>
        </p:blipFill>
        <p:spPr>
          <a:xfrm>
            <a:off x="254160" y="3711600"/>
            <a:ext cx="2435040" cy="60012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53"/>
          <p:cNvSpPr/>
          <p:nvPr/>
        </p:nvSpPr>
        <p:spPr>
          <a:xfrm>
            <a:off x="542880" y="3917880"/>
            <a:ext cx="27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4"/>
          <p:cNvSpPr/>
          <p:nvPr/>
        </p:nvSpPr>
        <p:spPr>
          <a:xfrm>
            <a:off x="1422360" y="38926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5"/>
          <p:cNvSpPr/>
          <p:nvPr/>
        </p:nvSpPr>
        <p:spPr>
          <a:xfrm>
            <a:off x="3076920" y="38257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56"/>
          <p:cNvSpPr/>
          <p:nvPr/>
        </p:nvSpPr>
        <p:spPr>
          <a:xfrm>
            <a:off x="177840" y="3584520"/>
            <a:ext cx="3711600" cy="241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7"/>
          <p:cNvSpPr/>
          <p:nvPr/>
        </p:nvSpPr>
        <p:spPr>
          <a:xfrm>
            <a:off x="4638600" y="3584520"/>
            <a:ext cx="3711600" cy="241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61" descr=""/>
          <p:cNvPicPr/>
          <p:nvPr/>
        </p:nvPicPr>
        <p:blipFill>
          <a:blip r:embed="rId3"/>
          <a:stretch/>
        </p:blipFill>
        <p:spPr>
          <a:xfrm>
            <a:off x="4976640" y="3747960"/>
            <a:ext cx="2374920" cy="5637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63"/>
          <p:cNvSpPr/>
          <p:nvPr/>
        </p:nvSpPr>
        <p:spPr>
          <a:xfrm>
            <a:off x="5260680" y="49816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64"/>
          <p:cNvSpPr/>
          <p:nvPr/>
        </p:nvSpPr>
        <p:spPr>
          <a:xfrm>
            <a:off x="6702120" y="497196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5"/>
          <p:cNvSpPr/>
          <p:nvPr/>
        </p:nvSpPr>
        <p:spPr>
          <a:xfrm>
            <a:off x="7513560" y="388764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851 -0.1544 E">
                                      <p:cBhvr>
                                        <p:cTn id="337" dur="2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29 4.81481E-006 L 0.0158 -0.1544 E">
                                      <p:cBhvr>
                                        <p:cTn id="349" dur="2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WordArt 4"/>
          <p:cNvSpPr txBox="1"/>
          <p:nvPr/>
        </p:nvSpPr>
        <p:spPr>
          <a:xfrm rot="1045200">
            <a:off x="290160" y="317160"/>
            <a:ext cx="36957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low Diagram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4" name="Picture 5" descr=""/>
          <p:cNvPicPr/>
          <p:nvPr/>
        </p:nvPicPr>
        <p:blipFill>
          <a:blip r:embed="rId3"/>
          <a:stretch/>
        </p:blipFill>
        <p:spPr>
          <a:xfrm>
            <a:off x="295200" y="1994040"/>
            <a:ext cx="4168800" cy="35712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8"/>
          <p:cNvSpPr/>
          <p:nvPr/>
        </p:nvSpPr>
        <p:spPr>
          <a:xfrm>
            <a:off x="4806720" y="192420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606600" y="3468600"/>
            <a:ext cx="122364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0"/>
          <p:cNvSpPr/>
          <p:nvPr/>
        </p:nvSpPr>
        <p:spPr>
          <a:xfrm>
            <a:off x="539640" y="34290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1"/>
          <p:cNvSpPr/>
          <p:nvPr/>
        </p:nvSpPr>
        <p:spPr>
          <a:xfrm>
            <a:off x="1623600" y="324576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3"/>
          <p:cNvSpPr/>
          <p:nvPr/>
        </p:nvSpPr>
        <p:spPr>
          <a:xfrm>
            <a:off x="3073320" y="343548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4"/>
          <p:cNvSpPr/>
          <p:nvPr/>
        </p:nvSpPr>
        <p:spPr>
          <a:xfrm>
            <a:off x="4143960" y="3251880"/>
            <a:ext cx="1221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5"/>
          <p:cNvSpPr/>
          <p:nvPr/>
        </p:nvSpPr>
        <p:spPr>
          <a:xfrm>
            <a:off x="5388120" y="34354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6" descr=""/>
          <p:cNvPicPr/>
          <p:nvPr/>
        </p:nvPicPr>
        <p:blipFill>
          <a:blip r:embed="rId4"/>
          <a:stretch/>
        </p:blipFill>
        <p:spPr>
          <a:xfrm>
            <a:off x="3335400" y="3044880"/>
            <a:ext cx="209520" cy="2667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2" descr=""/>
          <p:cNvPicPr/>
          <p:nvPr/>
        </p:nvPicPr>
        <p:blipFill>
          <a:blip r:embed="rId5"/>
          <a:stretch/>
        </p:blipFill>
        <p:spPr>
          <a:xfrm>
            <a:off x="5651640" y="3138480"/>
            <a:ext cx="529920" cy="26496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23"/>
          <p:cNvSpPr/>
          <p:nvPr/>
        </p:nvSpPr>
        <p:spPr>
          <a:xfrm>
            <a:off x="4118040" y="37018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7" descr=""/>
          <p:cNvPicPr/>
          <p:nvPr/>
        </p:nvPicPr>
        <p:blipFill>
          <a:blip r:embed="rId6"/>
          <a:stretch/>
        </p:blipFill>
        <p:spPr>
          <a:xfrm>
            <a:off x="835200" y="3110040"/>
            <a:ext cx="99720" cy="26964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29" descr=""/>
          <p:cNvPicPr/>
          <p:nvPr/>
        </p:nvPicPr>
        <p:blipFill>
          <a:blip r:embed="rId7"/>
          <a:stretch/>
        </p:blipFill>
        <p:spPr>
          <a:xfrm>
            <a:off x="189000" y="4092480"/>
            <a:ext cx="4543200" cy="357120"/>
          </a:xfrm>
          <a:prstGeom prst="rect">
            <a:avLst/>
          </a:prstGeom>
          <a:ln w="0">
            <a:noFill/>
          </a:ln>
        </p:spPr>
      </p:pic>
      <p:sp>
        <p:nvSpPr>
          <p:cNvPr id="679" name="Line 31"/>
          <p:cNvSpPr/>
          <p:nvPr/>
        </p:nvSpPr>
        <p:spPr>
          <a:xfrm>
            <a:off x="423720" y="523728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34" descr=""/>
          <p:cNvPicPr/>
          <p:nvPr/>
        </p:nvPicPr>
        <p:blipFill>
          <a:blip r:embed="rId8"/>
          <a:stretch/>
        </p:blipFill>
        <p:spPr>
          <a:xfrm>
            <a:off x="808200" y="4911840"/>
            <a:ext cx="99720" cy="26964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6"/>
          <p:cNvSpPr/>
          <p:nvPr/>
        </p:nvSpPr>
        <p:spPr>
          <a:xfrm>
            <a:off x="1509120" y="506664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37"/>
          <p:cNvSpPr/>
          <p:nvPr/>
        </p:nvSpPr>
        <p:spPr>
          <a:xfrm>
            <a:off x="2994120" y="52498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8"/>
          <p:cNvSpPr/>
          <p:nvPr/>
        </p:nvSpPr>
        <p:spPr>
          <a:xfrm>
            <a:off x="4077360" y="5066640"/>
            <a:ext cx="7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39"/>
          <p:cNvSpPr/>
          <p:nvPr/>
        </p:nvSpPr>
        <p:spPr>
          <a:xfrm>
            <a:off x="4889520" y="52372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0" descr=""/>
          <p:cNvPicPr/>
          <p:nvPr/>
        </p:nvPicPr>
        <p:blipFill>
          <a:blip r:embed="rId9"/>
          <a:stretch/>
        </p:blipFill>
        <p:spPr>
          <a:xfrm>
            <a:off x="3294000" y="4940280"/>
            <a:ext cx="209520" cy="2649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4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42" descr=""/>
          <p:cNvPicPr/>
          <p:nvPr/>
        </p:nvPicPr>
        <p:blipFill>
          <a:blip r:embed="rId10"/>
          <a:stretch/>
        </p:blipFill>
        <p:spPr>
          <a:xfrm>
            <a:off x="5137200" y="4925880"/>
            <a:ext cx="547560" cy="27468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44"/>
          <p:cNvSpPr/>
          <p:nvPr/>
        </p:nvSpPr>
        <p:spPr>
          <a:xfrm>
            <a:off x="5970240" y="5026680"/>
            <a:ext cx="91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45"/>
          <p:cNvSpPr/>
          <p:nvPr/>
        </p:nvSpPr>
        <p:spPr>
          <a:xfrm>
            <a:off x="6907320" y="522432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6" descr=""/>
          <p:cNvPicPr/>
          <p:nvPr/>
        </p:nvPicPr>
        <p:blipFill>
          <a:blip r:embed="rId11"/>
          <a:stretch/>
        </p:blipFill>
        <p:spPr>
          <a:xfrm>
            <a:off x="7005600" y="4897440"/>
            <a:ext cx="804960" cy="27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09:17:44Z</dcterms:created>
  <dc:creator>Jim Randle</dc:creator>
  <dc:description/>
  <dc:language>en-US</dc:language>
  <cp:lastModifiedBy>RomaK</cp:lastModifiedBy>
  <dcterms:modified xsi:type="dcterms:W3CDTF">2015-09-04T07:41:03Z</dcterms:modified>
  <cp:revision>33</cp:revision>
  <dc:subject/>
  <dc:title>Slide 1</dc:title>
</cp:coreProperties>
</file>