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B442-0B06-4317-97C5-334EAA211F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40A-9075-43DB-80F3-E7350F9D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B24-C4E2-481F-84D8-8A50D3B7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9B3-2D58-4C65-8AA8-EC40C104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339-A8A3-40D4-8578-C1B56D41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FFBD-EB12-4880-AAEB-BF62C324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9C88-5C2D-40B3-8056-2B504A77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644E-A9A0-46C7-875B-3759D75E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5C67-0B9B-4FA3-9DCD-7FFE4A0E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45B7-8EA1-44F4-AA5B-E2F4A1C0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557F-976D-4DA7-BDB5-E9D621FE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3E14-B21F-4604-8E0D-D8948EC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3B7-9001-44E4-9EAD-68958DE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D49D-3495-41CB-AF8A-834152E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5D71-5FEA-4DD3-BA36-C16C0941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B663-28C1-424B-876F-6A35961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6003-2BEA-4057-A806-BC5AFF96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8AC0-CF97-495D-9204-41C8ECDD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509-123A-447B-B223-97689894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4E1-6913-432F-B687-A0256872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931-DA17-4F32-93F4-3B0BBC61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6F3-4D18-45F2-B45B-204A1EFB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950-C781-421D-88D1-2E4F2EB8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D03-2909-406C-884B-78F21ED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449-CBC9-4E2A-8146-4139554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BB66-1878-478F-A363-EA0AAC2C9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1DA9-B317-40C0-B0EF-0C08F4393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36232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/>
            <a:ahLst/>
            <a:rect l="l" t="t" r="r" b="b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lnTo>
                  <a:pt x="0" y="1249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/>
            <a:ahLst/>
            <a:rect l="l" t="t" r="r" b="b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lnTo>
                  <a:pt x="1568" y="-1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/>
            <a:ahLst/>
            <a:rect l="l" t="t" r="r" b="b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RomaK</cp:lastModifiedBy>
  <dcterms:modified xsi:type="dcterms:W3CDTF">2015-09-04T07:41:17Z</dcterms:modified>
  <cp:revision>393</cp:revision>
  <dc:subject/>
  <dc:title>PowerPoint Presentation</dc:title>
</cp:coreProperties>
</file>