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155E-DD0E-4B59-9949-4F3FC27D0C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ilaterals are four-sided 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: is a quadrilateral with both pairs of opposite sides parall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ilaterals are four-sided 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: is a quadrilateral with both pairs of opposite sides parall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a rectangle, then the following properties hold tr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Sides are congruent and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Angles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cutive angles are supp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are congruent and bise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ur angles are right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a rectangle, then the following properties hold tr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Sides are congruent and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Angles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cutive angles are supp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are congruent and bise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ur angles are right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hombus is a quadrilateral with four congruent sides.  Since opp. sides are  , a rhombus is a parallelogram with all its prope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facts about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1: The diagonals of a rhomb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erpendicu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2: If the diagonals of a parallelogra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are perpendicular, the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arallelogram is a rhom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3: Each diagonal of a rhombus bise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.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hombus is a quadrilateral with four congruent sides.  Since opp. sides are  , a rhombus is a parallelogram with all its prope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facts about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1: The diagonals of a rhomb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erpendicu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2: If the diagonals of a parallelogra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are perpendicular, the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arallelogram is a rhom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3: Each diagonal of a rhombus bise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.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both, a rhombus and a rectangle, is a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hombus has an area of A square units and diagonals of d1 and d2 units, then A = ½ d1d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both, a rhombus and a rectangle, is a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hombus has an area of A square units and diagonals of d1 and d2 units, then A = ½ d1d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triangle has an area of A square units a base of b units and corresponding height of h units, then A = ½b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uent figures have equal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triangle has an area of A square units a base of b units and corresponding height of h units, then A = ½b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uent figures have equal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pezoid is a quadrilateral with exactly one pair of parallel si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allel sides are called ba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nparallel sides are called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side of a base there is a pair of base ang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pezoid is a quadrilateral with exactly one pair of parallel si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allel sides are called ba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nparallel sides are called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side of a base there is a pair of base ang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D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D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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&amp; BD are no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&amp; &lt;B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C &amp; &lt;D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D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D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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&amp; BD are no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&amp; &lt;B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C &amp; &lt;D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osceles trapezoid: A trapezoid with congruent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4: Both pairs of base angle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5: The diagonal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osceles trapezoid: A trapezoid with congruent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4: Both pairs of base angle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5: The diagonal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n of a trapezoid is the segment that joints the midpoints of the legs (PQ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6: The median of a trapezoid is parallel to the bases, and its measure is one-half the sum of the measures of its b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n of a trapezoid is the segment that joints the midpoints of the legs (PQ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6: The median of a trapezoid is parallel to the bases, and its measure is one-half the sum of the measures of its b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apezoid: If a trapezoid has an area of A square units, bases of b1 and b2 units and height of h units, then A = ½(b1 + b2 )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apezoid: If a trapezoid has an area of A square units, bases of b1 and b2 units and height of h units, then A = ½(b1 + b2 )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allelogram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1 : Opposite sides of a parallelograms are congru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2: Opposite angles of a parallelogram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3: Consecutive angles in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e supplementary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  BC  and  AB 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 &lt;C  and  &lt;B  &lt;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A+m&lt;B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 &lt;B+m&lt;C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C+m&lt;D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D+m&lt;A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allelogram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1 : Opposite sides of a parallelograms are congru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2: Opposite angles of a parallelogram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3: Consecutive angles in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e supplementary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  BC  and  AB 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 &lt;C  and  &lt;B  &lt;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A+m&lt;B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 &lt;B+m&lt;C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C+m&lt;D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D+m&lt;A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of a figure: Segments that connect any to vertices of a poly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4: The diagonals of a parallelogram bisect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of a figure: Segments that connect any to vertices of a poly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4: The diagonals of a parallelogram bisect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parallelogram :          ABCD on a piece of construction pap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the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and make a crease from A to C and from B to 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A lies on C. What do you observ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B lies on D. What do you ob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orem is confirmed by these Observa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parallelogram :          ABCD on a piece of construction pap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the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and make a crease from A to C and from B to 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A lies on C. What do you observ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B lies on D. What do you ob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orem is confirmed by these Observa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5 :If both pairs of opposite sides of a quadrilateral are congruent, then the quadrilateral is a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6: If both pairs of opposite angles of a quadrilateral are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D  BC  and  AB  DC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&lt;A  &lt;C  and  &lt;B  &lt;D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5 :If both pairs of opposite sides of a quadrilateral are congruent, then the quadrilateral is a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6: If both pairs of opposite angles of a quadrilateral are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D  BC  and  AB  DC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&lt;A  &lt;C  and  &lt;B  &lt;D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7: If the diagonals of a quadrilateral bisect each other, then the quadrilateral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8: If one pair of opposite sides of a quadrilateral is both parallel and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7: If the diagonals of a quadrilateral bisect each other, then the quadrilateral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8: If one pair of opposite sides of a quadrilateral is both parallel and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ilateral is a parallelogram if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bisect each other. (Theorem 6.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osite sides is both parallel and congruent. (Theorem 6.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congruent. (Theorem 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angles are congruent. (Theorem 6.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parallel. (Defini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ilateral is a parallelogram if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bisect each other. (Theorem 6.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osite sides is both parallel and congruent. (Theorem 6.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congruent. (Theorem 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angles are congruent. (Theorem 6.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parallel. (Defini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arallelogram has an area of A square units, a base of b units and a height of h units, then A = bh.  (Do example 1 p. 5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of a region is the sum of the areas of all its non-overlapping parts. (Do example 3 p. 53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arallelogram has an area of A square units, a base of b units and a height of h units, then A = bh.  (Do example 1 p. 5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of a region is the sum of the areas of all its non-overlapping parts. (Do example 3 p. 53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ctangle is a quadrilateral with four right ang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9 : If a parallelogram is a rectang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its diagonals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 angles in rectangles are congruent (they are right angles) therefore rectangles are parallelograms with all their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0 : If the diagonals of a parallelog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 then the parallelogram is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ctangle is a quadrilateral with four right ang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9 : If a parallelogram is a rectang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its diagonals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 angles in rectangles are congruent (they are right angles) therefore rectangles are parallelograms with all their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0 : If the diagonals of a parallelog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 then the parallelogram is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3DBD-2E34-48B2-9A48-71532811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DDA5-4392-4104-9BF3-37B1813D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3A77-B279-4111-9006-BD3CB0AE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23A6-E3D6-41B6-8B37-393D7B61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0CB3-D70D-476E-9944-AFFE01A7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8F2D-E244-44F8-A19F-F62F0014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F817-EC57-4ED5-9807-B94056C6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63F-3935-4D66-AA03-FA6A5E11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30E8-1796-44BF-9D46-A5C87EA3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3613-51C0-47AC-A9E6-F1A6BD83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BF8F-743A-4591-A40B-87485502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C45D-9298-4C2A-8C5B-EADA3A7F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E34A-ED46-4FA9-BF1A-E719484DFF5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Ravie"/>
              </a:rPr>
              <a:t>Parallel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6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8" descr="WB02325_"/>
          <p:cNvPicPr/>
          <p:nvPr/>
        </p:nvPicPr>
        <p:blipFill>
          <a:blip r:embed="rId1"/>
          <a:stretch/>
        </p:blipFill>
        <p:spPr>
          <a:xfrm>
            <a:off x="7543800" y="380880"/>
            <a:ext cx="1600200" cy="800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9"/>
          <p:cNvSpPr/>
          <p:nvPr/>
        </p:nvSpPr>
        <p:spPr>
          <a:xfrm>
            <a:off x="380880" y="2438280"/>
            <a:ext cx="27432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Quadrilaterals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 are four-side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30"/>
          <p:cNvSpPr/>
          <p:nvPr/>
        </p:nvSpPr>
        <p:spPr>
          <a:xfrm>
            <a:off x="4191120" y="1600200"/>
            <a:ext cx="1214280" cy="4572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1"/>
          <p:cNvSpPr/>
          <p:nvPr/>
        </p:nvSpPr>
        <p:spPr>
          <a:xfrm>
            <a:off x="6705720" y="1752480"/>
            <a:ext cx="9144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32"/>
          <p:cNvSpPr/>
          <p:nvPr/>
        </p:nvSpPr>
        <p:spPr>
          <a:xfrm>
            <a:off x="6019920" y="2590920"/>
            <a:ext cx="533160" cy="13716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33"/>
          <p:cNvSpPr/>
          <p:nvPr/>
        </p:nvSpPr>
        <p:spPr>
          <a:xfrm>
            <a:off x="3886200" y="3505320"/>
            <a:ext cx="1214280" cy="609480"/>
          </a:xfrm>
          <a:prstGeom prst="parallelogram">
            <a:avLst>
              <a:gd name="adj" fmla="val 4980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4"/>
          <p:cNvSpPr/>
          <p:nvPr/>
        </p:nvSpPr>
        <p:spPr>
          <a:xfrm>
            <a:off x="838080" y="4572000"/>
            <a:ext cx="4724640" cy="1800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Parallelogram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: is a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quadrilateral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ith both pairs of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opposite sides parall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5"/>
          <p:cNvSpPr/>
          <p:nvPr/>
        </p:nvSpPr>
        <p:spPr>
          <a:xfrm>
            <a:off x="7620120" y="5715000"/>
            <a:ext cx="1214280" cy="609480"/>
          </a:xfrm>
          <a:prstGeom prst="parallelogram">
            <a:avLst>
              <a:gd name="adj" fmla="val 49808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6"/>
          <p:cNvSpPr/>
          <p:nvPr/>
        </p:nvSpPr>
        <p:spPr>
          <a:xfrm>
            <a:off x="5943600" y="4800600"/>
            <a:ext cx="12193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7"/>
          <p:cNvSpPr/>
          <p:nvPr/>
        </p:nvSpPr>
        <p:spPr>
          <a:xfrm>
            <a:off x="6324480" y="5867280"/>
            <a:ext cx="76212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9"/>
          <p:cNvSpPr/>
          <p:nvPr/>
        </p:nvSpPr>
        <p:spPr>
          <a:xfrm flipV="1">
            <a:off x="3124080" y="1904760"/>
            <a:ext cx="129564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50"/>
          <p:cNvSpPr/>
          <p:nvPr/>
        </p:nvSpPr>
        <p:spPr>
          <a:xfrm flipV="1">
            <a:off x="3124080" y="2209680"/>
            <a:ext cx="34290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1"/>
          <p:cNvSpPr/>
          <p:nvPr/>
        </p:nvSpPr>
        <p:spPr>
          <a:xfrm>
            <a:off x="3124080" y="3048120"/>
            <a:ext cx="281952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2"/>
          <p:cNvSpPr/>
          <p:nvPr/>
        </p:nvSpPr>
        <p:spPr>
          <a:xfrm>
            <a:off x="3124080" y="33526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53"/>
          <p:cNvSpPr/>
          <p:nvPr/>
        </p:nvSpPr>
        <p:spPr>
          <a:xfrm>
            <a:off x="7848720" y="4114800"/>
            <a:ext cx="533160" cy="13716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3333cc"/>
                </a:solidFill>
                <a:latin typeface="Jokerman"/>
              </a:rPr>
              <a:t>Rectangles (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228600" y="1676520"/>
            <a:ext cx="8686800" cy="4483080"/>
          </a:xfrm>
          <a:prstGeom prst="rect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a quadrilateral is a rectangle, then the following properties hold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. Sides are congruent and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. Angles are congr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secutive angles are supplemen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agonals are congruent and bisect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ll four angles are right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58000" y="685800"/>
            <a:ext cx="160020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Squares and Rhomb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80880" y="1219320"/>
            <a:ext cx="8382240" cy="1312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rhombu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is a quadrilateral with four congruent sides.  Since opp. sides are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a rhombus is a parallelogram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with all its properties.</a:t>
            </a:r>
            <a:r>
              <a:rPr b="0" lang="es-MX" sz="24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7924680" y="0"/>
            <a:ext cx="990720" cy="106668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09520" y="28954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ecial facts about 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rhom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Theorem 6.11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The diagonals of a rhomb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e perpendic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Theorem 6.12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the diagonals of a parallelogram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are perpendicular, then the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parallelogram is a rhom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Theorem 6.13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ach diagonal of a rhombus bis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pair of opp.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304920" y="228600"/>
            <a:ext cx="76176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8231400" y="6858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7920" y="457200"/>
            <a:ext cx="441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Squares and Rhombi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7391520" y="533520"/>
            <a:ext cx="990360" cy="1295280"/>
          </a:xfrm>
          <a:prstGeom prst="diamond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371600" y="533520"/>
            <a:ext cx="762120" cy="685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914400" y="4419720"/>
            <a:ext cx="7467480" cy="113004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quadrilateral is both, a rhombus and a rectangle, is a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qu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762120" y="1981080"/>
            <a:ext cx="7467480" cy="1690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rhombus has an area of A square units and diagonals of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nits, then A = ½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257800" y="456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Area of a triang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57200" y="2971800"/>
            <a:ext cx="8381880" cy="1556280"/>
          </a:xfrm>
          <a:prstGeom prst="rect">
            <a:avLst/>
          </a:prstGeom>
          <a:solidFill>
            <a:srgbClr val="ff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triangle has an area of A square units a base of b units and corresponding height of h units, then A = ½b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2971800" y="685800"/>
            <a:ext cx="2133720" cy="152388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4038480" y="704880"/>
            <a:ext cx="0" cy="15238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116600" y="1295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64320" y="2300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914400" y="5410080"/>
            <a:ext cx="746748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gruent figures have equal ar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62320" y="990720"/>
            <a:ext cx="4952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Ravie"/>
              </a:rPr>
              <a:t>Trapez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33520" y="2971800"/>
            <a:ext cx="7162560" cy="2288520"/>
          </a:xfrm>
          <a:prstGeom prst="rect">
            <a:avLst/>
          </a:prstGeom>
          <a:solidFill>
            <a:srgbClr val="ccffcc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A trapezoid is a quadrilateral with exactly one pair of parallel sides.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e parallel sides are called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bases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e nonparallel sides are called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legs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At each side of a base there is a pair of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base angles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7391520" y="304920"/>
            <a:ext cx="1214280" cy="914400"/>
          </a:xfrm>
          <a:custGeom>
            <a:avLst/>
            <a:gdLst>
              <a:gd name="textAreaLeft" fmla="*/ 300240 w 1214280"/>
              <a:gd name="textAreaRight" fmla="*/ 914040 w 1214280"/>
              <a:gd name="textAreaTop" fmla="*/ 226080 h 914400"/>
              <a:gd name="textAreaBottom" fmla="*/ 688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087" y="21600"/>
                </a:lnTo>
                <a:lnTo>
                  <a:pt x="1451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8"/>
          <p:cNvSpPr/>
          <p:nvPr/>
        </p:nvSpPr>
        <p:spPr>
          <a:xfrm rot="10791600">
            <a:off x="837360" y="1371240"/>
            <a:ext cx="1752840" cy="992160"/>
          </a:xfrm>
          <a:custGeom>
            <a:avLst/>
            <a:gdLst>
              <a:gd name="textAreaLeft" fmla="*/ 428400 w 1752840"/>
              <a:gd name="textAreaRight" fmla="*/ 1324440 w 175284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66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7086240" y="1906560"/>
            <a:ext cx="1522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7238880" y="190656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1"/>
          <p:cNvSpPr/>
          <p:nvPr/>
        </p:nvSpPr>
        <p:spPr>
          <a:xfrm>
            <a:off x="7086600" y="24400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 flipH="1" flipV="1">
            <a:off x="8000640" y="190656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62320" y="990720"/>
            <a:ext cx="4952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Trapezoid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7391520" y="457200"/>
            <a:ext cx="1214280" cy="914400"/>
          </a:xfrm>
          <a:custGeom>
            <a:avLst/>
            <a:gdLst>
              <a:gd name="textAreaLeft" fmla="*/ 300240 w 1214280"/>
              <a:gd name="textAreaRight" fmla="*/ 914040 w 1214280"/>
              <a:gd name="textAreaTop" fmla="*/ 226080 h 914400"/>
              <a:gd name="textAreaBottom" fmla="*/ 688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087" y="21600"/>
                </a:lnTo>
                <a:lnTo>
                  <a:pt x="1451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6"/>
          <p:cNvSpPr/>
          <p:nvPr/>
        </p:nvSpPr>
        <p:spPr>
          <a:xfrm rot="10791600">
            <a:off x="837360" y="1371240"/>
            <a:ext cx="1752840" cy="992160"/>
          </a:xfrm>
          <a:custGeom>
            <a:avLst/>
            <a:gdLst>
              <a:gd name="textAreaLeft" fmla="*/ 428400 w 1752840"/>
              <a:gd name="textAreaRight" fmla="*/ 1324440 w 175284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7"/>
          <p:cNvSpPr/>
          <p:nvPr/>
        </p:nvSpPr>
        <p:spPr>
          <a:xfrm flipH="1">
            <a:off x="7086240" y="1906560"/>
            <a:ext cx="1522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7238880" y="190656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7086600" y="24400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 flipH="1" flipV="1">
            <a:off x="8000640" y="190656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236448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2"/>
          <p:cNvSpPr/>
          <p:nvPr/>
        </p:nvSpPr>
        <p:spPr>
          <a:xfrm flipH="1">
            <a:off x="2285640" y="304812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3"/>
          <p:cNvSpPr/>
          <p:nvPr/>
        </p:nvSpPr>
        <p:spPr>
          <a:xfrm>
            <a:off x="2895480" y="304812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2286000" y="3886200"/>
            <a:ext cx="3048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5"/>
          <p:cNvSpPr/>
          <p:nvPr/>
        </p:nvSpPr>
        <p:spPr>
          <a:xfrm flipH="1" flipV="1">
            <a:off x="3733560" y="3048120"/>
            <a:ext cx="16002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167832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548856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4421520" y="2743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9"/>
          <p:cNvSpPr/>
          <p:nvPr/>
        </p:nvSpPr>
        <p:spPr>
          <a:xfrm>
            <a:off x="3200400" y="304812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3505320" y="388620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7153200" y="2743200"/>
            <a:ext cx="199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B =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D =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C =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D =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304920" y="3429000"/>
            <a:ext cx="189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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C &amp; BD are no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3429360" y="4648320"/>
            <a:ext cx="411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&lt;A &amp; &lt;B = pair of base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&lt;C &amp; &lt;D = pair of base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4"/>
          <p:cNvSpPr/>
          <p:nvPr/>
        </p:nvSpPr>
        <p:spPr>
          <a:xfrm>
            <a:off x="45720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25"/>
          <p:cNvSpPr/>
          <p:nvPr/>
        </p:nvSpPr>
        <p:spPr>
          <a:xfrm>
            <a:off x="106668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6"/>
          <p:cNvSpPr/>
          <p:nvPr/>
        </p:nvSpPr>
        <p:spPr>
          <a:xfrm>
            <a:off x="304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27"/>
          <p:cNvSpPr/>
          <p:nvPr/>
        </p:nvSpPr>
        <p:spPr>
          <a:xfrm>
            <a:off x="12193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28"/>
          <p:cNvSpPr/>
          <p:nvPr/>
        </p:nvSpPr>
        <p:spPr>
          <a:xfrm>
            <a:off x="731520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9"/>
          <p:cNvSpPr/>
          <p:nvPr/>
        </p:nvSpPr>
        <p:spPr>
          <a:xfrm>
            <a:off x="7238880" y="3124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30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31"/>
          <p:cNvSpPr/>
          <p:nvPr/>
        </p:nvSpPr>
        <p:spPr>
          <a:xfrm>
            <a:off x="7238880" y="3886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7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Ravie"/>
              </a:rPr>
              <a:t>Trapezoid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762120" y="2438280"/>
            <a:ext cx="6400800" cy="22885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osceles trapezoid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A trapezoid with congruent le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Theorem 6-14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base angles of an isosceles trapezoid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Theorem 6-15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The diagonals of an isosceles trapezoid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7467480" y="990720"/>
            <a:ext cx="1214640" cy="9144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8"/>
          <p:cNvSpPr/>
          <p:nvPr/>
        </p:nvSpPr>
        <p:spPr>
          <a:xfrm rot="10791600">
            <a:off x="761760" y="837720"/>
            <a:ext cx="1752480" cy="992160"/>
          </a:xfrm>
          <a:custGeom>
            <a:avLst/>
            <a:gdLst>
              <a:gd name="textAreaLeft" fmla="*/ 428400 w 1752480"/>
              <a:gd name="textAreaRight" fmla="*/ 1324080 w 175248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Trapezoid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266904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6705720" y="228600"/>
            <a:ext cx="1214280" cy="9144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7"/>
          <p:cNvSpPr/>
          <p:nvPr/>
        </p:nvSpPr>
        <p:spPr>
          <a:xfrm rot="10791600">
            <a:off x="304560" y="228240"/>
            <a:ext cx="1752480" cy="992160"/>
          </a:xfrm>
          <a:custGeom>
            <a:avLst/>
            <a:gdLst>
              <a:gd name="textAreaLeft" fmla="*/ 428400 w 1752480"/>
              <a:gd name="textAreaRight" fmla="*/ 1324080 w 175248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8"/>
          <p:cNvSpPr/>
          <p:nvPr/>
        </p:nvSpPr>
        <p:spPr>
          <a:xfrm flipH="1">
            <a:off x="2590560" y="350532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9"/>
          <p:cNvSpPr/>
          <p:nvPr/>
        </p:nvSpPr>
        <p:spPr>
          <a:xfrm>
            <a:off x="3200400" y="35053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2590920" y="4343400"/>
            <a:ext cx="3047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1"/>
          <p:cNvSpPr/>
          <p:nvPr/>
        </p:nvSpPr>
        <p:spPr>
          <a:xfrm flipH="1" flipV="1">
            <a:off x="4038120" y="3505320"/>
            <a:ext cx="16002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1982880" y="411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472608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5"/>
          <p:cNvSpPr/>
          <p:nvPr/>
        </p:nvSpPr>
        <p:spPr>
          <a:xfrm>
            <a:off x="3505320" y="350532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3809880" y="4343400"/>
            <a:ext cx="152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762120" y="16765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median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f a trapezoid is the segment that joints the midpoints of the legs (PQ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8"/>
          <p:cNvSpPr/>
          <p:nvPr/>
        </p:nvSpPr>
        <p:spPr>
          <a:xfrm>
            <a:off x="289548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518364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2287800" y="358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533520" y="4800600"/>
            <a:ext cx="792468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Theorem 6-16: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The median of a trapezoid is parallel to the bases, and its measure is one-half the sum of the measures of its b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Area of Trapezo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266904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6705720" y="228600"/>
            <a:ext cx="1214280" cy="76212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58760 h 762120"/>
              <a:gd name="textAreaBottom" fmla="*/ 60336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6"/>
          <p:cNvSpPr/>
          <p:nvPr/>
        </p:nvSpPr>
        <p:spPr>
          <a:xfrm rot="10791600">
            <a:off x="302760" y="228240"/>
            <a:ext cx="1752840" cy="838080"/>
          </a:xfrm>
          <a:custGeom>
            <a:avLst/>
            <a:gdLst>
              <a:gd name="textAreaLeft" fmla="*/ 428400 w 1752840"/>
              <a:gd name="textAreaRight" fmla="*/ 1324440 w 1752840"/>
              <a:gd name="textAreaTop" fmla="*/ 204840 h 838080"/>
              <a:gd name="textAreaBottom" fmla="*/ 6332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7"/>
          <p:cNvSpPr/>
          <p:nvPr/>
        </p:nvSpPr>
        <p:spPr>
          <a:xfrm flipH="1">
            <a:off x="2590560" y="251460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3200400" y="25146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9"/>
          <p:cNvSpPr/>
          <p:nvPr/>
        </p:nvSpPr>
        <p:spPr>
          <a:xfrm>
            <a:off x="2590920" y="3352680"/>
            <a:ext cx="3047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0"/>
          <p:cNvSpPr/>
          <p:nvPr/>
        </p:nvSpPr>
        <p:spPr>
          <a:xfrm flipH="1" flipV="1">
            <a:off x="4038120" y="2514600"/>
            <a:ext cx="16002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1983240" y="312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571716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4040280" y="213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457200" y="3809880"/>
            <a:ext cx="7924680" cy="22456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 Black"/>
              </a:rPr>
              <a:t>Area of a trapezoid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: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trapezoid has an area of A square units, bases of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nits and height of h units, then A = ½(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)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2"/>
          <p:cNvSpPr/>
          <p:nvPr/>
        </p:nvSpPr>
        <p:spPr>
          <a:xfrm>
            <a:off x="3200400" y="25146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3338640" y="2581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Parallelogram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80880" y="1600200"/>
            <a:ext cx="4496040" cy="119124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heorem 6.1 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osite sides of a parallelograms are congruent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57200" y="3276720"/>
            <a:ext cx="4495680" cy="11912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heorem 6.2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osite angles of a parallelogram are congr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838080" y="4952880"/>
            <a:ext cx="3657600" cy="155700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Black"/>
              </a:rPr>
              <a:t>Theorem 6.3: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Consecutive angles in a 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are supplementary.</a:t>
            </a:r>
            <a:r>
              <a:rPr b="0" lang="es-MX" sz="2400" spc="-1" strike="noStrike">
                <a:solidFill>
                  <a:srgbClr val="000066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6858000" y="685800"/>
            <a:ext cx="1214280" cy="914400"/>
          </a:xfrm>
          <a:prstGeom prst="parallelogram">
            <a:avLst>
              <a:gd name="adj" fmla="val 33199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539400" y="42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402960" y="1523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7926840" y="1523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8231400" y="457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5042880" y="2286000"/>
            <a:ext cx="348768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BC  and  AB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5410080" y="3581280"/>
            <a:ext cx="34290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&lt;A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&lt;C  and  &lt;B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&lt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5334120" y="4800600"/>
            <a:ext cx="2666880" cy="1557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&lt;A+m&lt;B = 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 &lt;B+m&lt;C = 180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&lt;C+m&lt;D = 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&lt;D+m&lt;A = 180°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5181480" y="2362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5962680" y="23432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7182000" y="23432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7"/>
          <p:cNvSpPr/>
          <p:nvPr/>
        </p:nvSpPr>
        <p:spPr>
          <a:xfrm>
            <a:off x="7924680" y="23241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3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cc"/>
                </a:solidFill>
                <a:latin typeface="Ravie"/>
              </a:rPr>
              <a:t>Parallelogram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0880" y="167652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Diagonals of a figur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Segments that connect any to vertices of a poly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5257800" y="1371600"/>
            <a:ext cx="1214280" cy="9144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6400800" y="25146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8"/>
          <p:cNvSpPr/>
          <p:nvPr/>
        </p:nvSpPr>
        <p:spPr>
          <a:xfrm>
            <a:off x="5257800" y="13716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9"/>
          <p:cNvSpPr/>
          <p:nvPr/>
        </p:nvSpPr>
        <p:spPr>
          <a:xfrm flipH="1">
            <a:off x="5562720" y="13716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6648480" y="2514600"/>
            <a:ext cx="590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1"/>
          <p:cNvSpPr/>
          <p:nvPr/>
        </p:nvSpPr>
        <p:spPr>
          <a:xfrm flipH="1">
            <a:off x="6705720" y="2514600"/>
            <a:ext cx="49536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6438960" y="2990880"/>
            <a:ext cx="1009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3"/>
          <p:cNvSpPr/>
          <p:nvPr/>
        </p:nvSpPr>
        <p:spPr>
          <a:xfrm>
            <a:off x="990720" y="4114800"/>
            <a:ext cx="1747800" cy="1295280"/>
          </a:xfrm>
          <a:prstGeom prst="parallelogram">
            <a:avLst>
              <a:gd name="adj" fmla="val 337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1447920" y="4114800"/>
            <a:ext cx="83808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5"/>
          <p:cNvSpPr/>
          <p:nvPr/>
        </p:nvSpPr>
        <p:spPr>
          <a:xfrm flipH="1">
            <a:off x="990720" y="411480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3581280" y="4419720"/>
            <a:ext cx="50292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Theorem 6.4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diagonals of a parallelogram bisect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8"/>
          <p:cNvSpPr/>
          <p:nvPr/>
        </p:nvSpPr>
        <p:spPr>
          <a:xfrm flipV="1">
            <a:off x="1219320" y="464796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9"/>
          <p:cNvSpPr/>
          <p:nvPr/>
        </p:nvSpPr>
        <p:spPr>
          <a:xfrm flipV="1">
            <a:off x="2514600" y="464796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2"/>
          <p:cNvSpPr/>
          <p:nvPr/>
        </p:nvSpPr>
        <p:spPr>
          <a:xfrm>
            <a:off x="1447920" y="5410080"/>
            <a:ext cx="75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3"/>
          <p:cNvSpPr/>
          <p:nvPr/>
        </p:nvSpPr>
        <p:spPr>
          <a:xfrm>
            <a:off x="1752480" y="54100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4"/>
          <p:cNvSpPr/>
          <p:nvPr/>
        </p:nvSpPr>
        <p:spPr>
          <a:xfrm>
            <a:off x="2209680" y="41148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5"/>
          <p:cNvSpPr/>
          <p:nvPr/>
        </p:nvSpPr>
        <p:spPr>
          <a:xfrm>
            <a:off x="1905120" y="4114800"/>
            <a:ext cx="75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106884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2745000" y="3886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0"/>
          <p:cNvSpPr/>
          <p:nvPr/>
        </p:nvSpPr>
        <p:spPr>
          <a:xfrm>
            <a:off x="2364480" y="5334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1"/>
          <p:cNvSpPr/>
          <p:nvPr/>
        </p:nvSpPr>
        <p:spPr>
          <a:xfrm>
            <a:off x="611640" y="5181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cc"/>
                </a:solidFill>
                <a:latin typeface="Ravie"/>
              </a:rPr>
              <a:t>Parallelogram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457200" y="78732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aw a parallelogram :          ABCD on a piece of construction pap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 the parallelogra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ld the paper and make a crease from A to C and from B to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ld the paper so A lies on C. What do you observ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ld the paper so B lies on D. What do you obser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theorem is confirmed by these Observ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7"/>
          <p:cNvSpPr/>
          <p:nvPr/>
        </p:nvSpPr>
        <p:spPr>
          <a:xfrm>
            <a:off x="4495680" y="971640"/>
            <a:ext cx="609840" cy="228600"/>
          </a:xfrm>
          <a:prstGeom prst="parallelogram">
            <a:avLst>
              <a:gd name="adj" fmla="val 6669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Ravie"/>
              </a:rPr>
              <a:t>Tests for Parallel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7772400" y="228600"/>
            <a:ext cx="9144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7929720" y="380880"/>
            <a:ext cx="1214280" cy="609840"/>
          </a:xfrm>
          <a:prstGeom prst="parallelogram">
            <a:avLst>
              <a:gd name="adj" fmla="val 49779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52280" y="1219320"/>
            <a:ext cx="8839440" cy="11912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5</a:t>
            </a:r>
            <a:r>
              <a:rPr b="1" lang="en-US" sz="2400" spc="-1" strike="noStrike">
                <a:solidFill>
                  <a:srgbClr val="339966"/>
                </a:solidFill>
                <a:latin typeface="Arial Black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both pairs of opposite sides of a quadrilateral are congruent, then the quadrilateral is a parallelogram.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80880" y="4267080"/>
            <a:ext cx="7239240" cy="119124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6:</a:t>
            </a:r>
            <a:r>
              <a:rPr b="1" lang="en-US" sz="24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both pairs of opposite angles of a quadrilateral are congruent, then the quadrilateral is a parallel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7086600" y="3048120"/>
            <a:ext cx="1214280" cy="914400"/>
          </a:xfrm>
          <a:prstGeom prst="parallelogram">
            <a:avLst>
              <a:gd name="adj" fmla="val 33199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768000" y="2784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55524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8155080" y="380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8460000" y="281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609480" y="28195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f AD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BC  and  AB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DC, then ABCD is a parall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3505320" y="5715000"/>
            <a:ext cx="487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f &lt;A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&lt;C  and  &lt;B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&lt;D, then ABCD is a parall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Ravie"/>
              </a:rPr>
              <a:t>Tests for Parallelograms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5334120" y="2743200"/>
            <a:ext cx="1214280" cy="609480"/>
          </a:xfrm>
          <a:prstGeom prst="parallelogram">
            <a:avLst>
              <a:gd name="adj" fmla="val 4980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685800" y="2895480"/>
            <a:ext cx="1214280" cy="609840"/>
          </a:xfrm>
          <a:prstGeom prst="parallelogram">
            <a:avLst>
              <a:gd name="adj" fmla="val 49779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124080" y="2895480"/>
            <a:ext cx="1219320" cy="609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52280" y="1212840"/>
            <a:ext cx="853452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7</a:t>
            </a:r>
            <a:r>
              <a:rPr b="1" lang="en-US" sz="2400" spc="-1" strike="noStrike">
                <a:solidFill>
                  <a:srgbClr val="000066"/>
                </a:solidFill>
                <a:latin typeface="Arial Black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the diagonals of a quadrilateral bisect each other, then the quadrilateral is a 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7086600" y="2819520"/>
            <a:ext cx="1214280" cy="914400"/>
          </a:xfrm>
          <a:prstGeom prst="parallelogram">
            <a:avLst>
              <a:gd name="adj" fmla="val 33199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768000" y="2556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655524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8155080" y="35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8460000" y="2590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304920" y="4495680"/>
            <a:ext cx="8458200" cy="11912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Theorem 6.8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one pair of opposite sides of a quadrilateral is both parallel and congruent, then the quadrilateral is a parallel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Ravie"/>
              </a:rPr>
              <a:t>A quadrilateral is a parallelogram if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80880" y="4648320"/>
            <a:ext cx="8534520" cy="45972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agonals bisect each other. 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(Theorem 6.7)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200" y="5410080"/>
            <a:ext cx="769608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pair of opposite sides is both parallel and congruent. </a:t>
            </a: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(Theorem 6.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676520" y="2286000"/>
            <a:ext cx="54864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opposite sides are congruent.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cc"/>
                </a:solidFill>
                <a:latin typeface="Arial Black"/>
              </a:rPr>
              <a:t>(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447920" y="3429000"/>
            <a:ext cx="586728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opposite angles are congruent. 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(Theorem 6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752480" y="1066680"/>
            <a:ext cx="54864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opposite sides are parallel.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cc"/>
                </a:solidFill>
                <a:latin typeface="Arial Black"/>
              </a:rPr>
              <a:t>(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Defin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Ravie"/>
              </a:rPr>
              <a:t>Area of a parall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09480" y="1752480"/>
            <a:ext cx="7696440" cy="109980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a parallelogram has an area of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square units, a base of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units and a height of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units, the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 = bh. 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(Do example 1 p. 53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57200" y="5029200"/>
            <a:ext cx="80010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area of a region is the sum of the areas of all its non-overlapping parts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(Do example 3 p. 53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3124080" y="3429000"/>
            <a:ext cx="3200400" cy="914400"/>
          </a:xfrm>
          <a:prstGeom prst="parallelogram">
            <a:avLst>
              <a:gd name="adj" fmla="val 87500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948120" y="42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3943440" y="342900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040280" y="350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3333cc"/>
                </a:solidFill>
                <a:latin typeface="Jokerman"/>
              </a:rPr>
              <a:t>Rectang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990720" y="1371600"/>
            <a:ext cx="7391160" cy="82548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is a quadrilateral with four right ang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4419720"/>
            <a:ext cx="8183520" cy="82548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Theorem 6-9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: If a parallelogram is a rectang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n its diagonals are congruent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648320" y="1981080"/>
            <a:ext cx="160020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838080" y="2819520"/>
            <a:ext cx="7620120" cy="119124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.  angles in rectangles are congruent (they are right angles) therefore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rectangles are parallelogram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with all their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23600" y="5715000"/>
            <a:ext cx="7680600" cy="82548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Theorem 6-10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: If the diagonals of a parallelog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e congruent then the parallelogram is a rectangle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02:30:21Z</dcterms:created>
  <dc:creator>Marta Salveraglio</dc:creator>
  <dc:description/>
  <dc:language>en-US</dc:language>
  <cp:lastModifiedBy>RomaK</cp:lastModifiedBy>
  <dcterms:modified xsi:type="dcterms:W3CDTF">2015-09-04T07:41:24Z</dcterms:modified>
  <cp:revision>18</cp:revision>
  <dc:subject/>
  <dc:title>Parallelograms (2)</dc:title>
</cp:coreProperties>
</file>