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CDC1-D28A-436D-9BFD-33A9236A5C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56C-93F7-4FFF-9E75-1CF54526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89E-E994-4C08-BA94-96C18BD9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716-D66E-479C-8013-4704D6DE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28A-33C4-42D5-BC20-DBDFA266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926-E8D6-4565-9E90-EEEBE00A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97D-D590-4D4C-B2ED-EA63F4D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43E-DAFF-4634-8079-E8D873E6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569-E1BA-4A25-BC6F-089267C0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AC7-5E46-4829-BA6A-CDD2EFBA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372-D307-4EB5-B25F-40D1382F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E8A-05FC-495F-BDF4-00D3FA65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A3D-6E72-4630-AB1F-CE5345DB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43CE-DAAF-4563-B856-A859E05D5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Line 6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15000" y="5757120"/>
            <a:ext cx="320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llegas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Poi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160020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838080" y="3962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371600" y="4191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2967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4211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8380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219320" cy="11444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 rot="9929400">
            <a:off x="7162920" y="0"/>
            <a:ext cx="1676160" cy="27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24480" y="4267080"/>
            <a:ext cx="2133720" cy="167652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262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42:26Z</dcterms:created>
  <dc:creator>Mr. Cluter</dc:creator>
  <dc:description/>
  <dc:language>en-US</dc:language>
  <cp:lastModifiedBy>RomaK</cp:lastModifiedBy>
  <dcterms:modified xsi:type="dcterms:W3CDTF">2015-09-04T07:41:32Z</dcterms:modified>
  <cp:revision>11</cp:revision>
  <dc:subject/>
  <dc:title>Geometry</dc:title>
</cp:coreProperties>
</file>