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73B9-3608-44F7-9F03-98FDD59DCC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 Lin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 can be graphed on a Cartesian Coordinat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 Lin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 can be graphed on a Cartesian Coordinat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tesian Coordinat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tesian Coordinat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oints on a graph are plotted by first finding the x-coordinate and then the    y-coord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oints are written in the form ( x , y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ways graph a point starting from the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oints on a graph are plotted by first finding the x-coordinate and then the    y-coord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oints are written in the form ( x , y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ways graph a point starting from the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int (3,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int (3,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graph a line, you need to know eith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int and the Slope of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oints on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graph a line, you need to know eith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int and the Slope of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oints on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E81C-EC86-4A58-BE5A-FFE98A91C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C5EE-D20D-4534-9CC8-7F157BC7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F127-8119-400C-A3F6-EE6D4886C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00DF-FBA3-4049-8052-60DE2699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463A-76CA-4B66-AE67-1B5515D3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1A83-FEB5-4C37-91B1-A132F85B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D267-7AE2-4733-AD96-98758045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1ED0-56ED-4916-911F-A74BE7A2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CA57-A8E0-4C83-AEE5-90923953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60C9-9481-4816-B437-AC9FF7C1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ED36-E319-484A-985A-CFA6AE63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51A5-282C-4780-A071-5E84EB83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5470-7E4B-47FE-83F1-CD3C58418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800280" y="38088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Graphing Linear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80880" y="277344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near Equations can be graphed on a Cartesian Coordinat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23"/>
          <p:cNvSpPr/>
          <p:nvPr/>
        </p:nvSpPr>
        <p:spPr>
          <a:xfrm>
            <a:off x="2171880" y="990720"/>
            <a:ext cx="4800600" cy="48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1919"/>
          <p:cNvGraphicFramePr/>
          <p:nvPr/>
        </p:nvGraphicFramePr>
        <p:xfrm>
          <a:off x="2576520" y="1371600"/>
          <a:ext cx="3989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Object 19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6520" y="1371600"/>
                    <a:ext cx="3989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1921"/>
          <p:cNvSpPr/>
          <p:nvPr/>
        </p:nvSpPr>
        <p:spPr>
          <a:xfrm>
            <a:off x="7391520" y="220968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922"/>
          <p:cNvSpPr/>
          <p:nvPr/>
        </p:nvSpPr>
        <p:spPr>
          <a:xfrm flipH="1">
            <a:off x="6477120" y="2971800"/>
            <a:ext cx="12189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24"/>
          <p:cNvSpPr/>
          <p:nvPr/>
        </p:nvSpPr>
        <p:spPr>
          <a:xfrm>
            <a:off x="2209680" y="22860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25"/>
          <p:cNvSpPr/>
          <p:nvPr/>
        </p:nvSpPr>
        <p:spPr>
          <a:xfrm>
            <a:off x="3657600" y="68580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926"/>
          <p:cNvSpPr/>
          <p:nvPr/>
        </p:nvSpPr>
        <p:spPr>
          <a:xfrm>
            <a:off x="1334520" y="5867280"/>
            <a:ext cx="6473160" cy="70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artesian Coordinat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752480" y="762120"/>
            <a:ext cx="5600880" cy="560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3"/>
          <p:cNvSpPr/>
          <p:nvPr/>
        </p:nvSpPr>
        <p:spPr>
          <a:xfrm>
            <a:off x="4572000" y="762120"/>
            <a:ext cx="0" cy="571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4724280" y="1143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057400" y="1143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057400" y="39625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724280" y="39625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7391520" y="220968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1"/>
          <p:cNvSpPr/>
          <p:nvPr/>
        </p:nvSpPr>
        <p:spPr>
          <a:xfrm flipH="1">
            <a:off x="6781680" y="2971800"/>
            <a:ext cx="91440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2362320" y="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3"/>
          <p:cNvSpPr/>
          <p:nvPr/>
        </p:nvSpPr>
        <p:spPr>
          <a:xfrm>
            <a:off x="3657600" y="68580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4648320" y="220176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5"/>
          <p:cNvSpPr/>
          <p:nvPr/>
        </p:nvSpPr>
        <p:spPr>
          <a:xfrm flipH="1">
            <a:off x="4572000" y="2819520"/>
            <a:ext cx="8380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0" y="3808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l points on a graph are plotted by first finding the x-coordinate and then the    y-coordin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0" y="4648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l points are written in the form ( x , y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0" y="2773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ou always graph a point starting from the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Orig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1771560" y="628560"/>
            <a:ext cx="5600880" cy="560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"/>
          <p:cNvSpPr/>
          <p:nvPr/>
        </p:nvSpPr>
        <p:spPr>
          <a:xfrm>
            <a:off x="4572000" y="571680"/>
            <a:ext cx="0" cy="571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4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572000" y="1143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905120" y="1143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905120" y="3962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572000" y="3962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4572000" y="1963800"/>
            <a:ext cx="2743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x is pos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y is pos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1828800" y="1963800"/>
            <a:ext cx="2743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x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y is pos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1828800" y="4572000"/>
            <a:ext cx="2743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x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y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4572000" y="4572000"/>
            <a:ext cx="2743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x is pos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y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2171880" y="990720"/>
            <a:ext cx="4800600" cy="48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2576520" y="1371600"/>
          <a:ext cx="3989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6520" y="1371600"/>
                    <a:ext cx="3989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4"/>
          <p:cNvSpPr/>
          <p:nvPr/>
        </p:nvSpPr>
        <p:spPr>
          <a:xfrm>
            <a:off x="0" y="1981080"/>
            <a:ext cx="2057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int (3,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5"/>
          <p:cNvSpPr/>
          <p:nvPr/>
        </p:nvSpPr>
        <p:spPr>
          <a:xfrm>
            <a:off x="4572000" y="34290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6"/>
          <p:cNvSpPr/>
          <p:nvPr/>
        </p:nvSpPr>
        <p:spPr>
          <a:xfrm flipV="1">
            <a:off x="5257800" y="2285640"/>
            <a:ext cx="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"/>
          <p:cNvSpPr/>
          <p:nvPr/>
        </p:nvSpPr>
        <p:spPr>
          <a:xfrm>
            <a:off x="5181480" y="2286000"/>
            <a:ext cx="76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order to graph a line, you need to know eithe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0" y="283356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point and the Slope of the 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181480" y="283356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wo points on the 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4114800" y="310824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4T14:14:52Z</dcterms:created>
  <dc:creator>Chester Area School</dc:creator>
  <dc:description/>
  <dc:language>en-US</dc:language>
  <cp:lastModifiedBy>RomaK</cp:lastModifiedBy>
  <dcterms:modified xsi:type="dcterms:W3CDTF">2015-09-04T07:41:40Z</dcterms:modified>
  <cp:revision>13</cp:revision>
  <dc:subject/>
  <dc:title>PowerPoint Presentation</dc:title>
</cp:coreProperties>
</file>