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164C7-E851-47E5-963F-3223E68197C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ng Linear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Equations can be graphed on a Cartesian Coordinat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ng Linear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Equations can be graphed on a Cartesian Coordinat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-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-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rtesian Coordinat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-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-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rtesian Coordinat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drant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drant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drant 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drant 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-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-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ri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drant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drant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drant 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drant 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-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-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ri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oints on a graph are plotted by first finding the x-coordinate and then the    y-coordi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oints are written in the form ( x , y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lways graph a point starting from the Ori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oints on a graph are plotted by first finding the x-coordinate and then the    y-coordi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oints are written in the form ( x , y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lways graph a point starting from the Ori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ant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ant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ant 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ant 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is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is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is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is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is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is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is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is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ant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ant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ant 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ant 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is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is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is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is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is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is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is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is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int (3,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int (3,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graph a line, you need to know eith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int and the Slope of the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points on the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graph a line, you need to know eith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int and the Slope of the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points on the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F64C-EE40-4CFF-A6F3-C371020AE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809A-C064-4EBE-8C30-97AC84F1E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D247-7B93-4E5B-A425-40251C27B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895C-FC5E-4356-A10D-292964F8C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7479-2972-4807-96E8-CCDE1066F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8F28-3FFB-463D-81B9-8C81A5300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FA56-99F6-4723-B5D8-5F4553B3C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852C-E96F-4639-ACC8-ED8AB20B7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AFB9-2A74-4A3A-B9E8-9CEBB6130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99C5-7DB2-4C78-8FB5-EA30CA1C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ADF9-BB3E-4CE2-9018-023B669D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9868-C951-4531-B99A-999866C7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431B5-9831-4876-9792-63EAD0E272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800280" y="38088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Graphing Linear Equa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380880" y="2773440"/>
            <a:ext cx="838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near Equations can be graphed on a Cartesian Coordinate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23"/>
          <p:cNvSpPr/>
          <p:nvPr/>
        </p:nvSpPr>
        <p:spPr>
          <a:xfrm>
            <a:off x="2171880" y="990720"/>
            <a:ext cx="4800600" cy="487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Object 1919"/>
          <p:cNvGraphicFramePr/>
          <p:nvPr/>
        </p:nvGraphicFramePr>
        <p:xfrm>
          <a:off x="2576520" y="1371600"/>
          <a:ext cx="398952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Object 19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6520" y="1371600"/>
                    <a:ext cx="39895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Text Box 1921"/>
          <p:cNvSpPr/>
          <p:nvPr/>
        </p:nvSpPr>
        <p:spPr>
          <a:xfrm>
            <a:off x="7391520" y="2209680"/>
            <a:ext cx="1371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-ax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922"/>
          <p:cNvSpPr/>
          <p:nvPr/>
        </p:nvSpPr>
        <p:spPr>
          <a:xfrm flipH="1">
            <a:off x="6477120" y="2971800"/>
            <a:ext cx="121896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924"/>
          <p:cNvSpPr/>
          <p:nvPr/>
        </p:nvSpPr>
        <p:spPr>
          <a:xfrm>
            <a:off x="2209680" y="228600"/>
            <a:ext cx="1371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-ax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25"/>
          <p:cNvSpPr/>
          <p:nvPr/>
        </p:nvSpPr>
        <p:spPr>
          <a:xfrm>
            <a:off x="3657600" y="685800"/>
            <a:ext cx="9144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926"/>
          <p:cNvSpPr/>
          <p:nvPr/>
        </p:nvSpPr>
        <p:spPr>
          <a:xfrm>
            <a:off x="1334520" y="5867280"/>
            <a:ext cx="6473160" cy="703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artesian Coordinate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1752480" y="762120"/>
            <a:ext cx="5600880" cy="560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3"/>
          <p:cNvSpPr/>
          <p:nvPr/>
        </p:nvSpPr>
        <p:spPr>
          <a:xfrm>
            <a:off x="4572000" y="762120"/>
            <a:ext cx="0" cy="5715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4"/>
          <p:cNvSpPr/>
          <p:nvPr/>
        </p:nvSpPr>
        <p:spPr>
          <a:xfrm>
            <a:off x="1752480" y="3505320"/>
            <a:ext cx="5639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4724280" y="11430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drant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2057400" y="11430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drant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2057400" y="39625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drant I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4724280" y="39625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drant I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7391520" y="2209680"/>
            <a:ext cx="1371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-ax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11"/>
          <p:cNvSpPr/>
          <p:nvPr/>
        </p:nvSpPr>
        <p:spPr>
          <a:xfrm flipH="1">
            <a:off x="6781680" y="2971800"/>
            <a:ext cx="91440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2362320" y="0"/>
            <a:ext cx="1371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-ax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3"/>
          <p:cNvSpPr/>
          <p:nvPr/>
        </p:nvSpPr>
        <p:spPr>
          <a:xfrm>
            <a:off x="3657600" y="685800"/>
            <a:ext cx="9144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4648320" y="220176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rig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5"/>
          <p:cNvSpPr/>
          <p:nvPr/>
        </p:nvSpPr>
        <p:spPr>
          <a:xfrm flipH="1">
            <a:off x="4572000" y="2819520"/>
            <a:ext cx="8380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0" y="38088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ll points on a graph are plotted by first finding the x-coordinate and then the    y-coordin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0" y="4648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ll points are written in the form ( x , y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0" y="27734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You always graph a point starting from the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Orig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1771560" y="628560"/>
            <a:ext cx="5600880" cy="560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3"/>
          <p:cNvSpPr/>
          <p:nvPr/>
        </p:nvSpPr>
        <p:spPr>
          <a:xfrm>
            <a:off x="4572000" y="571680"/>
            <a:ext cx="0" cy="5715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4"/>
          <p:cNvSpPr/>
          <p:nvPr/>
        </p:nvSpPr>
        <p:spPr>
          <a:xfrm>
            <a:off x="1752480" y="3505320"/>
            <a:ext cx="5639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4572000" y="11430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adrant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1905120" y="11430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adrant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1905120" y="39625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adrant I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4572000" y="39625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adrant 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4572000" y="1963800"/>
            <a:ext cx="2743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x is posi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y is posi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1828800" y="1963800"/>
            <a:ext cx="2743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x is nega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y is posi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1828800" y="4572000"/>
            <a:ext cx="2743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x is nega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y is nega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4572000" y="4572000"/>
            <a:ext cx="2743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x is posi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y is nega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2171880" y="990720"/>
            <a:ext cx="4800600" cy="487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Object 3"/>
          <p:cNvGraphicFramePr/>
          <p:nvPr/>
        </p:nvGraphicFramePr>
        <p:xfrm>
          <a:off x="2576520" y="1371600"/>
          <a:ext cx="398952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6520" y="1371600"/>
                    <a:ext cx="39895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Text Box 4"/>
          <p:cNvSpPr/>
          <p:nvPr/>
        </p:nvSpPr>
        <p:spPr>
          <a:xfrm>
            <a:off x="0" y="1981080"/>
            <a:ext cx="20574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int (3,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5"/>
          <p:cNvSpPr/>
          <p:nvPr/>
        </p:nvSpPr>
        <p:spPr>
          <a:xfrm>
            <a:off x="4572000" y="34290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6"/>
          <p:cNvSpPr/>
          <p:nvPr/>
        </p:nvSpPr>
        <p:spPr>
          <a:xfrm flipV="1">
            <a:off x="5257800" y="2285640"/>
            <a:ext cx="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9"/>
          <p:cNvSpPr/>
          <p:nvPr/>
        </p:nvSpPr>
        <p:spPr>
          <a:xfrm>
            <a:off x="5181480" y="2286000"/>
            <a:ext cx="76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 order to graph a line, you need to know either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0" y="283356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 point and the Slope of the 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5181480" y="283356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wo points on the 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4114800" y="310824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4T14:14:52Z</dcterms:created>
  <dc:creator>Chester Area School</dc:creator>
  <dc:description/>
  <dc:language>en-US</dc:language>
  <cp:lastModifiedBy>RomaK</cp:lastModifiedBy>
  <dcterms:modified xsi:type="dcterms:W3CDTF">2015-09-04T07:41:40Z</dcterms:modified>
  <cp:revision>13</cp:revision>
  <dc:subject/>
  <dc:title>PowerPoint Presentation</dc:title>
</cp:coreProperties>
</file>