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8E7D-55B3-4B05-8B3A-40823C21A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Straight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graph equations and find equations from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les of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ble of values is used to generate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oints can be plotted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ight line drawn through these points creates the graph of the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ph y = 2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ot these points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traight line through th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ollowing straight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3x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3x +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a relationship between the graphs and their algebraic expressions!!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dient-Intercept Form of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linear function is written in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 is its gradient and the b is its y-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ollowing graphs, determine thei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DA3-39D3-4B57-BC2E-E0841409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FD7-E54A-497C-8719-E41D375F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67A-F946-471D-8BCF-3E9DF980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DC2-6B95-4DA7-85A1-ECDA565F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73E-50F6-4FEC-B7F6-0EDC984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C59-ED9B-44B7-8001-0FAC719E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122-1A02-407D-A490-6D89A96F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075-FDA5-4703-83D7-08B268BD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EDF-0881-45C0-8FC8-42045E9E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4A2-FE6B-46EB-AB53-C0A173C5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43D-B543-4A20-9F01-CC17AFC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C78-A332-4D6C-87C2-7F8EABBE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448A-45F1-4245-B90D-36A00560D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 of Straight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1080" y="2666880"/>
            <a:ext cx="6966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to graph equations and find equations from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01760" y="404640"/>
            <a:ext cx="64292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30200" y="420840"/>
            <a:ext cx="64771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330200" y="479520"/>
            <a:ext cx="64627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374840" y="477720"/>
            <a:ext cx="63658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of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of values is used to generat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ints can be plotted on the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drawn through these points creates the graph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32000" y="2708280"/>
          <a:ext cx="6635520" cy="2192400"/>
        </p:xfrm>
        <a:graphic>
          <a:graphicData uri="http://schemas.openxmlformats.org/drawingml/2006/table">
            <a:tbl>
              <a:tblPr/>
              <a:tblGrid>
                <a:gridCol w="1106280"/>
                <a:gridCol w="1105200"/>
                <a:gridCol w="1106280"/>
                <a:gridCol w="1106640"/>
                <a:gridCol w="1104840"/>
                <a:gridCol w="1106280"/>
              </a:tblGrid>
              <a:tr h="109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0"/>
          <p:cNvSpPr/>
          <p:nvPr/>
        </p:nvSpPr>
        <p:spPr>
          <a:xfrm>
            <a:off x="2700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3708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932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6084720" y="4073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7164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67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these points on th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1700280"/>
          <a:ext cx="2952720" cy="792000"/>
        </p:xfrm>
        <a:graphic>
          <a:graphicData uri="http://schemas.openxmlformats.org/drawingml/2006/table">
            <a:tbl>
              <a:tblPr/>
              <a:tblGrid>
                <a:gridCol w="492120"/>
                <a:gridCol w="490320"/>
                <a:gridCol w="493920"/>
                <a:gridCol w="493560"/>
                <a:gridCol w="490680"/>
                <a:gridCol w="49212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Oval 87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8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9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0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1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28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traight line through th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819760" y="1495080"/>
            <a:ext cx="2067120" cy="4172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669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ollowing straight 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3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x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-3x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1076400" y="4581360"/>
                <a:ext cx="1514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9"/>
          <p:cNvSpPr/>
          <p:nvPr/>
        </p:nvSpPr>
        <p:spPr>
          <a:xfrm>
            <a:off x="5064120" y="2511360"/>
            <a:ext cx="270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ok for a relationship between the graphs and their algebraic expressions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adient-Intercept Form of a Straigh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2195640"/>
            <a:ext cx="81136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linear function is written in the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s gradient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ts y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ollowing graphs, determine their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57480" y="406440"/>
            <a:ext cx="646236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9:26Z</dcterms:created>
  <dc:creator>sgarvey</dc:creator>
  <dc:description/>
  <dc:language>en-US</dc:language>
  <cp:lastModifiedBy>RomaK</cp:lastModifiedBy>
  <dcterms:modified xsi:type="dcterms:W3CDTF">2015-09-04T07:41:46Z</dcterms:modified>
  <cp:revision>22</cp:revision>
  <dc:subject/>
  <dc:title>Graphs of Straight Lines</dc:title>
</cp:coreProperties>
</file>