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CAD25-386D-4E1B-AADA-68F7ADFA827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phs of Straight 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to graph equations and find equations from graph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bles of Valu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table of values is used to generate poi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points can be plotted on the coordinate pla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traight line drawn through these points creates the graph of the equ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Graph y = 2x –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ot these points on the coordinate pla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aw a straight line through the poi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erci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ph the following straight lin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= 3x –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= 2x +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= x –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= -3x +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ok for a relationship between the graphs and their algebraic expressions!!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radient-Intercept Form of a Straight 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a linear function is written in the for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= mx + 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 is its gradient and the b is its y-intercep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’s the Equat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e following graphs, determine their equ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3C02-698C-44A3-A320-447153CFD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B88C-E4A0-42EC-8C59-F9EB712DD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D306-598B-4B6D-B630-93277124E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442D-C173-419D-8C66-1C11F93CF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C263-FBBE-42D8-8ADE-16426654A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9733-DF9A-42F9-9B75-871DD5BA7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B839-8B50-45E3-99C5-F83411714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003A-602D-4434-8B2D-CFC7FFE2A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9671-0A13-4842-8C0C-157D41E19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3D41-230A-415A-8EE2-4A85264F8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9EC9-5B18-4D8B-9201-5C00A0C88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1958-63EE-4C6C-9339-3BA2E3C71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AA8BA-81D0-491C-B4CC-557974CD54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7360" y="518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phs of Straight 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081080" y="2666880"/>
            <a:ext cx="6966000" cy="76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ow to graph equations and find equations from graph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1301760" y="404640"/>
            <a:ext cx="6429240" cy="58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1330200" y="420840"/>
            <a:ext cx="6477120" cy="58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"/>
          <p:cNvPicPr/>
          <p:nvPr/>
        </p:nvPicPr>
        <p:blipFill>
          <a:blip r:embed="rId1"/>
          <a:stretch/>
        </p:blipFill>
        <p:spPr>
          <a:xfrm>
            <a:off x="1330200" y="479520"/>
            <a:ext cx="6462720" cy="58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"/>
          <p:cNvPicPr/>
          <p:nvPr/>
        </p:nvPicPr>
        <p:blipFill>
          <a:blip r:embed="rId1"/>
          <a:stretch/>
        </p:blipFill>
        <p:spPr>
          <a:xfrm>
            <a:off x="1374840" y="477720"/>
            <a:ext cx="6365880" cy="578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bles of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able of values is used to generate poi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points can be plotted on the coordinate pla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raight line drawn through these points creates the graph of the equ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ph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 = 2x 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332000" y="2708280"/>
          <a:ext cx="6635520" cy="2192400"/>
        </p:xfrm>
        <a:graphic>
          <a:graphicData uri="http://schemas.openxmlformats.org/drawingml/2006/table">
            <a:tbl>
              <a:tblPr/>
              <a:tblGrid>
                <a:gridCol w="1106280"/>
                <a:gridCol w="1105200"/>
                <a:gridCol w="1106280"/>
                <a:gridCol w="1106640"/>
                <a:gridCol w="1104840"/>
                <a:gridCol w="1106280"/>
              </a:tblGrid>
              <a:tr h="1096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5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" name="Text Box 30"/>
          <p:cNvSpPr/>
          <p:nvPr/>
        </p:nvSpPr>
        <p:spPr>
          <a:xfrm>
            <a:off x="2700360" y="407664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1"/>
          <p:cNvSpPr/>
          <p:nvPr/>
        </p:nvSpPr>
        <p:spPr>
          <a:xfrm>
            <a:off x="3708360" y="407664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32"/>
          <p:cNvSpPr/>
          <p:nvPr/>
        </p:nvSpPr>
        <p:spPr>
          <a:xfrm>
            <a:off x="4932360" y="407664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3"/>
          <p:cNvSpPr/>
          <p:nvPr/>
        </p:nvSpPr>
        <p:spPr>
          <a:xfrm>
            <a:off x="6084720" y="407340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4"/>
          <p:cNvSpPr/>
          <p:nvPr/>
        </p:nvSpPr>
        <p:spPr>
          <a:xfrm>
            <a:off x="7164360" y="407664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323640" y="260280"/>
            <a:ext cx="836748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ot these points on the coordinate pla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"/>
          <p:cNvPicPr/>
          <p:nvPr/>
        </p:nvPicPr>
        <p:blipFill>
          <a:blip r:embed="rId1"/>
          <a:stretch/>
        </p:blipFill>
        <p:spPr>
          <a:xfrm>
            <a:off x="3419640" y="1268280"/>
            <a:ext cx="5352840" cy="4864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2" name=""/>
          <p:cNvGraphicFramePr/>
          <p:nvPr/>
        </p:nvGraphicFramePr>
        <p:xfrm>
          <a:off x="324000" y="1700280"/>
          <a:ext cx="2952720" cy="792000"/>
        </p:xfrm>
        <a:graphic>
          <a:graphicData uri="http://schemas.openxmlformats.org/drawingml/2006/table">
            <a:tbl>
              <a:tblPr/>
              <a:tblGrid>
                <a:gridCol w="492120"/>
                <a:gridCol w="490320"/>
                <a:gridCol w="493920"/>
                <a:gridCol w="493560"/>
                <a:gridCol w="490680"/>
                <a:gridCol w="492120"/>
              </a:tblGrid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" name="Oval 87"/>
          <p:cNvSpPr/>
          <p:nvPr/>
        </p:nvSpPr>
        <p:spPr>
          <a:xfrm>
            <a:off x="6329520" y="4498920"/>
            <a:ext cx="90360" cy="824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88"/>
          <p:cNvSpPr/>
          <p:nvPr/>
        </p:nvSpPr>
        <p:spPr>
          <a:xfrm>
            <a:off x="6621480" y="3933720"/>
            <a:ext cx="90360" cy="828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89"/>
          <p:cNvSpPr/>
          <p:nvPr/>
        </p:nvSpPr>
        <p:spPr>
          <a:xfrm>
            <a:off x="6897600" y="3381480"/>
            <a:ext cx="90720" cy="824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90"/>
          <p:cNvSpPr/>
          <p:nvPr/>
        </p:nvSpPr>
        <p:spPr>
          <a:xfrm>
            <a:off x="7183440" y="2819520"/>
            <a:ext cx="90360" cy="824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91"/>
          <p:cNvSpPr/>
          <p:nvPr/>
        </p:nvSpPr>
        <p:spPr>
          <a:xfrm>
            <a:off x="7459560" y="2247840"/>
            <a:ext cx="90720" cy="824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12808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w a straight line through the p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3419640" y="1268280"/>
            <a:ext cx="5352840" cy="4864320"/>
          </a:xfrm>
          <a:prstGeom prst="rect">
            <a:avLst/>
          </a:prstGeom>
          <a:ln w="0">
            <a:noFill/>
          </a:ln>
        </p:spPr>
      </p:pic>
      <p:sp>
        <p:nvSpPr>
          <p:cNvPr id="70" name="Oval 5"/>
          <p:cNvSpPr/>
          <p:nvPr/>
        </p:nvSpPr>
        <p:spPr>
          <a:xfrm>
            <a:off x="6329520" y="4498920"/>
            <a:ext cx="90360" cy="824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6"/>
          <p:cNvSpPr/>
          <p:nvPr/>
        </p:nvSpPr>
        <p:spPr>
          <a:xfrm>
            <a:off x="6621480" y="3933720"/>
            <a:ext cx="90360" cy="828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7"/>
          <p:cNvSpPr/>
          <p:nvPr/>
        </p:nvSpPr>
        <p:spPr>
          <a:xfrm>
            <a:off x="6897600" y="3381480"/>
            <a:ext cx="90720" cy="824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8"/>
          <p:cNvSpPr/>
          <p:nvPr/>
        </p:nvSpPr>
        <p:spPr>
          <a:xfrm>
            <a:off x="7183440" y="2819520"/>
            <a:ext cx="90360" cy="824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9"/>
          <p:cNvSpPr/>
          <p:nvPr/>
        </p:nvSpPr>
        <p:spPr>
          <a:xfrm>
            <a:off x="7459560" y="2247840"/>
            <a:ext cx="90720" cy="824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0"/>
          <p:cNvSpPr/>
          <p:nvPr/>
        </p:nvSpPr>
        <p:spPr>
          <a:xfrm flipV="1">
            <a:off x="5819760" y="1495080"/>
            <a:ext cx="2067120" cy="417204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Exerci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6694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ph the following straight lin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 = 3x –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 = 2x +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 = x –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 = -3x +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Object 7"/>
              <p:cNvSpPr txBox="1"/>
              <p:nvPr/>
            </p:nvSpPr>
            <p:spPr>
              <a:xfrm>
                <a:off x="1076400" y="4581360"/>
                <a:ext cx="1514520" cy="99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9" name="Text Box 9"/>
          <p:cNvSpPr/>
          <p:nvPr/>
        </p:nvSpPr>
        <p:spPr>
          <a:xfrm>
            <a:off x="5064120" y="2511360"/>
            <a:ext cx="2701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Look for a relationship between the graphs and their algebraic expressions!!!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mph" presetID="3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animScale>
                                      <p:cBhvr>
                                        <p:cTn id="56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57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5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59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The Gradient-Intercept Form of a Straight 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71600" y="2195640"/>
            <a:ext cx="8113680" cy="195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a linear function is written in the for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 = mx +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m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its gradient and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its y-intercep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What’s the Equat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the following graphs, determine their equ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"/>
          <p:cNvPicPr/>
          <p:nvPr/>
        </p:nvPicPr>
        <p:blipFill>
          <a:blip r:embed="rId1"/>
          <a:stretch/>
        </p:blipFill>
        <p:spPr>
          <a:xfrm>
            <a:off x="1257480" y="406440"/>
            <a:ext cx="6462360" cy="58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8T23:49:26Z</dcterms:created>
  <dc:creator>sgarvey</dc:creator>
  <dc:description/>
  <dc:language>en-US</dc:language>
  <cp:lastModifiedBy>RomaK</cp:lastModifiedBy>
  <dcterms:modified xsi:type="dcterms:W3CDTF">2015-09-04T07:41:46Z</dcterms:modified>
  <cp:revision>22</cp:revision>
  <dc:subject/>
  <dc:title>Graphs of Straight Lines</dc:title>
</cp:coreProperties>
</file>