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image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1C19D-9862-476E-A927-0D4CDBDF2CF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.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enting data to show relationships using char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ph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. 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senting data to show relationships using char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ketch a graph of this equ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½ x – 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ketch a graph of this equation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 = ½ x – 3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type of graph would best show the growth of the pla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science experiment Joey is measuring the growth of a bean plant.  Joey measures the height of the plant every Monday for two month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lin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circl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 bar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box-and-whisker pl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ch type of graph would best show the growth of the plan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a science experiment Joey is measuring the growth of a bean plant.  Joey measures the height of the plant every Monday for two months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.  line grap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.  circle grap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.  bar grap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.  box-and-whisker plo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lin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swer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.  line grap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a stem-and-leaf plot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key reads  “2 l 7 = 270” what numbers would this represent?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l 1 1 3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  31, 31, 33, 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.  301, 301, 303, 3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.  310, 310, 330, 3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.  3010, 3010, 3030, 30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 a stem-and-leaf plot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the key reads  “2 l 7 = 270” what numbers would this represent?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l 1 1 3 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.  31, 31, 33, 3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.  301, 301, 303, 3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.  310, 310, 330, 35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.  3010, 3010, 3030, 305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.  310, 310, 330, 3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.  310, 310, 330, 35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of these Values is not used to create a box-and-whisker plot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min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max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 medi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m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ch of these Values is not used to create a box-and-whisker plot?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.  minim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.  maxim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.  medi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.  m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m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.  m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ate a bar graph with this data on Pro Basketball players and the colleges they attend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eate a bar graph with this data on Pro Basketball players and the colleges they attend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8FEBE-1DED-4B4F-8E6F-94AB48E0B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BA4F0-24D7-4CA0-8931-CD8019CD8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B0A46-07A6-4211-A4BD-020A40408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CE60E-666A-4206-A1AE-1E83B7DAC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A6C54-621B-40DD-ADBA-C48055B9C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30D69-EFF1-4AB5-A29E-9A6DBB54D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E8923-B3E4-41E5-8E5D-505BA3BE4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F7521-4F29-496F-9738-750B25926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EFC79-B298-4D31-BE7D-D940F60F2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AA889-4FBD-4D29-99B5-FAE5E320A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67B8A-4D38-4209-83B2-F9E7944B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1FABF-5C08-43AD-A948-BE552E557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F3373-577D-43C0-A5A5-89AD2FD8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3D8A5-E9FE-413A-8B11-C30BA783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AE41E-CFE5-43CC-A687-12CF767C7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85A1B-84F9-442C-88D2-5F9C004FA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354C9-C51A-46CB-B299-ADED2FE0F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B8281-3B62-4E25-A7B3-FE740AC29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8490C-E454-4744-BE59-3473E157D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C8728-9095-484B-ACB5-7DCD5115D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702DB-A9F3-40DD-A4AA-51375F1D1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C2FE6-C6EB-437D-ADDB-BE085F0A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C31D6-BB6D-4A3E-A0A0-AAEB546D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C267B-C5EF-4D45-A3D3-ADA8C83F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15DDA-3174-412E-877D-CFADD2F800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0F33F-75CD-4B79-B262-A485C93292C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Graphs</a:t>
            </a:r>
            <a:br>
              <a:rPr sz="45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. 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resenting data to show relationships using chart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ketch a graph of this equation: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 = ½ x – 3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371600" y="1219320"/>
          <a:ext cx="5715000" cy="4876560"/>
        </p:xfrm>
        <a:graphic>
          <a:graphicData uri="http://schemas.openxmlformats.org/drawingml/2006/table">
            <a:tbl>
              <a:tblPr/>
              <a:tblGrid>
                <a:gridCol w="571680"/>
                <a:gridCol w="569880"/>
                <a:gridCol w="574560"/>
                <a:gridCol w="569880"/>
                <a:gridCol w="571680"/>
                <a:gridCol w="571320"/>
                <a:gridCol w="569880"/>
                <a:gridCol w="574560"/>
                <a:gridCol w="570240"/>
                <a:gridCol w="571320"/>
              </a:tblGrid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Line 136"/>
          <p:cNvSpPr/>
          <p:nvPr/>
        </p:nvSpPr>
        <p:spPr>
          <a:xfrm>
            <a:off x="1371600" y="4114800"/>
            <a:ext cx="5486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Line 137"/>
          <p:cNvSpPr/>
          <p:nvPr/>
        </p:nvSpPr>
        <p:spPr>
          <a:xfrm flipV="1">
            <a:off x="4191120" y="1828800"/>
            <a:ext cx="0" cy="46483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138"/>
          <p:cNvSpPr/>
          <p:nvPr/>
        </p:nvSpPr>
        <p:spPr>
          <a:xfrm flipV="1">
            <a:off x="2971800" y="4419720"/>
            <a:ext cx="3886200" cy="17524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39"/>
          <p:cNvSpPr/>
          <p:nvPr/>
        </p:nvSpPr>
        <p:spPr>
          <a:xfrm>
            <a:off x="3581280" y="5486400"/>
            <a:ext cx="457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40"/>
          <p:cNvSpPr/>
          <p:nvPr/>
        </p:nvSpPr>
        <p:spPr>
          <a:xfrm>
            <a:off x="5181480" y="4191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41"/>
          <p:cNvSpPr/>
          <p:nvPr/>
        </p:nvSpPr>
        <p:spPr>
          <a:xfrm>
            <a:off x="63244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42"/>
          <p:cNvSpPr/>
          <p:nvPr/>
        </p:nvSpPr>
        <p:spPr>
          <a:xfrm>
            <a:off x="2666880" y="4114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43"/>
          <p:cNvSpPr/>
          <p:nvPr/>
        </p:nvSpPr>
        <p:spPr>
          <a:xfrm>
            <a:off x="4114800" y="1371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44"/>
          <p:cNvSpPr/>
          <p:nvPr/>
        </p:nvSpPr>
        <p:spPr>
          <a:xfrm>
            <a:off x="6781680" y="3886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Which type of graph would best show the growth of the plant?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a science experiment Joey is measuring the growth of a bean plant.  Joey measures the height of the plant every Monday for two month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 line gra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 circle gra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 bar gra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 box-and-whisker p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nswer: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 line gra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On a stem-and-leaf plot,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the key reads  “2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 = 270” what numbers would this represent?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1 1 3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 31, 31, 33, 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.  301, 301, 303, 3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.  310, 310, 330, 3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.  3010, 3010, 3030, 30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.  310, 310, 330, 3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Which of these Values is not used to create a box-and-whisker plot?</a:t>
            </a:r>
            <a:br>
              <a:rPr sz="3500"/>
            </a:b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 minim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 maxim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 med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 m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 m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Create a bar graph with this data on Pro Basketball players and the colleges they attended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019240" y="3352680"/>
          <a:ext cx="5292720" cy="1600200"/>
        </p:xfrm>
        <a:graphic>
          <a:graphicData uri="http://schemas.openxmlformats.org/drawingml/2006/table">
            <a:tbl>
              <a:tblPr/>
              <a:tblGrid>
                <a:gridCol w="1058760"/>
                <a:gridCol w="1057320"/>
                <a:gridCol w="1060560"/>
                <a:gridCol w="1057320"/>
                <a:gridCol w="10587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rt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ast 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st 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uth 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enter 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9" name="Object 6"/>
          <p:cNvGraphicFramePr/>
          <p:nvPr/>
        </p:nvGraphicFramePr>
        <p:xfrm>
          <a:off x="1812960" y="2443320"/>
          <a:ext cx="5638680" cy="35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2960" y="2443320"/>
                    <a:ext cx="5638680" cy="35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21:48:15Z</dcterms:created>
  <dc:creator>ESLL Program Honolulu District</dc:creator>
  <dc:description/>
  <dc:language>en-US</dc:language>
  <cp:lastModifiedBy>RomaK</cp:lastModifiedBy>
  <dcterms:modified xsi:type="dcterms:W3CDTF">2015-09-04T07:41:53Z</dcterms:modified>
  <cp:revision>9</cp:revision>
  <dc:subject/>
  <dc:title>Percent</dc:title>
</cp:coreProperties>
</file>