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BBFD-C97D-4A6D-8D78-DF96CCF623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ing data to show relationships using ch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etch a graph of thi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ype of graph would best show the growth of the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circl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box-and-whisker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stem-and-leaf plo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 1 1 3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31, 31, 33,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301, 301, 303, 3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  3010, 3010, 3030, 30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l 1 1 3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CD40-D02C-4648-A21C-2A4B1E2D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00EF-B8E2-41C8-8BDA-90967EBC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2BFB-8367-4008-B35C-5CF68E95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B73D-6BE1-461F-8D23-64FDF883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1D75-FE6B-49F4-A19E-987AC432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2BCB-D551-4B42-9250-D0C66CF2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0961-BA80-44C2-8C50-CA4E908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4FE4-1447-4AEA-91F5-FA75BED7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A263-E0BB-45D0-B876-E012140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0FC9-4078-4BA6-ACF1-4277B7FF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B3E9-68BD-4E59-8E37-1AD32F85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4A32-F4FD-4D1F-B3DC-97724CA4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154B-001F-4400-AA54-19CDB04D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DE0E-B340-4110-A8E6-4063A909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6F4F-7689-41F5-A1AF-50888E69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44FC-27E0-48C6-8757-F36EBF29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2FFA-066A-4DC8-AA05-72A7F5C3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4F15-6E97-45AC-9166-6B756864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B68A-432C-4E67-A526-A9D50EE0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6D3E-4026-4FFD-AC77-E2E31480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3C636-42B6-4C97-A70D-C631F402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5DD1-5089-4433-9D19-85C9A26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85D1-0654-4886-9EB7-1C7A313A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E86D-7113-49F9-9134-981FAD14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2F7D-FDFD-4AB0-8335-A479DDEA08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F7B9-CB6A-4342-8772-E1456A4DDB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45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71600" y="1219320"/>
          <a:ext cx="5715000" cy="4876560"/>
        </p:xfrm>
        <a:graphic>
          <a:graphicData uri="http://schemas.openxmlformats.org/drawingml/2006/table">
            <a:tbl>
              <a:tblPr/>
              <a:tblGrid>
                <a:gridCol w="571680"/>
                <a:gridCol w="569880"/>
                <a:gridCol w="574560"/>
                <a:gridCol w="569880"/>
                <a:gridCol w="571680"/>
                <a:gridCol w="571320"/>
                <a:gridCol w="569880"/>
                <a:gridCol w="574560"/>
                <a:gridCol w="570240"/>
                <a:gridCol w="5713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36"/>
          <p:cNvSpPr/>
          <p:nvPr/>
        </p:nvSpPr>
        <p:spPr>
          <a:xfrm>
            <a:off x="1371600" y="41148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7"/>
          <p:cNvSpPr/>
          <p:nvPr/>
        </p:nvSpPr>
        <p:spPr>
          <a:xfrm flipV="1">
            <a:off x="4191120" y="1828800"/>
            <a:ext cx="0" cy="4648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8"/>
          <p:cNvSpPr/>
          <p:nvPr/>
        </p:nvSpPr>
        <p:spPr>
          <a:xfrm flipV="1">
            <a:off x="2971800" y="4419720"/>
            <a:ext cx="3886200" cy="175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9"/>
          <p:cNvSpPr/>
          <p:nvPr/>
        </p:nvSpPr>
        <p:spPr>
          <a:xfrm>
            <a:off x="3581280" y="54864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0"/>
          <p:cNvSpPr/>
          <p:nvPr/>
        </p:nvSpPr>
        <p:spPr>
          <a:xfrm>
            <a:off x="5181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1"/>
          <p:cNvSpPr/>
          <p:nvPr/>
        </p:nvSpPr>
        <p:spPr>
          <a:xfrm>
            <a:off x="6324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2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3"/>
          <p:cNvSpPr/>
          <p:nvPr/>
        </p:nvSpPr>
        <p:spPr>
          <a:xfrm>
            <a:off x="41148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4"/>
          <p:cNvSpPr/>
          <p:nvPr/>
        </p:nvSpPr>
        <p:spPr>
          <a:xfrm>
            <a:off x="67816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key reads  “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= 270” what numbers would this represent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1 3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19240" y="3352680"/>
          <a:ext cx="5292720" cy="1600200"/>
        </p:xfrm>
        <a:graphic>
          <a:graphicData uri="http://schemas.openxmlformats.org/drawingml/2006/table">
            <a:tbl>
              <a:tblPr/>
              <a:tblGrid>
                <a:gridCol w="1058760"/>
                <a:gridCol w="1057320"/>
                <a:gridCol w="1060560"/>
                <a:gridCol w="1057320"/>
                <a:gridCol w="10587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812960" y="2443320"/>
          <a:ext cx="56386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443320"/>
                    <a:ext cx="56386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41:53Z</dcterms:modified>
  <cp:revision>9</cp:revision>
  <dc:subject/>
  <dc:title>Percent</dc:title>
</cp:coreProperties>
</file>