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202F-A664-44A3-BE1B-5FA97AA4DA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ing data to show relationships using ch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etch a graph of thi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ype of graph would best show the growth of the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circl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box-and-whisker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stem-and-leaf plo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 1 1 3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31, 31, 33,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301, 301, 303, 3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  3010, 3010, 3030, 30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l 1 1 3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48C6E-386B-46BB-A35B-3AA9DF3C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7560-B9FE-4A11-BBE8-C7D26AB3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4B5A-5CAD-4372-9C87-ABB69892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73478-C37E-42F0-8B23-E1A25E36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386A-17BB-4C47-9373-628321EE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84B6-C44F-4078-B39D-12F70F3B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C630-B306-4F25-87B7-7471D109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C96C-6726-4554-A52E-B3139B9F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9393-3957-4839-8621-D6B5A256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42F7-B39F-4A6C-B9DC-AF48AE4D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F2F1-9A14-4025-8A6A-3EA3823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8D8D-DC14-49C7-A1C1-2AEB0CC1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1758-5437-498B-879F-699F0FD4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141D-E866-4901-9B14-86E8E2D8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CDC4-2F71-446C-9B79-9E04A0FE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9BD8-D55F-4907-B814-CDD8E3A1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4714-1A77-4620-A4DD-F612CD7E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C9A8-02EB-4044-931D-3745DF62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863F-8B3D-4180-AE9E-B86C61A5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5528-1443-48E9-BE60-2F64D2E9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33C5-7202-4CB9-9445-BD550BD5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734E-C758-4539-A825-7061DB12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86C5-2354-484D-BDEF-C038B828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99693-CE3C-4F29-938E-FE2E4B4C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490F-9A82-4F3C-8323-1ECF0A437B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9967-1F49-4C8B-B62C-1ED425FB85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45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71600" y="1219320"/>
          <a:ext cx="5715000" cy="4876560"/>
        </p:xfrm>
        <a:graphic>
          <a:graphicData uri="http://schemas.openxmlformats.org/drawingml/2006/table">
            <a:tbl>
              <a:tblPr/>
              <a:tblGrid>
                <a:gridCol w="571680"/>
                <a:gridCol w="569880"/>
                <a:gridCol w="574560"/>
                <a:gridCol w="569880"/>
                <a:gridCol w="571680"/>
                <a:gridCol w="571320"/>
                <a:gridCol w="569880"/>
                <a:gridCol w="574560"/>
                <a:gridCol w="570240"/>
                <a:gridCol w="57132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36"/>
          <p:cNvSpPr/>
          <p:nvPr/>
        </p:nvSpPr>
        <p:spPr>
          <a:xfrm>
            <a:off x="1371600" y="41148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7"/>
          <p:cNvSpPr/>
          <p:nvPr/>
        </p:nvSpPr>
        <p:spPr>
          <a:xfrm flipV="1">
            <a:off x="4191120" y="1828800"/>
            <a:ext cx="0" cy="4648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38"/>
          <p:cNvSpPr/>
          <p:nvPr/>
        </p:nvSpPr>
        <p:spPr>
          <a:xfrm flipV="1">
            <a:off x="2971800" y="4419720"/>
            <a:ext cx="3886200" cy="175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9"/>
          <p:cNvSpPr/>
          <p:nvPr/>
        </p:nvSpPr>
        <p:spPr>
          <a:xfrm>
            <a:off x="3581280" y="548640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0"/>
          <p:cNvSpPr/>
          <p:nvPr/>
        </p:nvSpPr>
        <p:spPr>
          <a:xfrm>
            <a:off x="5181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1"/>
          <p:cNvSpPr/>
          <p:nvPr/>
        </p:nvSpPr>
        <p:spPr>
          <a:xfrm>
            <a:off x="6324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2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3"/>
          <p:cNvSpPr/>
          <p:nvPr/>
        </p:nvSpPr>
        <p:spPr>
          <a:xfrm>
            <a:off x="411480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4"/>
          <p:cNvSpPr/>
          <p:nvPr/>
        </p:nvSpPr>
        <p:spPr>
          <a:xfrm>
            <a:off x="67816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key reads  “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= 270” what numbers would this represent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 1 3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19240" y="3352680"/>
          <a:ext cx="5292720" cy="1600200"/>
        </p:xfrm>
        <a:graphic>
          <a:graphicData uri="http://schemas.openxmlformats.org/drawingml/2006/table">
            <a:tbl>
              <a:tblPr/>
              <a:tblGrid>
                <a:gridCol w="1058760"/>
                <a:gridCol w="1057320"/>
                <a:gridCol w="1060560"/>
                <a:gridCol w="1057320"/>
                <a:gridCol w="10587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er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812960" y="2443320"/>
          <a:ext cx="56386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443320"/>
                    <a:ext cx="56386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41:53Z</dcterms:modified>
  <cp:revision>9</cp:revision>
  <dc:subject/>
  <dc:title>Percent</dc:title>
</cp:coreProperties>
</file>