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2631-833F-4B77-AE1D-23079E23DC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ing data to show relationships using ch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etch a graph of thi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ype of graph would best show the growth of the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circl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box-and-whisker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stem-and-leaf plo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 1 1 3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31, 31, 33,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301, 301, 303, 3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  3010, 3010, 3030, 30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l 1 1 3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5D1C0-2C8A-4B20-A163-D204912C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197A-F0CC-41DE-849D-FC46A1D4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E17F-8A51-4CB9-90B9-B417D801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F6F5-1775-4D91-9AF9-173B782E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A21E-C617-4FFE-9019-90362813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0CD4-9FFC-4E6C-899D-F37445FE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0D8E-327E-463B-8859-DF9250FB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3BE7-BC17-484E-88FF-E466CA0C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ABCD-946A-4696-9FF8-82E8643D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2725-60F1-4F1E-9567-EA4DF414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8D98-DC28-49BC-BE8E-6147D010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2C1B-BF95-470A-9231-B62B0185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F5FA-FD48-4F35-9BC9-56EC71D0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708B-A53D-4B35-927C-4EF941D4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395E-729A-46D8-B18B-AF3D6162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F249-9F56-443D-8784-2E0E43A6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C473-B528-4ED3-B99C-2DE5F5D8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C2A6-F386-4564-A914-249716DA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1395-B153-43BA-AECD-7DF93050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7E92-1B77-4C9E-B570-146D500E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9B1B-59E1-4FD7-85CB-ADD0FE17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8861-346C-4E01-810E-3F05A41A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ED08-DC31-4BFE-AF37-E2E948D1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C920-E60B-476E-A307-7A11D8D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99B2-5472-4247-9E70-00BD957EEA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0B0F-CC33-4793-AAB8-7666AED676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45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1219320"/>
          <a:ext cx="5715000" cy="4876560"/>
        </p:xfrm>
        <a:graphic>
          <a:graphicData uri="http://schemas.openxmlformats.org/drawingml/2006/table">
            <a:tbl>
              <a:tblPr/>
              <a:tblGrid>
                <a:gridCol w="571680"/>
                <a:gridCol w="569880"/>
                <a:gridCol w="574560"/>
                <a:gridCol w="569880"/>
                <a:gridCol w="571680"/>
                <a:gridCol w="571320"/>
                <a:gridCol w="569880"/>
                <a:gridCol w="574560"/>
                <a:gridCol w="570240"/>
                <a:gridCol w="5713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36"/>
          <p:cNvSpPr/>
          <p:nvPr/>
        </p:nvSpPr>
        <p:spPr>
          <a:xfrm>
            <a:off x="1371600" y="41148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7"/>
          <p:cNvSpPr/>
          <p:nvPr/>
        </p:nvSpPr>
        <p:spPr>
          <a:xfrm flipV="1">
            <a:off x="4191120" y="1828800"/>
            <a:ext cx="0" cy="4648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8"/>
          <p:cNvSpPr/>
          <p:nvPr/>
        </p:nvSpPr>
        <p:spPr>
          <a:xfrm flipV="1">
            <a:off x="2971800" y="4419720"/>
            <a:ext cx="3886200" cy="175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9"/>
          <p:cNvSpPr/>
          <p:nvPr/>
        </p:nvSpPr>
        <p:spPr>
          <a:xfrm>
            <a:off x="3581280" y="54864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0"/>
          <p:cNvSpPr/>
          <p:nvPr/>
        </p:nvSpPr>
        <p:spPr>
          <a:xfrm>
            <a:off x="5181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1"/>
          <p:cNvSpPr/>
          <p:nvPr/>
        </p:nvSpPr>
        <p:spPr>
          <a:xfrm>
            <a:off x="6324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2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3"/>
          <p:cNvSpPr/>
          <p:nvPr/>
        </p:nvSpPr>
        <p:spPr>
          <a:xfrm>
            <a:off x="41148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4"/>
          <p:cNvSpPr/>
          <p:nvPr/>
        </p:nvSpPr>
        <p:spPr>
          <a:xfrm>
            <a:off x="67816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key reads  “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= 270” what numbers would this represent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1 3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9240" y="3352680"/>
          <a:ext cx="5292720" cy="1600200"/>
        </p:xfrm>
        <a:graphic>
          <a:graphicData uri="http://schemas.openxmlformats.org/drawingml/2006/table">
            <a:tbl>
              <a:tblPr/>
              <a:tblGrid>
                <a:gridCol w="1058760"/>
                <a:gridCol w="1057320"/>
                <a:gridCol w="1060560"/>
                <a:gridCol w="1057320"/>
                <a:gridCol w="10587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812960" y="2443320"/>
          <a:ext cx="56386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3320"/>
                    <a:ext cx="56386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41:53Z</dcterms:modified>
  <cp:revision>9</cp:revision>
  <dc:subject/>
  <dc:title>Percent</dc:title>
</cp:coreProperties>
</file>