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7FC8-F600-4ACA-B789-3A889D8376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710-03BF-41A2-8FD5-FB34DCC2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B3C-A08D-46F9-B1F9-75B05DD5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46D-DA2B-4131-83AC-CB72637F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3C4-638C-4C0E-B6C6-78EBF864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85B-4963-47DD-8FD4-C96C807E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6AF-C1F5-4A23-8FA9-E3BE0326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449-0E32-4967-94C9-C5BE0D90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EEB-E0E3-4B4D-BACD-2F415FE4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E34-3B54-439A-9AC2-A976E35D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A5A-5B18-4864-AC1A-2A8297E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096-D81C-494F-8A5E-88C38C22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E81-216F-4F9B-A24F-619A9B06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4328-5DCB-4056-BA26-A55CA61D8FA6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71680" y="228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47640" y="204300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609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rowth and Decay are largely used in: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2895480" y="1457280"/>
            <a:ext cx="335304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conomic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80880" y="3809880"/>
            <a:ext cx="350532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atural Scienc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5029200" y="3886200"/>
            <a:ext cx="365760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ocial Scien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91440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rowth can be modeled by the function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0" y="129528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7"/>
              <p:cNvSpPr txBox="1"/>
              <p:nvPr/>
            </p:nvSpPr>
            <p:spPr>
              <a:xfrm>
                <a:off x="4648320" y="1447920"/>
                <a:ext cx="4252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Text Box 8"/>
          <p:cNvSpPr/>
          <p:nvPr/>
        </p:nvSpPr>
        <p:spPr>
          <a:xfrm>
            <a:off x="457200" y="380988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ile Decay can be modeled by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4572000" y="388620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4648320" y="4038480"/>
                <a:ext cx="42526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91440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(t) represents the amount at a certain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00600" y="1219320"/>
            <a:ext cx="43434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is the initial amoun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14400" y="3809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 = rat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410080" y="3809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 =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6:21:52Z</dcterms:created>
  <dc:creator>Chester Area School</dc:creator>
  <dc:description/>
  <dc:language>en-US</dc:language>
  <cp:lastModifiedBy>RomaK</cp:lastModifiedBy>
  <dcterms:modified xsi:type="dcterms:W3CDTF">2015-09-04T07:41:59Z</dcterms:modified>
  <cp:revision>15</cp:revision>
  <dc:subject/>
  <dc:title>PowerPoint Presentation</dc:title>
</cp:coreProperties>
</file>