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8F4D4-C749-4BC0-B720-6F2144ABF3E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Exponential Growth and Decay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Exponential Growth and Decay are functions which have been widely used to model the behavior of a variety of topics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Growth and Dec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Growth and Decay are functions which have been widely used to model the behavior of a variety of top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Growth and Decay are largely used in: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Economics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Natural Sciences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Social Sciences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th and Decay are largely used 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onom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c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Sc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Growth can be modeled by the function: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While Decay can be modeled by: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th can be modeled by the fun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le Decay can be modeled 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A(t) represents the amount at a certain time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A0 is the initial amount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r = rate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t = time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(t) represents the amount at a certain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0 is the initial am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=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957B-0A5C-40F6-8019-12DBCFC37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C1BA-E880-471A-9543-A20F86DB7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DBCE-8397-4A79-88E6-40384F156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625B-A3A7-44DE-B0C8-30536F921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A604-7ACC-48CC-8F45-93310C51C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EB50-A30B-4765-9D48-1378FA9DD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2AB2-A55F-4507-9AD5-7B4DB9157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3828-CDB3-4FCF-82BD-901A73185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4E08-4E22-4344-8E0A-0718481E3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30A9-0ECA-4311-AA26-3AD5B505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9967-4453-4F8F-8C62-743EBADD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5244-0F9D-4793-AF8E-52BB82F6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cc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cc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E4FE6-0D05-4175-8830-E7412CEFF051}" type="slidenum"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571680" y="22860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Exponential Growth and Decay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647640" y="2043000"/>
            <a:ext cx="7848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Exponential Growth and Decay are functions which have been widely used to model the behavior of a variety of topics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228600" y="6094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Growth and Decay are largely used in:</a:t>
            </a:r>
            <a:endParaRPr b="0" lang="en-US" sz="4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51" name="WordArt 3"/>
          <p:cNvSpPr txBox="1"/>
          <p:nvPr/>
        </p:nvSpPr>
        <p:spPr>
          <a:xfrm>
            <a:off x="2895480" y="1457280"/>
            <a:ext cx="3353040" cy="19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conomic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WordArt 4"/>
          <p:cNvSpPr txBox="1"/>
          <p:nvPr/>
        </p:nvSpPr>
        <p:spPr>
          <a:xfrm>
            <a:off x="380880" y="3809880"/>
            <a:ext cx="3505320" cy="184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Natural Science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WordArt 5"/>
          <p:cNvSpPr txBox="1"/>
          <p:nvPr/>
        </p:nvSpPr>
        <p:spPr>
          <a:xfrm>
            <a:off x="5029200" y="3886200"/>
            <a:ext cx="3657600" cy="193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309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Social Scienc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533520" y="914400"/>
            <a:ext cx="3657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Growth can be modeled by the function: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4572000" y="1295280"/>
            <a:ext cx="4343400" cy="1447920"/>
          </a:xfrm>
          <a:prstGeom prst="rect">
            <a:avLst/>
          </a:prstGeom>
          <a:solidFill>
            <a:srgbClr val="ff0066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7"/>
              <p:cNvSpPr txBox="1"/>
              <p:nvPr/>
            </p:nvSpPr>
            <p:spPr>
              <a:xfrm>
                <a:off x="4648320" y="1447920"/>
                <a:ext cx="425268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r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7" name="Text Box 8"/>
          <p:cNvSpPr/>
          <p:nvPr/>
        </p:nvSpPr>
        <p:spPr>
          <a:xfrm>
            <a:off x="457200" y="3809880"/>
            <a:ext cx="3657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While Decay can be modeled by: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4572000" y="3886200"/>
            <a:ext cx="4343400" cy="1447920"/>
          </a:xfrm>
          <a:prstGeom prst="rect">
            <a:avLst/>
          </a:prstGeom>
          <a:solidFill>
            <a:srgbClr val="ff0066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10"/>
              <p:cNvSpPr txBox="1"/>
              <p:nvPr/>
            </p:nvSpPr>
            <p:spPr>
              <a:xfrm>
                <a:off x="4648320" y="4038480"/>
                <a:ext cx="425268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r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228600" y="914400"/>
            <a:ext cx="4343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(t) represents the amount at a certain time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800600" y="1219320"/>
            <a:ext cx="434340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is the initial amount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14400" y="380988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 = rate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410080" y="380988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t = time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3T16:21:52Z</dcterms:created>
  <dc:creator>Chester Area School</dc:creator>
  <dc:description/>
  <dc:language>en-US</dc:language>
  <cp:lastModifiedBy>RomaK</cp:lastModifiedBy>
  <dcterms:modified xsi:type="dcterms:W3CDTF">2015-09-04T07:41:59Z</dcterms:modified>
  <cp:revision>15</cp:revision>
  <dc:subject/>
  <dc:title>PowerPoint Presentation</dc:title>
</cp:coreProperties>
</file>