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B9F5-1A06-4DDD-A589-012FF99BA4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318-2ABC-40FA-A037-C87A0E1A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A68-990C-4141-8547-7CADD749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51B-2FDC-4DB9-A614-CD528179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8F5-CB2D-43BF-9EA0-B94E28E4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CACF-6297-4570-AD27-DBA7648E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9521-89E2-4182-A508-212CA27F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29B3-6B71-48F8-A179-94AA467E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0C3A-0639-4443-B1E6-D3AEF07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45A1-C65C-4554-941D-7A73DEA8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C5A1-E077-4FA9-9FFB-4EB7F448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6F21-9979-4E6C-8214-A3318C61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6A9-8763-4988-81E8-11E9F229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E141-369B-4A7D-A9AE-B32E00F6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1DEF-F855-4871-9D35-152CE0D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4A3C-5BE1-4ED6-BBFD-B22776D1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3C0A-7C4C-4049-B259-074D2BC9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A8C0-1BEB-42BD-8A37-E2128BE3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1F2-F35F-4AFB-8D84-78BF077D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954-D403-409F-AAFD-0F35906D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123-44F3-4F1A-A53D-4DBD769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ED1-AFB9-4FC6-8CE6-8B44DC89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39B-76E4-4299-BC6E-644B791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E31-17CB-41FB-93F9-3AB9F72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D0F-6AA9-4549-B18B-B9ABA3E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EC4-F062-409C-969A-4D4AEA1552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67A5-5B9C-4525-88DE-A9888DEDB5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RomaK</cp:lastModifiedBy>
  <dcterms:modified xsi:type="dcterms:W3CDTF">2015-09-04T07:42:07Z</dcterms:modified>
  <cp:revision>8</cp:revision>
  <dc:subject/>
  <dc:title>Integers</dc:title>
</cp:coreProperties>
</file>