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F81-D4F2-4A01-AE0E-E93E438147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71B-7022-47FF-AC93-A8FB01A1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4EB-EEDB-4D52-BCC0-D1BF1A2E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DBC-70B9-4975-B827-AFB065D5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072-99DE-4547-BE56-4971E42F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0BC4-A362-4225-AEEA-146E5F91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6785-7ED6-47AD-BE51-5CA70E95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5CE1-71B3-4E1B-9F78-1C041DDD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1075-1999-4CB5-9F67-8DEE8A8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AE0D-802D-4FFE-A210-024401CE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E298-867C-4950-AB19-F28210EF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BC79-087C-4222-8F2D-FEE92E8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826-F871-40F8-838D-2030CDEB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BEBF-F1C8-412B-83CA-C9B31A91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D833-1001-466C-9683-9B6A995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FF46-AAEA-46C6-8034-76AAFE37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11EA-5DEA-4ABB-B6FC-0939D796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BDB3-DD6C-4702-A907-D776BD0F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C05-57ED-4F47-A674-21A293A8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D62-537B-489C-82DA-EBC005C1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0BB-28D5-4A31-99D6-DF79315F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AE3-5106-437F-917B-C87FD42B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6C8-8A5D-4453-A5D2-00CD18A7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CC8-1C88-4D29-9C48-67A521F3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A94-C882-431F-9BA1-2B21797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FC9-939B-4852-B634-13A10486A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5475-4666-4F6F-91C7-20B3D0C3C9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RomaK</cp:lastModifiedBy>
  <dcterms:modified xsi:type="dcterms:W3CDTF">2015-09-04T07:42:07Z</dcterms:modified>
  <cp:revision>8</cp:revision>
  <dc:subject/>
  <dc:title>Integers</dc:title>
</cp:coreProperties>
</file>