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2253-9897-46E1-9C10-DD3244A0B7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the rules for 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whole numbers and their oppo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erations with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rac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ication of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283-7603-4409-9C8E-CAF3B4DD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32B-7C5D-47E9-B910-922E3E7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C1C-4A6F-4369-A135-4F100374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BBD-5A7E-4310-8EFB-B140BB14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48AD-F816-4E86-AF17-95E687BE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ACB-F0BA-4B91-A279-14F99F91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439-0118-40B8-B836-9CC49A6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90DA-0FE2-4465-A296-6C5C3D8E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980-6356-402C-9337-6C61D9C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EAD4-DDC3-4452-8690-6EAA596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0647-CA9D-427A-855F-6E4A3F72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03F-E08D-4131-9F67-5C946C4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F08-72E3-4F5B-97EF-14F44E6D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EE03-8714-4EB8-A1FC-F0C3424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305-C330-444F-85A5-4FEDBF7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EC90-B872-46C9-BF90-8B94B9CA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666-75CA-479E-8E0B-B444D8F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4D2-02E3-43EF-ACEF-0E34ADE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D6B-C7E0-4787-B899-785191F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0AA-5AC7-46B6-B9EA-AE78DD37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040-A992-41ED-8BE5-BCCCFD8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B0A-AA3A-4AE6-8756-559847B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6BD-17C7-4364-B9FE-DE5BA0B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87F-2877-4501-9522-B6BA251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3AC7-BCF9-4877-A776-BD28B8828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37D-86B1-42E9-BBA1-8BBFC69F8E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RomaK</cp:lastModifiedBy>
  <dcterms:modified xsi:type="dcterms:W3CDTF">2015-09-04T07:42:07Z</dcterms:modified>
  <cp:revision>8</cp:revision>
  <dc:subject/>
  <dc:title>Integers</dc:title>
</cp:coreProperties>
</file>