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5851-4063-4BDA-97E6-B8CEF33B06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CBD-D359-4BB1-84CB-9776A9AF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B73-356F-44CA-9211-E0F9C3E5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B51-F310-4045-A561-7E9F609D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CB2-7C3B-427E-8EA5-00A3703B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4B9F-A747-4DCA-A0F2-A738623D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B2C8-98CD-4314-A6B3-280D2603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D7E1-700D-4845-B8C5-5A0E2253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44F8-29B7-4F06-A8F5-578870DD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329E-842A-4EBC-8FF2-40EEABD4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5346-8672-4590-8D1E-3E81DFF7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EFB1-2A11-4CAC-8D77-ECEBCB29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1EC-0CEA-455B-93EF-46D6C717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BA99-8AAE-4265-BB8A-466BD894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EA91-58AF-4DEE-9985-DA1890AC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CF5E-945F-4F64-9AC3-D71FA333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F4EC-8864-4891-A3F0-C3D9D353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8AE3-57C3-481F-84CE-543382C8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185-BB61-4627-BA95-B7A03A1E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DBB-1713-4AAA-8304-B59ADD19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2E8-3E7A-4A9C-AD84-7CF9C5AA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AAD-5BE5-4BFF-8204-937CB20B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72F-31C9-4B66-9D23-6164F1FE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E3D-7C26-401B-B34F-772800C2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360-9D0F-4474-AD23-BBB4909A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49F9-9482-422E-B91A-A04F7361AD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4FFA-9D94-451F-9F27-486A25CD4B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RomaK</cp:lastModifiedBy>
  <dcterms:modified xsi:type="dcterms:W3CDTF">2015-09-04T07:42:07Z</dcterms:modified>
  <cp:revision>8</cp:revision>
  <dc:subject/>
  <dc:title>Integers</dc:title>
</cp:coreProperties>
</file>