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BB38-5EFA-4E8E-A7AA-E330E45974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296-2C85-446B-93CC-88255748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85A-C1BB-463D-9443-2F9346BF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286-2832-42C9-8E0D-91D7F80D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716-978F-43DA-AEB9-B232833D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B872-67A9-4945-B5A2-4EF55A57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2D90-22AC-4F70-A283-DD73C1B4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C729-11E1-4E50-AF5A-320ED77C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3798-0EAB-45B9-8E84-241A6422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960B-3C1C-4A23-9343-6D277E50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57DE-AE17-423A-A3EB-B5EC6537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C86E-ADC2-4DB3-B831-BAB12FA9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3DC-16F2-4FA3-BA04-263C84CB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FB03-DCAD-4BDA-BD5E-238B7B8C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37CD-2D44-4D28-994E-9EEAF3E2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6081-6869-4A01-980E-D6FBB071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F5DA-8253-4F20-A9DC-AE83ADB8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826F-9E6A-4363-90B0-3D6F62ED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C24-B729-415C-9D27-E5F9DC15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12E-EAEC-47A6-9CDC-328E9553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3D0-EEED-4DE0-B2F6-0342AE7A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BC1-8E02-4046-9731-9524A9B9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787-2F13-4DA7-AA9A-2CB9068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DD9-FA1C-40E7-BD56-D9749AB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50C-347B-41EF-B366-C5842EB6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F269-2250-4D46-9586-57513DAD5C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165C-9A56-47CA-A032-48F658915C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RomaK</cp:lastModifiedBy>
  <dcterms:modified xsi:type="dcterms:W3CDTF">2015-09-04T07:42:07Z</dcterms:modified>
  <cp:revision>8</cp:revision>
  <dc:subject/>
  <dc:title>Integers</dc:title>
</cp:coreProperties>
</file>