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9.wmf" ContentType="image/x-wmf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3.wmf" ContentType="image/x-wmf"/>
  <Override PartName="/ppt/media/image2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wmf" ContentType="image/x-wmf"/>
  <Override PartName="/ppt/media/image1.jpeg" ContentType="image/jpeg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71F8A-648F-478B-A0B6-2D85F8E941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gth a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ar 7 Ma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squares, rectangles and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square = side × s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s ×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s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rectangle = length × bread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l ×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triangle = ½ × base × he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½ × b × 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What is the area of this squa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= s ×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.2 × 3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24 c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What is the area of this rectang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= l × b 6 cm = 60 m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60 ×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00 m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a Triang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Find the area of this triang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triangle = ½ × b × 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½ × 8 ×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24 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: The length of 7 m was not required to find this triangle’s are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Find the area of this triang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triangle = ½ × b × 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½ × 4.2 ×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6.3 c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s of composite sha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area of this shap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hod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shape = area of rectangle Y + area of square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(6 × 2) + (3 × 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2 + 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21 c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hod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can also be done by subtracting are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shape = area of rectangle S − area of square 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6 × 5 − 3 ×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0 − 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21 c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bout this shaded are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purple shape = area of big rectangle − area of small rectang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(75 × 45) − (32 × 2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375 − 76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2607 m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shapes can you se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 the shape into 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angle and a rectang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shape = area of rectangle + area of triang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(16 × 14) + (½ × 14 × 1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224 + 9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22 c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4c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= ½b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8c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Large Are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hectare is about the size of 2 football fie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hectare = (100 × 100) 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ha = 10 000 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quare kilometre is a square 1km by 1k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km2 = 1000m x 1000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 000 000 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0 hectares (h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ature reserve has an area of 9 577 000 000 m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What is its area in hectares? b What is its area in square kilometr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Area of reserve = 9 577 000 000 m2 (1ha = 10000m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(9 577 000 000 ÷ 10 000) h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957 700 h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rea of the reserve is 957 700 hecta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 Area of reserve = 9 577 000 000 m2 (1 km2 = 1 000 000m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(9 577 000 000 ÷ 1 000 000) k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9577 k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rea of the reserve is 9577 square kilomet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easur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its of accurac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ccuracy of a measurement is how close that measurement is to the true valu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restricted or limited by the accuracy of the measuring instru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uler is marked in centimetres, so any length measured with it can only be given to the nearest centimet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it of Accura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each of these measuring scales, state the size of one unit on the scale and state the limit of accura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ize of one unit is 1 kg. The limits of accuracy are ±0.5 × 1 kg = ±0.5 k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ize of one unit is 5 mL. The limits of accuracy are ±0.5 × 5 mL = ±2.5 m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rea of a Shape is the Amount of Surface that is Enclosed by the sha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use grid paper to determine size of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= 4c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= 3 squares + ½ square + ½ squar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= 4 cm 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ting units of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cm = 10 m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cm2 = 10 × 10 mm2 = 100 m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double the number of zero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 = 100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2 = 100 × 100 cm2 = 10 000 c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double the number of zero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 = 1000 m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2 = 1000 × 1000 mm = 1 000 000 m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double the number of zero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sions of Un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cm2 = 100m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m2 = 10 000c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m2 = 1 000 000m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stigation of Area of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right-angled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will need 1-cm grid pap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On your grid paper, draw a rectangle 6 cm by 4 c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 Cut the rectangle in half along a diagonal. What shape have you mad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 Area of rectangle = 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c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What is the area of each triang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you notice regarding the area of the triangle and the area of the rectang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8179-50E8-4C35-A8E5-70C9E75AC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DFE7-F0DD-456F-8BE4-EF27B67D6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6256-CB00-48C6-9EFB-0AD617A5D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7D39-89AC-42F3-84D9-8568E052B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65CE-C92F-4813-9FE0-BB211935D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48B7-4EE9-404E-B1D0-84F0C5FED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E247-5225-4825-AC63-DD0774A84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204C-6F03-488F-83A1-F1986DC9F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2FFB-9BD7-410E-9AD0-9E8386775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D13F-E810-4AE0-8F09-78A3D265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1D36-A3DB-4473-BE30-C128628A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06E4-9697-4917-857B-06E2D644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1D340-7EEE-49A1-8DCB-7E76FCC24A3F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Length and A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Year 7 Ma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Area of squares, rectangles and tri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Area of square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side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AU" sz="2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1" i="1" lang="en-AU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AU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Area of rectangle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length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bread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AU" sz="28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1" i="1" lang="en-AU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Area of triangle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 ½ ×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base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h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 ½ × </a:t>
            </a:r>
            <a:r>
              <a:rPr b="1" i="1" lang="en-AU" sz="2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1" i="1" lang="en-AU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6589800" y="1916280"/>
            <a:ext cx="1727280" cy="1295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2"/>
          <a:stretch/>
        </p:blipFill>
        <p:spPr>
          <a:xfrm>
            <a:off x="6443640" y="3933720"/>
            <a:ext cx="2232000" cy="1079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"/>
          <p:cNvPicPr/>
          <p:nvPr/>
        </p:nvPicPr>
        <p:blipFill>
          <a:blip r:embed="rId3"/>
          <a:stretch/>
        </p:blipFill>
        <p:spPr>
          <a:xfrm>
            <a:off x="6227640" y="5472000"/>
            <a:ext cx="280836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hat is the area of this squa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rea =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3.2 × 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1024 cm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hat is the area of this rectang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rea =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6 cm = 60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60 ×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300 mm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6372360" y="1989000"/>
            <a:ext cx="2087280" cy="1557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"/>
          <p:cNvPicPr/>
          <p:nvPr/>
        </p:nvPicPr>
        <p:blipFill>
          <a:blip r:embed="rId2"/>
          <a:stretch/>
        </p:blipFill>
        <p:spPr>
          <a:xfrm>
            <a:off x="6141960" y="4508640"/>
            <a:ext cx="2317680" cy="12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Area of a Tri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nd the area of this triang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rea of triangle = ½ ×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½ × 8 ×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24 m</a:t>
            </a:r>
            <a:r>
              <a:rPr b="0" lang="en-A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Note: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length of 7 m was not required to find this triangle’s a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nd the area of this triang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rea of triangle = ½ ×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½ × 4.2 ×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6.3 cm</a:t>
            </a:r>
            <a:r>
              <a:rPr b="0" lang="en-A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6573960" y="1546200"/>
            <a:ext cx="2174760" cy="1811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2"/>
          <a:stretch/>
        </p:blipFill>
        <p:spPr>
          <a:xfrm>
            <a:off x="6443640" y="4581360"/>
            <a:ext cx="22320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reas of composite sha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area of this sha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od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a of shape = area of rectangle Y + area of square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(6 × 2) + (3 ×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12 +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21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6572160" y="1071720"/>
            <a:ext cx="2500560" cy="2000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6572160" y="4286160"/>
            <a:ext cx="242892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thod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an also be done by subtracting ar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a of shape = area of rectangle S − area of squar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6 × 5 − 3 ×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30 −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21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5214960" y="4000680"/>
            <a:ext cx="328608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What about this shaded are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42920" y="1599840"/>
            <a:ext cx="87868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a of purple shape = area of big rectangle − area of small rectan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(75 × 45) − (32 × 2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3375 − 76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2607 m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2286000" y="1214280"/>
            <a:ext cx="467676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285840" y="500040"/>
            <a:ext cx="840096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What shapes can you s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e the shape into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angle and a rectang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a of shape = area of rectangle + area of trian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(16 × 14) + (½ × 14 × 1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224 + 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322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6000840" y="214200"/>
            <a:ext cx="2786040" cy="2710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2"/>
          <a:stretch/>
        </p:blipFill>
        <p:spPr>
          <a:xfrm>
            <a:off x="5715000" y="4143240"/>
            <a:ext cx="3276720" cy="2428920"/>
          </a:xfrm>
          <a:prstGeom prst="rect">
            <a:avLst/>
          </a:prstGeom>
          <a:ln w="0">
            <a:noFill/>
          </a:ln>
        </p:spPr>
      </p:pic>
      <p:sp>
        <p:nvSpPr>
          <p:cNvPr id="102" name="TextBox 5"/>
          <p:cNvSpPr/>
          <p:nvPr/>
        </p:nvSpPr>
        <p:spPr>
          <a:xfrm>
            <a:off x="6500880" y="557208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c00000"/>
                </a:solidFill>
                <a:latin typeface="Arial"/>
              </a:rPr>
              <a:t>224cm</a:t>
            </a:r>
            <a:r>
              <a:rPr b="1" lang="en-AU" sz="1800" spc="-1" strike="noStrike" baseline="30000">
                <a:solidFill>
                  <a:srgbClr val="c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6"/>
          <p:cNvSpPr/>
          <p:nvPr/>
        </p:nvSpPr>
        <p:spPr>
          <a:xfrm>
            <a:off x="7572240" y="4284720"/>
            <a:ext cx="1285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c00000"/>
                </a:solidFill>
                <a:latin typeface="Arial"/>
              </a:rPr>
              <a:t>A = ½b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7"/>
          <p:cNvSpPr/>
          <p:nvPr/>
        </p:nvSpPr>
        <p:spPr>
          <a:xfrm>
            <a:off x="6369480" y="4357800"/>
            <a:ext cx="83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c00000"/>
                </a:solidFill>
                <a:latin typeface="Arial"/>
              </a:rPr>
              <a:t>98cm</a:t>
            </a:r>
            <a:r>
              <a:rPr b="1" lang="en-AU" sz="1800" spc="-1" strike="noStrike" baseline="30000">
                <a:solidFill>
                  <a:srgbClr val="c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Measuring Large A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1 hectare is about the size of 2 football fi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1 hectare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(100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100) m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1 ha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10 000 m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1 square kilometre is a square 1km by 1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1 km2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1000m x 1000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1 000 000 m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= 100 hectares (h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6804000" y="4695840"/>
            <a:ext cx="2282760" cy="1901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"/>
          <p:cNvPicPr/>
          <p:nvPr/>
        </p:nvPicPr>
        <p:blipFill>
          <a:blip r:embed="rId2"/>
          <a:stretch/>
        </p:blipFill>
        <p:spPr>
          <a:xfrm>
            <a:off x="6840360" y="1700280"/>
            <a:ext cx="24847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 nature reserve has an area of 9 577 000 000 m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hat is its area in hectares? 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hat is its area in square kilometr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rea of reserve = 9 577 000 000 m</a:t>
            </a:r>
            <a:r>
              <a:rPr b="0" lang="en-A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(1ha = 10000m</a:t>
            </a:r>
            <a:r>
              <a:rPr b="0" lang="en-A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(9 577 000 000 ÷ 10 000) 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957 700 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area of the reserve is 957 700 hecta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rea of reserve = 9 577 000 000 m2 (1 km</a:t>
            </a:r>
            <a:r>
              <a:rPr b="0" lang="en-AU" sz="2400" spc="-1" strike="noStrike" baseline="30000">
                <a:solidFill>
                  <a:srgbClr val="000000"/>
                </a:solidFill>
                <a:latin typeface="Arial"/>
              </a:rPr>
              <a:t>2 =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1 000 000m</a:t>
            </a:r>
            <a:r>
              <a:rPr b="0" lang="en-A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(9 577 000 000 ÷ 1 000 000) km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9577 km</a:t>
            </a:r>
            <a:r>
              <a:rPr b="0" lang="en-A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area of the reserve is 9577 square kilomet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Measu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http://becauseican.co.za/wp-content/uploads/2008/04/ruler_0_10.jpg"/>
          <p:cNvPicPr/>
          <p:nvPr/>
        </p:nvPicPr>
        <p:blipFill>
          <a:blip r:embed="rId1"/>
          <a:stretch/>
        </p:blipFill>
        <p:spPr>
          <a:xfrm>
            <a:off x="826920" y="2060640"/>
            <a:ext cx="6985080" cy="123516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5"/>
          <p:cNvSpPr/>
          <p:nvPr/>
        </p:nvSpPr>
        <p:spPr>
          <a:xfrm>
            <a:off x="3768840" y="1373040"/>
            <a:ext cx="155520" cy="687600"/>
          </a:xfrm>
          <a:prstGeom prst="downArrow">
            <a:avLst>
              <a:gd name="adj1" fmla="val 50000"/>
              <a:gd name="adj2" fmla="val 110532"/>
            </a:avLst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"/>
          <p:cNvPicPr/>
          <p:nvPr/>
        </p:nvPicPr>
        <p:blipFill>
          <a:blip r:embed="rId2"/>
          <a:stretch/>
        </p:blipFill>
        <p:spPr>
          <a:xfrm>
            <a:off x="1403280" y="4508640"/>
            <a:ext cx="6048360" cy="113004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7"/>
          <p:cNvSpPr/>
          <p:nvPr/>
        </p:nvSpPr>
        <p:spPr>
          <a:xfrm>
            <a:off x="4703760" y="4110120"/>
            <a:ext cx="155520" cy="687240"/>
          </a:xfrm>
          <a:prstGeom prst="downArrow">
            <a:avLst>
              <a:gd name="adj1" fmla="val 50000"/>
              <a:gd name="adj2" fmla="val 110475"/>
            </a:avLst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Limits of accurac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accuracy of a measurement 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s how close that measurement is to the true valu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his is restricted or limited by the accuracy of the measuring instru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he ruler is marked in centimetres, so any length measured with it can only be given to the nearest centimet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5508720" y="5229360"/>
            <a:ext cx="352728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Limit of Accura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84358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01480" indent="-501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For each of these measuring scales, state the size of one unit on the scale and state the limit of accura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size of one unit is 1 kg. The limits of accuracy are ±0.5 × 1 kg = ±0.5 k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size of one unit is 5 mL. The limits of accuracy are ±0.5 × 5 mL = ±2.5 m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1332000" y="2517840"/>
            <a:ext cx="640872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Area</a:t>
            </a: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he Area of a Shape is the Amount of Surface that is Enclosed by the sh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611280" y="3030480"/>
            <a:ext cx="7848360" cy="28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an use grid paper to determine size of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rea = 4cm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rea = 3 squares + ½ square + ½ square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         = 4 cm 2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179280" y="2421000"/>
            <a:ext cx="3816360" cy="244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5675400" y="2492280"/>
            <a:ext cx="24256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Converting units of a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39840" y="1341360"/>
            <a:ext cx="848016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1 cm = 10 m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1 cm2 = 10 × 10 mm2 = </a:t>
            </a:r>
            <a:r>
              <a:rPr b="1" lang="en-AU" sz="2600" spc="-1" strike="noStrike">
                <a:solidFill>
                  <a:srgbClr val="cc0000"/>
                </a:solidFill>
                <a:latin typeface="Arial"/>
              </a:rPr>
              <a:t>100 mm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(double the number of zero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1 m = 100 c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1 m2 = 100 × 100 cm2 = </a:t>
            </a:r>
            <a:r>
              <a:rPr b="1" lang="en-AU" sz="2600" spc="-1" strike="noStrike">
                <a:solidFill>
                  <a:srgbClr val="cc0000"/>
                </a:solidFill>
                <a:latin typeface="Arial"/>
              </a:rPr>
              <a:t>10 000 cm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(double the number of zero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1 m = 1000 m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1 m2 = 1000 × 1000 mm = </a:t>
            </a:r>
            <a:r>
              <a:rPr b="1" lang="en-AU" sz="2600" spc="-1" strike="noStrike">
                <a:solidFill>
                  <a:srgbClr val="cc0000"/>
                </a:solidFill>
                <a:latin typeface="Arial"/>
              </a:rPr>
              <a:t>1 000 000 mm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(double the number of zero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7113600" y="1844640"/>
            <a:ext cx="21384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Conversions of Un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92360" y="1773000"/>
            <a:ext cx="54720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cc0000"/>
                </a:solidFill>
                <a:latin typeface="Arial"/>
              </a:rPr>
              <a:t>1cm</a:t>
            </a:r>
            <a:r>
              <a:rPr b="1" lang="en-AU" sz="3600" spc="-1" strike="noStrike" baseline="30000">
                <a:solidFill>
                  <a:srgbClr val="cc0000"/>
                </a:solidFill>
                <a:latin typeface="Arial"/>
              </a:rPr>
              <a:t>2</a:t>
            </a:r>
            <a:r>
              <a:rPr b="1" lang="en-AU" sz="3600" spc="-1" strike="noStrike">
                <a:solidFill>
                  <a:srgbClr val="cc0000"/>
                </a:solidFill>
                <a:latin typeface="Arial"/>
              </a:rPr>
              <a:t> = 100mm</a:t>
            </a:r>
            <a:r>
              <a:rPr b="1" lang="en-AU" sz="3600" spc="-1" strike="noStrike" baseline="30000">
                <a:solidFill>
                  <a:srgbClr val="cc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cc0000"/>
                </a:solidFill>
                <a:latin typeface="Arial"/>
              </a:rPr>
              <a:t>1m</a:t>
            </a:r>
            <a:r>
              <a:rPr b="1" lang="en-AU" sz="3600" spc="-1" strike="noStrike" baseline="30000">
                <a:solidFill>
                  <a:srgbClr val="cc0000"/>
                </a:solidFill>
                <a:latin typeface="Arial"/>
              </a:rPr>
              <a:t>2</a:t>
            </a:r>
            <a:r>
              <a:rPr b="1" lang="en-AU" sz="3600" spc="-1" strike="noStrike">
                <a:solidFill>
                  <a:srgbClr val="cc0000"/>
                </a:solidFill>
                <a:latin typeface="Arial"/>
              </a:rPr>
              <a:t> = 10 000cm</a:t>
            </a:r>
            <a:r>
              <a:rPr b="1" lang="en-AU" sz="3600" spc="-1" strike="noStrike" baseline="30000">
                <a:solidFill>
                  <a:srgbClr val="cc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cc0000"/>
                </a:solidFill>
                <a:latin typeface="Arial"/>
              </a:rPr>
              <a:t>1m</a:t>
            </a:r>
            <a:r>
              <a:rPr b="1" lang="en-AU" sz="2800" spc="-1" strike="noStrike" baseline="30000">
                <a:solidFill>
                  <a:srgbClr val="cc0000"/>
                </a:solidFill>
                <a:latin typeface="Arial"/>
              </a:rPr>
              <a:t>2</a:t>
            </a:r>
            <a:r>
              <a:rPr b="1" lang="en-AU" sz="3600" spc="-1" strike="noStrike">
                <a:solidFill>
                  <a:srgbClr val="cc0000"/>
                </a:solidFill>
                <a:latin typeface="Arial"/>
              </a:rPr>
              <a:t> = 1 000 000mm</a:t>
            </a:r>
            <a:r>
              <a:rPr b="1" lang="en-AU" sz="3600" spc="-1" strike="noStrike" baseline="30000">
                <a:solidFill>
                  <a:srgbClr val="cc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Investigation of Area of Tri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Area of right-angled triang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You will need 1-cm grid pap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On your grid paper, draw a rectangle 6 cm by 4 c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ut the rectangle in half along a diagonal. What shape have you ma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rea of rectangle = 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= cm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hat is the area of each triang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hat do you notice regarding the area of the triangle and the area of the rectang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6T23:01:24Z</dcterms:created>
  <dc:creator>fshanks</dc:creator>
  <dc:description/>
  <dc:language>en-US</dc:language>
  <cp:lastModifiedBy>RomaK</cp:lastModifiedBy>
  <dcterms:modified xsi:type="dcterms:W3CDTF">2015-09-04T07:42:28Z</dcterms:modified>
  <cp:revision>17</cp:revision>
  <dc:subject/>
  <dc:title>Length and Area</dc:title>
</cp:coreProperties>
</file>