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9C1D-FA33-4A1B-8521-EE561EE754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 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a + b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r - 2s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+ x =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 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a + b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r - 2s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+ x =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nd 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 are variables that you put into the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 are variables that you solv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nd 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 are variables that you put into the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 are variables that you solv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2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equation above, y has to b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it is the variable that is being solv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2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equation above, y has to b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it is the variable that is being solv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x 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solved for y, then x is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dered pair would then be written as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x 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solved for y, then x is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dered pair would then be written as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r , s ) is similar to ( s , 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/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r , s ) is similar to ( s , 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/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said before, there are many possible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more than one solution, we use a Table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said before, there are many possible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more than one solution, we use a Table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5C07-A385-4E04-BFA6-E901AE75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5F3F-FA9B-45B0-87EA-3ACE7A61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67C8-773E-4DC5-9AE9-6DF8EBA5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533C-A90E-4A88-B9C7-311EBE2C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AED9-F483-4BC2-A8A2-AA9DDFC7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3DBC-DD2F-41B1-ACBF-6843F53C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994F-10C2-47D5-9536-2231E4FF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A6D7-536D-4D86-930F-301AD8DF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B0FD-A220-4D6A-9F18-82F7D977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4E3C-496D-4BBC-BAA8-5AC03B1F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A327-7A67-47AA-9EE7-DB15977D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71CF-B5AF-4396-BCA0-28D52353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E501-D776-4F63-9F98-244A240B3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095560" y="45720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inear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43080" y="246852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676520" y="76212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ass Exampl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2133720" y="2286000"/>
            <a:ext cx="48765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a + b =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r - 2s =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 + x = 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333440" y="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ependent and Dependent Vari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1905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dependent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952880" y="144792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ependent variables are variables that you put into the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0" y="3886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pendent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952880" y="342900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pendent variables are variables that you solve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0" y="3657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981080" y="38088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 = 2x -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17524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ing the equation above, y has to be th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0" y="4038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638360" y="4038480"/>
            <a:ext cx="750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it is the variable that is being solved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28600" y="22860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epen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85800" y="53352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3429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800280" y="685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 = 3x -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47640" y="19051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we solved for y, then x is the independent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00280" y="41148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ordered pair would then be written as ( x , y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2286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0" y="37339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 r , s ) is similar to ( s , r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t congruent/eq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419040" y="91440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28600" y="42670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3729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s said before, there are many possible ordered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0" y="26589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o find more than one solution, we use a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able of Val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543480" y="4343400"/>
          <a:ext cx="2057400" cy="207324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3T19:49:02Z</dcterms:created>
  <dc:creator>Chester Area School</dc:creator>
  <dc:description/>
  <dc:language>en-US</dc:language>
  <cp:lastModifiedBy>RomaK</cp:lastModifiedBy>
  <dcterms:modified xsi:type="dcterms:W3CDTF">2015-09-04T07:42:34Z</dcterms:modified>
  <cp:revision>16</cp:revision>
  <dc:subject/>
  <dc:title>PowerPoint Presentation</dc:title>
</cp:coreProperties>
</file>