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918B-AD0C-434C-A17A-3E9A13EA5D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DE2-856D-4BD0-B372-593998BF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92C-18FE-480A-A8A2-4FC59526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960-2DF4-4629-87A6-8BD8370F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F0F-5299-4D48-A927-C444510C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A0A-B531-4101-9A71-E6026895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560-7A82-484D-9323-F5322965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682-C292-4705-9F41-3EBBE18B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CEF-265D-40D6-9FA4-F04F835C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982-1473-4370-B864-1B08F2BE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163-81FA-48A0-A21B-B1A21479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58B-D4D7-4E68-8DBC-76444918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AA2-FBDF-4FC7-A999-C1BD7D92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5868-084E-4348-BE70-39D21A223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95560" y="4572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24685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676520" y="7621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ass Exampl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133720" y="2286000"/>
            <a:ext cx="4876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a + b =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r - 2s 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 + x =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333440" y="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ependent and Dependent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905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2880" y="14479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ependent variables are variables that you put into th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38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952880" y="34290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endent variables are variables that you solv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3657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81080" y="3808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2x -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752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ing the equation above, y has to be 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4038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38360" y="4038480"/>
            <a:ext cx="750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it is the variable that is being solve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28600" y="2286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5335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00280" y="685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3x -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47640" y="19051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we solved for y, then x is the in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00280" y="41148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ordered pair would then be written as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2286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3733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r , s ) is similar to ( s , r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congruent/eq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19040" y="9144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42670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372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said before, there are many possible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2658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 find more than one solution, we use a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ble of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43480" y="4343400"/>
          <a:ext cx="2057400" cy="20732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9:49:02Z</dcterms:created>
  <dc:creator>Chester Area School</dc:creator>
  <dc:description/>
  <dc:language>en-US</dc:language>
  <cp:lastModifiedBy>RomaK</cp:lastModifiedBy>
  <dcterms:modified xsi:type="dcterms:W3CDTF">2015-09-04T07:42:34Z</dcterms:modified>
  <cp:revision>16</cp:revision>
  <dc:subject/>
  <dc:title>PowerPoint Presentation</dc:title>
</cp:coreProperties>
</file>