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A6255-96B5-48C8-A75A-10CF1AF0368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in’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that’s a CLASS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ing the F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Where It’s A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slap, slap, slap, clap, sl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t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y in the GRO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now St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on the MOV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don’t offe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more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then AD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! You’re D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 x 1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me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12’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,     24,     36,     48,    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,    84,     96,    108,  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x12     just split  then add 132  that’s all you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x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4…There is NO MO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H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ORED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h, Yea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x 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’s no Fun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x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oo Easy to Do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3 x 3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one can Se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, 6, 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Ti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No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 Double that’s no Trou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Double is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Double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x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them 4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,     8,   12,   16,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,   28,  32,   36, 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ing Al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Stay in the Rac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, 10, 15, 20, 25, 30, 35, 40, 45,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, 60, 65, 70, 75, 80, 85, 90, 95, 100 oh Yea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it Again, Make it Ter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y, Set, Revers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cc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M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’RE G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y to f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x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g our S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 12, 18, 24, 3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, 42, 48, 54,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in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 x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Roll Them Fin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, 14, 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, 35, 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, 56, 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ap it up…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ll on the Flo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x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 it Now, Roll some M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  16, 24, 32,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8, 56, 64, 72, 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cc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one’s F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 x 9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in, Rollin, get the water Boilin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F622-D89A-4E6C-8A42-BDEF12804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D1AE-F7DC-412A-8940-E1C634F3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66CB-835F-48A1-A714-D80699CCA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00A3-3572-4404-A93B-1CA810110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F05E-90C4-4B47-B21D-C74095B27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B4E9-9CC2-4AB7-BF72-C1784241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D2F4-7AB9-433F-97B8-76598C63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2EC55-DF02-48F8-90AB-BA36E545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C991-91B4-47FA-BE00-0CF61497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51673-72B1-4767-B5C6-A44B5269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C19AB-FC7B-4AC8-9BC5-70FBD49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6E0E-9AF1-496F-B483-15126C922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0DBD2-931F-4F65-91D9-0528A3C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EFA0D-5996-4D66-BAD0-11443CC7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AFCDE-AD95-4850-A71C-72F4CC157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9DF69-F584-411C-A87A-1E3636148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E8F5E-1A93-49AE-A0D7-87C9DC86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911-EE1A-40DB-BAEB-62FE04F95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8DEC-52D0-40DF-841E-CA25E5557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3DED-4360-427B-8EEE-BF6172BA5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E86-9046-465B-8FEC-DBCD843C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1E42-AD56-4714-A88B-31756E73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27F1-F7FD-48C8-B457-13EA7F30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EC62-EE30-4399-A5C5-533B43EB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6273360" y="-21240"/>
            <a:ext cx="2870280" cy="3275280"/>
            <a:chOff x="6273360" y="-21240"/>
            <a:chExt cx="2870280" cy="3275280"/>
          </a:xfrm>
        </p:grpSpPr>
        <p:grpSp>
          <p:nvGrpSpPr>
            <p:cNvPr id="1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0" name="Group 12"/>
            <p:cNvGrpSpPr/>
            <p:nvPr/>
          </p:nvGrpSpPr>
          <p:grpSpPr>
            <a:xfrm>
              <a:off x="6273360" y="-21240"/>
              <a:ext cx="2870280" cy="2268360"/>
              <a:chOff x="6273360" y="-21240"/>
              <a:chExt cx="2870280" cy="2268360"/>
            </a:xfrm>
          </p:grpSpPr>
          <p:grpSp>
            <p:nvGrpSpPr>
              <p:cNvPr id="11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13" name="Oval 15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  <p:grpSp>
            <p:nvGrpSpPr>
              <p:cNvPr id="14" name="Group 16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Group 17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Freeform 18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7" name="Freeform 19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" name="Group 20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Freeform 21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0" name="Freeform 22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1" name="Group 23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Freeform 24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3" name="Freeform 25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4" name="Group 26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Freeform 27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6" name="Freeform 28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27" name="Group 29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Freeform 30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" name="Freeform 31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0" name="Group 32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Freeform 33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2" name="Freeform 34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3" name="Group 35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Freeform 36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5" name="Freeform 37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6" name="Group 38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Freeform 39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38" name="Freeform 40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39" name="Group 41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Freeform 42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1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2" name="Group 44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Freeform 45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4" name="Freeform 46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5" name="Group 47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Freeform 48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47" name="Freeform 49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48" name="Group 50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Freeform 51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0" name="Freeform 52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1" name="Group 53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Freeform 54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3" name="Freeform 55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4" name="Group 56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Freeform 57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6" name="Freeform 58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57" name="Group 59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Freeform 60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59" name="Freeform 61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0" name="Group 62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Freeform 63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2" name="Freeform 64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3" name="Group 65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Freeform 66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5" name="Freeform 67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6" name="Group 68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Freeform 69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68" name="Freeform 70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69" name="Group 71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Freeform 72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1" name="Freeform 73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2" name="Group 74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Freeform 75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4" name="Freeform 76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75" name="Group 77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Freeform 78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77" name="Freeform 79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78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sp>
              <p:nvSpPr>
                <p:cNvPr id="79" name="Freeform 81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  <p:grpSp>
              <p:nvGrpSpPr>
                <p:cNvPr id="80" name="Group 82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Freeform 83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2" name="Freeform 84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3" name="Group 85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Freeform 86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5" name="Freeform 87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6" name="Group 88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Freeform 89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80" bIns="-288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88" name="Freeform 90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89" name="Group 91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Freeform 92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1" name="Freeform 93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2" name="Group 94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Freeform 95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4" name="Freeform 96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5" name="Group 97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Freeform 98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97" name="Freeform 99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98" name="Group 100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Freeform 101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0" name="Freeform 102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1" name="Group 103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Freeform 104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3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4" name="Group 106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Freeform 107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6" name="Freeform 108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07" name="Group 109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Freeform 110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09" name="Freeform 111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10" name="Group 112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Freeform 113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12" name="Freeform 114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</p:grpSp>
          <p:sp>
            <p:nvSpPr>
              <p:cNvPr id="113" name="Freeform 115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4" name="Arc 116"/>
              <p:cNvSpPr/>
              <p:nvPr/>
            </p:nvSpPr>
            <p:spPr>
              <a:xfrm flipH="1">
                <a:off x="6844680" y="950040"/>
                <a:ext cx="1090080" cy="118188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5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/>
                <a:ahLst/>
                <a:rect l="l" t="t" r="r" b="b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lnTo>
                      <a:pt x="36729" y="1045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6" name="Arc 118"/>
              <p:cNvSpPr/>
              <p:nvPr/>
            </p:nvSpPr>
            <p:spPr>
              <a:xfrm flipH="1">
                <a:off x="6954480" y="759240"/>
                <a:ext cx="637200" cy="122112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7" name="Arc 119"/>
              <p:cNvSpPr/>
              <p:nvPr/>
            </p:nvSpPr>
            <p:spPr>
              <a:xfrm flipH="1">
                <a:off x="6502320" y="821880"/>
                <a:ext cx="1035000" cy="1219680"/>
              </a:xfrm>
              <a:custGeom>
                <a:avLst/>
                <a:gdLst/>
                <a:ahLst/>
                <a:rect l="l" t="t" r="r" b="b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lnTo>
                      <a:pt x="-1" y="1906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8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19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0" name="Arc 122"/>
              <p:cNvSpPr/>
              <p:nvPr/>
            </p:nvSpPr>
            <p:spPr>
              <a:xfrm>
                <a:off x="7813080" y="765720"/>
                <a:ext cx="515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1" name="Arc 123"/>
              <p:cNvSpPr/>
              <p:nvPr/>
            </p:nvSpPr>
            <p:spPr>
              <a:xfrm>
                <a:off x="7858800" y="605880"/>
                <a:ext cx="731520" cy="122112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2" name="Freeform 124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3" name="Freeform 125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4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/>
                <a:ahLst/>
                <a:rect l="l" t="t" r="r" b="b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lnTo>
                      <a:pt x="0" y="6283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5" name="Arc 127"/>
              <p:cNvSpPr/>
              <p:nvPr/>
            </p:nvSpPr>
            <p:spPr>
              <a:xfrm flipH="1">
                <a:off x="6708960" y="160560"/>
                <a:ext cx="948600" cy="1181880"/>
              </a:xfrm>
              <a:custGeom>
                <a:avLst/>
                <a:gdLst/>
                <a:ahLst/>
                <a:rect l="l" t="t" r="r" b="b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lnTo>
                      <a:pt x="-1" y="1001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6" name="Arc 128"/>
              <p:cNvSpPr/>
              <p:nvPr/>
            </p:nvSpPr>
            <p:spPr>
              <a:xfrm>
                <a:off x="7722360" y="657000"/>
                <a:ext cx="391320" cy="1182960"/>
              </a:xfrm>
              <a:custGeom>
                <a:avLst/>
                <a:gdLst/>
                <a:ahLst/>
                <a:rect l="l" t="t" r="r" b="b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7" name="Freeform 129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8" name="Freeform 130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29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0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1" name="Freeform 133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2" name="Freeform 134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3" name="Freeform 135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34" name="Freeform 136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E0EE8-AF1C-4F1D-8C7F-90BE1CA94D11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17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17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18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18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grpSp>
              <p:nvGrpSpPr>
                <p:cNvPr id="18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8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8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19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19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0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0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1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19" name="Group 45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2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2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3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3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4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4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sp>
                <p:nvSpPr>
                  <p:cNvPr id="24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5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grpSp>
                <p:nvGrpSpPr>
                  <p:cNvPr id="25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5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Freeform 84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59" name="Freeform 85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6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6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7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7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  <p:grpSp>
                <p:nvGrpSpPr>
                  <p:cNvPr id="28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  <p:sp>
                  <p:nvSpPr>
                    <p:cNvPr id="28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 Black"/>
                      </a:endParaRPr>
                    </a:p>
                  </p:txBody>
                </p:sp>
              </p:grpSp>
            </p:grpSp>
          </p:grpSp>
          <p:grpSp>
            <p:nvGrpSpPr>
              <p:cNvPr id="28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28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28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8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  <p:sp>
                <p:nvSpPr>
                  <p:cNvPr id="29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 Black"/>
                    </a:endParaRPr>
                  </a:p>
                </p:txBody>
              </p:sp>
            </p:grpSp>
            <p:sp>
              <p:nvSpPr>
                <p:cNvPr id="29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 Black"/>
                  </a:endParaRPr>
                </a:p>
              </p:txBody>
            </p:sp>
          </p:grpSp>
        </p:grpSp>
        <p:grpSp>
          <p:nvGrpSpPr>
            <p:cNvPr id="29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29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/>
                <a:ahLst/>
                <a:rect l="l" t="t" r="r" b="b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/>
                <a:ahLst/>
                <a:rect l="l" t="t" r="r" b="b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/>
                <a:ahLst/>
                <a:rect l="l" t="t" r="r" b="b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29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/>
                <a:ahLst/>
                <a:rect l="l" t="t" r="r" b="b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  <p:sp>
            <p:nvSpPr>
              <p:cNvPr id="30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 Black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C055-A9A4-4F56-8545-2D8C7D392BA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Doin’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Now that’s a CLASS AC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Knowing the FACT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That’s Where It’s At!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 Black"/>
              </a:rPr>
              <a:t>(2x slap, slap, slap, clap, slap)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Keep it togethe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Stay in the GROOV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Ready, now Stead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You’re on the MOV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10 x 1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99"/>
                </a:solidFill>
                <a:latin typeface="Arial Black"/>
              </a:rPr>
              <a:t>Please don’t offend</a:t>
            </a: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Much more Fu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SPLIT then ADD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99"/>
                </a:solidFill>
                <a:latin typeface="Arial Black"/>
              </a:rPr>
              <a:t>WHAM! You’re Don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1 x 11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99"/>
                </a:solidFill>
                <a:latin typeface="Arial Black"/>
              </a:rPr>
              <a:t>121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Give me some more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Roll them 12’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,     24,     36,     48,   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6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72,    84,     96,    108, 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1x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2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     just split  then add 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2 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that’s all you d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2 x 12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 Black"/>
              </a:rPr>
              <a:t>144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144…There is NO MORE!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99"/>
                </a:solidFill>
                <a:latin typeface="Arial Black"/>
              </a:rPr>
              <a:t>W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ff66"/>
                </a:solidFill>
                <a:latin typeface="Arial Black"/>
              </a:rPr>
              <a:t>BHAM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ff"/>
                </a:solidFill>
                <a:latin typeface="Arial Black"/>
              </a:rPr>
              <a:t>WE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0000"/>
                </a:solidFill>
                <a:latin typeface="Arial Black"/>
              </a:rPr>
              <a:t>SCORED!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ffff00"/>
                </a:solidFill>
                <a:latin typeface="Arial Black"/>
              </a:rPr>
              <a:t>Oh, Yea…</a:t>
            </a:r>
            <a:endParaRPr b="0" lang="en-US" sz="6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662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1 x 1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That’s no Fun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2 x 2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Too Easy to Do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3 x 3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Anyone can See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, 6, 9 </a:t>
            </a:r>
            <a:br>
              <a:rPr sz="4000"/>
            </a:b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very Time</a:t>
            </a: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ay No Mor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au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uble Double that’s no Troubl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rst Double is 8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Next Double 16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 x 4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1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Roll them 4s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4,     8,   12,   1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2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                   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24,   28,  32,   36,  </a:t>
            </a: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40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Coming Aliv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66"/>
                </a:solidFill>
                <a:latin typeface="Arial Black"/>
              </a:rPr>
              <a:t>5 x 5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Arial Black"/>
              </a:rPr>
              <a:t>Ready, Set, Stay in the Race…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, 10, 15, 2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2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30, 35, 40, 4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50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55, 60, 65, 70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75</a:t>
            </a:r>
            <a:r>
              <a:rPr b="0" lang="en-US" sz="2800" spc="-1" strike="noStrike">
                <a:solidFill>
                  <a:srgbClr val="66ff66"/>
                </a:solidFill>
                <a:latin typeface="Arial Black"/>
              </a:rPr>
              <a:t>, 80, 85, 90, 95, </a:t>
            </a:r>
            <a:r>
              <a:rPr b="1" lang="en-US" sz="5400" spc="-1" strike="noStrike">
                <a:solidFill>
                  <a:srgbClr val="66ff66"/>
                </a:solidFill>
                <a:latin typeface="Arial Black"/>
              </a:rPr>
              <a:t>100 </a:t>
            </a:r>
            <a:r>
              <a:rPr b="1" lang="en-US" sz="2000" spc="-1" strike="noStrike">
                <a:solidFill>
                  <a:srgbClr val="66ff66"/>
                </a:solidFill>
                <a:latin typeface="Arial Black"/>
              </a:rPr>
              <a:t>oh Yea!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Do it Again, Make it Ters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66"/>
                </a:solidFill>
                <a:latin typeface="Arial Black"/>
              </a:rPr>
              <a:t>Ready, Set, Reverse…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ccff"/>
                </a:solidFill>
                <a:latin typeface="Arial Black"/>
              </a:rPr>
              <a:t>WHAM!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WE’RE GOO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Easy to fix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 x 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6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Rolling our Sixes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6, 12, 18, 2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30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              </a:t>
            </a:r>
            <a:r>
              <a:rPr b="0" lang="en-US" sz="4000" spc="-1" strike="noStrike">
                <a:solidFill>
                  <a:srgbClr val="ff3399"/>
                </a:solidFill>
                <a:latin typeface="Arial Black"/>
              </a:rPr>
              <a:t>36, 42, 48, 54, </a:t>
            </a:r>
            <a:r>
              <a:rPr b="1" lang="en-US" sz="4000" spc="-1" strike="noStrike">
                <a:solidFill>
                  <a:srgbClr val="ff3399"/>
                </a:solidFill>
                <a:latin typeface="Arial Black"/>
              </a:rPr>
              <a:t>6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/>
          </p:nvPr>
        </p:nvSpPr>
        <p:spPr>
          <a:xfrm>
            <a:off x="457200" y="45720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Keep in Time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7 x 7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49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Let’s Roll Them Fine…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7, 14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21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28, 35,</a:t>
            </a:r>
            <a:r>
              <a:rPr b="1" lang="en-US" sz="40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42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49, 56, </a:t>
            </a: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63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Black"/>
              </a:rPr>
              <a:t>Wrap it up…70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8 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Fell on the Floor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8 x 8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64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ff66"/>
                </a:solidFill>
                <a:latin typeface="Arial Black"/>
              </a:rPr>
              <a:t>Roll it Now, Roll some Mor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8,  16, 24, 3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4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                     </a:t>
            </a:r>
            <a:r>
              <a:rPr b="0" lang="en-US" sz="3200" spc="-1" strike="noStrike">
                <a:solidFill>
                  <a:srgbClr val="66ff66"/>
                </a:solidFill>
                <a:latin typeface="Arial Black"/>
              </a:rPr>
              <a:t>48, 56, 64, 72, </a:t>
            </a:r>
            <a:r>
              <a:rPr b="1" lang="en-US" sz="4000" spc="-1" strike="noStrike">
                <a:solidFill>
                  <a:srgbClr val="66ff66"/>
                </a:solidFill>
                <a:latin typeface="Arial Black"/>
              </a:rPr>
              <a:t>80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This one’s Fun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9 x 9 is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Rollin, Rollin, get the water </a:t>
            </a:r>
            <a:r>
              <a:rPr b="1" i="1" lang="en-US" sz="2400" spc="-1" strike="noStrike">
                <a:solidFill>
                  <a:srgbClr val="00ccff"/>
                </a:solidFill>
                <a:latin typeface="Arial Black"/>
              </a:rPr>
              <a:t>Boilin…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90</a:t>
            </a:r>
            <a:r>
              <a:rPr b="0" lang="en-US" sz="32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81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72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63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54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Arial Black"/>
              </a:rPr>
              <a:t>45</a:t>
            </a: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36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27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18 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Arial Black"/>
              </a:rPr>
              <a:t>09</a:t>
            </a: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 spd="med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2T15:42:49Z</dcterms:created>
  <dc:creator>dtaylor</dc:creator>
  <dc:description/>
  <dc:language>en-US</dc:language>
  <cp:lastModifiedBy>RomaK</cp:lastModifiedBy>
  <dcterms:modified xsi:type="dcterms:W3CDTF">2015-09-04T07:42:59Z</dcterms:modified>
  <cp:revision>15</cp:revision>
  <dc:subject/>
  <dc:title>math fact review rap</dc:title>
</cp:coreProperties>
</file>