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6780-A111-4FFD-8273-BE46CD07C0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2x slap, slap, slap, clap, slap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in’ the FACT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ow that’s a CLASS AC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Knowing the FACT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at’s Where It’s At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2x slap, slap, slap, clap, slap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Keep it togethe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tay in the GROOV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ady, now Stead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You’re on the MOV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slap, slap, slap, clap, sl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in’ the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hat’s a CLASS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the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Where It’s 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slap, slap, slap, clap, sl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i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y in the GRO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, now St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on the MOV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 x 1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lease don’t offend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 x 11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uch more Fu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PLIT then ADD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M! You’re Don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 x 11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1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x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don’t offe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x 1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more F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then 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M! You’re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x 1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ive me some mo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4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 them 12’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,     24,     36,     48,     6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2,    84,     96,    108,  12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x12     just split  then add 132  that’s all you do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4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44…There is NO MORE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me some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 them 12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,     24,     36,     48,    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2,    84,     96,    108,  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x12     just split  then add 132  that’s all you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4…There is NO MO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BHA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CORED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h, Yea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R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, Ye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 x 1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at’s no Fu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 x 2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Too Easy to D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3 x 3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nyone can See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, 6, 9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very Time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no Fu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o Easy to D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3 x 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one can Se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6, 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 x 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ay No Mo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aus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uble Double that’s no Troubl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irst Double is 8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ext Double 1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 x 4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 them 4s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,     8,   12,   16,  2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4,   28,  32,   36,  4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No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Double that’s no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ouble is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Doub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x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 them 4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,     8,   12,   16,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,   28,  32,   36, 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 x 5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ing Aliv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 x 5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ady, Set, Stay in the Rac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, 10, 15, 20, 25, 30, 35, 40, 45, 5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5, 60, 65, 70, 75, 80, 85, 90, 95, 100 oh Yea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 it Again, Make it Ters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ady, Set, Revers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ng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, Set, Stay in the Rac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, 10, 15, 20, 25, 30, 35, 40, 45,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, 60, 65, 70, 75, 80, 85, 90, 95, 100 oh Ye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it Again, Make it T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, Set, Revers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cc00"/>
                </a:solidFill>
                <a:latin typeface="Arial"/>
              </a:rPr>
              <a:t>WHAM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cc00"/>
                </a:solidFill>
                <a:latin typeface="Arial"/>
              </a:rPr>
              <a:t>WE’RE GOO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’RE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 x 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asy to fix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 x 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ing our Sixe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, 12, 18, 24, 30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6, 42, 48, 54, 6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x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y to f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x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ing our Si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 12, 18, 24, 3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, 42, 48, 54,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 x 7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Keep in Tim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 x 7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9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et’s Roll Them Fin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, 14, 21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8, 35, 4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9, 56, 63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rap it up…7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x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i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x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oll Them F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, 14,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, 35, 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, 56, 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 it up…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 x8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ell on the Flo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 x 8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 it Now, Roll some Mo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,  16, 24, 32, 4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8, 56, 64, 72, 8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x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l on the Fl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x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 it Now, Roll some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,  16, 24, 32,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8, 56, 64, 72,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 x 9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is one’s Fu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 x 9 i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in, Rollin, get the water Boilin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0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2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3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5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6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8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x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one’s F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x 9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in, Rollin, get the water Boili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7BA2-F1DA-43F6-89BB-9462EEFB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BE05-E5F4-4FC8-8873-39040850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1E31-2335-48C8-BF38-EE96E1FE5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FD5F-1D07-4AD7-9401-FDBCE211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53BC-C7D0-41A2-92F1-8B4DF1AB2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E701-FC12-4A70-A24C-5398945C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2688-07D9-4E7A-A83A-609A43BC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984C-CF40-4C31-90EB-45CA2D16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F2F3-51D4-4AC4-A087-9B049EFE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5DEA-B688-4083-9789-1F6453C9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3432-8B17-49EF-889C-39C2725D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FB81-B814-4F34-A978-D9D67188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9E03-951C-4EA2-9A10-B8F56E5F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53FB-2884-4C63-8368-E2605427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1F25-649D-44BB-BAE1-D3C9B222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0F84-5242-4AFE-8AE6-B51E61660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5356-38D6-4626-A544-EEF02BA08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C260-4485-43AF-9294-537056FF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58AC-90FE-429E-A481-4B89B255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645A-C5E4-4E71-9326-8B5594DA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E85F-2FDA-4BC3-B1C6-2E260C15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5287-83D6-47DF-92FA-3013F1A3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14DE-1954-44C5-B810-9344462A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3909-13ED-4122-A42D-CFE56CF0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D34E-35FD-463D-92FC-7AA3CD4D0A5E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5092-FB7C-4FAD-A5D6-193AD0FAEEB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(2x slap, slap, slap, clap, slap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Doin’ the FAC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Now that’s a CLASS AC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Knowing the FAC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That’s Where It’s At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(2x slap, slap, slap, clap, slap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Keep it togeth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Stay in the GROOV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Ready, now Stead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You’re on the MOVE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10 x 1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Please don’t offend</a:t>
            </a: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Arial Black"/>
              </a:rPr>
              <a:t>11 x 11 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Much more Fu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 Black"/>
              </a:rPr>
              <a:t>SPLIT then ADD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 Black"/>
              </a:rPr>
              <a:t>WHAM! You’re Don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11 x 11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121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2 x 12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ive me some mor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2 x 12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44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oll them 12’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2,     24,     36,     48,    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6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72,    84,     96,    108, 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2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1x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2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just split  then add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2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at’s all you d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2 x 12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44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44…There is NO MORE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Arial Black"/>
              </a:rPr>
              <a:t>WHAM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ff66"/>
                </a:solidFill>
                <a:latin typeface="Arial Black"/>
              </a:rPr>
              <a:t>BHAM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ff"/>
                </a:solidFill>
                <a:latin typeface="Arial Black"/>
              </a:rPr>
              <a:t>WE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Arial Black"/>
              </a:rPr>
              <a:t>SCORED!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00"/>
                </a:solidFill>
                <a:latin typeface="Arial Black"/>
              </a:rPr>
              <a:t>Oh, Yea…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1 x 1 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That’s no Fun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2 x 2 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 Too Easy to Do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 3 x 3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Anyone can See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3, 6, 9 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Every Time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 x 4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ay No Mor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u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uble Double that’s no Troub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rst Double is 8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ext Double 16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 x 4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16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oll them 4s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,     8,   12,   16,  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2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4,   28,  32,   36,  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4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Arial Black"/>
              </a:rPr>
              <a:t>5 x 5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Arial Black"/>
              </a:rPr>
              <a:t>Coming Aliv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Arial Black"/>
              </a:rPr>
              <a:t>5 x 5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25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Arial Black"/>
              </a:rPr>
              <a:t>Ready, Set, Stay in the Race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 Black"/>
              </a:rPr>
              <a:t>5, 10, 15, 20, </a:t>
            </a: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25</a:t>
            </a:r>
            <a:r>
              <a:rPr b="0" lang="en-US" sz="2800" spc="-1" strike="noStrike">
                <a:solidFill>
                  <a:srgbClr val="66ff66"/>
                </a:solidFill>
                <a:latin typeface="Arial Black"/>
              </a:rPr>
              <a:t>, 30, 35, 40, 45, </a:t>
            </a: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50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 Black"/>
              </a:rPr>
              <a:t>55, 60, 65, 70, </a:t>
            </a: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75</a:t>
            </a:r>
            <a:r>
              <a:rPr b="0" lang="en-US" sz="2800" spc="-1" strike="noStrike">
                <a:solidFill>
                  <a:srgbClr val="66ff66"/>
                </a:solidFill>
                <a:latin typeface="Arial Black"/>
              </a:rPr>
              <a:t>, 80, 85, 90, 95, </a:t>
            </a: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100 </a:t>
            </a:r>
            <a:r>
              <a:rPr b="1" lang="en-US" sz="2000" spc="-1" strike="noStrike">
                <a:solidFill>
                  <a:srgbClr val="66ff66"/>
                </a:solidFill>
                <a:latin typeface="Arial Black"/>
              </a:rPr>
              <a:t>oh Yea!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Arial Black"/>
              </a:rPr>
              <a:t>Do it Again, Make it Ter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Arial Black"/>
              </a:rPr>
              <a:t>Ready, Set, Reverse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ff"/>
                </a:solidFill>
                <a:latin typeface="Arial Black"/>
              </a:rPr>
              <a:t>WHAM!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WE’RE GOO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6 x 6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Easy to fix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6 x 6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 Black"/>
              </a:rPr>
              <a:t>36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Rolling our Sixe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6, 12, 18, 24, </a:t>
            </a:r>
            <a:r>
              <a:rPr b="1" lang="en-US" sz="4000" spc="-1" strike="noStrike">
                <a:solidFill>
                  <a:srgbClr val="ff3399"/>
                </a:solidFill>
                <a:latin typeface="Arial Black"/>
              </a:rPr>
              <a:t>30</a:t>
            </a: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              </a:t>
            </a: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36, 42, 48, 54, </a:t>
            </a:r>
            <a:r>
              <a:rPr b="1" lang="en-US" sz="4000" spc="-1" strike="noStrike">
                <a:solidFill>
                  <a:srgbClr val="ff3399"/>
                </a:solidFill>
                <a:latin typeface="Arial Black"/>
              </a:rPr>
              <a:t>6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7 x 7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Keep in Tim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7 x 7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49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Let’s Roll Them Fine…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7, 14, </a:t>
            </a: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21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28, 35,</a:t>
            </a: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42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49, 56, </a:t>
            </a: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63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Wrap it up…70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8 x8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Fell on the Floor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8 x 8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64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Roll it Now, Roll some Mor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8,  16, 24, 32, </a:t>
            </a:r>
            <a:r>
              <a:rPr b="1" lang="en-US" sz="4000" spc="-1" strike="noStrike">
                <a:solidFill>
                  <a:srgbClr val="66ff66"/>
                </a:solidFill>
                <a:latin typeface="Arial Black"/>
              </a:rPr>
              <a:t>4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                     </a:t>
            </a: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48, 56, 64, 72, </a:t>
            </a:r>
            <a:r>
              <a:rPr b="1" lang="en-US" sz="4000" spc="-1" strike="noStrike">
                <a:solidFill>
                  <a:srgbClr val="66ff66"/>
                </a:solidFill>
                <a:latin typeface="Arial Black"/>
              </a:rPr>
              <a:t>8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9 x 9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This one’s Fu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9 x 9 i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 Black"/>
              </a:rPr>
              <a:t>81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Rollin, Rollin, get the water </a:t>
            </a:r>
            <a:r>
              <a:rPr b="1" i="1" lang="en-US" sz="2400" spc="-1" strike="noStrike">
                <a:solidFill>
                  <a:srgbClr val="00ccff"/>
                </a:solidFill>
                <a:latin typeface="Arial Black"/>
              </a:rPr>
              <a:t>Boilin…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 Black"/>
              </a:rPr>
              <a:t>90</a:t>
            </a: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81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72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63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54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 Black"/>
              </a:rPr>
              <a:t>45</a:t>
            </a: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36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27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18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09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2T15:42:49Z</dcterms:created>
  <dc:creator>dtaylor</dc:creator>
  <dc:description/>
  <dc:language>en-US</dc:language>
  <cp:lastModifiedBy>RomaK</cp:lastModifiedBy>
  <dcterms:modified xsi:type="dcterms:W3CDTF">2015-09-04T07:42:59Z</dcterms:modified>
  <cp:revision>15</cp:revision>
  <dc:subject/>
  <dc:title>math fact review rap</dc:title>
</cp:coreProperties>
</file>