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13.jpeg" ContentType="image/jpeg"/>
  <Override PartName="/ppt/media/image8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2.png" ContentType="image/png"/>
  <Override PartName="/ppt/media/image10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EAF4-49FF-4FF2-A18A-D9FFB36192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y Vocabul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Fi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amp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Fi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ERTICAL LINE goes up &amp; d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andy bars are ver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RTICAL LINE goes up &amp;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dy bars are ver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RIZONTAL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HORIZONTAL LINE goes “across” (left and righ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andy bars are Horizon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RIZONTAL LINE goes “across” (left and r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dy bars are Horizo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LANE (no, not the one that flies!) is a flat surface that goes on forever in all dire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ine sitting on a row boat in the middle of the ocean.  No matter which way you look…all you see is water…forev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E (no, not the one that flies!) is a flat surface that goes on forever in all dir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sitting on a row boat in the middle of the ocean.  No matter which way you look…all you see is water…fore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EN &amp; CLOSED FIG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LOSED FIGURE/SHAPE starts and ends at the same poi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OPEN FIGURE/SHAPE does NOT start and end at the same poi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&amp; CLOSED 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LOSED FIGURE/SHAPE starts and ends at the same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PEN FIGURE/SHAPE does NOT start and end at the same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OLYGON is a “closed” sha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OLYGON is made up of line segments that do not cros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sides gives a POLYGON its 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POLY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GON is a “closed”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GON is made up of line segments that do not cros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ides gives a POLYGON its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OLY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RA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use a PROTRACTOR to measure vertex/angles in deg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R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a PROTRACTOR to measure vertex/angles in deg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UTE ANGLES are less than 90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UTE ANGLES are less than 9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GHT ANGLES measure exactly 90 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“square” symbol means 90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NGLES measure exactly 90 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quare” symbol means 9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TUES ANGLES are greater than 90 ° but less than 180 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UES ANGLES are greater than 90 ° but less than 180 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IGHT ANGLE is exactly 180 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IGHT ANGLE is exactly 180 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Geometr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y is the study of sha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studied Geometry in Ancient Mesopotamia &amp; Ancient Egy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y is important in the art and construction fiel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omet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is the study of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udied Geometry in Ancient Mesopotamia &amp; Ancient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is important in the art and construction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you “name” an angle.  The vertex/angle “letter/number” goes in the center of the lab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I wanted to know the measurement of Angle A…I would ask:” What is the measurement for BAC?” (Notice A is in the c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“name” an angle.  The vertex/angle “letter/number” goes in the center of the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 wanted to know the measurement of Angle A…I would ask:” What is the measurement for BAC?” (Notice A is in the ce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ce you study all the “fancy words”, Geometry is very easy to understand…so STUDY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you study all the “fancy words”, Geometry is very easy to understand…so STU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OINT is an exact location on a graph, shape or in “space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ershey Kiss is a POINT on the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INT is an exact location on a graph, shape or in “spac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rshey Kiss is a POINT on the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NE goes in opposite directions and never, never, never en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ine if this Twizzler went on forever and ever and ever and ever and ever and e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 goes in opposite directions and never, never, never e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if this Twizzler went on forever and ever and ever and ever and ever and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RAY is part of a line, but it has one endpoint and the other end keeps go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aaaaaaaaaaaaaaaaaaaaaaayyyyyyyyyyyyyyyyyyyyyyyyy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Y is part of a line, but it has one endpoint and the other end keeps go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aaaaaaaaaaaaaaaaaaaaaaayyyyyyyyyyyyyyyyyyyyyyyyy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NDPOINT is a point at the end of a ray or line seg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POINT is a point at the end of a ray or line seg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NE SEGMENT  is part of a ray o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has two end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 SEGMENT  is part of a ray o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wo end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E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ERTEX is a fancy name for “angl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rays or lines that have the same endpoint make a VERTEX/ang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EX/angles are measured in “degree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rners of a square are its vertex/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two lines cross, they make vertex/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RTEX is a fancy name for “angl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rays or lines that have the same endpoint make a VERTEX/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X/angles are measured in “degre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ners of a square are its vertex/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lines cross, they make vertex/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 means the “sam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 LINE SEGMENTS means two line segments are the s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 Vertex/Angles means two angles are the s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ershey &amp; Crunch Bar are a Congruent si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means the “sam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LINE SEGMENTS means two line segments are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Vertex/Angles means two angles are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rshey &amp; Crunch Bar are a Congruent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A18B-7FD9-457F-B7E2-3003ACAF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2A2B-7308-48B3-AE9F-B05D2010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5096-5019-45CA-92B0-ABB3C251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CA81-4CE1-44A2-BE8A-021B069A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2D73-4D63-49CA-8FD9-7361E38B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9037-2FA7-4E61-8F0C-A8263E7C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30E1-C824-4EEB-8FC4-E02406B6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2228-7C75-4549-85AD-2A7F539C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37D4-3E73-44AE-846C-71D1958D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6ABD-5DAB-46D5-9945-C8BD6EF2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E648-72D7-4219-B24A-A95814FF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D8C9-7999-436B-A0DB-34C6107F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38B6-73EA-4613-9BA6-1C30DC78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0684-3F48-4331-9F1B-28E7741B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B4E0-8B46-40FE-98BE-F830C664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8D49-5FFD-47BC-9711-C7CB6491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69B6-68E8-4598-94D8-1CC05DBF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45C14-0F99-4807-8986-E111E0AC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A5E30-DF3A-4BFE-9D2E-65CE26E5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AE96A-305D-4CAC-89C3-6C3A25C3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2F586-6228-4B01-9794-69E9BBF8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D97D9-6BCF-4E80-9CED-9E441958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3FC3-1EE8-4C9F-AA0C-C43954B4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31745-6F7B-482B-98BB-C1CB5A24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C6848-E658-421A-8610-527F1FEA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2EFA2-C642-4253-8899-B3D47E0A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C202B-4E46-4F21-A72A-CDB9C235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F8EAC-3993-4E65-A00B-A90B2E62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57789-AA82-489F-B23A-F82265B0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D0AD1-335C-4918-88B6-ADDF2C78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5084-5BD9-49D0-8542-6FCCFFAD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7647-6B80-43BC-8F7A-D3DDB154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C59B-6DB5-4C84-BEA3-3FA9FA88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47EA-2669-4926-A534-7C5CE4E8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E55F-9E69-4B95-8D67-B9D66185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EBC7-5B99-455B-82AA-F22B23D4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126F-53AC-467F-BD70-264E25F701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0B14-AF4E-48F8-B4F5-C6ACBF6F4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7C99-577A-4293-97FB-EAA54D8247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eometry Vocabul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Fi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Ry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RTICAL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ERTICAL LINE goes up &amp;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4"/>
          <p:cNvSpPr/>
          <p:nvPr/>
        </p:nvSpPr>
        <p:spPr>
          <a:xfrm>
            <a:off x="1600200" y="29718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6" descr="Hershey"/>
          <p:cNvPicPr/>
          <p:nvPr/>
        </p:nvPicPr>
        <p:blipFill>
          <a:blip r:embed="rId2"/>
          <a:stretch/>
        </p:blipFill>
        <p:spPr>
          <a:xfrm>
            <a:off x="3743280" y="3267000"/>
            <a:ext cx="2421000" cy="305748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7"/>
          <p:cNvSpPr/>
          <p:nvPr/>
        </p:nvSpPr>
        <p:spPr>
          <a:xfrm>
            <a:off x="7147080" y="3541680"/>
            <a:ext cx="161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andy bars are vert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RIZONTAL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ORIZONTAL LINE goes “across” (left and rig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4"/>
          <p:cNvSpPr/>
          <p:nvPr/>
        </p:nvSpPr>
        <p:spPr>
          <a:xfrm>
            <a:off x="990720" y="3429000"/>
            <a:ext cx="67816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5" descr="Hershey"/>
          <p:cNvPicPr/>
          <p:nvPr/>
        </p:nvPicPr>
        <p:blipFill>
          <a:blip r:embed="rId2"/>
          <a:stretch/>
        </p:blipFill>
        <p:spPr>
          <a:xfrm>
            <a:off x="1447920" y="3886200"/>
            <a:ext cx="3276360" cy="25938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6"/>
          <p:cNvSpPr/>
          <p:nvPr/>
        </p:nvSpPr>
        <p:spPr>
          <a:xfrm>
            <a:off x="6172200" y="45324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andy bars are 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LAN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LANE (no, not the one that flies!) is a flat surface that goes on forever in all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sitting on a row boat in the middle of the ocean.  No matter which way you look…all you see is water…fore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4" descr="j0233070"/>
          <p:cNvPicPr/>
          <p:nvPr/>
        </p:nvPicPr>
        <p:blipFill>
          <a:blip r:embed="rId1"/>
          <a:stretch/>
        </p:blipFill>
        <p:spPr>
          <a:xfrm>
            <a:off x="0" y="304920"/>
            <a:ext cx="2209680" cy="1106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j0292152"/>
          <p:cNvPicPr/>
          <p:nvPr/>
        </p:nvPicPr>
        <p:blipFill>
          <a:blip r:embed="rId2"/>
          <a:stretch/>
        </p:blipFill>
        <p:spPr>
          <a:xfrm>
            <a:off x="304920" y="4648320"/>
            <a:ext cx="15382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EN &amp; CLOSED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OSED FIGURE/SHAPE starts and ends at the same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PEN FIGURE/SHAPE does NOT start and end at the same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4"/>
          <p:cNvSpPr/>
          <p:nvPr/>
        </p:nvSpPr>
        <p:spPr>
          <a:xfrm flipV="1">
            <a:off x="838080" y="4723920"/>
            <a:ext cx="83844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5"/>
          <p:cNvSpPr/>
          <p:nvPr/>
        </p:nvSpPr>
        <p:spPr>
          <a:xfrm>
            <a:off x="1676520" y="4724280"/>
            <a:ext cx="76176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6"/>
          <p:cNvSpPr/>
          <p:nvPr/>
        </p:nvSpPr>
        <p:spPr>
          <a:xfrm flipH="1">
            <a:off x="838080" y="601992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219320" y="4114800"/>
            <a:ext cx="12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Freeform 8"/>
          <p:cNvSpPr/>
          <p:nvPr/>
        </p:nvSpPr>
        <p:spPr>
          <a:xfrm>
            <a:off x="5638680" y="4648320"/>
            <a:ext cx="1622520" cy="1461960"/>
          </a:xfrm>
          <a:custGeom>
            <a:avLst/>
            <a:gdLst/>
            <a:ahLst/>
            <a:rect l="l" t="t" r="r" b="b"/>
            <a:pathLst>
              <a:path w="1022" h="921">
                <a:moveTo>
                  <a:pt x="0" y="721"/>
                </a:moveTo>
                <a:cubicBezTo>
                  <a:pt x="28" y="653"/>
                  <a:pt x="42" y="572"/>
                  <a:pt x="94" y="520"/>
                </a:cubicBezTo>
                <a:cubicBezTo>
                  <a:pt x="105" y="509"/>
                  <a:pt x="122" y="504"/>
                  <a:pt x="134" y="493"/>
                </a:cubicBezTo>
                <a:cubicBezTo>
                  <a:pt x="145" y="483"/>
                  <a:pt x="255" y="373"/>
                  <a:pt x="282" y="346"/>
                </a:cubicBezTo>
                <a:cubicBezTo>
                  <a:pt x="351" y="277"/>
                  <a:pt x="380" y="169"/>
                  <a:pt x="402" y="78"/>
                </a:cubicBezTo>
                <a:cubicBezTo>
                  <a:pt x="398" y="56"/>
                  <a:pt x="410" y="19"/>
                  <a:pt x="389" y="11"/>
                </a:cubicBezTo>
                <a:cubicBezTo>
                  <a:pt x="361" y="0"/>
                  <a:pt x="258" y="28"/>
                  <a:pt x="215" y="38"/>
                </a:cubicBezTo>
                <a:cubicBezTo>
                  <a:pt x="192" y="84"/>
                  <a:pt x="164" y="123"/>
                  <a:pt x="148" y="172"/>
                </a:cubicBezTo>
                <a:cubicBezTo>
                  <a:pt x="175" y="190"/>
                  <a:pt x="198" y="214"/>
                  <a:pt x="228" y="225"/>
                </a:cubicBezTo>
                <a:cubicBezTo>
                  <a:pt x="241" y="230"/>
                  <a:pt x="256" y="232"/>
                  <a:pt x="268" y="239"/>
                </a:cubicBezTo>
                <a:cubicBezTo>
                  <a:pt x="296" y="255"/>
                  <a:pt x="349" y="292"/>
                  <a:pt x="349" y="292"/>
                </a:cubicBezTo>
                <a:cubicBezTo>
                  <a:pt x="394" y="288"/>
                  <a:pt x="440" y="291"/>
                  <a:pt x="483" y="279"/>
                </a:cubicBezTo>
                <a:cubicBezTo>
                  <a:pt x="504" y="273"/>
                  <a:pt x="517" y="251"/>
                  <a:pt x="536" y="239"/>
                </a:cubicBezTo>
                <a:cubicBezTo>
                  <a:pt x="553" y="228"/>
                  <a:pt x="573" y="222"/>
                  <a:pt x="590" y="212"/>
                </a:cubicBezTo>
                <a:cubicBezTo>
                  <a:pt x="617" y="196"/>
                  <a:pt x="643" y="177"/>
                  <a:pt x="670" y="159"/>
                </a:cubicBezTo>
                <a:cubicBezTo>
                  <a:pt x="683" y="150"/>
                  <a:pt x="710" y="132"/>
                  <a:pt x="710" y="132"/>
                </a:cubicBezTo>
                <a:cubicBezTo>
                  <a:pt x="719" y="150"/>
                  <a:pt x="736" y="165"/>
                  <a:pt x="737" y="185"/>
                </a:cubicBezTo>
                <a:cubicBezTo>
                  <a:pt x="741" y="252"/>
                  <a:pt x="735" y="320"/>
                  <a:pt x="724" y="386"/>
                </a:cubicBezTo>
                <a:cubicBezTo>
                  <a:pt x="709" y="474"/>
                  <a:pt x="494" y="464"/>
                  <a:pt x="456" y="467"/>
                </a:cubicBezTo>
                <a:cubicBezTo>
                  <a:pt x="407" y="483"/>
                  <a:pt x="357" y="490"/>
                  <a:pt x="309" y="507"/>
                </a:cubicBezTo>
                <a:cubicBezTo>
                  <a:pt x="359" y="817"/>
                  <a:pt x="734" y="564"/>
                  <a:pt x="992" y="614"/>
                </a:cubicBezTo>
                <a:cubicBezTo>
                  <a:pt x="1001" y="627"/>
                  <a:pt x="1022" y="639"/>
                  <a:pt x="1018" y="654"/>
                </a:cubicBezTo>
                <a:cubicBezTo>
                  <a:pt x="1014" y="668"/>
                  <a:pt x="992" y="667"/>
                  <a:pt x="978" y="668"/>
                </a:cubicBezTo>
                <a:cubicBezTo>
                  <a:pt x="907" y="676"/>
                  <a:pt x="835" y="677"/>
                  <a:pt x="764" y="681"/>
                </a:cubicBezTo>
                <a:cubicBezTo>
                  <a:pt x="670" y="686"/>
                  <a:pt x="577" y="690"/>
                  <a:pt x="483" y="694"/>
                </a:cubicBezTo>
                <a:cubicBezTo>
                  <a:pt x="514" y="921"/>
                  <a:pt x="453" y="707"/>
                  <a:pt x="831" y="801"/>
                </a:cubicBezTo>
                <a:cubicBezTo>
                  <a:pt x="853" y="806"/>
                  <a:pt x="828" y="848"/>
                  <a:pt x="818" y="868"/>
                </a:cubicBezTo>
                <a:cubicBezTo>
                  <a:pt x="815" y="874"/>
                  <a:pt x="809" y="859"/>
                  <a:pt x="804" y="85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5791320" y="4114800"/>
            <a:ext cx="10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687240" y="5867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1"/>
          <p:cNvSpPr/>
          <p:nvPr/>
        </p:nvSpPr>
        <p:spPr>
          <a:xfrm>
            <a:off x="5487840" y="55627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2"/>
          <p:cNvSpPr/>
          <p:nvPr/>
        </p:nvSpPr>
        <p:spPr>
          <a:xfrm>
            <a:off x="6783120" y="5867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13"/>
          <p:cNvSpPr/>
          <p:nvPr/>
        </p:nvSpPr>
        <p:spPr>
          <a:xfrm rot="3493800">
            <a:off x="59040" y="53506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14"/>
          <p:cNvSpPr/>
          <p:nvPr/>
        </p:nvSpPr>
        <p:spPr>
          <a:xfrm rot="13153200">
            <a:off x="914400" y="60955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0" y="4800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1905120" y="6491160"/>
            <a:ext cx="8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17"/>
          <p:cNvSpPr/>
          <p:nvPr/>
        </p:nvSpPr>
        <p:spPr>
          <a:xfrm rot="3493800">
            <a:off x="4707720" y="50457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18"/>
          <p:cNvSpPr/>
          <p:nvPr/>
        </p:nvSpPr>
        <p:spPr>
          <a:xfrm rot="10800000">
            <a:off x="7086600" y="59432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4632480" y="4419720"/>
            <a:ext cx="7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20"/>
          <p:cNvSpPr/>
          <p:nvPr/>
        </p:nvSpPr>
        <p:spPr>
          <a:xfrm>
            <a:off x="8077320" y="5943600"/>
            <a:ext cx="7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LYGON is a “closed” sh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LYGON is made up of line segments that do not cros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sides gives a POLYGON its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1143000" y="4800600"/>
            <a:ext cx="9144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5"/>
          <p:cNvSpPr/>
          <p:nvPr/>
        </p:nvSpPr>
        <p:spPr>
          <a:xfrm>
            <a:off x="7315200" y="43434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reeform 6"/>
          <p:cNvSpPr/>
          <p:nvPr/>
        </p:nvSpPr>
        <p:spPr>
          <a:xfrm>
            <a:off x="6135840" y="4290840"/>
            <a:ext cx="1255680" cy="1641600"/>
          </a:xfrm>
          <a:custGeom>
            <a:avLst/>
            <a:gdLst/>
            <a:ahLst/>
            <a:rect l="l" t="t" r="r" b="b"/>
            <a:pathLst>
              <a:path w="791" h="1034">
                <a:moveTo>
                  <a:pt x="20" y="365"/>
                </a:moveTo>
                <a:cubicBezTo>
                  <a:pt x="36" y="131"/>
                  <a:pt x="348" y="34"/>
                  <a:pt x="542" y="3"/>
                </a:cubicBezTo>
                <a:cubicBezTo>
                  <a:pt x="791" y="63"/>
                  <a:pt x="607" y="0"/>
                  <a:pt x="582" y="619"/>
                </a:cubicBezTo>
                <a:cubicBezTo>
                  <a:pt x="576" y="758"/>
                  <a:pt x="494" y="935"/>
                  <a:pt x="395" y="1034"/>
                </a:cubicBezTo>
                <a:cubicBezTo>
                  <a:pt x="395" y="1034"/>
                  <a:pt x="291" y="1022"/>
                  <a:pt x="274" y="1008"/>
                </a:cubicBezTo>
                <a:cubicBezTo>
                  <a:pt x="244" y="985"/>
                  <a:pt x="221" y="954"/>
                  <a:pt x="194" y="927"/>
                </a:cubicBezTo>
                <a:cubicBezTo>
                  <a:pt x="181" y="914"/>
                  <a:pt x="154" y="887"/>
                  <a:pt x="154" y="887"/>
                </a:cubicBezTo>
                <a:cubicBezTo>
                  <a:pt x="128" y="821"/>
                  <a:pt x="101" y="769"/>
                  <a:pt x="87" y="699"/>
                </a:cubicBezTo>
                <a:cubicBezTo>
                  <a:pt x="70" y="515"/>
                  <a:pt x="85" y="600"/>
                  <a:pt x="46" y="445"/>
                </a:cubicBezTo>
                <a:cubicBezTo>
                  <a:pt x="42" y="429"/>
                  <a:pt x="11" y="433"/>
                  <a:pt x="6" y="418"/>
                </a:cubicBezTo>
                <a:cubicBezTo>
                  <a:pt x="0" y="401"/>
                  <a:pt x="15" y="383"/>
                  <a:pt x="20" y="365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Freeform 8"/>
          <p:cNvSpPr/>
          <p:nvPr/>
        </p:nvSpPr>
        <p:spPr>
          <a:xfrm>
            <a:off x="7086600" y="5638680"/>
            <a:ext cx="914400" cy="735120"/>
          </a:xfrm>
          <a:custGeom>
            <a:avLst/>
            <a:gdLst/>
            <a:ahLst/>
            <a:rect l="l" t="t" r="r" b="b"/>
            <a:pathLst>
              <a:path w="576" h="463">
                <a:moveTo>
                  <a:pt x="576" y="13"/>
                </a:moveTo>
                <a:cubicBezTo>
                  <a:pt x="548" y="70"/>
                  <a:pt x="507" y="183"/>
                  <a:pt x="429" y="201"/>
                </a:cubicBezTo>
                <a:cubicBezTo>
                  <a:pt x="359" y="217"/>
                  <a:pt x="286" y="215"/>
                  <a:pt x="215" y="227"/>
                </a:cubicBezTo>
                <a:cubicBezTo>
                  <a:pt x="141" y="252"/>
                  <a:pt x="80" y="259"/>
                  <a:pt x="0" y="268"/>
                </a:cubicBezTo>
                <a:cubicBezTo>
                  <a:pt x="58" y="279"/>
                  <a:pt x="122" y="279"/>
                  <a:pt x="174" y="308"/>
                </a:cubicBezTo>
                <a:cubicBezTo>
                  <a:pt x="264" y="358"/>
                  <a:pt x="329" y="416"/>
                  <a:pt x="429" y="442"/>
                </a:cubicBezTo>
                <a:cubicBezTo>
                  <a:pt x="469" y="437"/>
                  <a:pt x="528" y="463"/>
                  <a:pt x="549" y="428"/>
                </a:cubicBezTo>
                <a:cubicBezTo>
                  <a:pt x="565" y="401"/>
                  <a:pt x="492" y="398"/>
                  <a:pt x="469" y="375"/>
                </a:cubicBezTo>
                <a:cubicBezTo>
                  <a:pt x="456" y="362"/>
                  <a:pt x="440" y="350"/>
                  <a:pt x="429" y="335"/>
                </a:cubicBezTo>
                <a:cubicBezTo>
                  <a:pt x="387" y="275"/>
                  <a:pt x="370" y="216"/>
                  <a:pt x="308" y="174"/>
                </a:cubicBezTo>
                <a:cubicBezTo>
                  <a:pt x="290" y="147"/>
                  <a:pt x="273" y="120"/>
                  <a:pt x="255" y="93"/>
                </a:cubicBezTo>
                <a:cubicBezTo>
                  <a:pt x="246" y="80"/>
                  <a:pt x="228" y="53"/>
                  <a:pt x="228" y="53"/>
                </a:cubicBezTo>
                <a:cubicBezTo>
                  <a:pt x="224" y="40"/>
                  <a:pt x="209" y="25"/>
                  <a:pt x="215" y="13"/>
                </a:cubicBezTo>
                <a:cubicBezTo>
                  <a:pt x="221" y="1"/>
                  <a:pt x="241" y="0"/>
                  <a:pt x="255" y="0"/>
                </a:cubicBezTo>
                <a:cubicBezTo>
                  <a:pt x="313" y="0"/>
                  <a:pt x="371" y="9"/>
                  <a:pt x="429" y="13"/>
                </a:cubicBezTo>
                <a:cubicBezTo>
                  <a:pt x="456" y="31"/>
                  <a:pt x="482" y="49"/>
                  <a:pt x="509" y="67"/>
                </a:cubicBezTo>
                <a:cubicBezTo>
                  <a:pt x="572" y="109"/>
                  <a:pt x="544" y="107"/>
                  <a:pt x="576" y="13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14600" y="41911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10"/>
          <p:cNvSpPr/>
          <p:nvPr/>
        </p:nvSpPr>
        <p:spPr>
          <a:xfrm>
            <a:off x="2133720" y="53341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1066680" y="441972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6400800" y="388620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POLYG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TRAC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use a PROTRACTOR to measure vertex/angles in degr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protractor"/>
          <p:cNvPicPr/>
          <p:nvPr/>
        </p:nvPicPr>
        <p:blipFill>
          <a:blip r:embed="rId2"/>
          <a:stretch/>
        </p:blipFill>
        <p:spPr>
          <a:xfrm>
            <a:off x="5257800" y="3581280"/>
            <a:ext cx="2971800" cy="200664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9" descr="protractor2"/>
          <p:cNvPicPr/>
          <p:nvPr/>
        </p:nvPicPr>
        <p:blipFill>
          <a:blip r:embed="rId3"/>
          <a:stretch/>
        </p:blipFill>
        <p:spPr>
          <a:xfrm>
            <a:off x="1143000" y="3581280"/>
            <a:ext cx="26668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TE ANGLES are less than 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6" descr="acute angle1"/>
          <p:cNvPicPr/>
          <p:nvPr/>
        </p:nvPicPr>
        <p:blipFill>
          <a:blip r:embed="rId2"/>
          <a:stretch/>
        </p:blipFill>
        <p:spPr>
          <a:xfrm>
            <a:off x="2286000" y="2971800"/>
            <a:ext cx="42292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ANGLES measure exactly 9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4" descr="right angle"/>
          <p:cNvPicPr/>
          <p:nvPr/>
        </p:nvPicPr>
        <p:blipFill>
          <a:blip r:embed="rId2"/>
          <a:stretch/>
        </p:blipFill>
        <p:spPr>
          <a:xfrm>
            <a:off x="1752480" y="3276720"/>
            <a:ext cx="3362400" cy="267624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5"/>
          <p:cNvSpPr/>
          <p:nvPr/>
        </p:nvSpPr>
        <p:spPr>
          <a:xfrm rot="2089200">
            <a:off x="3111120" y="2935440"/>
            <a:ext cx="485640" cy="2271600"/>
          </a:xfrm>
          <a:prstGeom prst="downArrow">
            <a:avLst>
              <a:gd name="adj1" fmla="val 50000"/>
              <a:gd name="adj2" fmla="val 116938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4038480" y="2057400"/>
            <a:ext cx="138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“square” symbol means 90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7" descr="right angle 2"/>
          <p:cNvPicPr/>
          <p:nvPr/>
        </p:nvPicPr>
        <p:blipFill>
          <a:blip r:embed="rId3"/>
          <a:stretch/>
        </p:blipFill>
        <p:spPr>
          <a:xfrm>
            <a:off x="5638680" y="3581280"/>
            <a:ext cx="30481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TUES ANGLES are greater than 9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 but less than 180 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4" descr="obtuse angle"/>
          <p:cNvPicPr/>
          <p:nvPr/>
        </p:nvPicPr>
        <p:blipFill>
          <a:blip r:embed="rId2"/>
          <a:stretch/>
        </p:blipFill>
        <p:spPr>
          <a:xfrm>
            <a:off x="838080" y="3733920"/>
            <a:ext cx="3676680" cy="18018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protractor2"/>
          <p:cNvPicPr/>
          <p:nvPr/>
        </p:nvPicPr>
        <p:blipFill>
          <a:blip r:embed="rId3"/>
          <a:stretch/>
        </p:blipFill>
        <p:spPr>
          <a:xfrm>
            <a:off x="5105520" y="3733920"/>
            <a:ext cx="26668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IGHT ANGLE is exactly 18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4" descr="straight angle"/>
          <p:cNvPicPr/>
          <p:nvPr/>
        </p:nvPicPr>
        <p:blipFill>
          <a:blip r:embed="rId2"/>
          <a:stretch/>
        </p:blipFill>
        <p:spPr>
          <a:xfrm>
            <a:off x="2971800" y="2895480"/>
            <a:ext cx="332892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Geometr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metry is the study of sha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tudied Geometry in Ancient Mesopotamia &amp; Ancient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metry is important in the art and construction fie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4" descr="gingerbread house"/>
          <p:cNvPicPr/>
          <p:nvPr/>
        </p:nvPicPr>
        <p:blipFill>
          <a:blip r:embed="rId4"/>
          <a:stretch/>
        </p:blipFill>
        <p:spPr>
          <a:xfrm>
            <a:off x="5334120" y="3809880"/>
            <a:ext cx="24526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“name” an angle.  The vertex/angle “letter/number” goes in the center of the la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6"/>
          <p:cNvSpPr/>
          <p:nvPr/>
        </p:nvSpPr>
        <p:spPr>
          <a:xfrm flipV="1">
            <a:off x="2590920" y="3733560"/>
            <a:ext cx="190476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7"/>
          <p:cNvSpPr/>
          <p:nvPr/>
        </p:nvSpPr>
        <p:spPr>
          <a:xfrm>
            <a:off x="4495680" y="3809880"/>
            <a:ext cx="129564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8"/>
          <p:cNvSpPr/>
          <p:nvPr/>
        </p:nvSpPr>
        <p:spPr>
          <a:xfrm flipH="1" flipV="1">
            <a:off x="2666520" y="4876560"/>
            <a:ext cx="312444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2193840" y="48369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4403880" y="3084480"/>
            <a:ext cx="54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080040" y="4913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12"/>
          <p:cNvSpPr/>
          <p:nvPr/>
        </p:nvSpPr>
        <p:spPr>
          <a:xfrm>
            <a:off x="2514600" y="50292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13"/>
          <p:cNvSpPr/>
          <p:nvPr/>
        </p:nvSpPr>
        <p:spPr>
          <a:xfrm>
            <a:off x="3718080" y="5446800"/>
            <a:ext cx="504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I wanted to know the measurement of Angle A…I would ask:” What is the measurement for BAC?” (Notice A is in the cen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you study all the “fancy words”, Geometry is very easy to understand…so STUD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INT is an exact location on a graph, shape or in “space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Hershey Kiss is a POINT on the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2057400" y="4572000"/>
            <a:ext cx="5105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4421160" y="44197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7" descr="kiss"/>
          <p:cNvPicPr/>
          <p:nvPr/>
        </p:nvPicPr>
        <p:blipFill>
          <a:blip r:embed="rId3"/>
          <a:srcRect l="0" t="14536" r="21564" b="0"/>
          <a:stretch/>
        </p:blipFill>
        <p:spPr>
          <a:xfrm>
            <a:off x="4191120" y="4038480"/>
            <a:ext cx="7617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NE goes in opposite directions and never, never, never e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533520" y="380988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twizzler"/>
          <p:cNvPicPr/>
          <p:nvPr/>
        </p:nvPicPr>
        <p:blipFill>
          <a:blip r:embed="rId2"/>
          <a:stretch/>
        </p:blipFill>
        <p:spPr>
          <a:xfrm>
            <a:off x="-380880" y="4724280"/>
            <a:ext cx="9524880" cy="12049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0" y="6056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agine if this Twizzler went on forever and ever and ever and ever and ever and 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AY is part of a line, but it has one endpoint and the other end keeps go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1752480" y="472428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677960" y="44956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6" descr="kiss"/>
          <p:cNvPicPr/>
          <p:nvPr/>
        </p:nvPicPr>
        <p:blipFill>
          <a:blip r:embed="rId2"/>
          <a:srcRect l="0" t="14536" r="21564" b="0"/>
          <a:stretch/>
        </p:blipFill>
        <p:spPr>
          <a:xfrm>
            <a:off x="1600200" y="4191120"/>
            <a:ext cx="762120" cy="8953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7"/>
          <p:cNvSpPr/>
          <p:nvPr/>
        </p:nvSpPr>
        <p:spPr>
          <a:xfrm>
            <a:off x="609480" y="594360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8"/>
          <p:cNvSpPr/>
          <p:nvPr/>
        </p:nvSpPr>
        <p:spPr>
          <a:xfrm rot="1683600">
            <a:off x="1294920" y="495288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2590920" y="50292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aaaaaaaaaaaaaaaaaaaaaaayyyyyyyyyyyyyyyyyyyyyyyyy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NDPOINT is a point at the end of a ray or line seg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1447920" y="457200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kiss"/>
          <p:cNvPicPr/>
          <p:nvPr/>
        </p:nvPicPr>
        <p:blipFill>
          <a:blip r:embed="rId2"/>
          <a:srcRect l="0" t="14536" r="21564" b="0"/>
          <a:stretch/>
        </p:blipFill>
        <p:spPr>
          <a:xfrm>
            <a:off x="1447920" y="4114800"/>
            <a:ext cx="761760" cy="89532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6"/>
          <p:cNvSpPr/>
          <p:nvPr/>
        </p:nvSpPr>
        <p:spPr>
          <a:xfrm rot="774600">
            <a:off x="1371240" y="50292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127160" y="6056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NE SEGMENT  is part of a ray o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as two end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685800" y="510552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5030640" y="49528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430440" y="49528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4" name="AutoShape 7"/>
          <p:cNvCxnSpPr>
            <a:stCxn id="243" idx="0"/>
            <a:endCxn id="242" idx="0"/>
          </p:cNvCxnSpPr>
          <p:nvPr/>
        </p:nvCxnSpPr>
        <p:spPr>
          <a:xfrm>
            <a:off x="3590640" y="4952520"/>
            <a:ext cx="1600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8"/>
          <p:cNvSpPr/>
          <p:nvPr/>
        </p:nvSpPr>
        <p:spPr>
          <a:xfrm>
            <a:off x="3794040" y="422748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0" y="49528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8442360" y="49528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5257800" y="548640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6308640" y="567540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5182920" y="5334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17" descr="kiss"/>
          <p:cNvPicPr/>
          <p:nvPr/>
        </p:nvPicPr>
        <p:blipFill>
          <a:blip r:embed="rId3"/>
          <a:srcRect l="0" t="14536" r="21564" b="0"/>
          <a:stretch/>
        </p:blipFill>
        <p:spPr>
          <a:xfrm>
            <a:off x="3048120" y="4648320"/>
            <a:ext cx="761760" cy="895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8" descr="kiss"/>
          <p:cNvPicPr/>
          <p:nvPr/>
        </p:nvPicPr>
        <p:blipFill>
          <a:blip r:embed="rId4"/>
          <a:srcRect l="0" t="14536" r="21564" b="0"/>
          <a:stretch/>
        </p:blipFill>
        <p:spPr>
          <a:xfrm>
            <a:off x="4952880" y="4648320"/>
            <a:ext cx="762120" cy="8953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9"/>
          <p:cNvSpPr/>
          <p:nvPr/>
        </p:nvSpPr>
        <p:spPr>
          <a:xfrm>
            <a:off x="3184560" y="559908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RTE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ERTEX is a fancy name for “ang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rays or lines that have the same endpoint make a VERTEX/ang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EX/angles are measured in “degre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1371600" y="5486400"/>
            <a:ext cx="9144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 rot="1525800">
            <a:off x="304560" y="50288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 rot="19798800">
            <a:off x="2285640" y="49528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438280" y="5638680"/>
            <a:ext cx="22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rners of a square are its vertex/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6095880" y="45720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5486400" y="5334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10"/>
          <p:cNvSpPr/>
          <p:nvPr/>
        </p:nvSpPr>
        <p:spPr>
          <a:xfrm rot="19798800">
            <a:off x="6172200" y="46483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11"/>
          <p:cNvSpPr/>
          <p:nvPr/>
        </p:nvSpPr>
        <p:spPr>
          <a:xfrm rot="1255800">
            <a:off x="6248520" y="5409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12"/>
          <p:cNvSpPr/>
          <p:nvPr/>
        </p:nvSpPr>
        <p:spPr>
          <a:xfrm rot="13038600">
            <a:off x="5105520" y="46479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13"/>
          <p:cNvSpPr/>
          <p:nvPr/>
        </p:nvSpPr>
        <p:spPr>
          <a:xfrm rot="9735600">
            <a:off x="380520" y="6372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14"/>
          <p:cNvSpPr/>
          <p:nvPr/>
        </p:nvSpPr>
        <p:spPr>
          <a:xfrm rot="7965000">
            <a:off x="5088240" y="55792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7467480" y="44560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wo lines cross, they make vertex/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GRU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UENT means the “sam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UENT LINE SEGMENTS means two line segments are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UENT Vertex/Angles means two angles are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>
            <a:off x="2819520" y="487692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2819520" y="533412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2592360" y="4724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5640120" y="4724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2592360" y="51055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5640120" y="51814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10" descr="Hershey"/>
          <p:cNvPicPr/>
          <p:nvPr/>
        </p:nvPicPr>
        <p:blipFill>
          <a:blip r:embed="rId4"/>
          <a:stretch/>
        </p:blipFill>
        <p:spPr>
          <a:xfrm>
            <a:off x="0" y="5048280"/>
            <a:ext cx="2286000" cy="18097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3108240" y="624852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rshey &amp; Crunch Bar are a Congruent 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00:10:02Z</dcterms:created>
  <dc:creator>Mr. Ryan</dc:creator>
  <dc:description/>
  <dc:language>en-US</dc:language>
  <cp:lastModifiedBy>LEGION</cp:lastModifiedBy>
  <dcterms:modified xsi:type="dcterms:W3CDTF">2015-09-08T10:22:36Z</dcterms:modified>
  <cp:revision>26</cp:revision>
  <dc:subject/>
  <dc:title>Geometry Vocabulary</dc:title>
</cp:coreProperties>
</file>