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MERA.WAV" ContentType="audio/x-wav"/>
  <Override PartName="/ppt/media/CHIMES.WAV" ContentType="audio/x-wav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4489-02C2-47AA-BD1E-61EAAE5613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09E-2FD6-4AB4-BE13-511B2804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584-5F83-4FD2-AE5E-CAEDBC01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434-4C9B-40E4-9BD0-451FD08C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09B0-F327-4201-AECD-8F388E7F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FC4D-AB19-4501-AB94-74FFC98D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735-528C-4677-8E8D-85B1C025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E991-2253-4A25-9F62-B46D5244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F04-A982-4BCB-9086-CAEFCD15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5D6-4B11-4CEB-B86C-85A85936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4282-58A1-4DB2-A159-AEF7CB32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6D63-272A-4018-AE2B-0A3C9F7A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9FA6-67AE-46DE-8FA0-1F993EEE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039F-97B3-43D9-913D-291AC717B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Vocabulary Quiz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Revie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09320" y="3809520"/>
            <a:ext cx="4419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ssons 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xon7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699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Su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19320" y="38088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ommutative Property of Multiplic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factors does not change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 A x B = B x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d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that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s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by which another number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multipli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9320" y="3048120"/>
            <a:ext cx="7086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product of any number and 1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x 1 = 7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rodu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multiplica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Quoti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Remaind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n amount left after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219320" y="3048120"/>
            <a:ext cx="7086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times any number is ze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Ex. 0 x 4 =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219320" y="38088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Adde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52480" y="2057400"/>
            <a:ext cx="6172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added to find a s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addends does not affect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(a + b) + c = a + (b + c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Multiplic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19320" y="3048120"/>
            <a:ext cx="708660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factors does not affect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(a x b) x c = a x (b x 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219320" y="1066680"/>
            <a:ext cx="70866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ffffff"/>
                </a:solidFill>
                <a:latin typeface="Comic Sans MS"/>
              </a:rPr>
              <a:t>Study!!!!!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4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12956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19320" y="380880"/>
            <a:ext cx="6705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Commut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52480" y="2971800"/>
            <a:ext cx="6172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addends does not change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+ B = B +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Differen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52480" y="2895480"/>
            <a:ext cx="6172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The result of subtra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Fact Famil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676520" y="1981080"/>
            <a:ext cx="6172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 group of three numbers related by addition and subtraction or by multiplication and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2+3=5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3+2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2=3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3=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sum of any number and 0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+ 0 = 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nverse Oper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19320" y="3048120"/>
            <a:ext cx="70866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Operations that “undo” one anoth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ddition/Subtrac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Multiplication/Divis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inu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from which another number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- 3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219320" y="914400"/>
            <a:ext cx="685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omic Sans MS"/>
              </a:rPr>
              <a:t>Subtrahend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that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- A 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5:08:59Z</dcterms:created>
  <dc:creator>one1</dc:creator>
  <dc:description/>
  <dc:language>en-US</dc:language>
  <cp:lastModifiedBy>RomaK</cp:lastModifiedBy>
  <dcterms:modified xsi:type="dcterms:W3CDTF">2015-09-04T07:43:12Z</dcterms:modified>
  <cp:revision>11</cp:revision>
  <dc:subject/>
  <dc:title>Vocabulary Quiz Review</dc:title>
</cp:coreProperties>
</file>